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16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11.png" ContentType="image/png"/>
  <Override PartName="/ppt/media/image34.wmf" ContentType="image/x-wmf"/>
  <Override PartName="/ppt/media/image6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4.gif" ContentType="image/gi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B18-FDCA-422A-85BF-58451ACD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00D-B6FA-472D-86E3-8E0B2855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58CB-7FB8-430D-AF0F-DCE52CF6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9CA-CF4C-48D6-99A3-D9100DF5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AA88-1276-484A-8979-36B01B6D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621-8697-4602-879C-09CC2705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096-8836-4F25-BEE3-173DCFDF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459C-AE1A-409E-8E52-4E08FBCC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832E-B11D-4E63-8D8B-AB797275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9749-1E7E-4C44-88F6-D65C7D3A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2211-7BEC-480C-BFD9-E7602EAF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9A2-C841-415F-8CB2-201CE4B0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C56B-9842-49A3-BDC8-C59D74F2EF5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4.wmf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3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4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495360" y="1530360"/>
            <a:ext cx="81532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“画图和转化比”的策略解决问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二     解决问题的策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2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3" name="AutoShape 508" descr=""/>
            <p:cNvPicPr/>
            <p:nvPr/>
          </p:nvPicPr>
          <p:blipFill>
            <a:blip r:embed="rId6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50" descr="나뭇잎2"/>
          <p:cNvPicPr/>
          <p:nvPr/>
        </p:nvPicPr>
        <p:blipFill>
          <a:blip r:embed="rId7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56" name="椭圆 40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57" name="椭圆 40" descr=""/>
            <p:cNvPicPr/>
            <p:nvPr/>
          </p:nvPicPr>
          <p:blipFill>
            <a:blip r:embed="rId8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椭圆 41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0" name="椭圆 41" descr=""/>
            <p:cNvPicPr/>
            <p:nvPr/>
          </p:nvPicPr>
          <p:blipFill>
            <a:blip r:embed="rId9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椭圆 42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3" name="椭圆 42" descr=""/>
            <p:cNvPicPr/>
            <p:nvPr/>
          </p:nvPicPr>
          <p:blipFill>
            <a:blip r:embed="rId10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椭圆 43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66" name="椭圆 43" descr=""/>
            <p:cNvPicPr/>
            <p:nvPr/>
          </p:nvPicPr>
          <p:blipFill>
            <a:blip r:embed="rId11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椭圆 44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69" name="椭圆 44" descr=""/>
            <p:cNvPicPr/>
            <p:nvPr/>
          </p:nvPicPr>
          <p:blipFill>
            <a:blip r:embed="rId12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椭圆 45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2" name="椭圆 45" descr=""/>
            <p:cNvPicPr/>
            <p:nvPr/>
          </p:nvPicPr>
          <p:blipFill>
            <a:blip r:embed="rId13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Calibri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7"/>
          <p:cNvGrpSpPr/>
          <p:nvPr/>
        </p:nvGrpSpPr>
        <p:grpSpPr>
          <a:xfrm>
            <a:off x="512640" y="1373040"/>
            <a:ext cx="2810160" cy="668520"/>
            <a:chOff x="512640" y="1373040"/>
            <a:chExt cx="2810160" cy="668520"/>
          </a:xfrm>
        </p:grpSpPr>
        <p:sp>
          <p:nvSpPr>
            <p:cNvPr id="129" name="圆角矩形 5"/>
            <p:cNvSpPr/>
            <p:nvPr/>
          </p:nvSpPr>
          <p:spPr>
            <a:xfrm>
              <a:off x="1396800" y="1485720"/>
              <a:ext cx="19260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ffc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文本框 13"/>
            <p:cNvSpPr/>
            <p:nvPr/>
          </p:nvSpPr>
          <p:spPr>
            <a:xfrm>
              <a:off x="1397160" y="14731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3730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Rectangle 8"/>
          <p:cNvSpPr/>
          <p:nvPr/>
        </p:nvSpPr>
        <p:spPr>
          <a:xfrm>
            <a:off x="984240" y="23446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  <a:tab algn="l" pos="4016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书法兴趣小组原来女生的人数占总人数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新学期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女生退出，这时女生人数是男生人数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书法兴趣小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现有女生多少名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1344600" y="3645000"/>
            <a:ext cx="655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÷(1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÷(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×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书法兴趣小组现有女生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对象 1"/>
          <p:cNvGraphicFramePr/>
          <p:nvPr/>
        </p:nvGraphicFramePr>
        <p:xfrm>
          <a:off x="6227640" y="2344680"/>
          <a:ext cx="2034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对象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2344680"/>
                    <a:ext cx="2034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对象 2"/>
          <p:cNvGraphicFramePr/>
          <p:nvPr/>
        </p:nvGraphicFramePr>
        <p:xfrm>
          <a:off x="6024600" y="2779560"/>
          <a:ext cx="203040" cy="62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对象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24600" y="2779560"/>
                    <a:ext cx="2030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对象 3"/>
          <p:cNvGraphicFramePr/>
          <p:nvPr/>
        </p:nvGraphicFramePr>
        <p:xfrm>
          <a:off x="3708360" y="3743280"/>
          <a:ext cx="203400" cy="622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9" name="对象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08360" y="3743280"/>
                    <a:ext cx="2034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对象 4"/>
          <p:cNvGraphicFramePr/>
          <p:nvPr/>
        </p:nvGraphicFramePr>
        <p:xfrm>
          <a:off x="4621320" y="3738600"/>
          <a:ext cx="203040" cy="622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1" name="对象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21320" y="3738600"/>
                    <a:ext cx="2030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对象 6"/>
          <p:cNvGraphicFramePr/>
          <p:nvPr/>
        </p:nvGraphicFramePr>
        <p:xfrm>
          <a:off x="5292720" y="3738600"/>
          <a:ext cx="203040" cy="622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3" name="对象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92720" y="3738600"/>
                    <a:ext cx="2030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对象 7"/>
          <p:cNvGraphicFramePr/>
          <p:nvPr/>
        </p:nvGraphicFramePr>
        <p:xfrm>
          <a:off x="3971880" y="4327560"/>
          <a:ext cx="203400" cy="622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5" name="对象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71880" y="4327560"/>
                    <a:ext cx="2034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对象 11"/>
          <p:cNvGraphicFramePr/>
          <p:nvPr/>
        </p:nvGraphicFramePr>
        <p:xfrm>
          <a:off x="4481640" y="4327560"/>
          <a:ext cx="203040" cy="622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7" name="对象 1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481640" y="4327560"/>
                    <a:ext cx="2030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对象 12"/>
          <p:cNvGraphicFramePr/>
          <p:nvPr/>
        </p:nvGraphicFramePr>
        <p:xfrm>
          <a:off x="4267080" y="4941720"/>
          <a:ext cx="203400" cy="622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9" name="对象 1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267080" y="4941720"/>
                    <a:ext cx="2034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76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Rectangle 2"/>
          <p:cNvSpPr/>
          <p:nvPr/>
        </p:nvSpPr>
        <p:spPr>
          <a:xfrm>
            <a:off x="1233360" y="2136600"/>
            <a:ext cx="7299360" cy="33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00" indent="-324000">
              <a:lnSpc>
                <a:spcPts val="4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“比”的方法解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ts val="4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运用转化“比”的方法解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ts val="4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会用线段图分析数量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ts val="4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找出等量关系解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1"/>
          <p:cNvGrpSpPr/>
          <p:nvPr/>
        </p:nvGrpSpPr>
        <p:grpSpPr>
          <a:xfrm>
            <a:off x="512640" y="1373040"/>
            <a:ext cx="2810160" cy="668520"/>
            <a:chOff x="512640" y="1373040"/>
            <a:chExt cx="2810160" cy="668520"/>
          </a:xfrm>
        </p:grpSpPr>
        <p:sp>
          <p:nvSpPr>
            <p:cNvPr id="81" name="圆角矩形 12"/>
            <p:cNvSpPr/>
            <p:nvPr/>
          </p:nvSpPr>
          <p:spPr>
            <a:xfrm>
              <a:off x="1396800" y="1485720"/>
              <a:ext cx="19260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ffc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文本框 13"/>
            <p:cNvSpPr/>
            <p:nvPr/>
          </p:nvSpPr>
          <p:spPr>
            <a:xfrm>
              <a:off x="1397160" y="14731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3730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Rectangle 8"/>
          <p:cNvSpPr/>
          <p:nvPr/>
        </p:nvSpPr>
        <p:spPr>
          <a:xfrm>
            <a:off x="1009800" y="193500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  <a:tab algn="l" pos="4016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一个工程队修一条公路，第一天修了它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第二天修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米，这时，剩下的长度与已修的长度比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∶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这条公路全长多少千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对象 1"/>
          <p:cNvGraphicFramePr/>
          <p:nvPr/>
        </p:nvGraphicFramePr>
        <p:xfrm>
          <a:off x="6156360" y="1935000"/>
          <a:ext cx="20304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对象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56360" y="1935000"/>
                    <a:ext cx="2030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Box 11"/>
          <p:cNvSpPr/>
          <p:nvPr/>
        </p:nvSpPr>
        <p:spPr>
          <a:xfrm>
            <a:off x="1476360" y="3575160"/>
            <a:ext cx="65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0÷(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40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这条公路全长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4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千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对象 2"/>
          <p:cNvGraphicFramePr/>
          <p:nvPr/>
        </p:nvGraphicFramePr>
        <p:xfrm>
          <a:off x="3851280" y="3672000"/>
          <a:ext cx="482760" cy="62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对象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51280" y="3672000"/>
                    <a:ext cx="4827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对象 3"/>
          <p:cNvGraphicFramePr/>
          <p:nvPr/>
        </p:nvGraphicFramePr>
        <p:xfrm>
          <a:off x="4649760" y="3666960"/>
          <a:ext cx="203400" cy="622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1" name="对象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9760" y="3666960"/>
                    <a:ext cx="2034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984240" y="13366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  <a:tab algn="l" pos="4016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甲、乙、丙三人一共储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万元，甲的钱数是乙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乙的钱数是丙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三人各储蓄多少万元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对象 1"/>
          <p:cNvGraphicFramePr/>
          <p:nvPr/>
        </p:nvGraphicFramePr>
        <p:xfrm>
          <a:off x="2771640" y="1747800"/>
          <a:ext cx="20340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747800"/>
                    <a:ext cx="2034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对象 2"/>
          <p:cNvGraphicFramePr/>
          <p:nvPr/>
        </p:nvGraphicFramePr>
        <p:xfrm>
          <a:off x="7113600" y="1336680"/>
          <a:ext cx="20304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13600" y="1336680"/>
                    <a:ext cx="2030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Box 7"/>
          <p:cNvSpPr/>
          <p:nvPr/>
        </p:nvSpPr>
        <p:spPr>
          <a:xfrm>
            <a:off x="1447920" y="2492280"/>
            <a:ext cx="655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甲∶乙∶丙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∶12∶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甲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5×      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万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乙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5×    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万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丙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5×       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4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万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甲储蓄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万元，乙储蓄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万元，丙储蓄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万元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对象 3"/>
          <p:cNvGraphicFramePr/>
          <p:nvPr/>
        </p:nvGraphicFramePr>
        <p:xfrm>
          <a:off x="4195800" y="3192480"/>
          <a:ext cx="100332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对象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5800" y="3192480"/>
                    <a:ext cx="10033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对象 6"/>
          <p:cNvGraphicFramePr/>
          <p:nvPr/>
        </p:nvGraphicFramePr>
        <p:xfrm>
          <a:off x="4119480" y="3781440"/>
          <a:ext cx="1003320" cy="62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对象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9480" y="3781440"/>
                    <a:ext cx="10033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对象 8"/>
          <p:cNvGraphicFramePr/>
          <p:nvPr/>
        </p:nvGraphicFramePr>
        <p:xfrm>
          <a:off x="4119480" y="4411800"/>
          <a:ext cx="1003320" cy="622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对象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9480" y="4411800"/>
                    <a:ext cx="100332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5"/>
          <p:cNvSpPr/>
          <p:nvPr/>
        </p:nvSpPr>
        <p:spPr>
          <a:xfrm>
            <a:off x="1476360" y="2852640"/>
            <a:ext cx="655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60÷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80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80÷(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)×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0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8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0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0×10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000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平方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学校操场的面积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00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平方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984240" y="13366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  <a:tab algn="l" pos="4016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学校长方形操场的周长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操场的宽是长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学校操场的面积是多少平方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对象 1"/>
          <p:cNvGraphicFramePr/>
          <p:nvPr/>
        </p:nvGraphicFramePr>
        <p:xfrm>
          <a:off x="7020000" y="1336680"/>
          <a:ext cx="2030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1336680"/>
                    <a:ext cx="2030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5"/>
          <p:cNvSpPr/>
          <p:nvPr/>
        </p:nvSpPr>
        <p:spPr>
          <a:xfrm>
            <a:off x="1476360" y="3583080"/>
            <a:ext cx="65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8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0)÷(7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)×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6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4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两根绳各剪去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984240" y="13366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  <a:tab algn="l" pos="4016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有两根绳，一根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另一根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。从两根绳上各剪去同样长的一段后，短绳剩下的长度是长绳剩下的长度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两根绳各剪去多少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对象 1"/>
          <p:cNvGraphicFramePr/>
          <p:nvPr/>
        </p:nvGraphicFramePr>
        <p:xfrm>
          <a:off x="7596360" y="1806480"/>
          <a:ext cx="2030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1806480"/>
                    <a:ext cx="2030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5"/>
          <p:cNvSpPr/>
          <p:nvPr/>
        </p:nvSpPr>
        <p:spPr>
          <a:xfrm>
            <a:off x="1344600" y="3141720"/>
            <a:ext cx="65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画图略。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8÷(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)×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8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8÷(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)×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6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小明带了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元，小强带了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元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984240" y="13366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  <a:tab algn="l" pos="4016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小明和小强在新华书店买同一本书，小明用去所带钱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强用去所带钱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当他们都买了书后，小明剩下的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比小强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。小明、小强各带了多少元钱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对象 1"/>
          <p:cNvGraphicFramePr/>
          <p:nvPr/>
        </p:nvGraphicFramePr>
        <p:xfrm>
          <a:off x="7740720" y="1336680"/>
          <a:ext cx="2030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1336680"/>
                    <a:ext cx="2030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对象 2"/>
          <p:cNvGraphicFramePr/>
          <p:nvPr/>
        </p:nvGraphicFramePr>
        <p:xfrm>
          <a:off x="3755880" y="1781280"/>
          <a:ext cx="20340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55880" y="1781280"/>
                    <a:ext cx="20340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6"/>
          <p:cNvSpPr/>
          <p:nvPr/>
        </p:nvSpPr>
        <p:spPr>
          <a:xfrm>
            <a:off x="1344600" y="3068640"/>
            <a:ext cx="65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画图略。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40×2)÷(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)×(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20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两地相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2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千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984240" y="13366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  <a:tab algn="l" pos="4016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甲、乙两车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地相向而行，相遇时，甲车过了中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米，乙车行的路程是甲车所行路程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距多少千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对象 1"/>
          <p:cNvGraphicFramePr/>
          <p:nvPr/>
        </p:nvGraphicFramePr>
        <p:xfrm>
          <a:off x="6319800" y="1735200"/>
          <a:ext cx="20340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9800" y="1735200"/>
                    <a:ext cx="20340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984240" y="1336680"/>
            <a:ext cx="72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  <a:tab algn="l" pos="4016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水果店里西瓜的质量比苹果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克，苹果未卖，西瓜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后，苹果的质量比西瓜多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克，原来水果店里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西瓜多少千克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对象 1"/>
          <p:cNvGraphicFramePr/>
          <p:nvPr/>
        </p:nvGraphicFramePr>
        <p:xfrm>
          <a:off x="1944720" y="1735200"/>
          <a:ext cx="2030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4720" y="1735200"/>
                    <a:ext cx="2030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Box 6"/>
          <p:cNvSpPr/>
          <p:nvPr/>
        </p:nvSpPr>
        <p:spPr>
          <a:xfrm>
            <a:off x="1344600" y="3068640"/>
            <a:ext cx="65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10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)÷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60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千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原来水果店里有西瓜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6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千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对象 2"/>
          <p:cNvGraphicFramePr/>
          <p:nvPr/>
        </p:nvGraphicFramePr>
        <p:xfrm>
          <a:off x="4470480" y="3117960"/>
          <a:ext cx="20304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0480" y="3117960"/>
                    <a:ext cx="2030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Administrator</cp:lastModifiedBy>
  <dcterms:modified xsi:type="dcterms:W3CDTF">2018-01-12T10:31:48Z</dcterms:modified>
  <cp:revision>1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