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97E-97BB-4A83-ADC4-FBE55FC5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109-E261-4457-B5B6-CA57F5FA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6C2-09A5-4AEA-95B4-37524A1C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108-C59F-4502-9511-F2CC0475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16D-31C3-4A9C-A411-C20EAC96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938-86F1-4FF8-905D-117DDE77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756-3143-4F0F-89AB-F5AA1DF1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DB2-1B40-4784-9DE1-72F1BAF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103-DB27-451E-A9A9-0DD2292D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506-5B27-4075-90A9-33DFAACF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6AA-A456-4D4F-9D4D-05742BCD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31B-B0F0-489E-91DA-7592170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3A1-10FD-44AE-9651-377A5FE0F7D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3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4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95360" y="1530360"/>
            <a:ext cx="8153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“先假设再调整”的策略解决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 解决问题的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2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3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56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57" name="椭圆 40" descr=""/>
            <p:cNvPicPr/>
            <p:nvPr/>
          </p:nvPicPr>
          <p:blipFill>
            <a:blip r:embed="rId8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0" name="椭圆 41" descr=""/>
            <p:cNvPicPr/>
            <p:nvPr/>
          </p:nvPicPr>
          <p:blipFill>
            <a:blip r:embed="rId9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3" name="椭圆 42" descr=""/>
            <p:cNvPicPr/>
            <p:nvPr/>
          </p:nvPicPr>
          <p:blipFill>
            <a:blip r:embed="rId10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66" name="椭圆 43" descr=""/>
            <p:cNvPicPr/>
            <p:nvPr/>
          </p:nvPicPr>
          <p:blipFill>
            <a:blip r:embed="rId11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69" name="椭圆 44" descr=""/>
            <p:cNvPicPr/>
            <p:nvPr/>
          </p:nvPicPr>
          <p:blipFill>
            <a:blip r:embed="rId12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2" name="椭圆 45" descr=""/>
            <p:cNvPicPr/>
            <p:nvPr/>
          </p:nvPicPr>
          <p:blipFill>
            <a:blip r:embed="rId13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Calibri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6"/>
          <p:cNvSpPr/>
          <p:nvPr/>
        </p:nvSpPr>
        <p:spPr>
          <a:xfrm>
            <a:off x="1344600" y="3213000"/>
            <a:ext cx="65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原来观众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，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×10×(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÷(2×10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电影票每张降价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984240" y="1336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电影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一张，降价后观众增加一倍，收入增加五分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，那么电影票每张降价多少元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对象 1"/>
          <p:cNvGraphicFramePr/>
          <p:nvPr/>
        </p:nvGraphicFramePr>
        <p:xfrm>
          <a:off x="4268880" y="3639960"/>
          <a:ext cx="203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363996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7"/>
          <p:cNvGrpSpPr/>
          <p:nvPr/>
        </p:nvGrpSpPr>
        <p:grpSpPr>
          <a:xfrm>
            <a:off x="512640" y="1373040"/>
            <a:ext cx="2810160" cy="668520"/>
            <a:chOff x="512640" y="1373040"/>
            <a:chExt cx="2810160" cy="668520"/>
          </a:xfrm>
        </p:grpSpPr>
        <p:sp>
          <p:nvSpPr>
            <p:cNvPr id="103" name="圆角矩形 5"/>
            <p:cNvSpPr/>
            <p:nvPr/>
          </p:nvSpPr>
          <p:spPr>
            <a:xfrm>
              <a:off x="1396800" y="1485720"/>
              <a:ext cx="19260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ff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文本框 13"/>
            <p:cNvSpPr/>
            <p:nvPr/>
          </p:nvSpPr>
          <p:spPr>
            <a:xfrm>
              <a:off x="1397160" y="14731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3730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Rectangle 8"/>
          <p:cNvSpPr/>
          <p:nvPr/>
        </p:nvSpPr>
        <p:spPr>
          <a:xfrm>
            <a:off x="984240" y="234468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蜘蛛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脚，蜻蜓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脚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翅膀，蝉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脚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膀，现有三种小动物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，共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脚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翅膀，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小动物各有多少只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344600" y="3645000"/>
            <a:ext cx="655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18×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18)÷(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2×1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)÷(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蜘蛛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，蜻蜓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，蝉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76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Rectangle 2"/>
          <p:cNvSpPr/>
          <p:nvPr/>
        </p:nvSpPr>
        <p:spPr>
          <a:xfrm>
            <a:off x="1233360" y="2136600"/>
            <a:ext cx="729936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两个量的差倍关系的实际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鸡兔同笼”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找准隐含条件，调整解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握好替换的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抓住假设后的结果与实际结果之间的不同解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“设数法”适当调整解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"/>
          <p:cNvGrpSpPr/>
          <p:nvPr/>
        </p:nvGrpSpPr>
        <p:grpSpPr>
          <a:xfrm>
            <a:off x="512640" y="1373040"/>
            <a:ext cx="2810160" cy="668520"/>
            <a:chOff x="512640" y="1373040"/>
            <a:chExt cx="2810160" cy="668520"/>
          </a:xfrm>
        </p:grpSpPr>
        <p:sp>
          <p:nvSpPr>
            <p:cNvPr id="81" name="圆角矩形 12"/>
            <p:cNvSpPr/>
            <p:nvPr/>
          </p:nvSpPr>
          <p:spPr>
            <a:xfrm>
              <a:off x="1396800" y="1485720"/>
              <a:ext cx="19260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ff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文本框 13"/>
            <p:cNvSpPr/>
            <p:nvPr/>
          </p:nvSpPr>
          <p:spPr>
            <a:xfrm>
              <a:off x="1397160" y="14731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3730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8"/>
          <p:cNvSpPr/>
          <p:nvPr/>
        </p:nvSpPr>
        <p:spPr>
          <a:xfrm>
            <a:off x="1009800" y="1935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同样的大盒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同样的小盒里装满球，共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。每个大盒比每个小盒多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，每个大盒和小盒各装多少个球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258920" y="3141720"/>
            <a:ext cx="65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×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6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)÷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每个大盒装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球，每个小盒装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84240" y="133668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鸡、兔共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，兔的腿比鸡的腿一共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。鸡、兔各多少只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447920" y="2492280"/>
            <a:ext cx="655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解：设鸡有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，则兔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×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5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鸡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，兔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/>
          <p:cNvSpPr/>
          <p:nvPr/>
        </p:nvSpPr>
        <p:spPr>
          <a:xfrm>
            <a:off x="1344600" y="2852640"/>
            <a:ext cx="65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×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条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条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条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÷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百灵鸟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，松鼠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只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984240" y="133668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棵松树上有百灵鸟和松鼠，松鼠比百灵鸟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，一共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腿。百灵鸟和松鼠各有多少只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1476360" y="3583080"/>
            <a:ext cx="65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假设全是单打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×2)÷(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进行双打比赛的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张乒乓球桌，进行单打比赛的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张乒乓球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984240" y="1336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张乒乓球桌上同时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在进行乒乓球比赛，进行单打和双打比赛的各有多少张乒乓球桌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/>
          <p:cNvSpPr/>
          <p:nvPr/>
        </p:nvSpPr>
        <p:spPr>
          <a:xfrm>
            <a:off x="1344600" y="3141720"/>
            <a:ext cx="65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4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8÷2)÷(1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次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老师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，学生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984240" y="1336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开学初，老师和学生共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，一起往新教室里搬课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张，老师每人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张，学生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张，老师和学生各有多少人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6"/>
          <p:cNvSpPr/>
          <p:nvPr/>
        </p:nvSpPr>
        <p:spPr>
          <a:xfrm>
            <a:off x="1344600" y="3068640"/>
            <a:ext cx="65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99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9)÷(2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3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3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大人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，小孩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984240" y="1336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个大人一餐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面包，两个小孩一餐共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面包，共有大人和小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，一餐刚好吃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面包。大人、小孩各有多少人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984240" y="1336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某运输队运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块玻璃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块玻璃的运费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打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玻璃，不仅不给运费还要赔偿损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运输队最后拿到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钱。运输队打碎了几块玻璃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344600" y="3068640"/>
            <a:ext cx="65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4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92)÷(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运输队打碎了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块玻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Administrator</cp:lastModifiedBy>
  <dcterms:modified xsi:type="dcterms:W3CDTF">2018-01-12T10:33:22Z</dcterms:modified>
  <cp:revision>1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