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5.wmf" ContentType="image/x-wmf"/>
  <Override PartName="/ppt/media/image34.wmf" ContentType="image/x-wmf"/>
  <Override PartName="/ppt/media/image54.wmf" ContentType="image/x-wmf"/>
  <Override PartName="/ppt/media/image15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wmf" ContentType="image/x-wmf"/>
  <Override PartName="/ppt/media/image3.png" ContentType="image/png"/>
  <Override PartName="/ppt/media/image14.png" ContentType="image/png"/>
  <Override PartName="/ppt/media/image2.png" ContentType="image/png"/>
  <Override PartName="/ppt/media/image72.wmf" ContentType="image/x-wmf"/>
  <Override PartName="/ppt/media/image25.png" ContentType="image/png"/>
  <Override PartName="/ppt/media/image62.png" ContentType="image/png"/>
  <Override PartName="/ppt/media/image24.png" ContentType="image/png"/>
  <Override PartName="/ppt/media/image64.wmf" ContentType="image/x-wmf"/>
  <Override PartName="/ppt/media/image61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71.wmf" ContentType="image/x-wmf"/>
  <Override PartName="/ppt/media/image68.png" ContentType="image/png"/>
  <Override PartName="/ppt/media/image31.png" ContentType="image/png"/>
  <Override PartName="/ppt/media/image69.wmf" ContentType="image/x-wmf"/>
  <Override PartName="/ppt/media/image32.wmf" ContentType="image/x-wmf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36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52.wmf" ContentType="image/x-wmf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33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DBE-1ADB-4499-A9BE-0F91C7E036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CA1E-8EBC-459C-B625-A73FF0FA1B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354-BD7A-4FB7-BB73-8A36B69E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082-9139-41A9-8EDB-024F1638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EEB-E9EA-4014-B0BD-E9657D0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5C2-924E-4E8C-891A-7919A91B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6B2-EBA1-4F24-899C-7D28084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09E-F351-4626-BB23-E998F72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C76-74A4-4822-9D35-D1B8470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37C-BACC-46AC-B8A6-8DD94D0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DE6-587E-44F6-A19D-F771E7C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351-ECBC-4F13-B944-9EF7612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6F8-C813-4530-B4A6-4F23B67D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6D2-DAC5-4DB1-9FBC-3AED566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063-AB63-4592-BC10-5AE34C15C8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51.wmf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7.png"/><Relationship Id="rId3" Type="http://schemas.openxmlformats.org/officeDocument/2006/relationships/image" Target="../media/image6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73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0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51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95360" y="1138320"/>
            <a:ext cx="81532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“先假设再调整”的策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8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9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2" name="椭圆 40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63" name="椭圆 40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椭圆 41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66" name="椭圆 41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椭圆 42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9" name="椭圆 42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椭圆 43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72" name="椭圆 43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椭圆 44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75" name="椭圆 44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椭圆 45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8" name="椭圆 45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4"/>
          <p:cNvSpPr/>
          <p:nvPr/>
        </p:nvSpPr>
        <p:spPr>
          <a:xfrm>
            <a:off x="5002200" y="592200"/>
            <a:ext cx="3527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三    解决问题的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6804000" y="2163600"/>
            <a:ext cx="2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26"/>
          <p:cNvGrpSpPr/>
          <p:nvPr/>
        </p:nvGrpSpPr>
        <p:grpSpPr>
          <a:xfrm>
            <a:off x="838080" y="760680"/>
            <a:ext cx="4780080" cy="642600"/>
            <a:chOff x="838080" y="760680"/>
            <a:chExt cx="4780080" cy="642600"/>
          </a:xfrm>
        </p:grpSpPr>
        <p:pic>
          <p:nvPicPr>
            <p:cNvPr id="199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838080" y="9651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文本框 23"/>
            <p:cNvSpPr/>
            <p:nvPr/>
          </p:nvSpPr>
          <p:spPr>
            <a:xfrm>
              <a:off x="1099800" y="760680"/>
              <a:ext cx="45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990720" y="121932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．鸡和兔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，数一数腿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。鸡和兔各有多少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按照下面的步骤画图解决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个○，表示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动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假设全是鸡，给每只动物画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，算一算，画出的腿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一只兔比一只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，给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动物添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，使画出的腿正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看一看，鸡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，兔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对象 1"/>
          <p:cNvGraphicFramePr/>
          <p:nvPr/>
        </p:nvGraphicFramePr>
        <p:xfrm>
          <a:off x="2514600" y="3137040"/>
          <a:ext cx="2793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137040"/>
                    <a:ext cx="279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对象 2"/>
          <p:cNvGraphicFramePr/>
          <p:nvPr/>
        </p:nvGraphicFramePr>
        <p:xfrm>
          <a:off x="2209680" y="4178160"/>
          <a:ext cx="279360" cy="2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178160"/>
                    <a:ext cx="27936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对象 3"/>
          <p:cNvGraphicFramePr/>
          <p:nvPr/>
        </p:nvGraphicFramePr>
        <p:xfrm>
          <a:off x="5680080" y="4572000"/>
          <a:ext cx="17460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80080" y="4572000"/>
                    <a:ext cx="1746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对象 4"/>
          <p:cNvGraphicFramePr/>
          <p:nvPr/>
        </p:nvGraphicFramePr>
        <p:xfrm>
          <a:off x="3227400" y="5486400"/>
          <a:ext cx="16524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对象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7400" y="5486400"/>
                    <a:ext cx="165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对象 5"/>
          <p:cNvGraphicFramePr/>
          <p:nvPr/>
        </p:nvGraphicFramePr>
        <p:xfrm>
          <a:off x="4952880" y="5545080"/>
          <a:ext cx="174600" cy="24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对象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5545080"/>
                    <a:ext cx="1746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1066680" y="1600200"/>
            <a:ext cx="7272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也可以按照下面的步骤画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个○，表示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动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假设全是兔，给每只动物画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。算一算，画出的腿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一只兔比一只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，给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动物再擦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腿，使画出的腿正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看一看，鸡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，兔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对象 1"/>
          <p:cNvGraphicFramePr/>
          <p:nvPr/>
        </p:nvGraphicFramePr>
        <p:xfrm>
          <a:off x="2590920" y="2590920"/>
          <a:ext cx="27936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590920"/>
                    <a:ext cx="279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对象 2"/>
          <p:cNvGraphicFramePr/>
          <p:nvPr/>
        </p:nvGraphicFramePr>
        <p:xfrm>
          <a:off x="2286000" y="3581280"/>
          <a:ext cx="174600" cy="24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581280"/>
                    <a:ext cx="174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对象 3"/>
          <p:cNvGraphicFramePr/>
          <p:nvPr/>
        </p:nvGraphicFramePr>
        <p:xfrm>
          <a:off x="5594400" y="4114800"/>
          <a:ext cx="16488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94400" y="4114800"/>
                    <a:ext cx="164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对象 4"/>
          <p:cNvGraphicFramePr/>
          <p:nvPr/>
        </p:nvGraphicFramePr>
        <p:xfrm>
          <a:off x="3200400" y="5029200"/>
          <a:ext cx="165240" cy="22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00400" y="5029200"/>
                    <a:ext cx="165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对象 9"/>
          <p:cNvGraphicFramePr/>
          <p:nvPr/>
        </p:nvGraphicFramePr>
        <p:xfrm>
          <a:off x="4876920" y="5078520"/>
          <a:ext cx="174600" cy="24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3" name="对象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5078520"/>
                    <a:ext cx="1746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1027080" y="162864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先假设鸡和兔子的只数如下表，你能经过调整得出结果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2330280" y="2373480"/>
            <a:ext cx="4481640" cy="21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1116000" y="458136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鸡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，兔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对象 1"/>
          <p:cNvGraphicFramePr/>
          <p:nvPr/>
        </p:nvGraphicFramePr>
        <p:xfrm>
          <a:off x="2700360" y="3573360"/>
          <a:ext cx="165240" cy="2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573360"/>
                    <a:ext cx="16524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对象 2"/>
          <p:cNvGraphicFramePr/>
          <p:nvPr/>
        </p:nvGraphicFramePr>
        <p:xfrm>
          <a:off x="3203640" y="3573360"/>
          <a:ext cx="16488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573360"/>
                    <a:ext cx="164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对象 3"/>
          <p:cNvGraphicFramePr/>
          <p:nvPr/>
        </p:nvGraphicFramePr>
        <p:xfrm>
          <a:off x="3708360" y="3573360"/>
          <a:ext cx="2540160" cy="2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3573360"/>
                    <a:ext cx="25401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对象 4"/>
          <p:cNvGraphicFramePr/>
          <p:nvPr/>
        </p:nvGraphicFramePr>
        <p:xfrm>
          <a:off x="2700360" y="4005360"/>
          <a:ext cx="16524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对象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4005360"/>
                    <a:ext cx="165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对象 6"/>
          <p:cNvGraphicFramePr/>
          <p:nvPr/>
        </p:nvGraphicFramePr>
        <p:xfrm>
          <a:off x="3203640" y="4005360"/>
          <a:ext cx="164880" cy="24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对象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4005360"/>
                    <a:ext cx="16488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对象 9"/>
          <p:cNvGraphicFramePr/>
          <p:nvPr/>
        </p:nvGraphicFramePr>
        <p:xfrm>
          <a:off x="3708360" y="4005360"/>
          <a:ext cx="241308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9" name="对象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8360" y="4005360"/>
                    <a:ext cx="24130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对象 10"/>
          <p:cNvGraphicFramePr/>
          <p:nvPr/>
        </p:nvGraphicFramePr>
        <p:xfrm>
          <a:off x="2165400" y="4788000"/>
          <a:ext cx="16488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1" name="对象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5400" y="4788000"/>
                    <a:ext cx="164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对象 11"/>
          <p:cNvGraphicFramePr/>
          <p:nvPr/>
        </p:nvGraphicFramePr>
        <p:xfrm>
          <a:off x="3894120" y="4772160"/>
          <a:ext cx="165240" cy="24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3" name="对象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94120" y="4772160"/>
                    <a:ext cx="165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609480" y="1197000"/>
            <a:ext cx="777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．张大伟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元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元的邮票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角的邮票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张，两种邮票各买了多少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539640" y="2290680"/>
            <a:ext cx="7900920" cy="2793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1168560" y="5094360"/>
            <a:ext cx="72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因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元的邮票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张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角的邮票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张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对象 4"/>
          <p:cNvGraphicFramePr/>
          <p:nvPr/>
        </p:nvGraphicFramePr>
        <p:xfrm>
          <a:off x="1403280" y="4695840"/>
          <a:ext cx="165240" cy="2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695840"/>
                    <a:ext cx="165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对象 5"/>
          <p:cNvGraphicFramePr/>
          <p:nvPr/>
        </p:nvGraphicFramePr>
        <p:xfrm>
          <a:off x="1403280" y="4183200"/>
          <a:ext cx="165240" cy="24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对象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4183200"/>
                    <a:ext cx="165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对象 7"/>
          <p:cNvGraphicFramePr/>
          <p:nvPr/>
        </p:nvGraphicFramePr>
        <p:xfrm>
          <a:off x="1332000" y="3676680"/>
          <a:ext cx="27936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对象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76680"/>
                    <a:ext cx="279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对象 8"/>
          <p:cNvGraphicFramePr/>
          <p:nvPr/>
        </p:nvGraphicFramePr>
        <p:xfrm>
          <a:off x="1332000" y="3159000"/>
          <a:ext cx="26676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对象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3159000"/>
                    <a:ext cx="266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对象 10"/>
          <p:cNvGraphicFramePr/>
          <p:nvPr/>
        </p:nvGraphicFramePr>
        <p:xfrm>
          <a:off x="2805120" y="3138480"/>
          <a:ext cx="27936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对象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05120" y="3138480"/>
                    <a:ext cx="27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对象 11"/>
          <p:cNvGraphicFramePr/>
          <p:nvPr/>
        </p:nvGraphicFramePr>
        <p:xfrm>
          <a:off x="2806560" y="3676680"/>
          <a:ext cx="279720" cy="24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对象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06560" y="3676680"/>
                    <a:ext cx="2797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对象 12"/>
          <p:cNvGraphicFramePr/>
          <p:nvPr/>
        </p:nvGraphicFramePr>
        <p:xfrm>
          <a:off x="2805120" y="4165560"/>
          <a:ext cx="27936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1" name="对象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05120" y="4165560"/>
                    <a:ext cx="27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对象 13"/>
          <p:cNvGraphicFramePr/>
          <p:nvPr/>
        </p:nvGraphicFramePr>
        <p:xfrm>
          <a:off x="2793960" y="4680000"/>
          <a:ext cx="279360" cy="24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3" name="对象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3960" y="4680000"/>
                    <a:ext cx="279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Box 19"/>
          <p:cNvSpPr/>
          <p:nvPr/>
        </p:nvSpPr>
        <p:spPr>
          <a:xfrm>
            <a:off x="3443400" y="3073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×0.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3494160" y="356220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×0.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3505320" y="40194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×0.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3635280" y="451332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×0.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对象 15"/>
          <p:cNvGraphicFramePr/>
          <p:nvPr/>
        </p:nvGraphicFramePr>
        <p:xfrm>
          <a:off x="6686640" y="3181320"/>
          <a:ext cx="83808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9" name="对象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86640" y="3181320"/>
                    <a:ext cx="8380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对象 16"/>
          <p:cNvGraphicFramePr/>
          <p:nvPr/>
        </p:nvGraphicFramePr>
        <p:xfrm>
          <a:off x="6659640" y="3730680"/>
          <a:ext cx="83808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对象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59640" y="3730680"/>
                    <a:ext cx="8380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对象 17"/>
          <p:cNvGraphicFramePr/>
          <p:nvPr/>
        </p:nvGraphicFramePr>
        <p:xfrm>
          <a:off x="6686640" y="4162320"/>
          <a:ext cx="838080" cy="29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3" name="对象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86640" y="4162320"/>
                    <a:ext cx="8380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对象 18"/>
          <p:cNvGraphicFramePr/>
          <p:nvPr/>
        </p:nvGraphicFramePr>
        <p:xfrm>
          <a:off x="6762600" y="4649760"/>
          <a:ext cx="546120" cy="29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5" name="对象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2600" y="4649760"/>
                    <a:ext cx="546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对象 24"/>
          <p:cNvGraphicFramePr/>
          <p:nvPr/>
        </p:nvGraphicFramePr>
        <p:xfrm>
          <a:off x="3699000" y="5303880"/>
          <a:ext cx="164880" cy="241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7" name="对象 2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99000" y="5303880"/>
                    <a:ext cx="16488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对象 25"/>
          <p:cNvGraphicFramePr/>
          <p:nvPr/>
        </p:nvGraphicFramePr>
        <p:xfrm>
          <a:off x="6227640" y="5308560"/>
          <a:ext cx="279360" cy="241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9" name="对象 2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27640" y="5308560"/>
                    <a:ext cx="279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6"/>
          <p:cNvSpPr/>
          <p:nvPr/>
        </p:nvSpPr>
        <p:spPr>
          <a:xfrm>
            <a:off x="1290600" y="2438280"/>
            <a:ext cx="6253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图、列举、假设都是解决问题的有效策略，同一个问题可以用不同的策略解决，要根据具体问题灵活选择解题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用假设法解题时，可以先作适当的分析，再从接近结果的数据开始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3" descr="课堂小结.png"/>
          <p:cNvPicPr/>
          <p:nvPr/>
        </p:nvPicPr>
        <p:blipFill>
          <a:blip r:embed="rId1"/>
          <a:stretch/>
        </p:blipFill>
        <p:spPr>
          <a:xfrm>
            <a:off x="3084480" y="17604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534960" y="1674720"/>
            <a:ext cx="79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六年级同学制作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蝴蝶标本，贴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展板上展出。每块小展板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每块大展板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。每两种展板各有多少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"/>
          <p:cNvGrpSpPr/>
          <p:nvPr/>
        </p:nvGrpSpPr>
        <p:grpSpPr>
          <a:xfrm>
            <a:off x="671400" y="1011240"/>
            <a:ext cx="4792680" cy="642600"/>
            <a:chOff x="671400" y="1011240"/>
            <a:chExt cx="4792680" cy="642600"/>
          </a:xfrm>
        </p:grpSpPr>
        <p:pic>
          <p:nvPicPr>
            <p:cNvPr id="287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671400" y="121356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23"/>
            <p:cNvSpPr/>
            <p:nvPr/>
          </p:nvSpPr>
          <p:spPr>
            <a:xfrm>
              <a:off x="886320" y="1011240"/>
              <a:ext cx="457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0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习五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14" descr=""/>
          <p:cNvPicPr/>
          <p:nvPr/>
        </p:nvPicPr>
        <p:blipFill>
          <a:blip r:embed="rId3"/>
          <a:stretch/>
        </p:blipFill>
        <p:spPr>
          <a:xfrm>
            <a:off x="865080" y="3124080"/>
            <a:ext cx="6208920" cy="1314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"/>
          <p:cNvPicPr/>
          <p:nvPr/>
        </p:nvPicPr>
        <p:blipFill>
          <a:blip r:embed="rId4"/>
          <a:stretch/>
        </p:blipFill>
        <p:spPr>
          <a:xfrm>
            <a:off x="584280" y="4454640"/>
            <a:ext cx="8126280" cy="1579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"/>
          <p:cNvSpPr/>
          <p:nvPr/>
        </p:nvSpPr>
        <p:spPr>
          <a:xfrm>
            <a:off x="1411200" y="543564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3164040" y="54338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4152960" y="543564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×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×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7083360" y="543564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600120" y="9586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133640" y="990720"/>
            <a:ext cx="3638520" cy="1542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5172120" y="1143000"/>
            <a:ext cx="3209760" cy="1219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333360" y="2763720"/>
            <a:ext cx="8582040" cy="22654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806400" y="2362320"/>
            <a:ext cx="7602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表中数据，接着想一想、填一填，并找出答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8" descr="当堂检测.png"/>
          <p:cNvPicPr/>
          <p:nvPr/>
        </p:nvPicPr>
        <p:blipFill>
          <a:blip r:embed="rId4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1324080" y="366552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3152880" y="367668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4289400" y="366552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×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×0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7224840" y="3665520"/>
            <a:ext cx="19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1301760" y="409896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3152880" y="413856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4336920" y="412740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×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×0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7196040" y="412740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1287360" y="453384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3228840" y="451476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4257720" y="4572000"/>
            <a:ext cx="29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×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×0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9"/>
          <p:cNvSpPr/>
          <p:nvPr/>
        </p:nvSpPr>
        <p:spPr>
          <a:xfrm>
            <a:off x="7188120" y="453564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609480" y="4952880"/>
            <a:ext cx="81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过表中的数据，可知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时，总元数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×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0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时，总元数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×0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所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的硬币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600120" y="121608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三堆围棋子，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枚，第一堆有      是白子，第二堆的黑子与第三堆的白子同样多。这三堆棋子中一共有多少枚白子？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（先在图中表示出第二、第三堆的白子和黑子，再解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978200" y="3408480"/>
            <a:ext cx="5167080" cy="15825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4083120" y="478296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图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2"/>
          <p:cNvGrpSpPr/>
          <p:nvPr/>
        </p:nvGrpSpPr>
        <p:grpSpPr>
          <a:xfrm>
            <a:off x="3097080" y="5257800"/>
            <a:ext cx="3456000" cy="766800"/>
            <a:chOff x="3097080" y="5257800"/>
            <a:chExt cx="3456000" cy="766800"/>
          </a:xfrm>
        </p:grpSpPr>
        <p:sp>
          <p:nvSpPr>
            <p:cNvPr id="319" name="TextBox 6"/>
            <p:cNvSpPr/>
            <p:nvPr/>
          </p:nvSpPr>
          <p:spPr>
            <a:xfrm>
              <a:off x="3097080" y="541008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0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（枚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对象 1"/>
            <p:cNvGraphicFramePr/>
            <p:nvPr/>
          </p:nvGraphicFramePr>
          <p:xfrm>
            <a:off x="4407840" y="5257800"/>
            <a:ext cx="420840" cy="76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1" name="对象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07840" y="5257800"/>
                      <a:ext cx="42084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600120" y="12160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名篮球运动员在一场比赛中一共投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球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球，也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球。已知这名运动员一共得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他投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球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球各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573280" y="2651040"/>
            <a:ext cx="6375600" cy="1225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649440" y="3943440"/>
            <a:ext cx="8126280" cy="193356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8" descr="当堂检测.png"/>
          <p:cNvPicPr/>
          <p:nvPr/>
        </p:nvPicPr>
        <p:blipFill>
          <a:blip r:embed="rId3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6"/>
          <p:cNvSpPr/>
          <p:nvPr/>
        </p:nvSpPr>
        <p:spPr>
          <a:xfrm>
            <a:off x="1335240" y="443880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3164040" y="449100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4113360" y="44766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×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×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7043760" y="444024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1314360" y="489600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164040" y="487692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4091040" y="49338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×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×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7021440" y="489744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335240" y="53006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3164040" y="528156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4121280" y="53388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×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×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7051680" y="530208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576360" y="1027080"/>
            <a:ext cx="8240760" cy="54165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763560" y="3538440"/>
            <a:ext cx="792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假设双打的桌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，单打的桌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，双打的比单打的多的人数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，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比较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；假设双打的桌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，单打的桌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，双打的比单打的多的人数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，双打的比单打的正好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。所以进行单打和双打比赛的球桌分别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dministrator\Desktop\图片2.tif"/>
          <p:cNvPicPr/>
          <p:nvPr/>
        </p:nvPicPr>
        <p:blipFill>
          <a:blip r:embed="rId1"/>
          <a:stretch/>
        </p:blipFill>
        <p:spPr>
          <a:xfrm>
            <a:off x="3084480" y="176040"/>
            <a:ext cx="274320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9"/>
          <p:cNvSpPr/>
          <p:nvPr/>
        </p:nvSpPr>
        <p:spPr>
          <a:xfrm>
            <a:off x="592200" y="12096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有雉兔同笼，上有三十五头，下有九十四足，问雉兔各几何？”这四句话的意思是：有若干只鸡和兔同在一个笼子里，从上面数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头；从下面数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脚。问笼中各有几只鸡和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3084480" y="354492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990720" y="191628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．在一个停车场上，摩托车和小轿车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辆，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个轮子，这个停车场上摩托车和小轿车各有多少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9"/>
          <p:cNvGrpSpPr/>
          <p:nvPr/>
        </p:nvGrpSpPr>
        <p:grpSpPr>
          <a:xfrm>
            <a:off x="871560" y="1248120"/>
            <a:ext cx="5224320" cy="642600"/>
            <a:chOff x="871560" y="1248120"/>
            <a:chExt cx="5224320" cy="642600"/>
          </a:xfrm>
        </p:grpSpPr>
        <p:pic>
          <p:nvPicPr>
            <p:cNvPr id="3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871560" y="14526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文本框 23"/>
            <p:cNvSpPr/>
            <p:nvPr/>
          </p:nvSpPr>
          <p:spPr>
            <a:xfrm>
              <a:off x="1133280" y="1248120"/>
              <a:ext cx="49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矩形 14"/>
          <p:cNvSpPr/>
          <p:nvPr/>
        </p:nvSpPr>
        <p:spPr>
          <a:xfrm>
            <a:off x="1438200" y="5367240"/>
            <a:ext cx="576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辨析：不能有目的地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8" descr="当堂检测.png"/>
          <p:cNvPicPr/>
          <p:nvPr/>
        </p:nvPicPr>
        <p:blipFill>
          <a:blip r:embed="rId2"/>
          <a:stretch/>
        </p:blipFill>
        <p:spPr>
          <a:xfrm>
            <a:off x="3008160" y="260280"/>
            <a:ext cx="2621160" cy="608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3"/>
          <a:stretch/>
        </p:blipFill>
        <p:spPr>
          <a:xfrm>
            <a:off x="1033560" y="2919240"/>
            <a:ext cx="6923160" cy="23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对象 1"/>
          <p:cNvGraphicFramePr/>
          <p:nvPr/>
        </p:nvGraphicFramePr>
        <p:xfrm>
          <a:off x="1835280" y="4087800"/>
          <a:ext cx="164880" cy="24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9" name="对象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087800"/>
                    <a:ext cx="16488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对象 2"/>
          <p:cNvGraphicFramePr/>
          <p:nvPr/>
        </p:nvGraphicFramePr>
        <p:xfrm>
          <a:off x="3298680" y="4087800"/>
          <a:ext cx="165240" cy="24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1" name="对象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8680" y="4087800"/>
                    <a:ext cx="165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TextBox 13"/>
          <p:cNvSpPr/>
          <p:nvPr/>
        </p:nvSpPr>
        <p:spPr>
          <a:xfrm>
            <a:off x="4067280" y="39178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×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×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对象 4"/>
          <p:cNvGraphicFramePr/>
          <p:nvPr/>
        </p:nvGraphicFramePr>
        <p:xfrm>
          <a:off x="6504120" y="3975120"/>
          <a:ext cx="660240" cy="29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04120" y="3975120"/>
                    <a:ext cx="660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对象 5"/>
          <p:cNvGraphicFramePr/>
          <p:nvPr/>
        </p:nvGraphicFramePr>
        <p:xfrm>
          <a:off x="1835280" y="4672080"/>
          <a:ext cx="164880" cy="228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6" name="对象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4672080"/>
                    <a:ext cx="164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对象 6"/>
          <p:cNvGraphicFramePr/>
          <p:nvPr/>
        </p:nvGraphicFramePr>
        <p:xfrm>
          <a:off x="3298680" y="4702320"/>
          <a:ext cx="165240" cy="24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8" name="对象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98680" y="4702320"/>
                    <a:ext cx="165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Box 16"/>
          <p:cNvSpPr/>
          <p:nvPr/>
        </p:nvSpPr>
        <p:spPr>
          <a:xfrm>
            <a:off x="4067280" y="4638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×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×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对象 7"/>
          <p:cNvGraphicFramePr/>
          <p:nvPr/>
        </p:nvGraphicFramePr>
        <p:xfrm>
          <a:off x="6618240" y="4638600"/>
          <a:ext cx="546120" cy="292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1" name="对象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18240" y="4638600"/>
                    <a:ext cx="546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5"/>
          <p:cNvSpPr/>
          <p:nvPr/>
        </p:nvSpPr>
        <p:spPr>
          <a:xfrm>
            <a:off x="1587600" y="5257800"/>
            <a:ext cx="664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辨析：不能找准答对和答错所相差的分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图片 6" descr="当堂检测.png"/>
          <p:cNvPicPr/>
          <p:nvPr/>
        </p:nvPicPr>
        <p:blipFill>
          <a:blip r:embed="rId1"/>
          <a:stretch/>
        </p:blipFill>
        <p:spPr>
          <a:xfrm>
            <a:off x="3289320" y="260280"/>
            <a:ext cx="2620800" cy="608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1044720" y="121284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．长江小学举行环保知识竞赛，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题，答对一题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分，不答不扣分，答错一题倒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分。王华回答所有的题目，结果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分，他答对了多少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1619280" y="2781360"/>
            <a:ext cx="516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假设全都答对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0×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4)÷(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他答对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85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47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48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89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51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52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93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5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56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97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6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095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27400" y="521172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05" name="上箭头 66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上箭头 67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上箭头 68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"/>
          <p:cNvSpPr/>
          <p:nvPr/>
        </p:nvSpPr>
        <p:spPr>
          <a:xfrm>
            <a:off x="1233360" y="2362320"/>
            <a:ext cx="496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种策略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10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14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46" descr="课时总览.png"/>
          <p:cNvPicPr/>
          <p:nvPr/>
        </p:nvPicPr>
        <p:blipFill>
          <a:blip r:embed="rId1"/>
          <a:stretch/>
        </p:blipFill>
        <p:spPr>
          <a:xfrm>
            <a:off x="3084480" y="176040"/>
            <a:ext cx="27417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304920" y="1990800"/>
            <a:ext cx="539640" cy="574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2"/>
          <p:cNvSpPr/>
          <p:nvPr/>
        </p:nvSpPr>
        <p:spPr>
          <a:xfrm>
            <a:off x="428040" y="205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14400" y="190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去公园划船，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船正好坐满。每只大船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每只小船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租的大船、小船各有多少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合 1"/>
          <p:cNvGrpSpPr/>
          <p:nvPr/>
        </p:nvGrpSpPr>
        <p:grpSpPr>
          <a:xfrm>
            <a:off x="243000" y="1071720"/>
            <a:ext cx="5700600" cy="732960"/>
            <a:chOff x="243000" y="1071720"/>
            <a:chExt cx="5700600" cy="732960"/>
          </a:xfrm>
        </p:grpSpPr>
        <p:sp>
          <p:nvSpPr>
            <p:cNvPr id="124" name="文本框 13"/>
            <p:cNvSpPr/>
            <p:nvPr/>
          </p:nvSpPr>
          <p:spPr>
            <a:xfrm>
              <a:off x="1431360" y="1162080"/>
              <a:ext cx="4512240" cy="642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多种策略解决同一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243000" y="1071720"/>
              <a:ext cx="109728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图片 6" descr="QQ截图20160502150911.png"/>
          <p:cNvPicPr/>
          <p:nvPr/>
        </p:nvPicPr>
        <p:blipFill>
          <a:blip r:embed="rId4"/>
          <a:stretch/>
        </p:blipFill>
        <p:spPr>
          <a:xfrm>
            <a:off x="914400" y="3048120"/>
            <a:ext cx="7467480" cy="3448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371600" y="32004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这个问题，你准备选择什么策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7132680" y="3619440"/>
            <a:ext cx="10159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1"/>
          <p:cNvGrpSpPr/>
          <p:nvPr/>
        </p:nvGrpSpPr>
        <p:grpSpPr>
          <a:xfrm>
            <a:off x="4419720" y="3860640"/>
            <a:ext cx="2636640" cy="1016280"/>
            <a:chOff x="4419720" y="3860640"/>
            <a:chExt cx="2636640" cy="1016280"/>
          </a:xfrm>
        </p:grpSpPr>
        <p:sp>
          <p:nvSpPr>
            <p:cNvPr id="130" name="圆角矩形标注 2"/>
            <p:cNvSpPr/>
            <p:nvPr/>
          </p:nvSpPr>
          <p:spPr>
            <a:xfrm>
              <a:off x="4419720" y="3911400"/>
              <a:ext cx="2467080" cy="965520"/>
            </a:xfrm>
            <a:prstGeom prst="wedgeRoundRectCallout">
              <a:avLst>
                <a:gd name="adj1" fmla="val 67944"/>
                <a:gd name="adj2" fmla="val -3046"/>
                <a:gd name="adj3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4465440" y="386064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先画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只大船坐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，再去掉多的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3" descr=""/>
          <p:cNvPicPr/>
          <p:nvPr/>
        </p:nvPicPr>
        <p:blipFill>
          <a:blip r:embed="rId6"/>
          <a:stretch/>
        </p:blipFill>
        <p:spPr>
          <a:xfrm>
            <a:off x="1752480" y="4876920"/>
            <a:ext cx="57913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6" descr="QQ截图20160502150911.png"/>
          <p:cNvPicPr/>
          <p:nvPr/>
        </p:nvPicPr>
        <p:blipFill>
          <a:blip r:embed="rId1"/>
          <a:stretch/>
        </p:blipFill>
        <p:spPr>
          <a:xfrm>
            <a:off x="236520" y="1295280"/>
            <a:ext cx="8602560" cy="487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66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1"/>
          <p:cNvGrpSpPr/>
          <p:nvPr/>
        </p:nvGrpSpPr>
        <p:grpSpPr>
          <a:xfrm>
            <a:off x="2514600" y="1574640"/>
            <a:ext cx="2971800" cy="1016280"/>
            <a:chOff x="2514600" y="1574640"/>
            <a:chExt cx="2971800" cy="1016280"/>
          </a:xfrm>
        </p:grpSpPr>
        <p:sp>
          <p:nvSpPr>
            <p:cNvPr id="136" name="圆角矩形标注 3"/>
            <p:cNvSpPr/>
            <p:nvPr/>
          </p:nvSpPr>
          <p:spPr>
            <a:xfrm>
              <a:off x="2514600" y="1625400"/>
              <a:ext cx="2971800" cy="965520"/>
            </a:xfrm>
            <a:prstGeom prst="wedgeRoundRectCallout">
              <a:avLst>
                <a:gd name="adj1" fmla="val -65208"/>
                <a:gd name="adj2" fmla="val 15037"/>
                <a:gd name="adj3" fmla="val 16667"/>
              </a:avLst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2514600" y="1574640"/>
              <a:ext cx="294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从大船有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只，小船有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只开始，有序列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762120" y="2889360"/>
            <a:ext cx="7772400" cy="2825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434960" y="43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1447920" y="4724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1447920" y="5191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048120" y="4308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048120" y="4684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3048120" y="5191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38480" y="3881520"/>
            <a:ext cx="26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038480" y="4338720"/>
            <a:ext cx="26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038480" y="4719600"/>
            <a:ext cx="26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070520" y="5191200"/>
            <a:ext cx="26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6781680" y="3906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6781680" y="4302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6781680" y="47307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刚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67816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9" descr="探索新知.png"/>
          <p:cNvPicPr/>
          <p:nvPr/>
        </p:nvPicPr>
        <p:blipFill>
          <a:blip r:embed="rId4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QQ截图20160502150911.png"/>
          <p:cNvPicPr/>
          <p:nvPr/>
        </p:nvPicPr>
        <p:blipFill>
          <a:blip r:embed="rId1"/>
          <a:stretch/>
        </p:blipFill>
        <p:spPr>
          <a:xfrm>
            <a:off x="236520" y="1295280"/>
            <a:ext cx="8602560" cy="38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45728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合 1"/>
          <p:cNvGrpSpPr/>
          <p:nvPr/>
        </p:nvGrpSpPr>
        <p:grpSpPr>
          <a:xfrm>
            <a:off x="2514600" y="1574640"/>
            <a:ext cx="2971800" cy="1016280"/>
            <a:chOff x="2514600" y="1574640"/>
            <a:chExt cx="2971800" cy="1016280"/>
          </a:xfrm>
        </p:grpSpPr>
        <p:sp>
          <p:nvSpPr>
            <p:cNvPr id="157" name="圆角矩形标注 3"/>
            <p:cNvSpPr/>
            <p:nvPr/>
          </p:nvSpPr>
          <p:spPr>
            <a:xfrm>
              <a:off x="2514600" y="1625400"/>
              <a:ext cx="2971800" cy="965520"/>
            </a:xfrm>
            <a:prstGeom prst="wedgeRoundRectCallout">
              <a:avLst>
                <a:gd name="adj1" fmla="val -65208"/>
                <a:gd name="adj2" fmla="val 15037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ff66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2514600" y="1574640"/>
              <a:ext cx="294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假设大船和小船同样多，再根据总人数调整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685800" y="3138480"/>
            <a:ext cx="8001000" cy="1509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1432080" y="4124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1240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103640" y="4114800"/>
            <a:ext cx="26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693432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刚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9" descr="探索新知.png"/>
          <p:cNvPicPr/>
          <p:nvPr/>
        </p:nvPicPr>
        <p:blipFill>
          <a:blip r:embed="rId4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QQ截图20160502150911.png"/>
          <p:cNvPicPr/>
          <p:nvPr/>
        </p:nvPicPr>
        <p:blipFill>
          <a:blip r:embed="rId1"/>
          <a:stretch/>
        </p:blipFill>
        <p:spPr>
          <a:xfrm>
            <a:off x="236520" y="1295280"/>
            <a:ext cx="8602560" cy="4876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838080" y="1600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答并检验，再与同学交流你的解题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533520" y="2286000"/>
            <a:ext cx="8186760" cy="2859840"/>
            <a:chOff x="533520" y="2286000"/>
            <a:chExt cx="8186760" cy="2859840"/>
          </a:xfrm>
        </p:grpSpPr>
        <p:sp>
          <p:nvSpPr>
            <p:cNvPr id="168" name="Text Box 6"/>
            <p:cNvSpPr/>
            <p:nvPr/>
          </p:nvSpPr>
          <p:spPr>
            <a:xfrm>
              <a:off x="533520" y="2286000"/>
              <a:ext cx="4119480" cy="28598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×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人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人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船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船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648320" y="2286000"/>
              <a:ext cx="4071960" cy="28598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检验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×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×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人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6"/>
          <p:cNvSpPr/>
          <p:nvPr/>
        </p:nvSpPr>
        <p:spPr>
          <a:xfrm>
            <a:off x="533520" y="5105520"/>
            <a:ext cx="818676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租的大船有        只，小船有         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9"/>
          <p:cNvSpPr/>
          <p:nvPr/>
        </p:nvSpPr>
        <p:spPr>
          <a:xfrm>
            <a:off x="2819520" y="5643720"/>
            <a:ext cx="609480" cy="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1"/>
          <p:cNvSpPr/>
          <p:nvPr/>
        </p:nvSpPr>
        <p:spPr>
          <a:xfrm>
            <a:off x="4952880" y="5610240"/>
            <a:ext cx="609840" cy="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2975040" y="5181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5108400" y="5181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68580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鸡和兔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，它们的腿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。鸡和兔各有多少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（根据下面的提示，选择一种方法找出答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1"/>
          <p:cNvGrpSpPr/>
          <p:nvPr/>
        </p:nvGrpSpPr>
        <p:grpSpPr>
          <a:xfrm>
            <a:off x="257040" y="879480"/>
            <a:ext cx="4784760" cy="642600"/>
            <a:chOff x="257040" y="879480"/>
            <a:chExt cx="4784760" cy="642600"/>
          </a:xfrm>
        </p:grpSpPr>
        <p:pic>
          <p:nvPicPr>
            <p:cNvPr id="179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257040" y="108288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文本框 23"/>
            <p:cNvSpPr/>
            <p:nvPr/>
          </p:nvSpPr>
          <p:spPr>
            <a:xfrm>
              <a:off x="518760" y="879480"/>
              <a:ext cx="45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29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>
            <a:off x="990720" y="2590920"/>
            <a:ext cx="7172280" cy="8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4"/>
          <a:stretch/>
        </p:blipFill>
        <p:spPr>
          <a:xfrm>
            <a:off x="990720" y="2666880"/>
            <a:ext cx="7281720" cy="887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5"/>
          <a:stretch/>
        </p:blipFill>
        <p:spPr>
          <a:xfrm>
            <a:off x="914400" y="2676600"/>
            <a:ext cx="7262640" cy="904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685800" y="36241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按照下面的步骤画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圆，表示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都是鸡，给每只动物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腿。算一算画     出的腿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少多少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兔比一只鸡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腿，给其中的几只动物添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腿，使画出的腿正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68580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鸡有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，兔有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63480" y="2236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先假设鸡和兔同样多，再调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87520" y="3041640"/>
            <a:ext cx="7924680" cy="14540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6705720" y="3392640"/>
            <a:ext cx="11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1219320" y="3809880"/>
            <a:ext cx="55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2724120" y="3809880"/>
            <a:ext cx="55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3581280" y="3809880"/>
            <a:ext cx="284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6781680" y="384336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刚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2057400" y="1447920"/>
            <a:ext cx="55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4273560" y="1447920"/>
            <a:ext cx="55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08:54:18Z</dcterms:created>
  <dc:creator>Administrator</dc:creator>
  <dc:description/>
  <dc:language>en-US</dc:language>
  <cp:lastModifiedBy>Sky123.Org</cp:lastModifiedBy>
  <dcterms:modified xsi:type="dcterms:W3CDTF">2018-01-14T12:32:1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