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7.png" ContentType="image/png"/>
  <Override PartName="/ppt/media/image15.gif" ContentType="image/gif"/>
  <Override PartName="/ppt/media/image1.png" ContentType="image/png"/>
  <Override PartName="/ppt/media/chimes.wav" ContentType="audio/x-wav"/>
  <Override PartName="/ppt/media/image13.png" ContentType="image/png"/>
  <Override PartName="/ppt/media/image14.gif" ContentType="image/gif"/>
  <Override PartName="/ppt/media/image12.png" ContentType="image/png"/>
  <Override PartName="/ppt/media/CHIMES.WAV" ContentType="audio/x-wav"/>
  <Override PartName="/ppt/media/image11.png" ContentType="image/png"/>
  <Override PartName="/ppt/media/PROJCTOR.WAV" ContentType="audio/x-wav"/>
  <Override PartName="/ppt/media/image6.png" ContentType="image/png"/>
  <Override PartName="/ppt/media/CAMERA.WAV" ContentType="audio/x-wav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201-353E-410E-81B6-AA4E48D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0AE-D5A0-4DB3-89D7-FDDB3C1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183-CDD2-4860-AC90-DEDA2312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1D5-EF2E-4B8F-8EF3-728FB7FB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7837-E29D-4143-9B77-78B592A6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1A65-C2FD-44CD-8321-CCF160B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678-D28E-4835-8735-F517B5B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6793-4513-4A3B-BEBF-2E0BC063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2B6D-2214-4B4C-9F7F-15D2B9B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2F85-6913-4827-B17B-57D9D1B3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975-29EC-481D-A0DC-9AFBC35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C51-67E2-44E8-B4E2-81F0FBB7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B928-812D-48BB-A92D-4C64708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6B4-67F7-4D52-91FD-0E5A986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4695-A87B-4468-B6EC-90A1163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2B62-25C1-4B88-BF7E-91AAB5F3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480F-DBA2-44BA-8A30-CAC07BAA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4DF1-38C7-4EEC-9E4E-5F9A8CBB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E8F9-70EA-40F0-9374-E3053B3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FE1A-4F50-4598-AF05-2A1F8960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9477-1215-4759-B326-3E069854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44FD-F433-481A-A885-DBCA07D0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983-8BA0-4960-A70C-BCBEBCBF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0538-C103-48C0-9F5E-B70428D4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3AB0-96A9-4E35-8B67-6EA7822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9ECB-A460-466A-B0F6-40BA4AA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6354-EA88-4271-A6D1-9B9B279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A7E9-EFD1-4D9B-AA9C-8F41096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E991-5E0E-43A1-80F8-BD6DE003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0540-4BA4-4AC8-AF43-D904C9A4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1737-7DC4-429D-9344-06935C36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88A4-BAE5-44AA-9D0F-82B8B43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9EFB-8576-4081-B3D9-03D3A12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4B2-3B21-4FFB-92B0-28BA589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F4FAE-EA13-4CA3-AD19-89D4B18A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EBB6-F0C2-4C33-A2F0-30AEF03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DDF7-C58E-4C0F-A1A5-DB88343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42B2-C9ED-44C7-B0C5-29AEEDA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DFB8-279D-42A0-8F48-1882340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F0BB-5EDB-47DD-A2CF-4E57B713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9D4A-ED32-4083-8452-FA54757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C8C8-2D7A-4390-B4E8-9FAAA570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2A3DE-49A1-4B11-8135-D9D11A6D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AE6-C23E-445D-AF81-8CB4E963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3FD-A661-437A-9FF8-F2074B2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7A2-DAE0-4E11-9A47-B940680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2B5-5B0F-4495-A486-48CDA1E1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156-80C8-4E21-B419-5F99392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36E-3744-43CA-BF0A-12BF19ED8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6CFB-E30F-4163-8F1F-9D4A6E80DF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2C1E-57B6-4033-AEC1-852DA4C007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42B-44C9-4BA0-A55E-1AF5A427D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image" Target="../media/image4.png"/><Relationship Id="rId7" Type="http://schemas.openxmlformats.org/officeDocument/2006/relationships/slide" Target="slide9.xm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283680" cy="6802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1844640"/>
            <a:ext cx="5185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圆柱和圆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6" name=""/>
          <p:cNvSpPr/>
          <p:nvPr/>
        </p:nvSpPr>
        <p:spPr>
          <a:xfrm>
            <a:off x="2882880" y="5594400"/>
            <a:ext cx="309600" cy="3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4365720"/>
            <a:ext cx="331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理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3080" y="378936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沿底面一条直径将圆木锯成两块，表面积增加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41040" y="48340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10×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0×2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=600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平方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669080" y="566100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714240" y="549360"/>
            <a:ext cx="3857760" cy="1295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976760" y="8366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12840" y="2101680"/>
            <a:ext cx="71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圆柱形烟囱需要多少铁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36600" y="336564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柱的侧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14240" y="477720"/>
            <a:ext cx="3857760" cy="12938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976760" y="83808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101680"/>
            <a:ext cx="76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压路机滚筒滚动一周的压路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42800" y="3213000"/>
            <a:ext cx="3048120" cy="2103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732120" y="357336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柱的侧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14240" y="477720"/>
            <a:ext cx="3857760" cy="1293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976760" y="855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49280" y="2082960"/>
            <a:ext cx="4049640" cy="23508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943440" y="2081160"/>
            <a:ext cx="40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帐篷的占地面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74600" y="4362480"/>
            <a:ext cx="10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、帐篷里面的空间有多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321300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锥底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44840" y="516564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锥的容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14240" y="477720"/>
            <a:ext cx="3857760" cy="12938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976760" y="83808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1197000"/>
            <a:ext cx="91454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种无盖的圆柱形水桶，它的底面直径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个这样的水桶至少需多少平方米的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每升水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这个水桶最多能装水多少千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20840" y="401328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一个底面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侧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95640" y="515772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柱的容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714240" y="549360"/>
            <a:ext cx="3857760" cy="1295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976760" y="855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42960" y="1339920"/>
            <a:ext cx="8034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个圆柱形水池，直径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个水池的占地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建成这个水池，共需要挖土多少立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池的内部抹一层水泥，水泥的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沿着池口走一圈的长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11280" y="321300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一个底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414972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圆柱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501336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一个底面积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+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侧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65200" y="5950080"/>
            <a:ext cx="66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"/>
              </a:rPr>
              <a:t>底面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14240" y="549360"/>
            <a:ext cx="3857760" cy="12952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976760" y="909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辨 一 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514440" y="2203560"/>
            <a:ext cx="2400120" cy="2162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763640" y="16858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做这个蛋糕盒大约需要多少纸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71640" y="342576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像左图那样用彩带轧这个蛋糕盒，至少需要多少厘米的彩带？（打结处大约用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的彩带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242100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表面积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=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底面积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侧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4941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彩带长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=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条直径＋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条高＋打结处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1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04920" y="1371600"/>
            <a:ext cx="1295280" cy="1981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fee5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1638360"/>
            <a:ext cx="1371600" cy="15620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33e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22840" y="1371600"/>
            <a:ext cx="1218960" cy="1828800"/>
          </a:xfrm>
          <a:prstGeom prst="ca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4600" y="182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V =s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60200" y="3459240"/>
            <a:ext cx="4572000" cy="1342080"/>
            <a:chOff x="160200" y="3459240"/>
            <a:chExt cx="4572000" cy="1342080"/>
          </a:xfrm>
        </p:grpSpPr>
        <p:sp>
          <p:nvSpPr>
            <p:cNvPr id="525" name=""/>
            <p:cNvSpPr/>
            <p:nvPr/>
          </p:nvSpPr>
          <p:spPr>
            <a:xfrm rot="16200000">
              <a:off x="2199960" y="1419480"/>
              <a:ext cx="492480" cy="4572000"/>
            </a:xfrm>
            <a:custGeom>
              <a:avLst/>
              <a:gdLst>
                <a:gd name="textAreaLeft" fmla="*/ 314640 w 492480"/>
                <a:gd name="textAreaRight" fmla="*/ 492840 w 49248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1"/>
                  </a:lnTo>
                  <a:cubicBezTo>
                    <a:pt x="10800" y="9891"/>
                    <a:pt x="5400" y="10791"/>
                    <a:pt x="0" y="10791"/>
                  </a:cubicBezTo>
                  <a:cubicBezTo>
                    <a:pt x="5400" y="10791"/>
                    <a:pt x="10800" y="11691"/>
                    <a:pt x="10800" y="1259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5720" y="397620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直柱体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684960" y="4135320"/>
            <a:ext cx="1699560" cy="825120"/>
            <a:chOff x="3684960" y="4135320"/>
            <a:chExt cx="1699560" cy="825120"/>
          </a:xfrm>
        </p:grpSpPr>
        <p:sp>
          <p:nvSpPr>
            <p:cNvPr id="528" name=""/>
            <p:cNvSpPr/>
            <p:nvPr/>
          </p:nvSpPr>
          <p:spPr>
            <a:xfrm>
              <a:off x="3684960" y="41972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体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56400" y="4135320"/>
              <a:ext cx="52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5770440" y="419724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60200" y="0"/>
            <a:ext cx="1800360" cy="1295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62080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课外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5"/>
          <p:cNvGrpSpPr/>
          <p:nvPr/>
        </p:nvGrpSpPr>
        <p:grpSpPr>
          <a:xfrm>
            <a:off x="160200" y="4197240"/>
            <a:ext cx="2013120" cy="2527560"/>
            <a:chOff x="160200" y="4197240"/>
            <a:chExt cx="2013120" cy="2527560"/>
          </a:xfrm>
        </p:grpSpPr>
        <p:sp>
          <p:nvSpPr>
            <p:cNvPr id="534" name="AutoShape 16"/>
            <p:cNvSpPr/>
            <p:nvPr/>
          </p:nvSpPr>
          <p:spPr>
            <a:xfrm>
              <a:off x="160200" y="4197240"/>
              <a:ext cx="2013120" cy="2122200"/>
            </a:xfrm>
            <a:prstGeom prst="triangle">
              <a:avLst>
                <a:gd name="adj" fmla="val 50000"/>
              </a:avLst>
            </a:prstGeom>
            <a:solidFill>
              <a:srgbClr val="ff6600">
                <a:alpha val="6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7"/>
            <p:cNvSpPr/>
            <p:nvPr/>
          </p:nvSpPr>
          <p:spPr>
            <a:xfrm>
              <a:off x="187560" y="5860800"/>
              <a:ext cx="1949400" cy="864000"/>
            </a:xfrm>
            <a:prstGeom prst="ellipse">
              <a:avLst/>
            </a:prstGeom>
            <a:solidFill>
              <a:srgbClr val="ff6600">
                <a:alpha val="98000"/>
              </a:srgbClr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09680" y="5153040"/>
            <a:ext cx="4103640" cy="1510920"/>
            <a:chOff x="2209680" y="5153040"/>
            <a:chExt cx="4103640" cy="1510920"/>
          </a:xfrm>
        </p:grpSpPr>
        <p:sp>
          <p:nvSpPr>
            <p:cNvPr id="537" name=""/>
            <p:cNvSpPr/>
            <p:nvPr/>
          </p:nvSpPr>
          <p:spPr>
            <a:xfrm>
              <a:off x="2209680" y="5243400"/>
              <a:ext cx="410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V =   s h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4124160" y="5153040"/>
              <a:ext cx="761040" cy="1510920"/>
              <a:chOff x="4124160" y="5153040"/>
              <a:chExt cx="761040" cy="1510920"/>
            </a:xfrm>
          </p:grpSpPr>
          <p:sp>
            <p:nvSpPr>
              <p:cNvPr id="539" name=""/>
              <p:cNvSpPr/>
              <p:nvPr/>
            </p:nvSpPr>
            <p:spPr>
              <a:xfrm>
                <a:off x="4200120" y="5153040"/>
                <a:ext cx="685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4124160" y="5838840"/>
                <a:ext cx="608760" cy="825120"/>
                <a:chOff x="4124160" y="5838840"/>
                <a:chExt cx="608760" cy="8251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4124160" y="5976720"/>
                  <a:ext cx="608760" cy="0"/>
                </a:xfrm>
                <a:prstGeom prst="line">
                  <a:avLst/>
                </a:prstGeom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00120" y="5838840"/>
                  <a:ext cx="5324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ff"/>
                      </a:solidFill>
                      <a:latin typeface="Times New Roman"/>
                    </a:rPr>
                    <a:t>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295280" y="1905120"/>
            <a:ext cx="3075840" cy="3200400"/>
            <a:chOff x="1295280" y="1905120"/>
            <a:chExt cx="3075840" cy="3200400"/>
          </a:xfrm>
        </p:grpSpPr>
        <p:sp>
          <p:nvSpPr>
            <p:cNvPr id="544" name=""/>
            <p:cNvSpPr/>
            <p:nvPr/>
          </p:nvSpPr>
          <p:spPr>
            <a:xfrm>
              <a:off x="3807000" y="2935440"/>
              <a:ext cx="0" cy="21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1295280" y="1905120"/>
              <a:ext cx="3075840" cy="3200400"/>
              <a:chOff x="1295280" y="1905120"/>
              <a:chExt cx="3075840" cy="3200400"/>
            </a:xfrm>
          </p:grpSpPr>
          <p:sp>
            <p:nvSpPr>
              <p:cNvPr id="546" name=""/>
              <p:cNvSpPr/>
              <p:nvPr/>
            </p:nvSpPr>
            <p:spPr>
              <a:xfrm>
                <a:off x="2951280" y="1905120"/>
                <a:ext cx="0" cy="204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25520" y="1905120"/>
                <a:ext cx="2511360" cy="1085760"/>
              </a:xfrm>
              <a:prstGeom prst="triangle">
                <a:avLst>
                  <a:gd name="adj" fmla="val 65194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25520" y="4019400"/>
                <a:ext cx="2511360" cy="1086120"/>
              </a:xfrm>
              <a:prstGeom prst="triangle">
                <a:avLst>
                  <a:gd name="adj" fmla="val 65194"/>
                </a:avLst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6</a:t>
                </a:r>
                <a:r>
                  <a:rPr b="1" lang="zh-CN" sz="3600" spc="-1" strike="noStrike">
                    <a:solidFill>
                      <a:srgbClr val="ff6600"/>
                    </a:solidFill>
                    <a:latin typeface="Times New Roman"/>
                  </a:rPr>
                  <a:t>平方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95280" y="2935440"/>
                <a:ext cx="0" cy="21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85480" y="3381480"/>
                <a:ext cx="485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6600"/>
                    </a:solidFill>
                    <a:latin typeface="Times New Roman"/>
                  </a:rPr>
                  <a:t>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6553080" y="1066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791320" y="182880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62360" y="1900080"/>
            <a:ext cx="2035440" cy="2967120"/>
            <a:chOff x="5562360" y="1900080"/>
            <a:chExt cx="2035440" cy="2967120"/>
          </a:xfrm>
        </p:grpSpPr>
        <p:grpSp>
          <p:nvGrpSpPr>
            <p:cNvPr id="554" name=""/>
            <p:cNvGrpSpPr/>
            <p:nvPr/>
          </p:nvGrpSpPr>
          <p:grpSpPr>
            <a:xfrm>
              <a:off x="5562360" y="1902960"/>
              <a:ext cx="1958040" cy="2964240"/>
              <a:chOff x="5562360" y="1902960"/>
              <a:chExt cx="1958040" cy="2964240"/>
            </a:xfrm>
          </p:grpSpPr>
          <p:sp>
            <p:nvSpPr>
              <p:cNvPr id="555" name=""/>
              <p:cNvSpPr/>
              <p:nvPr/>
            </p:nvSpPr>
            <p:spPr>
              <a:xfrm>
                <a:off x="6980040" y="2644200"/>
                <a:ext cx="1800" cy="222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5562360" y="1902960"/>
                <a:ext cx="1958040" cy="2964240"/>
                <a:chOff x="5562360" y="1902960"/>
                <a:chExt cx="1958040" cy="2964240"/>
              </a:xfrm>
            </p:grpSpPr>
            <p:sp>
              <p:nvSpPr>
                <p:cNvPr id="557" name=""/>
                <p:cNvSpPr/>
                <p:nvPr/>
              </p:nvSpPr>
              <p:spPr>
                <a:xfrm rot="10800000">
                  <a:off x="5562720" y="4123800"/>
                  <a:ext cx="1416960" cy="740520"/>
                </a:xfrm>
                <a:custGeom>
                  <a:avLst/>
                  <a:gdLst>
                    <a:gd name="textAreaLeft" fmla="*/ 311400 w 1416960"/>
                    <a:gd name="textAreaRight" fmla="*/ 1105560 w 1416960"/>
                    <a:gd name="textAreaTop" fmla="*/ 162720 h 740520"/>
                    <a:gd name="textAreaBottom" fmla="*/ 577800 h 74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5562360" y="1902960"/>
                  <a:ext cx="1958040" cy="2964240"/>
                  <a:chOff x="5562360" y="1902960"/>
                  <a:chExt cx="1958040" cy="29642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10800000">
                    <a:off x="5562360" y="1902960"/>
                    <a:ext cx="1416600" cy="740520"/>
                  </a:xfrm>
                  <a:custGeom>
                    <a:avLst/>
                    <a:gdLst>
                      <a:gd name="textAreaLeft" fmla="*/ 311400 w 1416600"/>
                      <a:gd name="textAreaRight" fmla="*/ 1105200 w 1416600"/>
                      <a:gd name="textAreaTop" fmla="*/ 162720 h 740520"/>
                      <a:gd name="textAreaBottom" fmla="*/ 577800 h 74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562720" y="2643840"/>
                    <a:ext cx="1800" cy="222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889600" y="1903320"/>
                    <a:ext cx="1800" cy="222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652440" y="1903320"/>
                    <a:ext cx="1800" cy="222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562720" y="4864680"/>
                    <a:ext cx="141660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034760" y="2884320"/>
                    <a:ext cx="48564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6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米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65" name=""/>
            <p:cNvSpPr/>
            <p:nvPr/>
          </p:nvSpPr>
          <p:spPr>
            <a:xfrm>
              <a:off x="6027480" y="1900080"/>
              <a:ext cx="157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平方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28600" y="152280"/>
            <a:ext cx="2133720" cy="1876680"/>
            <a:chOff x="228600" y="152280"/>
            <a:chExt cx="2133720" cy="187668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213372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304920" y="228600"/>
              <a:ext cx="838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 </a:t>
              </a:r>
              <a:r>
                <a:rPr b="1" i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想           一  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18560" y="304920"/>
              <a:ext cx="6069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试 一 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349440" y="557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计算下列图形的体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620640"/>
            <a:ext cx="80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对圆柱和圆锥的知识点进行梳理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试着用你所喜欢的方式来整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整理结果要有条理、层次分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整理结果要能体现知识间的联系             和区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2360" y="6272280"/>
            <a:ext cx="358920" cy="24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260280"/>
            <a:ext cx="874080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00600" y="990720"/>
            <a:ext cx="4268520" cy="4657320"/>
            <a:chOff x="4800600" y="990720"/>
            <a:chExt cx="4268520" cy="465732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990720"/>
              <a:ext cx="536040" cy="4657320"/>
              <a:chOff x="4800600" y="990720"/>
              <a:chExt cx="536040" cy="4657320"/>
            </a:xfrm>
          </p:grpSpPr>
          <p:sp>
            <p:nvSpPr>
              <p:cNvPr id="173" name="未知"/>
              <p:cNvSpPr/>
              <p:nvPr/>
            </p:nvSpPr>
            <p:spPr>
              <a:xfrm>
                <a:off x="48006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48016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36640" y="990720"/>
              <a:ext cx="535680" cy="4657320"/>
              <a:chOff x="5336640" y="990720"/>
              <a:chExt cx="535680" cy="4657320"/>
            </a:xfrm>
          </p:grpSpPr>
          <p:sp>
            <p:nvSpPr>
              <p:cNvPr id="176" name="未知"/>
              <p:cNvSpPr/>
              <p:nvPr/>
            </p:nvSpPr>
            <p:spPr>
              <a:xfrm>
                <a:off x="53366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53377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53240" y="990720"/>
              <a:ext cx="536040" cy="4657320"/>
              <a:chOff x="5853240" y="990720"/>
              <a:chExt cx="536040" cy="4657320"/>
            </a:xfrm>
          </p:grpSpPr>
          <p:sp>
            <p:nvSpPr>
              <p:cNvPr id="179" name="未知"/>
              <p:cNvSpPr/>
              <p:nvPr/>
            </p:nvSpPr>
            <p:spPr>
              <a:xfrm>
                <a:off x="585324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585432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389280" y="990720"/>
              <a:ext cx="536040" cy="4657320"/>
              <a:chOff x="6389280" y="990720"/>
              <a:chExt cx="536040" cy="4657320"/>
            </a:xfrm>
          </p:grpSpPr>
          <p:sp>
            <p:nvSpPr>
              <p:cNvPr id="182" name="未知"/>
              <p:cNvSpPr/>
              <p:nvPr/>
            </p:nvSpPr>
            <p:spPr>
              <a:xfrm>
                <a:off x="638928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639036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925320" y="990720"/>
              <a:ext cx="535680" cy="4657320"/>
              <a:chOff x="6925320" y="990720"/>
              <a:chExt cx="535680" cy="465732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692532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692640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461360" y="990720"/>
              <a:ext cx="536040" cy="4657320"/>
              <a:chOff x="7461360" y="990720"/>
              <a:chExt cx="536040" cy="4657320"/>
            </a:xfrm>
          </p:grpSpPr>
          <p:sp>
            <p:nvSpPr>
              <p:cNvPr id="188" name="未知"/>
              <p:cNvSpPr/>
              <p:nvPr/>
            </p:nvSpPr>
            <p:spPr>
              <a:xfrm>
                <a:off x="746136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746244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97400" y="990720"/>
              <a:ext cx="536040" cy="4657320"/>
              <a:chOff x="7997400" y="990720"/>
              <a:chExt cx="536040" cy="4657320"/>
            </a:xfrm>
          </p:grpSpPr>
          <p:sp>
            <p:nvSpPr>
              <p:cNvPr id="191" name="未知"/>
              <p:cNvSpPr/>
              <p:nvPr/>
            </p:nvSpPr>
            <p:spPr>
              <a:xfrm>
                <a:off x="79974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79984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8533440" y="990720"/>
              <a:ext cx="535680" cy="4657320"/>
              <a:chOff x="8533440" y="990720"/>
              <a:chExt cx="535680" cy="465732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85334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5345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152280" y="163836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191120" y="2124000"/>
            <a:ext cx="4266720" cy="4657320"/>
            <a:chOff x="4191120" y="2124000"/>
            <a:chExt cx="4266720" cy="4657320"/>
          </a:xfrm>
        </p:grpSpPr>
        <p:grpSp>
          <p:nvGrpSpPr>
            <p:cNvPr id="198" name=""/>
            <p:cNvGrpSpPr/>
            <p:nvPr/>
          </p:nvGrpSpPr>
          <p:grpSpPr>
            <a:xfrm>
              <a:off x="4191120" y="2124000"/>
              <a:ext cx="533520" cy="4657320"/>
              <a:chOff x="4191120" y="2124000"/>
              <a:chExt cx="533520" cy="4657320"/>
            </a:xfrm>
          </p:grpSpPr>
          <p:sp>
            <p:nvSpPr>
              <p:cNvPr id="199" name="未知"/>
              <p:cNvSpPr/>
              <p:nvPr/>
            </p:nvSpPr>
            <p:spPr>
              <a:xfrm>
                <a:off x="41911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10800000">
                <a:off x="41911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724280" y="2124000"/>
              <a:ext cx="533160" cy="4657320"/>
              <a:chOff x="4724280" y="2124000"/>
              <a:chExt cx="533160" cy="4657320"/>
            </a:xfrm>
          </p:grpSpPr>
          <p:sp>
            <p:nvSpPr>
              <p:cNvPr id="202" name="未知"/>
              <p:cNvSpPr/>
              <p:nvPr/>
            </p:nvSpPr>
            <p:spPr>
              <a:xfrm>
                <a:off x="47246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10800000">
                <a:off x="47242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57800" y="2124000"/>
              <a:ext cx="533520" cy="4657320"/>
              <a:chOff x="5257800" y="2124000"/>
              <a:chExt cx="533520" cy="4657320"/>
            </a:xfrm>
          </p:grpSpPr>
          <p:sp>
            <p:nvSpPr>
              <p:cNvPr id="205" name="未知"/>
              <p:cNvSpPr/>
              <p:nvPr/>
            </p:nvSpPr>
            <p:spPr>
              <a:xfrm>
                <a:off x="52578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 rot="10800000">
                <a:off x="52578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791320" y="2124000"/>
              <a:ext cx="533520" cy="4657320"/>
              <a:chOff x="5791320" y="2124000"/>
              <a:chExt cx="533520" cy="4657320"/>
            </a:xfrm>
          </p:grpSpPr>
          <p:sp>
            <p:nvSpPr>
              <p:cNvPr id="208" name="未知"/>
              <p:cNvSpPr/>
              <p:nvPr/>
            </p:nvSpPr>
            <p:spPr>
              <a:xfrm>
                <a:off x="57913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10800000">
                <a:off x="57913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858000" y="2124000"/>
              <a:ext cx="533520" cy="4657320"/>
              <a:chOff x="6858000" y="2124000"/>
              <a:chExt cx="533520" cy="4657320"/>
            </a:xfrm>
          </p:grpSpPr>
          <p:sp>
            <p:nvSpPr>
              <p:cNvPr id="211" name="未知"/>
              <p:cNvSpPr/>
              <p:nvPr/>
            </p:nvSpPr>
            <p:spPr>
              <a:xfrm>
                <a:off x="68580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 rot="10800000">
                <a:off x="68580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324480" y="2124000"/>
              <a:ext cx="533160" cy="4657320"/>
              <a:chOff x="6324480" y="2124000"/>
              <a:chExt cx="533160" cy="4657320"/>
            </a:xfrm>
          </p:grpSpPr>
          <p:sp>
            <p:nvSpPr>
              <p:cNvPr id="214" name="未知"/>
              <p:cNvSpPr/>
              <p:nvPr/>
            </p:nvSpPr>
            <p:spPr>
              <a:xfrm>
                <a:off x="63248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 rot="10800000">
                <a:off x="63244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391520" y="2124000"/>
              <a:ext cx="533520" cy="4657320"/>
              <a:chOff x="7391520" y="2124000"/>
              <a:chExt cx="533520" cy="4657320"/>
            </a:xfrm>
          </p:grpSpPr>
          <p:sp>
            <p:nvSpPr>
              <p:cNvPr id="217" name="未知"/>
              <p:cNvSpPr/>
              <p:nvPr/>
            </p:nvSpPr>
            <p:spPr>
              <a:xfrm>
                <a:off x="73915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rot="10800000">
                <a:off x="73915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924680" y="2124000"/>
              <a:ext cx="533160" cy="4657320"/>
              <a:chOff x="7924680" y="2124000"/>
              <a:chExt cx="533160" cy="4657320"/>
            </a:xfrm>
          </p:grpSpPr>
          <p:sp>
            <p:nvSpPr>
              <p:cNvPr id="220" name="未知"/>
              <p:cNvSpPr/>
              <p:nvPr/>
            </p:nvSpPr>
            <p:spPr>
              <a:xfrm>
                <a:off x="79250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 rot="10800000">
                <a:off x="79246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154080" y="2266920"/>
            <a:ext cx="3236760" cy="4057560"/>
            <a:chOff x="154080" y="2266920"/>
            <a:chExt cx="3236760" cy="4057560"/>
          </a:xfrm>
        </p:grpSpPr>
        <p:sp>
          <p:nvSpPr>
            <p:cNvPr id="223" name="未知"/>
            <p:cNvSpPr/>
            <p:nvPr/>
          </p:nvSpPr>
          <p:spPr>
            <a:xfrm>
              <a:off x="154080" y="226692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60560" y="226692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未知"/>
          <p:cNvSpPr/>
          <p:nvPr/>
        </p:nvSpPr>
        <p:spPr>
          <a:xfrm>
            <a:off x="166680" y="158904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771560" y="1619280"/>
            <a:ext cx="1440" cy="4657680"/>
            <a:chOff x="1771560" y="1619280"/>
            <a:chExt cx="1440" cy="4657680"/>
          </a:xfrm>
        </p:grpSpPr>
        <p:sp>
          <p:nvSpPr>
            <p:cNvPr id="227" name=""/>
            <p:cNvSpPr/>
            <p:nvPr/>
          </p:nvSpPr>
          <p:spPr>
            <a:xfrm>
              <a:off x="1771560" y="161928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3000" y="292428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52280" y="225108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70440" y="1960920"/>
            <a:ext cx="2857680" cy="4012920"/>
            <a:chOff x="370440" y="1960920"/>
            <a:chExt cx="2857680" cy="4012920"/>
          </a:xfrm>
        </p:grpSpPr>
        <p:sp>
          <p:nvSpPr>
            <p:cNvPr id="231" name=""/>
            <p:cNvSpPr/>
            <p:nvPr/>
          </p:nvSpPr>
          <p:spPr>
            <a:xfrm>
              <a:off x="370440" y="196092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1320" y="261288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43040" y="1781640"/>
            <a:ext cx="2039040" cy="4374360"/>
            <a:chOff x="743040" y="1781640"/>
            <a:chExt cx="2039040" cy="4374360"/>
          </a:xfrm>
        </p:grpSpPr>
        <p:sp>
          <p:nvSpPr>
            <p:cNvPr id="234" name=""/>
            <p:cNvSpPr/>
            <p:nvPr/>
          </p:nvSpPr>
          <p:spPr>
            <a:xfrm flipH="1">
              <a:off x="760680" y="178164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3040" y="28033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238400" y="1692000"/>
            <a:ext cx="1054080" cy="4559040"/>
            <a:chOff x="1238400" y="1692000"/>
            <a:chExt cx="1054080" cy="4559040"/>
          </a:xfrm>
        </p:grpSpPr>
        <p:sp>
          <p:nvSpPr>
            <p:cNvPr id="237" name=""/>
            <p:cNvSpPr/>
            <p:nvPr/>
          </p:nvSpPr>
          <p:spPr>
            <a:xfrm flipH="1">
              <a:off x="1249560" y="1692000"/>
              <a:ext cx="104292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38400" y="28987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5160" y="1950840"/>
            <a:ext cx="2793960" cy="3964320"/>
            <a:chOff x="335160" y="1950840"/>
            <a:chExt cx="2793960" cy="3964320"/>
          </a:xfrm>
        </p:grpSpPr>
        <p:sp>
          <p:nvSpPr>
            <p:cNvPr id="240" name=""/>
            <p:cNvSpPr/>
            <p:nvPr/>
          </p:nvSpPr>
          <p:spPr>
            <a:xfrm flipV="1">
              <a:off x="335160" y="195084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3080" y="259416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88000" y="1652760"/>
            <a:ext cx="1133640" cy="4624200"/>
            <a:chOff x="1188000" y="1652760"/>
            <a:chExt cx="1133640" cy="4624200"/>
          </a:xfrm>
        </p:grpSpPr>
        <p:sp>
          <p:nvSpPr>
            <p:cNvPr id="243" name=""/>
            <p:cNvSpPr/>
            <p:nvPr/>
          </p:nvSpPr>
          <p:spPr>
            <a:xfrm flipH="1" flipV="1">
              <a:off x="1188000" y="165276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05080" y="290196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16840" y="1776600"/>
            <a:ext cx="2024280" cy="4357440"/>
            <a:chOff x="816840" y="1776600"/>
            <a:chExt cx="2024280" cy="4357440"/>
          </a:xfrm>
        </p:grpSpPr>
        <p:sp>
          <p:nvSpPr>
            <p:cNvPr id="246" name=""/>
            <p:cNvSpPr/>
            <p:nvPr/>
          </p:nvSpPr>
          <p:spPr>
            <a:xfrm>
              <a:off x="816840" y="177660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81952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962520" y="990720"/>
            <a:ext cx="5105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91080" y="1581120"/>
            <a:ext cx="4260600" cy="4657320"/>
            <a:chOff x="4591080" y="1581120"/>
            <a:chExt cx="4260600" cy="4657320"/>
          </a:xfrm>
        </p:grpSpPr>
        <p:grpSp>
          <p:nvGrpSpPr>
            <p:cNvPr id="250" name=""/>
            <p:cNvGrpSpPr/>
            <p:nvPr/>
          </p:nvGrpSpPr>
          <p:grpSpPr>
            <a:xfrm>
              <a:off x="4591080" y="1581120"/>
              <a:ext cx="534960" cy="4657320"/>
              <a:chOff x="4591080" y="1581120"/>
              <a:chExt cx="534960" cy="4657320"/>
            </a:xfrm>
          </p:grpSpPr>
          <p:sp>
            <p:nvSpPr>
              <p:cNvPr id="251" name="未知"/>
              <p:cNvSpPr/>
              <p:nvPr/>
            </p:nvSpPr>
            <p:spPr>
              <a:xfrm>
                <a:off x="45910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45921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106960" y="1581120"/>
              <a:ext cx="534600" cy="4657320"/>
              <a:chOff x="5106960" y="1581120"/>
              <a:chExt cx="534600" cy="4657320"/>
            </a:xfrm>
          </p:grpSpPr>
          <p:sp>
            <p:nvSpPr>
              <p:cNvPr id="254" name="未知"/>
              <p:cNvSpPr/>
              <p:nvPr/>
            </p:nvSpPr>
            <p:spPr>
              <a:xfrm>
                <a:off x="510696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510804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641560" y="1581120"/>
              <a:ext cx="534960" cy="4657320"/>
              <a:chOff x="5641560" y="1581120"/>
              <a:chExt cx="534960" cy="4657320"/>
            </a:xfrm>
          </p:grpSpPr>
          <p:sp>
            <p:nvSpPr>
              <p:cNvPr id="257" name="未知"/>
              <p:cNvSpPr/>
              <p:nvPr/>
            </p:nvSpPr>
            <p:spPr>
              <a:xfrm>
                <a:off x="56415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56426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6880" y="1581120"/>
              <a:ext cx="534960" cy="4657320"/>
              <a:chOff x="6176880" y="1581120"/>
              <a:chExt cx="534960" cy="4657320"/>
            </a:xfrm>
          </p:grpSpPr>
          <p:sp>
            <p:nvSpPr>
              <p:cNvPr id="260" name="未知"/>
              <p:cNvSpPr/>
              <p:nvPr/>
            </p:nvSpPr>
            <p:spPr>
              <a:xfrm>
                <a:off x="61768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61779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711840" y="1581120"/>
              <a:ext cx="534600" cy="4657320"/>
              <a:chOff x="6711840" y="1581120"/>
              <a:chExt cx="534600" cy="4657320"/>
            </a:xfrm>
          </p:grpSpPr>
          <p:sp>
            <p:nvSpPr>
              <p:cNvPr id="263" name="未知"/>
              <p:cNvSpPr/>
              <p:nvPr/>
            </p:nvSpPr>
            <p:spPr>
              <a:xfrm>
                <a:off x="671184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671292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46800" y="1581120"/>
              <a:ext cx="534960" cy="4657320"/>
              <a:chOff x="7246800" y="1581120"/>
              <a:chExt cx="534960" cy="4657320"/>
            </a:xfrm>
          </p:grpSpPr>
          <p:sp>
            <p:nvSpPr>
              <p:cNvPr id="266" name="未知"/>
              <p:cNvSpPr/>
              <p:nvPr/>
            </p:nvSpPr>
            <p:spPr>
              <a:xfrm>
                <a:off x="724680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724788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781760" y="1581120"/>
              <a:ext cx="534960" cy="4657320"/>
              <a:chOff x="7781760" y="1581120"/>
              <a:chExt cx="534960" cy="4657320"/>
            </a:xfrm>
          </p:grpSpPr>
          <p:sp>
            <p:nvSpPr>
              <p:cNvPr id="269" name="未知"/>
              <p:cNvSpPr/>
              <p:nvPr/>
            </p:nvSpPr>
            <p:spPr>
              <a:xfrm>
                <a:off x="77817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77828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8317080" y="1581120"/>
              <a:ext cx="534600" cy="4657320"/>
              <a:chOff x="8317080" y="1581120"/>
              <a:chExt cx="534600" cy="465732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831708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831816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4057560" y="1619280"/>
            <a:ext cx="4268520" cy="4657320"/>
            <a:chOff x="4057560" y="1619280"/>
            <a:chExt cx="4268520" cy="4657320"/>
          </a:xfrm>
        </p:grpSpPr>
        <p:grpSp>
          <p:nvGrpSpPr>
            <p:cNvPr id="275" name=""/>
            <p:cNvGrpSpPr/>
            <p:nvPr/>
          </p:nvGrpSpPr>
          <p:grpSpPr>
            <a:xfrm>
              <a:off x="4057560" y="1619280"/>
              <a:ext cx="536400" cy="4657320"/>
              <a:chOff x="4057560" y="1619280"/>
              <a:chExt cx="536400" cy="465732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405756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 rot="10800000">
                <a:off x="405756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593600" y="1619280"/>
              <a:ext cx="535320" cy="4657320"/>
              <a:chOff x="4593600" y="1619280"/>
              <a:chExt cx="535320" cy="4657320"/>
            </a:xfrm>
          </p:grpSpPr>
          <p:sp>
            <p:nvSpPr>
              <p:cNvPr id="279" name="未知"/>
              <p:cNvSpPr/>
              <p:nvPr/>
            </p:nvSpPr>
            <p:spPr>
              <a:xfrm>
                <a:off x="4593960" y="2729520"/>
                <a:ext cx="5338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 rot="10800000">
                <a:off x="4593600" y="1619280"/>
                <a:ext cx="5353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129280" y="1619280"/>
              <a:ext cx="536400" cy="4657320"/>
              <a:chOff x="5129280" y="1619280"/>
              <a:chExt cx="536400" cy="4657320"/>
            </a:xfrm>
          </p:grpSpPr>
          <p:sp>
            <p:nvSpPr>
              <p:cNvPr id="282" name="未知"/>
              <p:cNvSpPr/>
              <p:nvPr/>
            </p:nvSpPr>
            <p:spPr>
              <a:xfrm>
                <a:off x="512928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 rot="10800000">
                <a:off x="512928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646600" y="1619280"/>
              <a:ext cx="534960" cy="4657320"/>
              <a:chOff x="5646600" y="1619280"/>
              <a:chExt cx="534960" cy="4657320"/>
            </a:xfrm>
          </p:grpSpPr>
          <p:sp>
            <p:nvSpPr>
              <p:cNvPr id="285" name="未知"/>
              <p:cNvSpPr/>
              <p:nvPr/>
            </p:nvSpPr>
            <p:spPr>
              <a:xfrm>
                <a:off x="564660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 rot="10800000">
                <a:off x="564660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718320" y="1619280"/>
              <a:ext cx="536400" cy="4657320"/>
              <a:chOff x="6718320" y="1619280"/>
              <a:chExt cx="536400" cy="4657320"/>
            </a:xfrm>
          </p:grpSpPr>
          <p:sp>
            <p:nvSpPr>
              <p:cNvPr id="288" name="未知"/>
              <p:cNvSpPr/>
              <p:nvPr/>
            </p:nvSpPr>
            <p:spPr>
              <a:xfrm>
                <a:off x="671832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rot="10800000">
                <a:off x="671832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181200" y="1619280"/>
              <a:ext cx="536760" cy="4657320"/>
              <a:chOff x="6181200" y="1619280"/>
              <a:chExt cx="536760" cy="4657320"/>
            </a:xfrm>
          </p:grpSpPr>
          <p:sp>
            <p:nvSpPr>
              <p:cNvPr id="291" name="未知"/>
              <p:cNvSpPr/>
              <p:nvPr/>
            </p:nvSpPr>
            <p:spPr>
              <a:xfrm>
                <a:off x="618156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 rot="10800000">
                <a:off x="618120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254720" y="1619280"/>
              <a:ext cx="534960" cy="4657320"/>
              <a:chOff x="7254720" y="1619280"/>
              <a:chExt cx="534960" cy="4657320"/>
            </a:xfrm>
          </p:grpSpPr>
          <p:sp>
            <p:nvSpPr>
              <p:cNvPr id="294" name="未知"/>
              <p:cNvSpPr/>
              <p:nvPr/>
            </p:nvSpPr>
            <p:spPr>
              <a:xfrm>
                <a:off x="725472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 rot="10800000">
                <a:off x="725472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789320" y="1619280"/>
              <a:ext cx="536760" cy="4657320"/>
              <a:chOff x="7789320" y="1619280"/>
              <a:chExt cx="536760" cy="4657320"/>
            </a:xfrm>
          </p:grpSpPr>
          <p:sp>
            <p:nvSpPr>
              <p:cNvPr id="297" name="未知"/>
              <p:cNvSpPr/>
              <p:nvPr/>
            </p:nvSpPr>
            <p:spPr>
              <a:xfrm>
                <a:off x="778968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rot="10800000">
                <a:off x="778932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486240" y="36576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260280"/>
            <a:ext cx="874080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00600" y="990720"/>
            <a:ext cx="4268520" cy="4657320"/>
            <a:chOff x="4800600" y="990720"/>
            <a:chExt cx="4268520" cy="4657320"/>
          </a:xfrm>
        </p:grpSpPr>
        <p:grpSp>
          <p:nvGrpSpPr>
            <p:cNvPr id="302" name=""/>
            <p:cNvGrpSpPr/>
            <p:nvPr/>
          </p:nvGrpSpPr>
          <p:grpSpPr>
            <a:xfrm>
              <a:off x="4800600" y="990720"/>
              <a:ext cx="536040" cy="4657320"/>
              <a:chOff x="4800600" y="990720"/>
              <a:chExt cx="536040" cy="4657320"/>
            </a:xfrm>
          </p:grpSpPr>
          <p:sp>
            <p:nvSpPr>
              <p:cNvPr id="303" name="未知"/>
              <p:cNvSpPr/>
              <p:nvPr/>
            </p:nvSpPr>
            <p:spPr>
              <a:xfrm>
                <a:off x="48006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48016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336640" y="990720"/>
              <a:ext cx="535680" cy="4657320"/>
              <a:chOff x="5336640" y="990720"/>
              <a:chExt cx="535680" cy="4657320"/>
            </a:xfrm>
          </p:grpSpPr>
          <p:sp>
            <p:nvSpPr>
              <p:cNvPr id="306" name="未知"/>
              <p:cNvSpPr/>
              <p:nvPr/>
            </p:nvSpPr>
            <p:spPr>
              <a:xfrm>
                <a:off x="53366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53377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5853240" y="990720"/>
              <a:ext cx="536040" cy="4657320"/>
              <a:chOff x="5853240" y="990720"/>
              <a:chExt cx="536040" cy="4657320"/>
            </a:xfrm>
          </p:grpSpPr>
          <p:sp>
            <p:nvSpPr>
              <p:cNvPr id="309" name="未知"/>
              <p:cNvSpPr/>
              <p:nvPr/>
            </p:nvSpPr>
            <p:spPr>
              <a:xfrm>
                <a:off x="585324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585432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389280" y="990720"/>
              <a:ext cx="536040" cy="4657320"/>
              <a:chOff x="6389280" y="990720"/>
              <a:chExt cx="536040" cy="4657320"/>
            </a:xfrm>
          </p:grpSpPr>
          <p:sp>
            <p:nvSpPr>
              <p:cNvPr id="312" name="未知"/>
              <p:cNvSpPr/>
              <p:nvPr/>
            </p:nvSpPr>
            <p:spPr>
              <a:xfrm>
                <a:off x="638928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639036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925320" y="990720"/>
              <a:ext cx="535680" cy="4657320"/>
              <a:chOff x="6925320" y="990720"/>
              <a:chExt cx="535680" cy="4657320"/>
            </a:xfrm>
          </p:grpSpPr>
          <p:sp>
            <p:nvSpPr>
              <p:cNvPr id="315" name="未知"/>
              <p:cNvSpPr/>
              <p:nvPr/>
            </p:nvSpPr>
            <p:spPr>
              <a:xfrm>
                <a:off x="692532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692640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461360" y="990720"/>
              <a:ext cx="536040" cy="4657320"/>
              <a:chOff x="7461360" y="990720"/>
              <a:chExt cx="536040" cy="4657320"/>
            </a:xfrm>
          </p:grpSpPr>
          <p:sp>
            <p:nvSpPr>
              <p:cNvPr id="318" name="未知"/>
              <p:cNvSpPr/>
              <p:nvPr/>
            </p:nvSpPr>
            <p:spPr>
              <a:xfrm>
                <a:off x="746136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746244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997400" y="990720"/>
              <a:ext cx="536040" cy="4657320"/>
              <a:chOff x="7997400" y="990720"/>
              <a:chExt cx="536040" cy="4657320"/>
            </a:xfrm>
          </p:grpSpPr>
          <p:sp>
            <p:nvSpPr>
              <p:cNvPr id="321" name="未知"/>
              <p:cNvSpPr/>
              <p:nvPr/>
            </p:nvSpPr>
            <p:spPr>
              <a:xfrm>
                <a:off x="79974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79984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533440" y="990720"/>
              <a:ext cx="535680" cy="4657320"/>
              <a:chOff x="8533440" y="990720"/>
              <a:chExt cx="535680" cy="4657320"/>
            </a:xfrm>
          </p:grpSpPr>
          <p:sp>
            <p:nvSpPr>
              <p:cNvPr id="324" name="未知"/>
              <p:cNvSpPr/>
              <p:nvPr/>
            </p:nvSpPr>
            <p:spPr>
              <a:xfrm>
                <a:off x="85334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85345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152280" y="163836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191120" y="2124000"/>
            <a:ext cx="4266720" cy="4657320"/>
            <a:chOff x="4191120" y="2124000"/>
            <a:chExt cx="4266720" cy="4657320"/>
          </a:xfrm>
        </p:grpSpPr>
        <p:grpSp>
          <p:nvGrpSpPr>
            <p:cNvPr id="328" name=""/>
            <p:cNvGrpSpPr/>
            <p:nvPr/>
          </p:nvGrpSpPr>
          <p:grpSpPr>
            <a:xfrm>
              <a:off x="4191120" y="2124000"/>
              <a:ext cx="533520" cy="4657320"/>
              <a:chOff x="4191120" y="2124000"/>
              <a:chExt cx="533520" cy="4657320"/>
            </a:xfrm>
          </p:grpSpPr>
          <p:sp>
            <p:nvSpPr>
              <p:cNvPr id="329" name="未知"/>
              <p:cNvSpPr/>
              <p:nvPr/>
            </p:nvSpPr>
            <p:spPr>
              <a:xfrm>
                <a:off x="41911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 rot="10800000">
                <a:off x="41911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724280" y="2124000"/>
              <a:ext cx="533160" cy="4657320"/>
              <a:chOff x="4724280" y="2124000"/>
              <a:chExt cx="533160" cy="4657320"/>
            </a:xfrm>
          </p:grpSpPr>
          <p:sp>
            <p:nvSpPr>
              <p:cNvPr id="332" name="未知"/>
              <p:cNvSpPr/>
              <p:nvPr/>
            </p:nvSpPr>
            <p:spPr>
              <a:xfrm>
                <a:off x="47246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 rot="10800000">
                <a:off x="47242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257800" y="2124000"/>
              <a:ext cx="533520" cy="4657320"/>
              <a:chOff x="5257800" y="2124000"/>
              <a:chExt cx="533520" cy="4657320"/>
            </a:xfrm>
          </p:grpSpPr>
          <p:sp>
            <p:nvSpPr>
              <p:cNvPr id="335" name="未知"/>
              <p:cNvSpPr/>
              <p:nvPr/>
            </p:nvSpPr>
            <p:spPr>
              <a:xfrm>
                <a:off x="52578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10800000">
                <a:off x="52578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5791320" y="2124000"/>
              <a:ext cx="533520" cy="4657320"/>
              <a:chOff x="5791320" y="2124000"/>
              <a:chExt cx="533520" cy="4657320"/>
            </a:xfrm>
          </p:grpSpPr>
          <p:sp>
            <p:nvSpPr>
              <p:cNvPr id="338" name="未知"/>
              <p:cNvSpPr/>
              <p:nvPr/>
            </p:nvSpPr>
            <p:spPr>
              <a:xfrm>
                <a:off x="57913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 rot="10800000">
                <a:off x="57913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0" y="2124000"/>
              <a:ext cx="533520" cy="4657320"/>
              <a:chOff x="6858000" y="2124000"/>
              <a:chExt cx="533520" cy="4657320"/>
            </a:xfrm>
          </p:grpSpPr>
          <p:sp>
            <p:nvSpPr>
              <p:cNvPr id="341" name="未知"/>
              <p:cNvSpPr/>
              <p:nvPr/>
            </p:nvSpPr>
            <p:spPr>
              <a:xfrm>
                <a:off x="68580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10800000">
                <a:off x="68580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324480" y="2124000"/>
              <a:ext cx="533160" cy="4657320"/>
              <a:chOff x="6324480" y="2124000"/>
              <a:chExt cx="533160" cy="4657320"/>
            </a:xfrm>
          </p:grpSpPr>
          <p:sp>
            <p:nvSpPr>
              <p:cNvPr id="344" name="未知"/>
              <p:cNvSpPr/>
              <p:nvPr/>
            </p:nvSpPr>
            <p:spPr>
              <a:xfrm>
                <a:off x="63248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 rot="10800000">
                <a:off x="63244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7391520" y="2124000"/>
              <a:ext cx="533520" cy="4657320"/>
              <a:chOff x="7391520" y="2124000"/>
              <a:chExt cx="533520" cy="4657320"/>
            </a:xfrm>
          </p:grpSpPr>
          <p:sp>
            <p:nvSpPr>
              <p:cNvPr id="347" name="未知"/>
              <p:cNvSpPr/>
              <p:nvPr/>
            </p:nvSpPr>
            <p:spPr>
              <a:xfrm>
                <a:off x="73915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10800000">
                <a:off x="73915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924680" y="2124000"/>
              <a:ext cx="533160" cy="4657320"/>
              <a:chOff x="7924680" y="2124000"/>
              <a:chExt cx="533160" cy="4657320"/>
            </a:xfrm>
          </p:grpSpPr>
          <p:sp>
            <p:nvSpPr>
              <p:cNvPr id="350" name="未知"/>
              <p:cNvSpPr/>
              <p:nvPr/>
            </p:nvSpPr>
            <p:spPr>
              <a:xfrm>
                <a:off x="79250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10800000">
                <a:off x="79246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154080" y="2266920"/>
            <a:ext cx="3236760" cy="4057560"/>
            <a:chOff x="154080" y="2266920"/>
            <a:chExt cx="3236760" cy="4057560"/>
          </a:xfrm>
        </p:grpSpPr>
        <p:sp>
          <p:nvSpPr>
            <p:cNvPr id="353" name="未知"/>
            <p:cNvSpPr/>
            <p:nvPr/>
          </p:nvSpPr>
          <p:spPr>
            <a:xfrm>
              <a:off x="154080" y="226692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160560" y="226692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未知"/>
          <p:cNvSpPr/>
          <p:nvPr/>
        </p:nvSpPr>
        <p:spPr>
          <a:xfrm>
            <a:off x="166680" y="158904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1560" y="1619280"/>
            <a:ext cx="1440" cy="4657680"/>
            <a:chOff x="1771560" y="1619280"/>
            <a:chExt cx="1440" cy="4657680"/>
          </a:xfrm>
        </p:grpSpPr>
        <p:sp>
          <p:nvSpPr>
            <p:cNvPr id="357" name=""/>
            <p:cNvSpPr/>
            <p:nvPr/>
          </p:nvSpPr>
          <p:spPr>
            <a:xfrm>
              <a:off x="1771560" y="161928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000" y="292428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52280" y="225108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70440" y="1960920"/>
            <a:ext cx="2857680" cy="4012920"/>
            <a:chOff x="370440" y="1960920"/>
            <a:chExt cx="2857680" cy="4012920"/>
          </a:xfrm>
        </p:grpSpPr>
        <p:sp>
          <p:nvSpPr>
            <p:cNvPr id="361" name=""/>
            <p:cNvSpPr/>
            <p:nvPr/>
          </p:nvSpPr>
          <p:spPr>
            <a:xfrm>
              <a:off x="370440" y="196092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81320" y="261288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43040" y="1781640"/>
            <a:ext cx="2039040" cy="4374360"/>
            <a:chOff x="743040" y="1781640"/>
            <a:chExt cx="2039040" cy="4374360"/>
          </a:xfrm>
        </p:grpSpPr>
        <p:sp>
          <p:nvSpPr>
            <p:cNvPr id="364" name=""/>
            <p:cNvSpPr/>
            <p:nvPr/>
          </p:nvSpPr>
          <p:spPr>
            <a:xfrm flipH="1">
              <a:off x="760680" y="178164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3040" y="28033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238400" y="1692000"/>
            <a:ext cx="1054080" cy="4559040"/>
            <a:chOff x="1238400" y="1692000"/>
            <a:chExt cx="1054080" cy="4559040"/>
          </a:xfrm>
        </p:grpSpPr>
        <p:sp>
          <p:nvSpPr>
            <p:cNvPr id="367" name=""/>
            <p:cNvSpPr/>
            <p:nvPr/>
          </p:nvSpPr>
          <p:spPr>
            <a:xfrm flipH="1">
              <a:off x="1249560" y="1692000"/>
              <a:ext cx="104292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8400" y="28987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5160" y="1950840"/>
            <a:ext cx="2793960" cy="3964320"/>
            <a:chOff x="335160" y="1950840"/>
            <a:chExt cx="2793960" cy="3964320"/>
          </a:xfrm>
        </p:grpSpPr>
        <p:sp>
          <p:nvSpPr>
            <p:cNvPr id="370" name=""/>
            <p:cNvSpPr/>
            <p:nvPr/>
          </p:nvSpPr>
          <p:spPr>
            <a:xfrm flipV="1">
              <a:off x="335160" y="195084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080" y="259416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88000" y="1652760"/>
            <a:ext cx="1133640" cy="4624200"/>
            <a:chOff x="1188000" y="1652760"/>
            <a:chExt cx="1133640" cy="4624200"/>
          </a:xfrm>
        </p:grpSpPr>
        <p:sp>
          <p:nvSpPr>
            <p:cNvPr id="373" name=""/>
            <p:cNvSpPr/>
            <p:nvPr/>
          </p:nvSpPr>
          <p:spPr>
            <a:xfrm flipH="1" flipV="1">
              <a:off x="1188000" y="165276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05080" y="290196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16840" y="1776600"/>
            <a:ext cx="2024280" cy="4357440"/>
            <a:chOff x="816840" y="1776600"/>
            <a:chExt cx="2024280" cy="4357440"/>
          </a:xfrm>
        </p:grpSpPr>
        <p:sp>
          <p:nvSpPr>
            <p:cNvPr id="376" name=""/>
            <p:cNvSpPr/>
            <p:nvPr/>
          </p:nvSpPr>
          <p:spPr>
            <a:xfrm>
              <a:off x="816840" y="177660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19520" y="281952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990720"/>
            <a:ext cx="5105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591080" y="1581120"/>
            <a:ext cx="4260600" cy="4657320"/>
            <a:chOff x="4591080" y="1581120"/>
            <a:chExt cx="4260600" cy="4657320"/>
          </a:xfrm>
        </p:grpSpPr>
        <p:grpSp>
          <p:nvGrpSpPr>
            <p:cNvPr id="380" name=""/>
            <p:cNvGrpSpPr/>
            <p:nvPr/>
          </p:nvGrpSpPr>
          <p:grpSpPr>
            <a:xfrm>
              <a:off x="4591080" y="1581120"/>
              <a:ext cx="534960" cy="4657320"/>
              <a:chOff x="4591080" y="1581120"/>
              <a:chExt cx="534960" cy="4657320"/>
            </a:xfrm>
          </p:grpSpPr>
          <p:sp>
            <p:nvSpPr>
              <p:cNvPr id="381" name="未知"/>
              <p:cNvSpPr/>
              <p:nvPr/>
            </p:nvSpPr>
            <p:spPr>
              <a:xfrm>
                <a:off x="45910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45921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106960" y="1581120"/>
              <a:ext cx="534600" cy="4657320"/>
              <a:chOff x="5106960" y="1581120"/>
              <a:chExt cx="534600" cy="4657320"/>
            </a:xfrm>
          </p:grpSpPr>
          <p:sp>
            <p:nvSpPr>
              <p:cNvPr id="384" name="未知"/>
              <p:cNvSpPr/>
              <p:nvPr/>
            </p:nvSpPr>
            <p:spPr>
              <a:xfrm>
                <a:off x="510696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510804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641560" y="1581120"/>
              <a:ext cx="534960" cy="4657320"/>
              <a:chOff x="5641560" y="1581120"/>
              <a:chExt cx="534960" cy="4657320"/>
            </a:xfrm>
          </p:grpSpPr>
          <p:sp>
            <p:nvSpPr>
              <p:cNvPr id="387" name="未知"/>
              <p:cNvSpPr/>
              <p:nvPr/>
            </p:nvSpPr>
            <p:spPr>
              <a:xfrm>
                <a:off x="56415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56426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176880" y="1581120"/>
              <a:ext cx="534960" cy="4657320"/>
              <a:chOff x="6176880" y="1581120"/>
              <a:chExt cx="534960" cy="4657320"/>
            </a:xfrm>
          </p:grpSpPr>
          <p:sp>
            <p:nvSpPr>
              <p:cNvPr id="390" name="未知"/>
              <p:cNvSpPr/>
              <p:nvPr/>
            </p:nvSpPr>
            <p:spPr>
              <a:xfrm>
                <a:off x="61768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61779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711840" y="1581120"/>
              <a:ext cx="534600" cy="4657320"/>
              <a:chOff x="6711840" y="1581120"/>
              <a:chExt cx="534600" cy="4657320"/>
            </a:xfrm>
          </p:grpSpPr>
          <p:sp>
            <p:nvSpPr>
              <p:cNvPr id="393" name="未知"/>
              <p:cNvSpPr/>
              <p:nvPr/>
            </p:nvSpPr>
            <p:spPr>
              <a:xfrm>
                <a:off x="671184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671292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246800" y="1581120"/>
              <a:ext cx="534960" cy="4657320"/>
              <a:chOff x="7246800" y="1581120"/>
              <a:chExt cx="534960" cy="4657320"/>
            </a:xfrm>
          </p:grpSpPr>
          <p:sp>
            <p:nvSpPr>
              <p:cNvPr id="396" name="未知"/>
              <p:cNvSpPr/>
              <p:nvPr/>
            </p:nvSpPr>
            <p:spPr>
              <a:xfrm>
                <a:off x="724680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724788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781760" y="1581120"/>
              <a:ext cx="534960" cy="4657320"/>
              <a:chOff x="7781760" y="1581120"/>
              <a:chExt cx="534960" cy="4657320"/>
            </a:xfrm>
          </p:grpSpPr>
          <p:sp>
            <p:nvSpPr>
              <p:cNvPr id="399" name="未知"/>
              <p:cNvSpPr/>
              <p:nvPr/>
            </p:nvSpPr>
            <p:spPr>
              <a:xfrm>
                <a:off x="77817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>
                <a:off x="77828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8317080" y="1581120"/>
              <a:ext cx="534600" cy="4657320"/>
              <a:chOff x="8317080" y="1581120"/>
              <a:chExt cx="534600" cy="4657320"/>
            </a:xfrm>
          </p:grpSpPr>
          <p:sp>
            <p:nvSpPr>
              <p:cNvPr id="402" name="未知"/>
              <p:cNvSpPr/>
              <p:nvPr/>
            </p:nvSpPr>
            <p:spPr>
              <a:xfrm>
                <a:off x="831708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>
                <a:off x="831816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4057560" y="1619280"/>
            <a:ext cx="4268520" cy="4657320"/>
            <a:chOff x="4057560" y="1619280"/>
            <a:chExt cx="4268520" cy="4657320"/>
          </a:xfrm>
        </p:grpSpPr>
        <p:grpSp>
          <p:nvGrpSpPr>
            <p:cNvPr id="405" name=""/>
            <p:cNvGrpSpPr/>
            <p:nvPr/>
          </p:nvGrpSpPr>
          <p:grpSpPr>
            <a:xfrm>
              <a:off x="4057560" y="1619280"/>
              <a:ext cx="536400" cy="4657320"/>
              <a:chOff x="4057560" y="1619280"/>
              <a:chExt cx="536400" cy="4657320"/>
            </a:xfrm>
          </p:grpSpPr>
          <p:sp>
            <p:nvSpPr>
              <p:cNvPr id="406" name="未知"/>
              <p:cNvSpPr/>
              <p:nvPr/>
            </p:nvSpPr>
            <p:spPr>
              <a:xfrm>
                <a:off x="405756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rot="10800000">
                <a:off x="405756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4593600" y="1619280"/>
              <a:ext cx="535320" cy="4657320"/>
              <a:chOff x="4593600" y="1619280"/>
              <a:chExt cx="535320" cy="4657320"/>
            </a:xfrm>
          </p:grpSpPr>
          <p:sp>
            <p:nvSpPr>
              <p:cNvPr id="409" name="未知"/>
              <p:cNvSpPr/>
              <p:nvPr/>
            </p:nvSpPr>
            <p:spPr>
              <a:xfrm>
                <a:off x="4593960" y="2729520"/>
                <a:ext cx="5338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10800000">
                <a:off x="4593600" y="1619280"/>
                <a:ext cx="5353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129280" y="1619280"/>
              <a:ext cx="536400" cy="4657320"/>
              <a:chOff x="5129280" y="1619280"/>
              <a:chExt cx="536400" cy="4657320"/>
            </a:xfrm>
          </p:grpSpPr>
          <p:sp>
            <p:nvSpPr>
              <p:cNvPr id="412" name="未知"/>
              <p:cNvSpPr/>
              <p:nvPr/>
            </p:nvSpPr>
            <p:spPr>
              <a:xfrm>
                <a:off x="512928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rot="10800000">
                <a:off x="512928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646600" y="1619280"/>
              <a:ext cx="534960" cy="4657320"/>
              <a:chOff x="5646600" y="1619280"/>
              <a:chExt cx="534960" cy="4657320"/>
            </a:xfrm>
          </p:grpSpPr>
          <p:sp>
            <p:nvSpPr>
              <p:cNvPr id="415" name="未知"/>
              <p:cNvSpPr/>
              <p:nvPr/>
            </p:nvSpPr>
            <p:spPr>
              <a:xfrm>
                <a:off x="564660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rot="10800000">
                <a:off x="564660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718320" y="1619280"/>
              <a:ext cx="536400" cy="4657320"/>
              <a:chOff x="6718320" y="1619280"/>
              <a:chExt cx="536400" cy="4657320"/>
            </a:xfrm>
          </p:grpSpPr>
          <p:sp>
            <p:nvSpPr>
              <p:cNvPr id="418" name="未知"/>
              <p:cNvSpPr/>
              <p:nvPr/>
            </p:nvSpPr>
            <p:spPr>
              <a:xfrm>
                <a:off x="671832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10800000">
                <a:off x="671832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181200" y="1619280"/>
              <a:ext cx="536760" cy="4657320"/>
              <a:chOff x="6181200" y="1619280"/>
              <a:chExt cx="536760" cy="4657320"/>
            </a:xfrm>
          </p:grpSpPr>
          <p:sp>
            <p:nvSpPr>
              <p:cNvPr id="421" name="未知"/>
              <p:cNvSpPr/>
              <p:nvPr/>
            </p:nvSpPr>
            <p:spPr>
              <a:xfrm>
                <a:off x="618156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10800000">
                <a:off x="618120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254720" y="1619280"/>
              <a:ext cx="534960" cy="4657320"/>
              <a:chOff x="7254720" y="1619280"/>
              <a:chExt cx="534960" cy="4657320"/>
            </a:xfrm>
          </p:grpSpPr>
          <p:sp>
            <p:nvSpPr>
              <p:cNvPr id="424" name="未知"/>
              <p:cNvSpPr/>
              <p:nvPr/>
            </p:nvSpPr>
            <p:spPr>
              <a:xfrm>
                <a:off x="725472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10800000">
                <a:off x="725472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789320" y="1619280"/>
              <a:ext cx="536760" cy="4657320"/>
              <a:chOff x="7789320" y="1619280"/>
              <a:chExt cx="536760" cy="4657320"/>
            </a:xfrm>
          </p:grpSpPr>
          <p:sp>
            <p:nvSpPr>
              <p:cNvPr id="427" name="未知"/>
              <p:cNvSpPr/>
              <p:nvPr/>
            </p:nvSpPr>
            <p:spPr>
              <a:xfrm>
                <a:off x="778968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 rot="10800000">
                <a:off x="778932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3486240" y="36576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298520" y="587844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771640" y="5878440"/>
            <a:ext cx="771840" cy="752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797440" y="5859360"/>
            <a:ext cx="666720" cy="809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4356000" y="5878440"/>
            <a:ext cx="695520" cy="790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7164360" y="5878440"/>
            <a:ext cx="674640" cy="735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298520" y="3789360"/>
            <a:ext cx="26971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92360" y="3652920"/>
            <a:ext cx="302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表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18160" y="3652920"/>
            <a:ext cx="302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体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8520" y="5878440"/>
            <a:ext cx="752400" cy="733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5878440"/>
            <a:ext cx="771840" cy="7524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97440" y="5859360"/>
            <a:ext cx="666720" cy="8096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6000" y="5878440"/>
            <a:ext cx="695520" cy="7905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7164360" y="5878440"/>
            <a:ext cx="674640" cy="7351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298520" y="3789360"/>
            <a:ext cx="26971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3652920"/>
            <a:ext cx="302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表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8160" y="3652920"/>
            <a:ext cx="302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体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0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3080" y="353052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圆木滚动一周，经过的面积是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46274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侧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4627440"/>
            <a:ext cx="66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3.14×10×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=94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（平方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69080" y="566100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5092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47800" y="378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把圆木削成一个最大的圆锥，圆锥的体积是多少立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187280" y="4605480"/>
            <a:ext cx="7632720" cy="1299240"/>
            <a:chOff x="1187280" y="4605480"/>
            <a:chExt cx="7632720" cy="1299240"/>
          </a:xfrm>
        </p:grpSpPr>
        <p:grpSp>
          <p:nvGrpSpPr>
            <p:cNvPr id="459" name=""/>
            <p:cNvGrpSpPr/>
            <p:nvPr/>
          </p:nvGrpSpPr>
          <p:grpSpPr>
            <a:xfrm>
              <a:off x="1187280" y="4605480"/>
              <a:ext cx="7632720" cy="1299240"/>
              <a:chOff x="1187280" y="4605480"/>
              <a:chExt cx="7632720" cy="1299240"/>
            </a:xfrm>
          </p:grpSpPr>
          <p:sp>
            <p:nvSpPr>
              <p:cNvPr id="460" name=""/>
              <p:cNvSpPr/>
              <p:nvPr/>
            </p:nvSpPr>
            <p:spPr>
              <a:xfrm>
                <a:off x="2050920" y="5097600"/>
                <a:ext cx="6769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99"/>
                    </a:solidFill>
                    <a:latin typeface="Arial"/>
                  </a:rPr>
                  <a:t>3.14×5</a:t>
                </a:r>
                <a:r>
                  <a:rPr b="1" lang="zh-CN" sz="3600" spc="-1" strike="noStrike" baseline="30000">
                    <a:solidFill>
                      <a:srgbClr val="000099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99"/>
                    </a:solidFill>
                    <a:latin typeface="Arial"/>
                  </a:rPr>
                  <a:t>×</a:t>
                </a:r>
                <a:r>
                  <a:rPr b="1" lang="en-US" sz="3600" spc="-1" strike="noStrike">
                    <a:solidFill>
                      <a:srgbClr val="000099"/>
                    </a:solidFill>
                    <a:latin typeface="Arial"/>
                  </a:rPr>
                  <a:t>30=785 </a:t>
                </a:r>
                <a:r>
                  <a:rPr b="1" lang="zh-CN" sz="3200" spc="-1" strike="noStrike">
                    <a:solidFill>
                      <a:srgbClr val="000099"/>
                    </a:solidFill>
                    <a:latin typeface="Arial"/>
                    <a:ea typeface="黑体"/>
                  </a:rPr>
                  <a:t>（平方厘米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1187280" y="4605480"/>
                <a:ext cx="558720" cy="1299240"/>
                <a:chOff x="1187280" y="4605480"/>
                <a:chExt cx="558720" cy="12992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1203120" y="4605480"/>
                  <a:ext cx="5083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d60093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228680" y="5124960"/>
                  <a:ext cx="5083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d60093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187280" y="5290200"/>
                  <a:ext cx="558720" cy="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5" name=""/>
            <p:cNvSpPr/>
            <p:nvPr/>
          </p:nvSpPr>
          <p:spPr>
            <a:xfrm>
              <a:off x="1789920" y="50198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99"/>
                  </a:solidFill>
                  <a:latin typeface="Arial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669080" y="566100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8fe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24000" y="260280"/>
            <a:ext cx="856908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99cc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9800" y="3789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横截成两个小圆柱，表面积增加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9800" y="463716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横截面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95520" y="463716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3.14×5</a:t>
            </a:r>
            <a:r>
              <a:rPr b="1" lang="zh-CN" sz="36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=157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平方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7669080" y="5661000"/>
            <a:ext cx="882720" cy="8827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13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8:17Z</dcterms:created>
  <dc:creator> </dc:creator>
  <dc:description> </dc:description>
  <cp:keywords/>
  <dc:language>en-US</dc:language>
  <cp:lastModifiedBy>User</cp:lastModifiedBy>
  <dcterms:modified xsi:type="dcterms:W3CDTF">2014-11-19T03:58:39Z</dcterms:modified>
  <cp:revision>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