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6AF-F5F8-4356-9992-CB9A69CF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DDE-2785-4C8A-A88A-A0E5F10F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218-89C4-4BA3-BC2E-20C2E335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B52-E01D-425D-A1E3-1F674D56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22C5-7FE7-4930-BB6A-1C37F48A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D926-56DE-42BC-830E-8A456568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9406-D690-4868-98BC-1A322221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97EB-EABF-41AE-A53D-CCA44E7A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5DAB-412F-4259-96F2-B240919E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C341-792A-40FC-9FED-7E76E75F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003B-95F0-4C78-B9CE-891FF209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6C3-DD38-409B-865D-A554F2FF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B1D5-3733-4681-84E5-8EF2CDFB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B905-210C-40C5-A832-D51AA103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DB7B-DB77-4E38-838E-5101B0A4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5DAB-E3F6-4B21-BBD8-23F36835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F59C-1AE9-4189-92D9-5C4015F1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FF7-D1F1-4AB1-979D-2AEDEDEC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085-830F-440D-BD6E-E7DAE409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037-E431-4EAF-82D3-54C5BFA9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EB4-9FC1-46FD-86F1-C61D030C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9A5-7802-4331-AC68-2A464186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21F-4305-480A-AAC0-57CCD9CD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6BA-EBF8-4415-B127-DB30A35B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C6B3-5792-45B9-B305-3A45FCE6A96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C98E-D16E-4404-83F6-C39F900C4D1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2197440" y="549360"/>
            <a:ext cx="8504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百分数的应用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--</a:t>
            </a: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折扣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410920" y="4149360"/>
            <a:ext cx="6193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一架钢琴按原价的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70%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出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一台电视机按原价的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95%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出售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98100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说一说下面每种商品是打几折出售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08360" y="270828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七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429264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九五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835280" y="4005360"/>
            <a:ext cx="547344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元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角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=10.4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解：设《成语故事》的原价是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X×80%=1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X=10.4÷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X=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答：《成语故事》的原价是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975280" cy="4422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11280" y="6922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幼圆"/>
              </a:rPr>
              <a:t>生活链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1728720" cy="1413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788000" y="2409840"/>
            <a:ext cx="1441440" cy="1379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940360" y="4148280"/>
            <a:ext cx="2016360" cy="1368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771640" y="2390760"/>
            <a:ext cx="1584360" cy="1398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6730920" y="2349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971640" y="4175280"/>
            <a:ext cx="2087640" cy="1338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3492360" y="4173480"/>
            <a:ext cx="2089440" cy="1343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4000" y="765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  <a:ea typeface="幼圆"/>
              </a:rPr>
              <a:t>春节期间，肯德基如下食品打折销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1727280" cy="1411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71640" y="59040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一个原价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元的汉堡，现在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折出售，实际售价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26067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薯条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折出售，现在买一袋薯条需要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4.8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元，原来售价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11280" y="2708280"/>
            <a:ext cx="1727280" cy="1297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12720" y="4653000"/>
            <a:ext cx="1727280" cy="1366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627280" y="4581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一盒原价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元的鸡翅，现在只需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元。这盒鸡翅是打几折出售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64000" y="1557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11×90%=9.9</a:t>
            </a:r>
            <a:r>
              <a:rPr b="0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64000" y="3573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4.8÷80%=6</a:t>
            </a:r>
            <a:r>
              <a:rPr b="0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5516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12÷15=80% (</a:t>
            </a:r>
            <a:r>
              <a:rPr b="0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八折</a:t>
            </a:r>
            <a:r>
              <a:rPr b="0" lang="zh-CN" sz="2800" spc="-1" strike="noStrike">
                <a:solidFill>
                  <a:srgbClr val="0000cc"/>
                </a:solidFill>
                <a:latin typeface="幼圆"/>
                <a:ea typeface="幼圆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620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幼圆"/>
              </a:rPr>
              <a:t>春节期间，书店搞促销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449892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六年级要买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本《趣味数学》，到哪家书店买比较便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788000" y="1755720"/>
            <a:ext cx="2879640" cy="217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332000" y="1741320"/>
            <a:ext cx="28782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325080" cy="69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4105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5688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60360" y="1266840"/>
            <a:ext cx="604836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0483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6337440" cy="47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42920" y="1141560"/>
            <a:ext cx="61200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4811760" cy="52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05:11:47Z</dcterms:created>
  <dc:creator> </dc:creator>
  <dc:description/>
  <dc:language>en-US</dc:language>
  <cp:lastModifiedBy>User</cp:lastModifiedBy>
  <dcterms:modified xsi:type="dcterms:W3CDTF">2014-11-19T04:42:27Z</dcterms:modified>
  <cp:revision>1</cp:revision>
  <dc:subject/>
  <dc:title> </dc:title>
</cp:coreProperties>
</file>