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F56-CBF8-44CE-8554-0E75C672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71C-63D3-4CA6-83F6-467E630E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D5FF-A9D4-4580-944D-FEDD862B7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51A0-628D-4096-9786-B047446A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B2AE-F3F0-4043-AA92-D9A264F0E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F058-5B66-4F94-963E-5F9F853B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4539-EFC7-4277-89BA-D79763F8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01E6-8E4A-4F54-B7A9-62EE2EA7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7654-93D8-408F-8F8E-8B746E7E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5638-0602-47C7-8C7C-35E4E9E1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383F9-9A66-4B59-B5FB-B946283A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76A-CB98-49ED-9CD9-E02261C9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E55F-4A6A-41AE-872C-8255DEA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BB935-4194-47DD-9AF0-AE5B35AF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2942-5A2C-420F-B0F2-B2CABEEF6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4333-4D49-4B71-84D8-5877293D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8F12-6A04-49A1-BB6B-E76A8AAD1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885-F71E-49F7-BECF-1DC4327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1A8B-528B-4542-B733-D9F97A7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3B38-6709-4B1A-A53D-39F17A8C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EC7-3703-401E-AD51-5B590A1E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59B-B0DC-4488-8E1A-E757FC89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AF14-6E0E-439C-B0D6-7B5EAEBE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8C69-1E79-4CEB-9ABC-FEFD01A99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B1FD-5B8B-41E1-9202-AE367230A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93A1-68B8-4A47-8A03-9BA39F007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979640" y="2322360"/>
            <a:ext cx="540072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比例尺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050920" y="549360"/>
            <a:ext cx="49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六年级数学下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900000" y="1413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荷花村到杏树村的实际距离是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千米。量出这两个村的图上距离，并算出这幅图的比例尺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2340000" y="3560760"/>
            <a:ext cx="4278240" cy="296388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3276720" y="260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755640" y="184464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上海到杭州的实际距离大约是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千米，在一幅地图上量得这两地间的距离是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厘米。求这幅地图的比例尺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3276720" y="260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42"/>
          <p:cNvSpPr/>
          <p:nvPr/>
        </p:nvSpPr>
        <p:spPr>
          <a:xfrm>
            <a:off x="1258920" y="177336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精密仪器零件实际长度是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毫米，画在一幅设计图上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。求这幅图的比例尺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43"/>
          <p:cNvSpPr/>
          <p:nvPr/>
        </p:nvSpPr>
        <p:spPr>
          <a:xfrm>
            <a:off x="2050920" y="38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厘米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2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毫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9" name="Group 16"/>
          <p:cNvGrpSpPr/>
          <p:nvPr/>
        </p:nvGrpSpPr>
        <p:grpSpPr>
          <a:xfrm>
            <a:off x="2050920" y="4941720"/>
            <a:ext cx="3456000" cy="745920"/>
            <a:chOff x="2050920" y="4941720"/>
            <a:chExt cx="3456000" cy="745920"/>
          </a:xfrm>
        </p:grpSpPr>
        <p:grpSp>
          <p:nvGrpSpPr>
            <p:cNvPr id="140" name="Group 63"/>
            <p:cNvGrpSpPr/>
            <p:nvPr/>
          </p:nvGrpSpPr>
          <p:grpSpPr>
            <a:xfrm>
              <a:off x="2050920" y="4941720"/>
              <a:ext cx="3456000" cy="745920"/>
              <a:chOff x="2050920" y="4941720"/>
              <a:chExt cx="3456000" cy="745920"/>
            </a:xfrm>
          </p:grpSpPr>
          <p:sp>
            <p:nvSpPr>
              <p:cNvPr id="141" name="Text Box 60"/>
              <p:cNvSpPr/>
              <p:nvPr/>
            </p:nvSpPr>
            <p:spPr>
              <a:xfrm>
                <a:off x="2050920" y="5045040"/>
                <a:ext cx="3456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Arial"/>
                  </a:rPr>
                  <a:t>20   4=5   1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Text Box 61"/>
              <p:cNvSpPr/>
              <p:nvPr/>
            </p:nvSpPr>
            <p:spPr>
              <a:xfrm>
                <a:off x="2771640" y="4941720"/>
                <a:ext cx="431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：</a:t>
                </a:r>
                <a:endParaRPr b="0" lang="en-US" sz="3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43" name="Text Box 62"/>
            <p:cNvSpPr/>
            <p:nvPr/>
          </p:nvSpPr>
          <p:spPr>
            <a:xfrm>
              <a:off x="3851280" y="4941720"/>
              <a:ext cx="431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：</a:t>
              </a:r>
              <a:endParaRPr b="0" lang="en-US" sz="3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WordArt 8"/>
          <p:cNvSpPr txBox="1"/>
          <p:nvPr/>
        </p:nvSpPr>
        <p:spPr>
          <a:xfrm>
            <a:off x="3276720" y="260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755640" y="14130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下图是实验小学操场的平面图。这个操场长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米，宽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米。求这幅图的比例尺，并在括号里填上合适的数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979640" y="3846600"/>
            <a:ext cx="5329080" cy="2531880"/>
          </a:xfrm>
          <a:prstGeom prst="rect">
            <a:avLst/>
          </a:prstGeom>
          <a:ln w="0">
            <a:noFill/>
          </a:ln>
        </p:spPr>
      </p:pic>
      <p:sp>
        <p:nvSpPr>
          <p:cNvPr id="147" name="WordArt 8"/>
          <p:cNvSpPr txBox="1"/>
          <p:nvPr/>
        </p:nvSpPr>
        <p:spPr>
          <a:xfrm>
            <a:off x="3276720" y="260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971640" y="170028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具体情境中理解比例尺的意义，能看懂比例尺，会求一幅比例尺，会把数值比例尺与线段比例尺进行转化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在观察、思考和交流等活动中，培养分析、抽象、概括的能力，进一步体会数学知识之间的联系，感受学习数学的乐趣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555000" y="444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ahoma"/>
              </a:rPr>
              <a:t>教学目标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" descr="pic_48897"/>
          <p:cNvPicPr/>
          <p:nvPr/>
        </p:nvPicPr>
        <p:blipFill>
          <a:blip r:embed="rId1"/>
          <a:srcRect l="-502" t="-5431" r="87735" b="1999"/>
          <a:stretch/>
        </p:blipFill>
        <p:spPr>
          <a:xfrm>
            <a:off x="826920" y="1268280"/>
            <a:ext cx="733680" cy="1914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pic_48897"/>
          <p:cNvPicPr/>
          <p:nvPr/>
        </p:nvPicPr>
        <p:blipFill>
          <a:blip r:embed="rId2"/>
          <a:srcRect l="10274" t="-3491" r="70954" b="22381"/>
          <a:stretch/>
        </p:blipFill>
        <p:spPr>
          <a:xfrm>
            <a:off x="1835280" y="1268280"/>
            <a:ext cx="1076040" cy="1505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pic_48897"/>
          <p:cNvPicPr/>
          <p:nvPr/>
        </p:nvPicPr>
        <p:blipFill>
          <a:blip r:embed="rId3"/>
          <a:srcRect l="27039" t="-2059" r="52970" b="955"/>
          <a:stretch/>
        </p:blipFill>
        <p:spPr>
          <a:xfrm>
            <a:off x="3276720" y="1197000"/>
            <a:ext cx="1152360" cy="1882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pic_48897"/>
          <p:cNvPicPr/>
          <p:nvPr/>
        </p:nvPicPr>
        <p:blipFill>
          <a:blip r:embed="rId4"/>
          <a:srcRect l="47036" t="-2566" r="26184" b="5819"/>
          <a:stretch/>
        </p:blipFill>
        <p:spPr>
          <a:xfrm>
            <a:off x="4716360" y="1197000"/>
            <a:ext cx="1570320" cy="18334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pic_48897"/>
          <p:cNvPicPr/>
          <p:nvPr/>
        </p:nvPicPr>
        <p:blipFill>
          <a:blip r:embed="rId5"/>
          <a:srcRect l="73821" t="-2566" r="0" b="448"/>
          <a:stretch/>
        </p:blipFill>
        <p:spPr>
          <a:xfrm>
            <a:off x="6659640" y="907920"/>
            <a:ext cx="1627200" cy="205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pic_48898"/>
          <p:cNvPicPr/>
          <p:nvPr/>
        </p:nvPicPr>
        <p:blipFill>
          <a:blip r:embed="rId6"/>
          <a:srcRect l="0" t="0" r="87559" b="-613"/>
          <a:stretch/>
        </p:blipFill>
        <p:spPr>
          <a:xfrm>
            <a:off x="826920" y="3573360"/>
            <a:ext cx="733680" cy="1714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1" descr="pic_48898"/>
          <p:cNvPicPr/>
          <p:nvPr/>
        </p:nvPicPr>
        <p:blipFill>
          <a:blip r:embed="rId7"/>
          <a:srcRect l="10502" t="1915" r="71215" b="4558"/>
          <a:stretch/>
        </p:blipFill>
        <p:spPr>
          <a:xfrm>
            <a:off x="1835280" y="3573360"/>
            <a:ext cx="1076040" cy="160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4" descr="pic_48898"/>
          <p:cNvPicPr/>
          <p:nvPr/>
        </p:nvPicPr>
        <p:blipFill>
          <a:blip r:embed="rId8"/>
          <a:srcRect l="28791" t="2681" r="50970" b="-1723"/>
          <a:stretch/>
        </p:blipFill>
        <p:spPr>
          <a:xfrm>
            <a:off x="3348000" y="3573360"/>
            <a:ext cx="1190520" cy="1695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6" descr="pic_48898"/>
          <p:cNvPicPr/>
          <p:nvPr/>
        </p:nvPicPr>
        <p:blipFill>
          <a:blip r:embed="rId9"/>
          <a:srcRect l="47091" t="3447" r="26816" b="-1723"/>
          <a:stretch/>
        </p:blipFill>
        <p:spPr>
          <a:xfrm>
            <a:off x="4643280" y="3573360"/>
            <a:ext cx="1533600" cy="1685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7" descr="pic_48898"/>
          <p:cNvPicPr/>
          <p:nvPr/>
        </p:nvPicPr>
        <p:blipFill>
          <a:blip r:embed="rId10"/>
          <a:srcRect l="73190" t="3677" r="0" b="0"/>
          <a:stretch/>
        </p:blipFill>
        <p:spPr>
          <a:xfrm>
            <a:off x="6516720" y="3500280"/>
            <a:ext cx="172728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260360" y="549360"/>
            <a:ext cx="68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红光小学有一块长方形草坪，长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，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。把这块草坪按一定的比缩小，画出的平面图长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厘米，宽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厘米。你能分别写出草坪长、宽的图上距离和实际距离的比吗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835280" y="3497400"/>
            <a:ext cx="596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怎样写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和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米的比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2139840" y="4363920"/>
            <a:ext cx="567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米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250920" y="260280"/>
            <a:ext cx="57600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例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题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026"/>
          <p:cNvSpPr/>
          <p:nvPr/>
        </p:nvSpPr>
        <p:spPr>
          <a:xfrm>
            <a:off x="2071800" y="857160"/>
            <a:ext cx="597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米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5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1027"/>
          <p:cNvSpPr/>
          <p:nvPr/>
        </p:nvSpPr>
        <p:spPr>
          <a:xfrm>
            <a:off x="2124000" y="2814480"/>
            <a:ext cx="622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.0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0.03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1028"/>
          <p:cNvSpPr/>
          <p:nvPr/>
        </p:nvSpPr>
        <p:spPr>
          <a:xfrm>
            <a:off x="1114560" y="782640"/>
            <a:ext cx="93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长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29"/>
          <p:cNvSpPr/>
          <p:nvPr/>
        </p:nvSpPr>
        <p:spPr>
          <a:xfrm>
            <a:off x="1000080" y="294336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宽：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030"/>
          <p:cNvSpPr/>
          <p:nvPr/>
        </p:nvSpPr>
        <p:spPr>
          <a:xfrm>
            <a:off x="826920" y="479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图上距离和实际距离的比，叫做这幅图的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ahoma"/>
              </a:rPr>
              <a:t>比例尺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340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ff0000"/>
                </a:solidFill>
                <a:latin typeface="Verdana"/>
              </a:rPr>
              <a:t>什么是比例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826920" y="148428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简单说：比例尺就是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图上距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实际距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比就叫做这幅图的比例尺 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755640" y="323208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图上距离：实际距离＝比例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1" name="Group 18"/>
          <p:cNvGrpSpPr/>
          <p:nvPr/>
        </p:nvGrpSpPr>
        <p:grpSpPr>
          <a:xfrm>
            <a:off x="2195640" y="4510080"/>
            <a:ext cx="4680000" cy="1441440"/>
            <a:chOff x="2195640" y="4510080"/>
            <a:chExt cx="4680000" cy="1441440"/>
          </a:xfrm>
        </p:grpSpPr>
        <p:sp>
          <p:nvSpPr>
            <p:cNvPr id="112" name="Rectangle 13"/>
            <p:cNvSpPr/>
            <p:nvPr/>
          </p:nvSpPr>
          <p:spPr>
            <a:xfrm>
              <a:off x="2590920" y="4510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</a:rPr>
                <a:t>图上距离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4"/>
            <p:cNvSpPr/>
            <p:nvPr/>
          </p:nvSpPr>
          <p:spPr>
            <a:xfrm>
              <a:off x="2552760" y="52480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Tahoma"/>
                </a:rPr>
                <a:t>实际距离</a:t>
              </a:r>
              <a:endParaRPr b="0" lang="en-US" sz="4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Line 15"/>
            <p:cNvSpPr/>
            <p:nvPr/>
          </p:nvSpPr>
          <p:spPr>
            <a:xfrm>
              <a:off x="2195640" y="5276880"/>
              <a:ext cx="2087640" cy="252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16"/>
            <p:cNvSpPr/>
            <p:nvPr/>
          </p:nvSpPr>
          <p:spPr>
            <a:xfrm>
              <a:off x="4427640" y="4868640"/>
              <a:ext cx="244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Tahoma"/>
                </a:rPr>
                <a:t>＝比例尺</a:t>
              </a:r>
              <a:endParaRPr b="0" lang="en-US" sz="4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Rectangle 17"/>
          <p:cNvSpPr/>
          <p:nvPr/>
        </p:nvSpPr>
        <p:spPr>
          <a:xfrm>
            <a:off x="1075680" y="48164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或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1026"/>
          <p:cNvSpPr/>
          <p:nvPr/>
        </p:nvSpPr>
        <p:spPr>
          <a:xfrm>
            <a:off x="826920" y="66672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例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图上距离是实际距离的几分之几？实际距离是图上距离的多少倍？图上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厘米的距离表示实际距离多少米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1033"/>
          <p:cNvGrpSpPr/>
          <p:nvPr/>
        </p:nvGrpSpPr>
        <p:grpSpPr>
          <a:xfrm>
            <a:off x="971640" y="3284640"/>
            <a:ext cx="7993080" cy="1022400"/>
            <a:chOff x="971640" y="3284640"/>
            <a:chExt cx="7993080" cy="1022400"/>
          </a:xfrm>
        </p:grpSpPr>
        <p:sp>
          <p:nvSpPr>
            <p:cNvPr id="119" name="Text Box 1027"/>
            <p:cNvSpPr/>
            <p:nvPr/>
          </p:nvSpPr>
          <p:spPr>
            <a:xfrm>
              <a:off x="971640" y="3429000"/>
              <a:ext cx="799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ahoma"/>
                </a:rPr>
                <a:t>表示图上距离是实际距离的</a:t>
              </a:r>
              <a:endParaRPr b="0" lang="en-US" sz="3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0" name="Object 1029"/>
                <p:cNvSpPr txBox="1"/>
                <p:nvPr/>
              </p:nvSpPr>
              <p:spPr>
                <a:xfrm>
                  <a:off x="6084720" y="3284640"/>
                  <a:ext cx="1079640" cy="102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00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1" name="Text Box 1031"/>
          <p:cNvSpPr/>
          <p:nvPr/>
        </p:nvSpPr>
        <p:spPr>
          <a:xfrm>
            <a:off x="971640" y="43657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也表示实际距离是图上距离的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1032"/>
          <p:cNvSpPr/>
          <p:nvPr/>
        </p:nvSpPr>
        <p:spPr>
          <a:xfrm>
            <a:off x="1042920" y="51134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还可以说图上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的距离表示实际距离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厘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537080" cy="1255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1187280" y="90792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比例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还可以这样表示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71640" y="443700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它表示图上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厘米的距离相当于实际距离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米。（也就是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1000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厘米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地图1"/>
          <p:cNvPicPr/>
          <p:nvPr/>
        </p:nvPicPr>
        <p:blipFill>
          <a:blip r:embed="rId1"/>
          <a:stretch/>
        </p:blipFill>
        <p:spPr>
          <a:xfrm>
            <a:off x="468360" y="2276640"/>
            <a:ext cx="4176720" cy="330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地图2"/>
          <p:cNvPicPr/>
          <p:nvPr/>
        </p:nvPicPr>
        <p:blipFill>
          <a:blip r:embed="rId2"/>
          <a:stretch/>
        </p:blipFill>
        <p:spPr>
          <a:xfrm>
            <a:off x="4859280" y="2276640"/>
            <a:ext cx="4033800" cy="3313080"/>
          </a:xfrm>
          <a:prstGeom prst="rect">
            <a:avLst/>
          </a:prstGeom>
          <a:ln w="0">
            <a:noFill/>
          </a:ln>
        </p:spPr>
      </p:pic>
      <p:sp>
        <p:nvSpPr>
          <p:cNvPr id="128" name="WordArt 8"/>
          <p:cNvSpPr txBox="1"/>
          <p:nvPr/>
        </p:nvSpPr>
        <p:spPr>
          <a:xfrm>
            <a:off x="3276720" y="260280"/>
            <a:ext cx="22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练一练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900000" y="1341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说出下面比例尺的实际意义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116000" y="537372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等于实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千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437080" y="5407200"/>
            <a:ext cx="33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图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等于实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08:45:03Z</dcterms:created>
  <dc:creator/>
  <dc:description/>
  <cp:keywords/>
  <dc:language>en-US</dc:language>
  <cp:lastModifiedBy>dreamsummit</cp:lastModifiedBy>
  <dcterms:modified xsi:type="dcterms:W3CDTF">2015-05-15T07:43:29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