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chimes.wav" ContentType="audio/x-wav"/>
  <Override PartName="/ppt/media/image16.png" ContentType="image/png"/>
  <Override PartName="/ppt/media/image5.png" ContentType="image/png"/>
  <Override PartName="/ppt/media/image22.png" ContentType="image/png"/>
  <Override PartName="/ppt/media/image21.jpeg" ContentType="image/jpe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BD8A-2C27-40DF-89AF-9166E2649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1E96-3E9E-4794-84A8-B41AFC0CA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57A92-8429-4F6B-B5E3-69F306D2E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DAD8-6F70-4035-9A79-82A9B307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8C31-1528-4019-B4FB-17208F986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122D-9B60-4C93-AE07-976B0BDCD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1360-0FDA-43EC-842D-AEE38B975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EBDD-12FD-4231-A406-5BC94A599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9AAD-4865-43F4-971D-83B0511E7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71C96-179B-4C48-B5DE-137095437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3A47-0475-4544-B0D8-6FBE4D3EC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ECD4-9F1D-4541-A62C-044DB15B8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968E-2E30-4A97-9A29-BFACE13C0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7D86-CBC7-4B9C-99F2-A53FCC27E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1C24-4ED2-4737-840F-CF7E8B3AE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F627-FE29-490F-8929-A6711A8C4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22A3-86A6-4F24-AB43-43FBC336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EC18-D55A-4FAA-B31E-89B91C88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35D-AEDE-4970-AC80-2AF399BE9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EB08-07DC-4253-BE1D-0883B615A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719E-0F33-4132-BDC0-ADAF4061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1E619-C5B6-4279-A5E4-E701904D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62F40-41ED-4810-958E-DCF9147A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C6A55-8B9A-4F59-B2D1-FC76B63E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858B-40FE-4196-9187-0CBB146B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ADF5-E313-4102-8D7F-23BD0885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1D34D-C870-4404-9CB0-4649785D1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2BC-4193-4FFE-922C-25EF5010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3F69-03F2-4E67-A477-87522984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2798-0F83-439D-9479-CD681784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1E9C-1636-405B-8709-A911D5129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E824-18B8-4FCB-A05D-D8C35D99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F1C2-546D-4831-A721-9E256434B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66BD-C0A4-415B-B3A0-1F1D82D3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98B74-1903-45CD-B973-51229FD1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14575-57F4-4639-8272-D5CE6FB57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A3D16-1E9A-4826-BBDA-23983812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8A7A3-3798-454E-A70A-F0DCD2AF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326C-F462-4601-9EDA-C8E39BBF7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9318F-3543-429B-B823-9488492D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DFAC6-83BF-47A9-A33D-398274FC6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B78A4-E530-466F-B402-3CA756F6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AC389-E0DB-429B-9A95-7B9894BB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6CAA6-CF7D-489C-928F-6666F3AF6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3ECE-3C45-47F9-A035-F920904E3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9F0E7-AE47-427E-84DC-2E7B74CA0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6B0E-CA27-4E28-91CC-480BB2780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4890-1611-47C2-81CC-BA3D7D6B1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456-0BEA-4458-9C0D-A28ABD38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5249-2AF3-44A7-89AC-35DB6AE6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55A9-78D4-4244-AE60-B72E37D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61E-61B6-4539-907F-D3A429C0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Picture 4" descr="花1-2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ture 5" descr="花2-2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B4A3-AB84-4FD3-8585-5CAD0AC8E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4074-3E99-460F-B3C0-A47FA04CE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87" name="Rectangle 3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" name="Picture 4" descr="花1-1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" descr="花2-1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4D16-1332-426C-93D5-59DBF88BA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ddgxx.com/Article_Print.asp?ArticleID=511" TargetMode="External"/><Relationship Id="rId2" Type="http://schemas.openxmlformats.org/officeDocument/2006/relationships/image" Target="../media/image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auto.china.com/zh_cn/dongtai/renyi/11022368/20050913/12652462.html" TargetMode="External"/><Relationship Id="rId2" Type="http://schemas.openxmlformats.org/officeDocument/2006/relationships/hyperlink" Target="http://auto.china.com/zh_cn/dongtai/renyi/11022368/20050913/12652462.html" TargetMode="External"/><Relationship Id="rId3" Type="http://schemas.openxmlformats.org/officeDocument/2006/relationships/hyperlink" Target="http://auto.china.com/zh_cn/dongtai/renyi/11022368/20050913/12652462.html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bbs.tom.com/item_400_3923_4_1.html" TargetMode="External"/><Relationship Id="rId6" Type="http://schemas.openxmlformats.org/officeDocument/2006/relationships/image" Target="../media/image9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news.bandao.cn/news_html/200710/20071001/news_20071001_455634.s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例的意义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11280" y="112500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根据刚才计算得到的信息，还能说出几个比例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0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04920" y="2060640"/>
          <a:ext cx="8534160" cy="3905280"/>
        </p:xfrm>
        <a:graphic>
          <a:graphicData uri="http://schemas.openxmlformats.org/drawingml/2006/table">
            <a:tbl>
              <a:tblPr/>
              <a:tblGrid>
                <a:gridCol w="2249280"/>
                <a:gridCol w="6284880"/>
              </a:tblGrid>
              <a:tr h="19605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比例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︰</a:t>
                      </a:r>
                      <a:r>
                        <a:rPr b="1" lang="en-US" sz="32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＝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︰</a:t>
                      </a:r>
                      <a:r>
                        <a:rPr b="1" lang="en-US" sz="2800" spc="-1" strike="noStrike">
                          <a:solidFill>
                            <a:srgbClr val="ff33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cc9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195" name="Group 13"/>
          <p:cNvGrpSpPr/>
          <p:nvPr/>
        </p:nvGrpSpPr>
        <p:grpSpPr>
          <a:xfrm>
            <a:off x="2684520" y="706320"/>
            <a:ext cx="5917680" cy="1300320"/>
            <a:chOff x="2684520" y="706320"/>
            <a:chExt cx="5917680" cy="1300320"/>
          </a:xfrm>
        </p:grpSpPr>
        <p:grpSp>
          <p:nvGrpSpPr>
            <p:cNvPr id="196" name="Group 14"/>
            <p:cNvGrpSpPr/>
            <p:nvPr/>
          </p:nvGrpSpPr>
          <p:grpSpPr>
            <a:xfrm>
              <a:off x="6559560" y="706320"/>
              <a:ext cx="2042640" cy="1300320"/>
              <a:chOff x="6559560" y="706320"/>
              <a:chExt cx="2042640" cy="1300320"/>
            </a:xfrm>
          </p:grpSpPr>
          <p:grpSp>
            <p:nvGrpSpPr>
              <p:cNvPr id="197" name="Group 15"/>
              <p:cNvGrpSpPr/>
              <p:nvPr/>
            </p:nvGrpSpPr>
            <p:grpSpPr>
              <a:xfrm>
                <a:off x="6610320" y="706320"/>
                <a:ext cx="1991520" cy="1300320"/>
                <a:chOff x="6610320" y="706320"/>
                <a:chExt cx="1991520" cy="1300320"/>
              </a:xfrm>
            </p:grpSpPr>
            <p:sp>
              <p:nvSpPr>
                <p:cNvPr id="198" name="Oval 16"/>
                <p:cNvSpPr/>
                <p:nvPr/>
              </p:nvSpPr>
              <p:spPr>
                <a:xfrm>
                  <a:off x="6610320" y="706320"/>
                  <a:ext cx="1991520" cy="130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81"/>
                    </a:gs>
                    <a:gs pos="100000">
                      <a:srgbClr val="cc99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99" name="Picture 17" descr="fish031s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148160" y="852840"/>
                  <a:ext cx="822600" cy="101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0" name="Oval 18"/>
              <p:cNvSpPr/>
              <p:nvPr/>
            </p:nvSpPr>
            <p:spPr>
              <a:xfrm>
                <a:off x="6559560" y="706320"/>
                <a:ext cx="2042640" cy="124704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Text Box 19"/>
            <p:cNvSpPr/>
            <p:nvPr/>
          </p:nvSpPr>
          <p:spPr>
            <a:xfrm>
              <a:off x="2684520" y="1023840"/>
              <a:ext cx="292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a50021"/>
                  </a:solidFill>
                  <a:latin typeface="Arial"/>
                  <a:ea typeface="楷体_GB2312"/>
                </a:rPr>
                <a:t>比和比例有什么区别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20"/>
          <p:cNvGrpSpPr/>
          <p:nvPr/>
        </p:nvGrpSpPr>
        <p:grpSpPr>
          <a:xfrm>
            <a:off x="3260520" y="2835360"/>
            <a:ext cx="1209240" cy="1099440"/>
            <a:chOff x="3260520" y="2835360"/>
            <a:chExt cx="1209240" cy="1099440"/>
          </a:xfrm>
        </p:grpSpPr>
        <p:sp>
          <p:nvSpPr>
            <p:cNvPr id="203" name="Rectangle 21"/>
            <p:cNvSpPr/>
            <p:nvPr/>
          </p:nvSpPr>
          <p:spPr>
            <a:xfrm>
              <a:off x="3260520" y="2835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Rectangle 22"/>
            <p:cNvSpPr/>
            <p:nvPr/>
          </p:nvSpPr>
          <p:spPr>
            <a:xfrm>
              <a:off x="3786120" y="283536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Rectangle 23"/>
          <p:cNvSpPr/>
          <p:nvPr/>
        </p:nvSpPr>
        <p:spPr>
          <a:xfrm>
            <a:off x="7164360" y="2838600"/>
            <a:ext cx="99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Group 24"/>
          <p:cNvGrpSpPr/>
          <p:nvPr/>
        </p:nvGrpSpPr>
        <p:grpSpPr>
          <a:xfrm>
            <a:off x="3009960" y="4605480"/>
            <a:ext cx="1442160" cy="1099440"/>
            <a:chOff x="3009960" y="4605480"/>
            <a:chExt cx="1442160" cy="1099440"/>
          </a:xfrm>
        </p:grpSpPr>
        <p:sp>
          <p:nvSpPr>
            <p:cNvPr id="207" name="Rectangle 25"/>
            <p:cNvSpPr/>
            <p:nvPr/>
          </p:nvSpPr>
          <p:spPr>
            <a:xfrm>
              <a:off x="3009960" y="4605480"/>
              <a:ext cx="9781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Rectangle 26"/>
            <p:cNvSpPr/>
            <p:nvPr/>
          </p:nvSpPr>
          <p:spPr>
            <a:xfrm>
              <a:off x="3768480" y="4605480"/>
              <a:ext cx="683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﹋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Rectangle 27"/>
          <p:cNvSpPr/>
          <p:nvPr/>
        </p:nvSpPr>
        <p:spPr>
          <a:xfrm>
            <a:off x="7373160" y="463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28"/>
          <p:cNvSpPr/>
          <p:nvPr/>
        </p:nvSpPr>
        <p:spPr>
          <a:xfrm>
            <a:off x="2533680" y="2427120"/>
            <a:ext cx="616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两个数组成，是一个式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两个数相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29"/>
          <p:cNvSpPr/>
          <p:nvPr/>
        </p:nvSpPr>
        <p:spPr>
          <a:xfrm>
            <a:off x="2413080" y="4203720"/>
            <a:ext cx="639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由四个数组成，是一个等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表示两个比相等的式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216000" y="620640"/>
            <a:ext cx="874872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3" descr="4"/>
          <p:cNvPicPr/>
          <p:nvPr/>
        </p:nvPicPr>
        <p:blipFill>
          <a:blip r:embed="rId1"/>
          <a:stretch/>
        </p:blipFill>
        <p:spPr>
          <a:xfrm>
            <a:off x="108000" y="620640"/>
            <a:ext cx="8802720" cy="638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4"/>
          <p:cNvSpPr/>
          <p:nvPr/>
        </p:nvSpPr>
        <p:spPr>
          <a:xfrm>
            <a:off x="1116000" y="148356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15∶10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和</a:t>
            </a:r>
            <a:r>
              <a:rPr b="0" lang="en-US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60∶40</a:t>
            </a:r>
            <a:r>
              <a:rPr b="0" lang="zh-CN" sz="4000" spc="-1" strike="noStrike">
                <a:solidFill>
                  <a:srgbClr val="d60093"/>
                </a:solidFill>
                <a:latin typeface="Arial"/>
                <a:ea typeface="楷体_GB2312"/>
              </a:rPr>
              <a:t>能组成比例吗？你是怎样判断的？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690560" y="32716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判断两个比能不能组成比例，要看它们的比值是否相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>
            <a:off x="4140360" y="4437000"/>
            <a:ext cx="2808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u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0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12920" y="885960"/>
            <a:ext cx="83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面的两个比能不能组成比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339000" y="1708200"/>
            <a:ext cx="26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∶10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∶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2486880" y="5035680"/>
            <a:ext cx="515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：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∶10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∶1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0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能组成比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744640" y="2398680"/>
            <a:ext cx="293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：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∶ 10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5799240" y="2255760"/>
                <a:ext cx="44424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3" name="Text Box 8"/>
          <p:cNvSpPr/>
          <p:nvPr/>
        </p:nvSpPr>
        <p:spPr>
          <a:xfrm>
            <a:off x="4228560" y="3230640"/>
            <a:ext cx="134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∶15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5780160" y="3116160"/>
                <a:ext cx="288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4824360" y="4003560"/>
                <a:ext cx="314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Rectangle 12"/>
          <p:cNvSpPr/>
          <p:nvPr/>
        </p:nvSpPr>
        <p:spPr>
          <a:xfrm>
            <a:off x="5268960" y="41115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5699160" y="4003560"/>
                <a:ext cx="2887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28" name="Picture 14" descr="elephant003s"/>
          <p:cNvPicPr/>
          <p:nvPr/>
        </p:nvPicPr>
        <p:blipFill>
          <a:blip r:embed="rId1"/>
          <a:stretch/>
        </p:blipFill>
        <p:spPr>
          <a:xfrm>
            <a:off x="655560" y="4451400"/>
            <a:ext cx="1471680" cy="164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402920" y="836640"/>
            <a:ext cx="71960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启智慧之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（               ）叫做比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判断两个比能否组成比例关键要看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二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采摘幸福果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下面哪一个比能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5: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成比例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:4  ② 20:1  ③1:20  ④5:1/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例表示两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关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值 ②比 ③数④式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3" descr="NA01441_"/>
          <p:cNvPicPr/>
          <p:nvPr/>
        </p:nvPicPr>
        <p:blipFill>
          <a:blip r:embed="rId1"/>
          <a:stretch/>
        </p:blipFill>
        <p:spPr>
          <a:xfrm>
            <a:off x="1643040" y="2873520"/>
            <a:ext cx="1494000" cy="1685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NA01441_"/>
          <p:cNvPicPr/>
          <p:nvPr/>
        </p:nvPicPr>
        <p:blipFill>
          <a:blip r:embed="rId2"/>
          <a:stretch/>
        </p:blipFill>
        <p:spPr>
          <a:xfrm>
            <a:off x="4948200" y="2906640"/>
            <a:ext cx="1494000" cy="2514600"/>
          </a:xfrm>
          <a:prstGeom prst="rect">
            <a:avLst/>
          </a:prstGeom>
          <a:ln w="0">
            <a:noFill/>
          </a:ln>
        </p:spPr>
      </p:pic>
      <p:sp>
        <p:nvSpPr>
          <p:cNvPr id="232" name="Line 7"/>
          <p:cNvSpPr/>
          <p:nvPr/>
        </p:nvSpPr>
        <p:spPr>
          <a:xfrm>
            <a:off x="2557440" y="2873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8"/>
          <p:cNvSpPr/>
          <p:nvPr/>
        </p:nvSpPr>
        <p:spPr>
          <a:xfrm>
            <a:off x="2960640" y="47242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9"/>
          <p:cNvSpPr/>
          <p:nvPr/>
        </p:nvSpPr>
        <p:spPr>
          <a:xfrm>
            <a:off x="6113520" y="290664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0"/>
          <p:cNvSpPr/>
          <p:nvPr/>
        </p:nvSpPr>
        <p:spPr>
          <a:xfrm>
            <a:off x="6342120" y="54212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2"/>
          <p:cNvSpPr/>
          <p:nvPr/>
        </p:nvSpPr>
        <p:spPr>
          <a:xfrm>
            <a:off x="3471840" y="402444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13"/>
          <p:cNvSpPr/>
          <p:nvPr/>
        </p:nvSpPr>
        <p:spPr>
          <a:xfrm flipV="1">
            <a:off x="3471840" y="2873160"/>
            <a:ext cx="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4"/>
          <p:cNvSpPr/>
          <p:nvPr/>
        </p:nvSpPr>
        <p:spPr>
          <a:xfrm>
            <a:off x="6951600" y="443088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Line 15"/>
          <p:cNvSpPr/>
          <p:nvPr/>
        </p:nvSpPr>
        <p:spPr>
          <a:xfrm flipV="1">
            <a:off x="6951600" y="2906640"/>
            <a:ext cx="0" cy="99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6"/>
          <p:cNvSpPr/>
          <p:nvPr/>
        </p:nvSpPr>
        <p:spPr>
          <a:xfrm>
            <a:off x="3090960" y="3406680"/>
            <a:ext cx="164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分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8"/>
          <p:cNvSpPr/>
          <p:nvPr/>
        </p:nvSpPr>
        <p:spPr>
          <a:xfrm>
            <a:off x="1801800" y="491652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9"/>
          <p:cNvSpPr/>
          <p:nvPr/>
        </p:nvSpPr>
        <p:spPr>
          <a:xfrm>
            <a:off x="5732640" y="56530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60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楷体_GB2312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14"/>
          <p:cNvSpPr/>
          <p:nvPr/>
        </p:nvSpPr>
        <p:spPr>
          <a:xfrm>
            <a:off x="770040" y="66204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根据下面两棵树的高度和重量能够写出比例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6370560" y="384984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分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学校使用的国旗长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米，你能算出宽是多少米？你是怎样算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47640" y="328464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可以组成比例的四个数之间是有一定的关系的，请同学们多举例子，相信你一定能找到内在的联系！下节课期待你精彩的表现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516720" y="5013360"/>
            <a:ext cx="649080" cy="5032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15492614"/>
          <p:cNvPicPr/>
          <p:nvPr/>
        </p:nvPicPr>
        <p:blipFill>
          <a:blip r:embed="rId1"/>
          <a:stretch/>
        </p:blipFill>
        <p:spPr>
          <a:xfrm>
            <a:off x="-219240" y="-31680"/>
            <a:ext cx="9582480" cy="68896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3"/>
          <p:cNvSpPr/>
          <p:nvPr/>
        </p:nvSpPr>
        <p:spPr>
          <a:xfrm>
            <a:off x="2627280" y="1009800"/>
            <a:ext cx="698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99"/>
                </a:solidFill>
                <a:latin typeface="Arial"/>
                <a:ea typeface="华文彩云"/>
              </a:rPr>
              <a:t>谢   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捉泥鳅.MP3" descr=""/>
          <p:cNvPicPr/>
          <p:nvPr/>
        </p:nvPicPr>
        <p:blipFill>
          <a:blip r:embed="rId2"/>
          <a:stretch/>
        </p:blipFill>
        <p:spPr>
          <a:xfrm>
            <a:off x="282600" y="6265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2" dur="154724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7" descr="20063101744282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2520" y="630360"/>
            <a:ext cx="8778960" cy="588780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8"/>
          <p:cNvSpPr/>
          <p:nvPr/>
        </p:nvSpPr>
        <p:spPr>
          <a:xfrm>
            <a:off x="291960" y="725400"/>
            <a:ext cx="300384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4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6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2987640" y="5229360"/>
            <a:ext cx="568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国旗的长和宽有什么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89000" y="725400"/>
            <a:ext cx="8767800" cy="5908680"/>
          </a:xfrm>
          <a:prstGeom prst="rect">
            <a:avLst/>
          </a:prstGeom>
          <a:ln w="0">
            <a:noFill/>
          </a:ln>
        </p:spPr>
      </p:pic>
      <p:sp>
        <p:nvSpPr>
          <p:cNvPr id="143" name="AutoShape 3"/>
          <p:cNvSpPr/>
          <p:nvPr/>
        </p:nvSpPr>
        <p:spPr>
          <a:xfrm>
            <a:off x="291960" y="725400"/>
            <a:ext cx="265428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304920" y="735120"/>
                <a:ext cx="27334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长</m:t>
                    </m:r>
                    <m:r>
                      <m:t xml:space="preserve">5</m:t>
                    </m:r>
                    <m:r>
                      <m:t xml:space="preserve">m</m:t>
                    </m:r>
                    <m:r>
                      <m:t xml:space="preserve">,</m:t>
                    </m:r>
                    <m:r>
                      <m:t xml:space="preserve">宽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blinds dir="vert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7">
            <a:hlinkClick r:id="rId2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9">
            <a:hlinkClick r:id="rId3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1" descr="图片1瑁"/>
          <p:cNvPicPr/>
          <p:nvPr/>
        </p:nvPicPr>
        <p:blipFill>
          <a:blip r:embed="rId4"/>
          <a:stretch/>
        </p:blipFill>
        <p:spPr>
          <a:xfrm>
            <a:off x="187200" y="627120"/>
            <a:ext cx="8769600" cy="589608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2"/>
          <p:cNvSpPr/>
          <p:nvPr/>
        </p:nvSpPr>
        <p:spPr>
          <a:xfrm>
            <a:off x="291960" y="725400"/>
            <a:ext cx="300384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0c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3" descr="200631521501731722">
            <a:hlinkClick r:id="rId5"/>
          </p:cNvPr>
          <p:cNvPicPr/>
          <p:nvPr/>
        </p:nvPicPr>
        <p:blipFill>
          <a:blip r:embed="rId6"/>
          <a:stretch/>
        </p:blipFill>
        <p:spPr>
          <a:xfrm rot="21237600">
            <a:off x="7880040" y="1195560"/>
            <a:ext cx="1057320" cy="5252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  <p:sndAc>
      <p:stSnd>
        <p:snd r:embed="rId7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3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2"/>
          <a:stretch/>
        </p:blipFill>
        <p:spPr>
          <a:xfrm>
            <a:off x="189000" y="617400"/>
            <a:ext cx="8751960" cy="59421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291960" y="725400"/>
            <a:ext cx="3003840" cy="11034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5cm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0c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4" descr="W020061002320210001839"/>
          <p:cNvPicPr/>
          <p:nvPr/>
        </p:nvPicPr>
        <p:blipFill>
          <a:blip r:embed="rId1"/>
          <a:stretch/>
        </p:blipFill>
        <p:spPr>
          <a:xfrm>
            <a:off x="357120" y="785880"/>
            <a:ext cx="4238640" cy="2819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Img245567146"/>
          <p:cNvPicPr/>
          <p:nvPr/>
        </p:nvPicPr>
        <p:blipFill>
          <a:blip r:embed="rId2"/>
          <a:stretch/>
        </p:blipFill>
        <p:spPr>
          <a:xfrm>
            <a:off x="4552920" y="644400"/>
            <a:ext cx="4402080" cy="29275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8" descr=""/>
          <p:cNvPicPr/>
          <p:nvPr/>
        </p:nvPicPr>
        <p:blipFill>
          <a:blip r:embed="rId3"/>
          <a:stretch/>
        </p:blipFill>
        <p:spPr>
          <a:xfrm>
            <a:off x="4521240" y="3645000"/>
            <a:ext cx="4397400" cy="2919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Img221792935"/>
          <p:cNvPicPr/>
          <p:nvPr/>
        </p:nvPicPr>
        <p:blipFill>
          <a:blip r:embed="rId4"/>
          <a:stretch/>
        </p:blipFill>
        <p:spPr>
          <a:xfrm>
            <a:off x="195120" y="3600360"/>
            <a:ext cx="4165920" cy="2919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200631521501731722"/>
          <p:cNvPicPr/>
          <p:nvPr/>
        </p:nvPicPr>
        <p:blipFill>
          <a:blip r:embed="rId5"/>
          <a:stretch/>
        </p:blipFill>
        <p:spPr>
          <a:xfrm>
            <a:off x="3103560" y="2647800"/>
            <a:ext cx="2739960" cy="18543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770040" y="779400"/>
            <a:ext cx="3589200" cy="25354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6" descr=""/>
          <p:cNvPicPr/>
          <p:nvPr/>
        </p:nvPicPr>
        <p:blipFill>
          <a:blip r:embed="rId2"/>
          <a:stretch/>
        </p:blipFill>
        <p:spPr>
          <a:xfrm>
            <a:off x="4724280" y="676440"/>
            <a:ext cx="3883320" cy="263664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7"/>
          <p:cNvSpPr/>
          <p:nvPr/>
        </p:nvSpPr>
        <p:spPr>
          <a:xfrm>
            <a:off x="1447920" y="416232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8"/>
          <p:cNvSpPr/>
          <p:nvPr/>
        </p:nvSpPr>
        <p:spPr>
          <a:xfrm>
            <a:off x="5207040" y="420516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5 : 10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3251160" y="390060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0"/>
              <p:cNvSpPr txBox="1"/>
              <p:nvPr/>
            </p:nvSpPr>
            <p:spPr>
              <a:xfrm>
                <a:off x="7243920" y="397368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1"/>
              <p:cNvSpPr txBox="1"/>
              <p:nvPr/>
            </p:nvSpPr>
            <p:spPr>
              <a:xfrm>
                <a:off x="2084400" y="3941640"/>
                <a:ext cx="61596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Text Box 13"/>
          <p:cNvSpPr/>
          <p:nvPr/>
        </p:nvSpPr>
        <p:spPr>
          <a:xfrm>
            <a:off x="2433960" y="551016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4"/>
              <p:cNvSpPr txBox="1"/>
              <p:nvPr/>
            </p:nvSpPr>
            <p:spPr>
              <a:xfrm>
                <a:off x="3070080" y="5303880"/>
                <a:ext cx="6159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Text Box 15"/>
          <p:cNvSpPr/>
          <p:nvPr/>
        </p:nvSpPr>
        <p:spPr>
          <a:xfrm>
            <a:off x="4308480" y="5537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15 : 1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3" name="chimes.wav"/>
      </p:stSnd>
    </p:sndAc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203040" y="609480"/>
            <a:ext cx="8751960" cy="592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203040" y="808200"/>
            <a:ext cx="3951360" cy="29224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1533600" y="41464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599080" y="411624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0 : 40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7"/>
              <p:cNvSpPr txBox="1"/>
              <p:nvPr/>
            </p:nvSpPr>
            <p:spPr>
              <a:xfrm>
                <a:off x="3351240" y="3898800"/>
                <a:ext cx="4618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8"/>
              <p:cNvSpPr txBox="1"/>
              <p:nvPr/>
            </p:nvSpPr>
            <p:spPr>
              <a:xfrm>
                <a:off x="7635960" y="3884760"/>
                <a:ext cx="46188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2170080" y="3940200"/>
                <a:ext cx="6159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77" name="Picture 12" descr="图片1瑁"/>
          <p:cNvPicPr/>
          <p:nvPr/>
        </p:nvPicPr>
        <p:blipFill>
          <a:blip r:embed="rId2"/>
          <a:stretch/>
        </p:blipFill>
        <p:spPr>
          <a:xfrm>
            <a:off x="4184640" y="785880"/>
            <a:ext cx="4668840" cy="29448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200631521501731722"/>
          <p:cNvPicPr/>
          <p:nvPr/>
        </p:nvPicPr>
        <p:blipFill>
          <a:blip r:embed="rId3"/>
          <a:stretch/>
        </p:blipFill>
        <p:spPr>
          <a:xfrm rot="21237600">
            <a:off x="8278920" y="1014480"/>
            <a:ext cx="512640" cy="255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13"/>
          <p:cNvSpPr/>
          <p:nvPr/>
        </p:nvSpPr>
        <p:spPr>
          <a:xfrm>
            <a:off x="2433960" y="551016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5 :      =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14"/>
              <p:cNvSpPr txBox="1"/>
              <p:nvPr/>
            </p:nvSpPr>
            <p:spPr>
              <a:xfrm>
                <a:off x="3070080" y="5303880"/>
                <a:ext cx="61596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Text Box 15"/>
          <p:cNvSpPr/>
          <p:nvPr/>
        </p:nvSpPr>
        <p:spPr>
          <a:xfrm>
            <a:off x="4308480" y="55371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60 : 40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  <p:sndAc>
      <p:stSnd>
        <p:snd r:embed="rId4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54"/>
          <p:cNvPicPr/>
          <p:nvPr/>
        </p:nvPicPr>
        <p:blipFill>
          <a:blip r:embed="rId1"/>
          <a:stretch/>
        </p:blipFill>
        <p:spPr>
          <a:xfrm>
            <a:off x="0" y="-1357200"/>
            <a:ext cx="9144000" cy="795024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1436760" y="3863880"/>
            <a:ext cx="32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2.4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︰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1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5202360" y="3906720"/>
            <a:ext cx="286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60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︰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  <a:ea typeface="楷体_GB2312"/>
              </a:rPr>
              <a:t>4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4590000" y="47116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楷体_GB2312"/>
              </a:rPr>
              <a:t>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632840" y="368136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Arial"/>
                <a:ea typeface="楷体_GB2312"/>
              </a:rPr>
              <a:t>＝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3540240" y="4700520"/>
                <a:ext cx="755640" cy="112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8"/>
              <p:cNvSpPr txBox="1"/>
              <p:nvPr/>
            </p:nvSpPr>
            <p:spPr>
              <a:xfrm>
                <a:off x="5504040" y="4710240"/>
                <a:ext cx="7603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9" name="Text Box 9"/>
          <p:cNvSpPr/>
          <p:nvPr/>
        </p:nvSpPr>
        <p:spPr>
          <a:xfrm flipV="1">
            <a:off x="392040" y="2354040"/>
            <a:ext cx="8950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10571040" y="406440"/>
            <a:ext cx="376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3573360" y="2409840"/>
            <a:ext cx="18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表示两个比相等的式子叫做比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75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12:38:35Z</dcterms:created>
  <dc:creator/>
  <dc:description/>
  <dc:language>en-US</dc:language>
  <cp:lastModifiedBy>dreamsummit</cp:lastModifiedBy>
  <dcterms:modified xsi:type="dcterms:W3CDTF">2015-05-15T07:47:44Z</dcterms:modified>
  <cp:revision>18</cp:revision>
  <dc:subject/>
  <dc:title>比例的意义 </dc:title>
</cp:coreProperties>
</file>