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CB8-6376-4A7F-90E7-A1E9C3D3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3CA-1374-4FC2-9AA2-438BD70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041-FDFA-414E-8B43-E6EC01BC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AD8-8BD5-4114-BE1C-2B875183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31A-5F4A-458C-96E8-DB854C5C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D49C-05BC-49DF-A44D-1967F202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1677-0730-4C8A-9C25-5C7C2067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1C13-D88C-404A-BF17-5DBC3EDA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0488-F7EB-4CD2-B7E2-D6D2E79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7111-CB2E-4E4A-910C-CF22EEA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56AD-0FC0-40F4-93E4-7D2A0FA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35A-7BB0-4618-9325-67769666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96D-1FEC-497A-943D-899707B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F0A0-E8F9-4CB1-87AF-9821B78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A24-497E-4055-AAD8-4EA589B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1226-5373-4959-9F96-2A41D44B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9324-DC8D-483C-ACE2-4A325654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F63D-19C5-4996-A859-6693A1F9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A6A7-BDAE-4E19-A6F0-BE17577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B512-2CC4-4C85-B2A9-8DDD23A6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2C15-2172-4556-BC93-ADE5293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18A5-B161-41A2-AF03-DE9E6CA6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46D-1F13-400F-BE2D-64EEB43D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02A1-5D48-4FAB-861C-E5A4FAB4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71F84-2ED2-4D89-954F-FA23384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1CC0-866C-466A-B92C-3230E91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1DD6-998C-4D8E-A417-97DA967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F15A-2E12-4E73-9561-50C7B9F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26FE-75E0-46E3-8C3F-46272FE5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7A4C-720F-49B5-AAE1-C787B08A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C82-8F5B-4725-924C-75E4B3D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1C8-3BD3-4167-AA3A-6FA3F8E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DAF-1F0F-4995-A3FD-75C1299A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E60-4B90-4FF6-9F2B-7A9E080A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71B-BCE7-40AB-86FE-8CF7F44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215-AF17-4FBE-881B-F57CE4B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CED6-BEEB-4E3D-A408-7D28BB5A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80B-3567-4312-807B-C9D62920ACCF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B96-ADD6-4472-8DF5-E0DB325B5E04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4320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1981080"/>
            <a:ext cx="457200" cy="2286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514600"/>
            <a:ext cx="4572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3048120"/>
            <a:ext cx="457200" cy="228600"/>
          </a:xfrm>
          <a:prstGeom prst="ellipse">
            <a:avLst/>
          </a:prstGeom>
          <a:solidFill>
            <a:srgbClr val="6a6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3657600"/>
            <a:ext cx="457200" cy="2286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4191120"/>
            <a:ext cx="457200" cy="228600"/>
          </a:xfrm>
          <a:prstGeom prst="ellipse">
            <a:avLst/>
          </a:prstGeom>
          <a:solidFill>
            <a:srgbClr val="008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724280"/>
            <a:ext cx="457200" cy="2286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656360"/>
            <a:ext cx="198108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732320"/>
            <a:ext cx="198108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2875320"/>
            <a:ext cx="198144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人民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951640"/>
            <a:ext cx="198108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094640"/>
            <a:ext cx="198108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094640"/>
            <a:ext cx="3201840" cy="735840"/>
          </a:xfrm>
          <a:prstGeom prst="ellipse">
            <a:avLst/>
          </a:prstGeom>
          <a:solidFill>
            <a:srgbClr val="00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体积（容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10138" t="71257" r="13241" b="16415"/>
          <a:stretch/>
        </p:blipFill>
        <p:spPr>
          <a:xfrm>
            <a:off x="0" y="1676520"/>
            <a:ext cx="9144000" cy="2508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057400" y="3581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358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3557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358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581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53280" y="3581280"/>
            <a:ext cx="11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﹕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981080" y="1219320"/>
            <a:ext cx="5029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反思与提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048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节课你有什么收获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说给大家听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6a63cb"/>
                </a:solidFill>
                <a:latin typeface="微软雅黑"/>
              </a:rPr>
              <a:t>小学阶段所学的常见的量：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长度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      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面积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     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体积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容积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      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时间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    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质量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人民币单位</a:t>
            </a: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 ：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02" name=""/>
          <p:cNvSpPr/>
          <p:nvPr/>
        </p:nvSpPr>
        <p:spPr>
          <a:xfrm>
            <a:off x="2817000" y="220500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k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d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毫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3048120"/>
            <a:ext cx="509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1" lang="en-US" sz="2400" spc="-1" strike="noStrike" baseline="46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公顷、米</a:t>
            </a:r>
            <a:r>
              <a:rPr b="1" lang="en-US" sz="2400" spc="-1" strike="noStrike" baseline="46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分米</a:t>
            </a:r>
            <a:r>
              <a:rPr b="1" lang="en-US" sz="2400" spc="-1" strike="noStrike" baseline="46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厘米</a:t>
            </a:r>
            <a:r>
              <a:rPr b="1" lang="en-US" sz="2400" spc="-1" strike="noStrike" baseline="46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581280"/>
            <a:ext cx="3883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 baseline="5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分米</a:t>
            </a:r>
            <a:r>
              <a:rPr b="1" lang="en-US" sz="2400" spc="-1" strike="noStrike" baseline="5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厘米</a:t>
            </a:r>
            <a:r>
              <a:rPr b="1" lang="en-US" sz="2400" spc="-1" strike="noStrike" baseline="5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39625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L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毫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26240" y="44197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世纪、年、月、日、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06760" y="495288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、千克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、克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541008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、角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88000" y="54936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15.48m=(     )m(      )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431800" y="8154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62"/>
                </a:lnTo>
                <a:cubicBezTo>
                  <a:pt x="10800" y="9562"/>
                  <a:pt x="16200" y="10462"/>
                  <a:pt x="21600" y="10462"/>
                </a:cubicBezTo>
                <a:cubicBezTo>
                  <a:pt x="16200" y="10462"/>
                  <a:pt x="10800" y="11362"/>
                  <a:pt x="10800" y="1226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14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Verdana"/>
              </a:rPr>
              <a:t>15+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71640" y="1916280"/>
            <a:ext cx="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349360"/>
            <a:ext cx="33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084720" y="112536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Verdana"/>
              </a:rPr>
              <a:t>0.48×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0920" y="1844640"/>
            <a:ext cx="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0920" y="270828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211640" y="119700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80160" y="3573360"/>
            <a:ext cx="47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4kg60g=</a:t>
            </a:r>
            <a:r>
              <a:rPr b="0" lang="zh-CN" sz="4000" spc="-1" strike="noStrike">
                <a:solidFill>
                  <a:srgbClr val="3d3f41"/>
                </a:solidFill>
                <a:latin typeface="Verdana"/>
              </a:rPr>
              <a:t>（        ）</a:t>
            </a: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148000" y="3789000"/>
            <a:ext cx="287640" cy="1150920"/>
          </a:xfrm>
          <a:custGeom>
            <a:avLst/>
            <a:gdLst>
              <a:gd name="textAreaLeft" fmla="*/ 0 w 287640"/>
              <a:gd name="textAreaRight" fmla="*/ 103680 w 287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62"/>
                </a:lnTo>
                <a:cubicBezTo>
                  <a:pt x="10800" y="9562"/>
                  <a:pt x="16200" y="10462"/>
                  <a:pt x="21600" y="10462"/>
                </a:cubicBezTo>
                <a:cubicBezTo>
                  <a:pt x="16200" y="10462"/>
                  <a:pt x="10800" y="11362"/>
                  <a:pt x="10800" y="1226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32000" y="414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32000" y="544500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932360" y="501300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508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Verdana"/>
              </a:rPr>
              <a:t>60÷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50920" y="422100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580536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867280" y="501336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62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62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3280" y="35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4.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5805360"/>
            <a:ext cx="0" cy="0"/>
          </a:xfrm>
          <a:prstGeom prst="line">
            <a:avLst/>
          </a:prstGeom>
          <a:ln w="93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6237360"/>
            <a:ext cx="73080" cy="71280"/>
          </a:xfrm>
          <a:custGeom>
            <a:avLst/>
            <a:gdLst>
              <a:gd name="textAreaLeft" fmla="*/ 20880 w 73080"/>
              <a:gd name="textAreaRight" fmla="*/ 62640 w 73080"/>
              <a:gd name="textAreaTop" fmla="*/ 40680 h 71280"/>
              <a:gd name="textAreaBottom" fmla="*/ 61200 h 7128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6171" y="9257"/>
                </a:lnTo>
                <a:lnTo>
                  <a:pt x="6171" y="12343"/>
                </a:lnTo>
                <a:lnTo>
                  <a:pt x="12343" y="12343"/>
                </a:lnTo>
                <a:lnTo>
                  <a:pt x="12343" y="6171"/>
                </a:lnTo>
                <a:lnTo>
                  <a:pt x="9257" y="6171"/>
                </a:lnTo>
                <a:lnTo>
                  <a:pt x="15429" y="0"/>
                </a:lnTo>
                <a:lnTo>
                  <a:pt x="21600" y="6171"/>
                </a:lnTo>
                <a:lnTo>
                  <a:pt x="18514" y="6171"/>
                </a:lnTo>
                <a:lnTo>
                  <a:pt x="18514" y="18514"/>
                </a:lnTo>
                <a:lnTo>
                  <a:pt x="6171" y="18514"/>
                </a:lnTo>
                <a:lnTo>
                  <a:pt x="6171" y="216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 rot="5400000">
            <a:off x="-781200" y="2660400"/>
            <a:ext cx="29527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填一填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34" name=""/>
          <p:cNvSpPr/>
          <p:nvPr/>
        </p:nvSpPr>
        <p:spPr>
          <a:xfrm>
            <a:off x="5580000" y="4437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11640" y="4437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4836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828800" y="11430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60000"/>
                  </a:srgbClr>
                </a:solidFill>
                <a:latin typeface="宋体"/>
              </a:rPr>
              <a:t>作业：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6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33220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1580"/>
                </a:solidFill>
                <a:latin typeface="Arial"/>
              </a:rPr>
              <a:t>调查在日常生活中一分钟可以做哪些事，写一写你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889280" y="1182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1676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2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9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657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343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86480" y="1676520"/>
            <a:ext cx="14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33840" y="2286000"/>
            <a:ext cx="12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86480" y="2971800"/>
            <a:ext cx="14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09800" y="358128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0160" y="4343400"/>
            <a:ext cx="15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9144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18288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3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2590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5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3352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41148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6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56520" y="19810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37040" y="274320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7040" y="35053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7040" y="41911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6172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228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889280" y="1182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22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平方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4419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平方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3880" y="160020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3520" y="3733920"/>
            <a:ext cx="15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914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190512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67080" y="26668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4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4290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41148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44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98960" y="1981080"/>
            <a:ext cx="13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7432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3505320"/>
            <a:ext cx="12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4191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2971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1240" y="297180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62320" y="4419720"/>
            <a:ext cx="14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458200" y="61722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304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889280" y="1182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2514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立方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3276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立方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914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19810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2895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3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2670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4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13720" y="20574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90040" y="29718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61440" y="43434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1828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立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7960" y="1828800"/>
            <a:ext cx="12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36560" y="2514600"/>
            <a:ext cx="14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69920" y="4038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（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65600" y="4648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（毫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354840" y="403848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9240" y="46483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L</a:t>
            </a:r>
            <a:r>
              <a:rPr b="0" lang="en-US" sz="2800" spc="-1" strike="noStrike">
                <a:solidFill>
                  <a:srgbClr val="3d3f41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60240" y="3276720"/>
            <a:ext cx="14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77320" y="62485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228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体积（容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86000" y="1295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12952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2057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3124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0" y="4191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39120" y="3200400"/>
            <a:ext cx="13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g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38760" y="2057400"/>
            <a:ext cx="9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33840" y="419112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24280" y="2362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68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6576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4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61440" y="25909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37400" y="38862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61722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81280" y="228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20968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1447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2362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3352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1460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2438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3429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4495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266688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2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380988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27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75120" y="403848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75120" y="289548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81680" y="28195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1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23400" y="3505320"/>
            <a:ext cx="13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77320" y="6172200"/>
            <a:ext cx="761760" cy="457200"/>
          </a:xfrm>
          <a:prstGeom prst="leftArrow">
            <a:avLst>
              <a:gd name="adj1" fmla="val 50000"/>
              <a:gd name="adj2" fmla="val 4165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352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民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29528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分类以后再整理这些量的计量单位时要注意哪些细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0481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按从大到小的顺序、做到不重复、不遗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913320"/>
            <a:ext cx="8991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）一个月分成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旬、 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旬、 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旬，平年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二月下旬是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天，一月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旬是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平年的第一个季度是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）采用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计时法，下午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就是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，夜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里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就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，也就是第二天的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(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016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0284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25880" y="200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5984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2400" y="243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83480" y="3449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1320" y="3906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40680" y="396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6320" y="144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48280" y="2808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98000" y="28195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+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60120" y="28195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+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98200" y="28195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=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28600" y="533520"/>
            <a:ext cx="17146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楷体_GB2312"/>
              </a:rPr>
              <a:t>选一选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楷体_GB2312"/>
              <a:ea typeface="楷体_GB2312"/>
            </a:endParaRPr>
          </a:p>
        </p:txBody>
      </p:sp>
      <p:sp>
        <p:nvSpPr>
          <p:cNvPr id="455" name=""/>
          <p:cNvSpPr/>
          <p:nvPr/>
        </p:nvSpPr>
        <p:spPr>
          <a:xfrm>
            <a:off x="76320" y="1447920"/>
            <a:ext cx="93726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）一个鸡蛋约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60(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；张老师的体重约是             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50    (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        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卡车的载重量约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3   (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6a63cb"/>
                </a:solidFill>
                <a:latin typeface="Arial"/>
              </a:rPr>
              <a:t>吨，千克，克，斤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）绕操场一圈约用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2(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；乘汽车到宿州约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40(   )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；   从班级前门走到后门约需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5(   )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。           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6a63cb"/>
                </a:solidFill>
                <a:latin typeface="Arial"/>
              </a:rPr>
              <a:t>秒、分、时、日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42520" y="152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20574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千克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81680" y="19810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吨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71600" y="4191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5812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6a63cb"/>
                </a:solidFill>
                <a:latin typeface="Arial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762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、判断。（对的打“√”，错的打“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×”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1900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年是闰年。   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边长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分米的正方形的周长和面积一样大。                  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一张课桌宽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52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厘米。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17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时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45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分也就是下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时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45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分。（  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每年都有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366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天。（  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千克铁和</a:t>
            </a:r>
            <a:r>
              <a:rPr b="1" lang="en-US" sz="3600" spc="-1" strike="noStrike">
                <a:solidFill>
                  <a:srgbClr val="3d3f41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d3f41"/>
                </a:solidFill>
                <a:latin typeface="宋体"/>
              </a:rPr>
              <a:t>千克棉花一样重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23200" y="1295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23200" y="2438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65800" y="4572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12360" y="51814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31480" y="28954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3962520"/>
            <a:ext cx="6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914400" y="3505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685800"/>
            <a:ext cx="73152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平年闰年的计算方法</a:t>
            </a: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根据公历年份判断</a:t>
            </a:r>
            <a:r>
              <a:rPr b="1" lang="en-US" sz="3200" spc="-1" strike="noStrike">
                <a:solidFill>
                  <a:srgbClr val="3d3f41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百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的年份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的倍数</a:t>
            </a:r>
            <a:r>
              <a:rPr b="1" lang="en-US" sz="3200" spc="-1" strike="noStrike">
                <a:solidFill>
                  <a:srgbClr val="3d3f4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其他年份是</a:t>
            </a:r>
            <a:r>
              <a:rPr b="1" lang="en-US" sz="3200" spc="-1" strike="noStrike">
                <a:solidFill>
                  <a:srgbClr val="3d3f41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的倍数的年份都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闰年</a:t>
            </a:r>
            <a:r>
              <a:rPr b="1" lang="en-US" sz="3200" spc="-1" strike="noStrike">
                <a:solidFill>
                  <a:srgbClr val="3d3f41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反则是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平年</a:t>
            </a:r>
            <a:r>
              <a:rPr b="1" lang="zh-CN" sz="3200" spc="-1" strike="noStrike">
                <a:solidFill>
                  <a:srgbClr val="3d3f41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648320" y="4114800"/>
            <a:ext cx="3200400" cy="914400"/>
          </a:xfrm>
          <a:prstGeom prst="rect">
            <a:avLst/>
          </a:prstGeom>
          <a:solidFill>
            <a:srgbClr val="ffffcc"/>
          </a:solidFill>
          <a:ln w="57240">
            <a:solidFill>
              <a:srgbClr val="6a6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685800"/>
            <a:ext cx="1981080" cy="70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找闰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2666880"/>
            <a:ext cx="99072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4343400"/>
            <a:ext cx="990360" cy="533520"/>
          </a:xfrm>
          <a:custGeom>
            <a:avLst/>
            <a:gdLst/>
            <a:ahLst/>
            <a:rect l="l" t="t" r="r" b="b"/>
            <a:pathLst>
              <a:path w="624" h="336">
                <a:moveTo>
                  <a:pt x="0" y="48"/>
                </a:moveTo>
                <a:lnTo>
                  <a:pt x="192" y="336"/>
                </a:lnTo>
                <a:lnTo>
                  <a:pt x="62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001000" y="4267080"/>
            <a:ext cx="838080" cy="762120"/>
            <a:chOff x="8001000" y="4267080"/>
            <a:chExt cx="838080" cy="762120"/>
          </a:xfrm>
        </p:grpSpPr>
        <p:sp>
          <p:nvSpPr>
            <p:cNvPr id="477" name=""/>
            <p:cNvSpPr/>
            <p:nvPr/>
          </p:nvSpPr>
          <p:spPr>
            <a:xfrm>
              <a:off x="8077320" y="4267080"/>
              <a:ext cx="68580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8001000" y="4267080"/>
              <a:ext cx="83808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924680" y="2743200"/>
            <a:ext cx="838080" cy="762120"/>
            <a:chOff x="7924680" y="2743200"/>
            <a:chExt cx="838080" cy="762120"/>
          </a:xfrm>
        </p:grpSpPr>
        <p:sp>
          <p:nvSpPr>
            <p:cNvPr id="480" name=""/>
            <p:cNvSpPr/>
            <p:nvPr/>
          </p:nvSpPr>
          <p:spPr>
            <a:xfrm>
              <a:off x="8001000" y="2743200"/>
              <a:ext cx="68580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7924680" y="2743200"/>
              <a:ext cx="83808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629400" y="60199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2590920"/>
            <a:ext cx="1981080" cy="779400"/>
            <a:chOff x="838080" y="2590920"/>
            <a:chExt cx="1981080" cy="779400"/>
          </a:xfrm>
        </p:grpSpPr>
        <p:sp>
          <p:nvSpPr>
            <p:cNvPr id="484" name=""/>
            <p:cNvSpPr/>
            <p:nvPr/>
          </p:nvSpPr>
          <p:spPr>
            <a:xfrm>
              <a:off x="838080" y="2590920"/>
              <a:ext cx="19810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266688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2000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562720" y="2666880"/>
            <a:ext cx="1980720" cy="779760"/>
            <a:chOff x="5562720" y="2666880"/>
            <a:chExt cx="1980720" cy="779760"/>
          </a:xfrm>
        </p:grpSpPr>
        <p:sp>
          <p:nvSpPr>
            <p:cNvPr id="487" name=""/>
            <p:cNvSpPr/>
            <p:nvPr/>
          </p:nvSpPr>
          <p:spPr>
            <a:xfrm>
              <a:off x="5562720" y="2666880"/>
              <a:ext cx="1980720" cy="762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2720" y="2743200"/>
              <a:ext cx="19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2013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914400" y="4038480"/>
            <a:ext cx="1980720" cy="779760"/>
            <a:chOff x="914400" y="4038480"/>
            <a:chExt cx="1980720" cy="779760"/>
          </a:xfrm>
        </p:grpSpPr>
        <p:sp>
          <p:nvSpPr>
            <p:cNvPr id="490" name=""/>
            <p:cNvSpPr/>
            <p:nvPr/>
          </p:nvSpPr>
          <p:spPr>
            <a:xfrm>
              <a:off x="914400" y="4038480"/>
              <a:ext cx="1980720" cy="762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14400" y="4114800"/>
              <a:ext cx="19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2008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410080" y="4191120"/>
            <a:ext cx="1981080" cy="779400"/>
            <a:chOff x="5410080" y="4191120"/>
            <a:chExt cx="1981080" cy="779400"/>
          </a:xfrm>
        </p:grpSpPr>
        <p:sp>
          <p:nvSpPr>
            <p:cNvPr id="493" name=""/>
            <p:cNvSpPr/>
            <p:nvPr/>
          </p:nvSpPr>
          <p:spPr>
            <a:xfrm>
              <a:off x="5410080" y="4191120"/>
              <a:ext cx="1981080" cy="761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26708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1900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43200" y="2286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3276720"/>
            <a:ext cx="19810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133720"/>
            <a:ext cx="19810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4343400"/>
            <a:ext cx="21333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体积（容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3276720"/>
            <a:ext cx="19810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人民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4343400"/>
            <a:ext cx="19810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209680"/>
            <a:ext cx="19810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1722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133720"/>
            <a:ext cx="152424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2063520"/>
            <a:ext cx="8458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小组合作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、发言围绕讨论中心，不东拉西扯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不讲与学习无关的内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、认真倾听他人发言，别人发言时不随便插嘴打断，有不同意见，要耐心听别人说完后再提出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、小组成员集体讨论，小组长做好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9280" y="11826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676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22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9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657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343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86480" y="1676520"/>
            <a:ext cx="14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33840" y="2286000"/>
            <a:ext cx="12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86480" y="2971800"/>
            <a:ext cx="14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9800" y="358128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0160" y="4343400"/>
            <a:ext cx="15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m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9144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8288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3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590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5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352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2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41148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0c0c0">
              <a:alpha val="56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6520" y="19810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7040" y="274320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7040" y="35053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1911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29600" y="6172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28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2408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295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世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572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9400" y="243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39400" y="304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940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39400" y="42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9400" y="4876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838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838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各单位间的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16002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22860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35268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38862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a63cb"/>
                </a:solidFill>
                <a:latin typeface="Times New Roman"/>
              </a:rPr>
              <a:t>平年二月份有</a:t>
            </a:r>
            <a:r>
              <a:rPr b="1" lang="zh-CN" sz="2800" spc="-1" strike="noStrike">
                <a:solidFill>
                  <a:srgbClr val="6a63cb"/>
                </a:solidFill>
                <a:latin typeface="Arial"/>
              </a:rPr>
              <a:t>（      ）</a:t>
            </a:r>
            <a:r>
              <a:rPr b="1" lang="zh-CN" sz="2800" spc="-1" strike="noStrike">
                <a:solidFill>
                  <a:srgbClr val="6a63cb"/>
                </a:solidFill>
                <a:latin typeface="Times New Roman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a63cb"/>
                </a:solidFill>
                <a:latin typeface="Times New Roman"/>
              </a:rPr>
              <a:t>闰年</a:t>
            </a:r>
            <a:r>
              <a:rPr b="1" lang="zh-CN" sz="2800" spc="-1" strike="noStrike">
                <a:solidFill>
                  <a:srgbClr val="6a63cb"/>
                </a:solidFill>
                <a:latin typeface="Arial"/>
              </a:rPr>
              <a:t>二月份有（       ）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2666880"/>
            <a:ext cx="43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3200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7880" y="1676520"/>
            <a:ext cx="13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7520" y="23623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342900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36640" y="411480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12960" y="4876920"/>
            <a:ext cx="11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14800"/>
            <a:ext cx="76320" cy="533520"/>
          </a:xfrm>
          <a:custGeom>
            <a:avLst/>
            <a:gdLst>
              <a:gd name="textAreaLeft" fmla="*/ 0 w 76320"/>
              <a:gd name="textAreaRight" fmla="*/ 2736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876920"/>
            <a:ext cx="75960" cy="53316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26668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天的月份是（          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63120" y="312408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有</a:t>
            </a: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天的月份是（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4120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160" y="4343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191120"/>
            <a:ext cx="533520" cy="38088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60199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常见的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3040" y="60958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一周有（        ）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7720" y="548640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一个月分（    ）旬、 （    ）旬、 （    ）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6640" y="5486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21760" y="5486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45000" y="611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6520" y="5486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57400" y="457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4500m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＝（        ）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km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40m=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（        ）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cm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0.05t=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（      ）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9000m²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＝（       ）公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2.5L=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（        ）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b054d"/>
                </a:solidFill>
                <a:latin typeface="宋体"/>
              </a:rPr>
              <a:t>（ 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800cm³=</a:t>
            </a:r>
            <a:r>
              <a:rPr b="0" lang="en-US" sz="2800" spc="-1" strike="noStrike">
                <a:solidFill>
                  <a:srgbClr val="0b054d"/>
                </a:solidFill>
                <a:latin typeface="宋体"/>
              </a:rPr>
              <a:t>(        )</a:t>
            </a:r>
            <a:r>
              <a:rPr b="1" lang="en-US" sz="2800" spc="-1" strike="noStrike">
                <a:solidFill>
                  <a:srgbClr val="0b054d"/>
                </a:solidFill>
                <a:latin typeface="宋体"/>
              </a:rPr>
              <a:t>dm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572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1295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828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22096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304812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50532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39625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00360" y="49417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508640"/>
            <a:ext cx="84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d3f41"/>
                </a:solidFill>
                <a:latin typeface="Verdana"/>
              </a:rPr>
              <a:t>高级单位        低级单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4000" y="5013360"/>
            <a:ext cx="1944720" cy="0"/>
          </a:xfrm>
          <a:prstGeom prst="line">
            <a:avLst/>
          </a:prstGeom>
          <a:ln w="3492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64000" y="5300640"/>
            <a:ext cx="1944720" cy="0"/>
          </a:xfrm>
          <a:prstGeom prst="line">
            <a:avLst/>
          </a:prstGeom>
          <a:ln w="3492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443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08360" y="54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进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 rot="5400000">
            <a:off x="-642240" y="1937520"/>
            <a:ext cx="29509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填一填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088000" y="54936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15.48m=(     )m(      )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431800" y="8154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62"/>
                </a:lnTo>
                <a:cubicBezTo>
                  <a:pt x="10800" y="9562"/>
                  <a:pt x="16200" y="10462"/>
                  <a:pt x="21600" y="10462"/>
                </a:cubicBezTo>
                <a:cubicBezTo>
                  <a:pt x="16200" y="10462"/>
                  <a:pt x="10800" y="11362"/>
                  <a:pt x="10800" y="1226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141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f41"/>
                </a:solidFill>
                <a:latin typeface="Verdana"/>
              </a:rPr>
              <a:t>15+0.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71640" y="1916280"/>
            <a:ext cx="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349360"/>
            <a:ext cx="33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4720" y="112536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98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Verdana"/>
              </a:rPr>
              <a:t>0.48×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1844640"/>
            <a:ext cx="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270828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211640" y="119700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80160" y="3573360"/>
            <a:ext cx="47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4kg60g=</a:t>
            </a:r>
            <a:r>
              <a:rPr b="0" lang="zh-CN" sz="4000" spc="-1" strike="noStrike">
                <a:solidFill>
                  <a:srgbClr val="3d3f41"/>
                </a:solidFill>
                <a:latin typeface="Verdana"/>
              </a:rPr>
              <a:t>（        ）</a:t>
            </a: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5148000" y="3789000"/>
            <a:ext cx="287640" cy="1150920"/>
          </a:xfrm>
          <a:custGeom>
            <a:avLst/>
            <a:gdLst>
              <a:gd name="textAreaLeft" fmla="*/ 0 w 287640"/>
              <a:gd name="textAreaRight" fmla="*/ 103680 w 287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62"/>
                </a:lnTo>
                <a:cubicBezTo>
                  <a:pt x="10800" y="9562"/>
                  <a:pt x="16200" y="10462"/>
                  <a:pt x="21600" y="10462"/>
                </a:cubicBezTo>
                <a:cubicBezTo>
                  <a:pt x="16200" y="10462"/>
                  <a:pt x="10800" y="11362"/>
                  <a:pt x="10800" y="1226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414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544500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932360" y="501300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508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Verdana"/>
              </a:rPr>
              <a:t>60÷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4221000"/>
            <a:ext cx="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5805360"/>
            <a:ext cx="38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867280" y="501336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62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24360" y="620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3f41"/>
                </a:solidFill>
                <a:latin typeface="Verdana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35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f41"/>
                </a:solidFill>
                <a:latin typeface="Verdana"/>
              </a:rPr>
              <a:t>4.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5805360"/>
            <a:ext cx="0" cy="0"/>
          </a:xfrm>
          <a:prstGeom prst="line">
            <a:avLst/>
          </a:prstGeom>
          <a:ln w="9360">
            <a:solidFill>
              <a:srgbClr val="3d3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6237360"/>
            <a:ext cx="73080" cy="71280"/>
          </a:xfrm>
          <a:custGeom>
            <a:avLst/>
            <a:gdLst>
              <a:gd name="textAreaLeft" fmla="*/ 20880 w 73080"/>
              <a:gd name="textAreaRight" fmla="*/ 62640 w 73080"/>
              <a:gd name="textAreaTop" fmla="*/ 40680 h 71280"/>
              <a:gd name="textAreaBottom" fmla="*/ 61200 h 71280"/>
            </a:gdLst>
            <a:ahLst/>
            <a:rect l="textAreaLeft" t="textAreaTop" r="textAreaRight" b="textAreaBottom"/>
            <a:pathLst>
              <a:path w="21600" h="21600">
                <a:moveTo>
                  <a:pt x="0" y="15429"/>
                </a:moveTo>
                <a:lnTo>
                  <a:pt x="6171" y="9257"/>
                </a:lnTo>
                <a:lnTo>
                  <a:pt x="6171" y="12343"/>
                </a:lnTo>
                <a:lnTo>
                  <a:pt x="12343" y="12343"/>
                </a:lnTo>
                <a:lnTo>
                  <a:pt x="12343" y="6171"/>
                </a:lnTo>
                <a:lnTo>
                  <a:pt x="9257" y="6171"/>
                </a:lnTo>
                <a:lnTo>
                  <a:pt x="15429" y="0"/>
                </a:lnTo>
                <a:lnTo>
                  <a:pt x="21600" y="6171"/>
                </a:lnTo>
                <a:lnTo>
                  <a:pt x="18514" y="6171"/>
                </a:lnTo>
                <a:lnTo>
                  <a:pt x="18514" y="18514"/>
                </a:lnTo>
                <a:lnTo>
                  <a:pt x="6171" y="18514"/>
                </a:lnTo>
                <a:lnTo>
                  <a:pt x="6171" y="216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 rot="5400000">
            <a:off x="-781200" y="2660400"/>
            <a:ext cx="2952720" cy="6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填一填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4437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11640" y="4437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0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Verdan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单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复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14300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1143000"/>
            <a:ext cx="2895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2362320"/>
            <a:ext cx="8229600" cy="2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1.7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吨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   ）千克      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小时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 ）小时（       ）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3.5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日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）日（     ）小时      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吨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      ）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2.5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     ）秒            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（          ）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6400" y="23623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066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、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8200" y="2362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 rot="10800000">
            <a:off x="7086600" y="22860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428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600" y="30481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83480" y="30481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54640" y="3809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4000" y="38098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45720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>
                    <a:alpha val="61000"/>
                  </a:srgbClr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巩固与应用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cc00">
                  <a:alpha val="61000"/>
                </a:srgbClr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60199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1:57:50Z</dcterms:created>
  <dc:creator>Administrator</dc:creator>
  <dc:description/>
  <dc:language>en-US</dc:language>
  <cp:lastModifiedBy/>
  <dcterms:modified xsi:type="dcterms:W3CDTF">2015-09-08T08:02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