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7E0-A31A-4BB9-9A4E-A03A428C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A4C-5799-4737-93FD-E0EA780F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AD2-81C9-432B-B419-545CA876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674-E486-42AC-80FF-EB142321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3AA-977F-4AA5-AB06-DE1C1B7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636-B27D-40C3-857C-717604D7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A87-81C0-4F77-9DCD-CD5D2FD9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512-AE1F-48C9-8F8D-D995C86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247-AF84-4188-8CF5-A13E5915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AAE-92DC-4394-B7B7-AB0060F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45D-15DC-4365-B4B5-8F5E0B3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6E2-3D84-4A4F-8EAD-671CAD73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49A3-BF77-49EC-A6D3-7070CE26D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1125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解比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6560" y="119700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比例的基本性质（练习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1357200" y="1789200"/>
            <a:ext cx="240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︰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56200" y="1803240"/>
            <a:ext cx="30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︰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967560" y="1413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3419640" y="3573360"/>
            <a:ext cx="57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3419640" y="2781360"/>
            <a:ext cx="0" cy="7920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153320" y="3171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内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 flipH="1">
            <a:off x="5148360" y="3573360"/>
            <a:ext cx="57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5724360" y="2781360"/>
            <a:ext cx="0" cy="7920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1547640" y="4437000"/>
            <a:ext cx="2448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1547640" y="2781360"/>
            <a:ext cx="0" cy="1655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153320" y="407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外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H="1">
            <a:off x="5219640" y="4437000"/>
            <a:ext cx="2232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7500960" y="2781360"/>
            <a:ext cx="0" cy="1655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40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成比例的四个数，叫做比例的项。两端的两项叫做比例的外项，中间的两项叫做比例的内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08644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比例里，两个内项的积等于两个外项的积，这叫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比例的基本性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1557360"/>
            <a:ext cx="71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306864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89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比例里，两个内项的积等于两个外项的积，这叫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比例的基本性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32000" y="3500280"/>
            <a:ext cx="2941560" cy="1649520"/>
            <a:chOff x="3132000" y="3500280"/>
            <a:chExt cx="2941560" cy="1649520"/>
          </a:xfrm>
        </p:grpSpPr>
        <p:grpSp>
          <p:nvGrpSpPr>
            <p:cNvPr id="123" name=""/>
            <p:cNvGrpSpPr/>
            <p:nvPr/>
          </p:nvGrpSpPr>
          <p:grpSpPr>
            <a:xfrm>
              <a:off x="3132000" y="3552840"/>
              <a:ext cx="1193760" cy="1576440"/>
              <a:chOff x="3132000" y="3552840"/>
              <a:chExt cx="1193760" cy="157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3163680" y="3552840"/>
                <a:ext cx="1081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73400" y="442584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32000" y="4468680"/>
                <a:ext cx="72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100400" y="41288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859280" y="3500280"/>
              <a:ext cx="1214280" cy="1649520"/>
              <a:chOff x="4859280" y="3500280"/>
              <a:chExt cx="1214280" cy="1649520"/>
            </a:xfrm>
          </p:grpSpPr>
          <p:sp>
            <p:nvSpPr>
              <p:cNvPr id="129" name=""/>
              <p:cNvSpPr/>
              <p:nvPr/>
            </p:nvSpPr>
            <p:spPr>
              <a:xfrm>
                <a:off x="4932360" y="3500280"/>
                <a:ext cx="1081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21200" y="444636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59280" y="4468680"/>
                <a:ext cx="72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3708360" y="4076640"/>
            <a:ext cx="1224000" cy="730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4076280"/>
            <a:ext cx="122400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2130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外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013360"/>
            <a:ext cx="20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外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3068640"/>
            <a:ext cx="180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内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4869000"/>
            <a:ext cx="16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内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66100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两个外项与两个内项交叉相乘的积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1557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3 : 6=2 :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234936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×4=6×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2928960" y="1643040"/>
            <a:ext cx="57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5×2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（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8280" y="1433520"/>
            <a:ext cx="2011320" cy="1080000"/>
            <a:chOff x="638280" y="1433520"/>
            <a:chExt cx="2011320" cy="1080000"/>
          </a:xfrm>
        </p:grpSpPr>
        <p:sp>
          <p:nvSpPr>
            <p:cNvPr id="143" name="Text Box 8"/>
            <p:cNvSpPr/>
            <p:nvPr/>
          </p:nvSpPr>
          <p:spPr>
            <a:xfrm>
              <a:off x="638280" y="143352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682560" y="1996920"/>
              <a:ext cx="7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850680" y="1924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1328760" y="1733400"/>
              <a:ext cx="59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1886040" y="144144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1930320" y="2005200"/>
              <a:ext cx="7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2098440" y="1932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7320" y="2965320"/>
            <a:ext cx="2782800" cy="1080000"/>
            <a:chOff x="517320" y="2965320"/>
            <a:chExt cx="2782800" cy="1080000"/>
          </a:xfrm>
        </p:grpSpPr>
        <p:sp>
          <p:nvSpPr>
            <p:cNvPr id="151" name="Text Box 16"/>
            <p:cNvSpPr/>
            <p:nvPr/>
          </p:nvSpPr>
          <p:spPr>
            <a:xfrm>
              <a:off x="518760" y="2965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517320" y="3456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890280" y="3168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1239480" y="2973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1263600" y="34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1287360" y="352872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519120" y="35287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3"/>
            <p:cNvSpPr/>
            <p:nvPr/>
          </p:nvSpPr>
          <p:spPr>
            <a:xfrm>
              <a:off x="1680840" y="3240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4"/>
            <p:cNvSpPr/>
            <p:nvPr/>
          </p:nvSpPr>
          <p:spPr>
            <a:xfrm>
              <a:off x="2149200" y="29653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5"/>
            <p:cNvSpPr/>
            <p:nvPr/>
          </p:nvSpPr>
          <p:spPr>
            <a:xfrm>
              <a:off x="2147760" y="3456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6"/>
            <p:cNvSpPr/>
            <p:nvPr/>
          </p:nvSpPr>
          <p:spPr>
            <a:xfrm>
              <a:off x="2520720" y="3168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7"/>
            <p:cNvSpPr/>
            <p:nvPr/>
          </p:nvSpPr>
          <p:spPr>
            <a:xfrm>
              <a:off x="2869920" y="2973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2893680" y="34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2917800" y="352872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0"/>
            <p:cNvSpPr/>
            <p:nvPr/>
          </p:nvSpPr>
          <p:spPr>
            <a:xfrm>
              <a:off x="2149560" y="35287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31"/>
          <p:cNvSpPr/>
          <p:nvPr/>
        </p:nvSpPr>
        <p:spPr>
          <a:xfrm>
            <a:off x="4214880" y="3286080"/>
            <a:ext cx="57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（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3754440" y="297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3752640" y="346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3754440" y="35370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4694040" y="2973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4717800" y="346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7"/>
          <p:cNvSpPr/>
          <p:nvPr/>
        </p:nvSpPr>
        <p:spPr>
          <a:xfrm>
            <a:off x="4741920" y="35290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432360" y="4992840"/>
            <a:ext cx="32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4214880" y="5000760"/>
            <a:ext cx="57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)×(      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)×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145120" y="168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6575400" y="16509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930640" y="3000240"/>
            <a:ext cx="433440" cy="1072080"/>
            <a:chOff x="5930640" y="3000240"/>
            <a:chExt cx="433440" cy="1072080"/>
          </a:xfrm>
        </p:grpSpPr>
        <p:sp>
          <p:nvSpPr>
            <p:cNvPr id="178" name="Text Box 45"/>
            <p:cNvSpPr/>
            <p:nvPr/>
          </p:nvSpPr>
          <p:spPr>
            <a:xfrm>
              <a:off x="5932080" y="3000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6"/>
            <p:cNvSpPr/>
            <p:nvPr/>
          </p:nvSpPr>
          <p:spPr>
            <a:xfrm>
              <a:off x="5930640" y="3490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7"/>
            <p:cNvSpPr/>
            <p:nvPr/>
          </p:nvSpPr>
          <p:spPr>
            <a:xfrm>
              <a:off x="5932440" y="3563640"/>
              <a:ext cx="431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716600" y="2954160"/>
            <a:ext cx="433440" cy="1072080"/>
            <a:chOff x="7716600" y="2954160"/>
            <a:chExt cx="433440" cy="1072080"/>
          </a:xfrm>
        </p:grpSpPr>
        <p:sp>
          <p:nvSpPr>
            <p:cNvPr id="182" name="Text Box 50"/>
            <p:cNvSpPr/>
            <p:nvPr/>
          </p:nvSpPr>
          <p:spPr>
            <a:xfrm>
              <a:off x="7718040" y="2954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7716600" y="3444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2"/>
            <p:cNvSpPr/>
            <p:nvPr/>
          </p:nvSpPr>
          <p:spPr>
            <a:xfrm>
              <a:off x="7718400" y="3517560"/>
              <a:ext cx="431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3"/>
          <p:cNvSpPr/>
          <p:nvPr/>
        </p:nvSpPr>
        <p:spPr>
          <a:xfrm>
            <a:off x="4430520" y="501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4"/>
          <p:cNvSpPr/>
          <p:nvPr/>
        </p:nvSpPr>
        <p:spPr>
          <a:xfrm>
            <a:off x="5428080" y="50450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5"/>
          <p:cNvSpPr/>
          <p:nvPr/>
        </p:nvSpPr>
        <p:spPr>
          <a:xfrm>
            <a:off x="6747480" y="50450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6"/>
          <p:cNvSpPr/>
          <p:nvPr/>
        </p:nvSpPr>
        <p:spPr>
          <a:xfrm>
            <a:off x="7866720" y="503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21420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根据比例的基本性质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60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判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105264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如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=c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比例的两个外项的乘积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两个内项一定互为倒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0240" y="3286080"/>
            <a:ext cx="94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下面的等式，写出比例式（能写出不同的比例式吗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4076640"/>
            <a:ext cx="65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9=12×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941720"/>
            <a:ext cx="51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2×0.5=0.4×0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05680" y="981000"/>
            <a:ext cx="514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10320" y="2349360"/>
            <a:ext cx="71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r>
              <a:rPr b="0" lang="en-US" sz="45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228600" y="609480"/>
            <a:ext cx="9216720" cy="3933000"/>
            <a:chOff x="228600" y="609480"/>
            <a:chExt cx="9216720" cy="3933000"/>
          </a:xfrm>
        </p:grpSpPr>
        <p:grpSp>
          <p:nvGrpSpPr>
            <p:cNvPr id="199" name=""/>
            <p:cNvGrpSpPr/>
            <p:nvPr/>
          </p:nvGrpSpPr>
          <p:grpSpPr>
            <a:xfrm>
              <a:off x="446040" y="2295360"/>
              <a:ext cx="3887640" cy="878760"/>
              <a:chOff x="446040" y="2295360"/>
              <a:chExt cx="3887640" cy="8787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861840" y="2295360"/>
                <a:ext cx="2289240" cy="780120"/>
                <a:chOff x="861840" y="2295360"/>
                <a:chExt cx="2289240" cy="780120"/>
              </a:xfrm>
            </p:grpSpPr>
            <p:sp>
              <p:nvSpPr>
                <p:cNvPr id="201" name="Text Box 5"/>
                <p:cNvSpPr/>
                <p:nvPr/>
              </p:nvSpPr>
              <p:spPr>
                <a:xfrm>
                  <a:off x="861840" y="2311200"/>
                  <a:ext cx="647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6"/>
                <p:cNvSpPr/>
                <p:nvPr/>
              </p:nvSpPr>
              <p:spPr>
                <a:xfrm>
                  <a:off x="2503440" y="2295360"/>
                  <a:ext cx="647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：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7"/>
              <p:cNvSpPr/>
              <p:nvPr/>
            </p:nvSpPr>
            <p:spPr>
              <a:xfrm>
                <a:off x="446040" y="2409840"/>
                <a:ext cx="388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   2=24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405320" y="2135160"/>
              <a:ext cx="3456000" cy="1354680"/>
              <a:chOff x="4405320" y="2135160"/>
              <a:chExt cx="3456000" cy="13546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405320" y="2135160"/>
                <a:ext cx="2448000" cy="1313640"/>
                <a:chOff x="4405320" y="2135160"/>
                <a:chExt cx="2448000" cy="1313640"/>
              </a:xfrm>
            </p:grpSpPr>
            <p:sp>
              <p:nvSpPr>
                <p:cNvPr id="206" name="Line 10"/>
                <p:cNvSpPr/>
                <p:nvPr/>
              </p:nvSpPr>
              <p:spPr>
                <a:xfrm>
                  <a:off x="4692600" y="2798640"/>
                  <a:ext cx="10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4405320" y="2135160"/>
                  <a:ext cx="2448000" cy="1313640"/>
                  <a:chOff x="4405320" y="2135160"/>
                  <a:chExt cx="2448000" cy="1313640"/>
                </a:xfrm>
              </p:grpSpPr>
              <p:sp>
                <p:nvSpPr>
                  <p:cNvPr id="208" name="Text Box 12"/>
                  <p:cNvSpPr/>
                  <p:nvPr/>
                </p:nvSpPr>
                <p:spPr>
                  <a:xfrm>
                    <a:off x="4405320" y="2135160"/>
                    <a:ext cx="24480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4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（  ）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Text Box 13"/>
                  <p:cNvSpPr/>
                  <p:nvPr/>
                </p:nvSpPr>
                <p:spPr>
                  <a:xfrm>
                    <a:off x="4765680" y="2684520"/>
                    <a:ext cx="122544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15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Text Box 14"/>
              <p:cNvSpPr/>
              <p:nvPr/>
            </p:nvSpPr>
            <p:spPr>
              <a:xfrm>
                <a:off x="5845320" y="2411280"/>
                <a:ext cx="936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=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550200" y="2179440"/>
                <a:ext cx="1311120" cy="1310400"/>
                <a:chOff x="6550200" y="2179440"/>
                <a:chExt cx="1311120" cy="1310400"/>
              </a:xfrm>
            </p:grpSpPr>
            <p:sp>
              <p:nvSpPr>
                <p:cNvPr id="212" name="Text Box 16"/>
                <p:cNvSpPr/>
                <p:nvPr/>
              </p:nvSpPr>
              <p:spPr>
                <a:xfrm>
                  <a:off x="6550200" y="2179440"/>
                  <a:ext cx="107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4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17"/>
                <p:cNvSpPr/>
                <p:nvPr/>
              </p:nvSpPr>
              <p:spPr>
                <a:xfrm>
                  <a:off x="6566040" y="2725560"/>
                  <a:ext cx="12952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5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8"/>
                <p:cNvSpPr/>
                <p:nvPr/>
              </p:nvSpPr>
              <p:spPr>
                <a:xfrm>
                  <a:off x="6566040" y="282708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Text Box 19"/>
            <p:cNvSpPr/>
            <p:nvPr/>
          </p:nvSpPr>
          <p:spPr>
            <a:xfrm>
              <a:off x="446040" y="609480"/>
              <a:ext cx="784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根据比例的基本性质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,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在括号里填上合适的数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28600" y="3663720"/>
              <a:ext cx="5327640" cy="878760"/>
              <a:chOff x="228600" y="3663720"/>
              <a:chExt cx="5327640" cy="878760"/>
            </a:xfrm>
          </p:grpSpPr>
          <p:sp>
            <p:nvSpPr>
              <p:cNvPr id="217" name="Text Box 21"/>
              <p:cNvSpPr/>
              <p:nvPr/>
            </p:nvSpPr>
            <p:spPr>
              <a:xfrm>
                <a:off x="228600" y="3778200"/>
                <a:ext cx="532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.5  3=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  ）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3.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2"/>
              <p:cNvSpPr/>
              <p:nvPr/>
            </p:nvSpPr>
            <p:spPr>
              <a:xfrm>
                <a:off x="3137040" y="366372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23"/>
              <p:cNvSpPr/>
              <p:nvPr/>
            </p:nvSpPr>
            <p:spPr>
              <a:xfrm>
                <a:off x="1093680" y="367812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476600" y="3663720"/>
              <a:ext cx="4968720" cy="878760"/>
              <a:chOff x="4476600" y="3663720"/>
              <a:chExt cx="4968720" cy="878760"/>
            </a:xfrm>
          </p:grpSpPr>
          <p:sp>
            <p:nvSpPr>
              <p:cNvPr id="221" name="Text Box 25"/>
              <p:cNvSpPr/>
              <p:nvPr/>
            </p:nvSpPr>
            <p:spPr>
              <a:xfrm>
                <a:off x="4476600" y="3778200"/>
                <a:ext cx="4968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8 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   ）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=3.6   9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26"/>
              <p:cNvSpPr/>
              <p:nvPr/>
            </p:nvSpPr>
            <p:spPr>
              <a:xfrm>
                <a:off x="5167080" y="366372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27"/>
              <p:cNvSpPr/>
              <p:nvPr/>
            </p:nvSpPr>
            <p:spPr>
              <a:xfrm>
                <a:off x="8005680" y="3663720"/>
                <a:ext cx="6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Text Box 28"/>
          <p:cNvSpPr/>
          <p:nvPr/>
        </p:nvSpPr>
        <p:spPr>
          <a:xfrm>
            <a:off x="3048120" y="243828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4876920" y="2209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362320" y="38862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5638680" y="3886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80880" y="48769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.5×3.4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5.1           5.1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÷3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4668840" y="4941720"/>
            <a:ext cx="447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48×9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432   432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÷3.6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校航模小组有男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，女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美术组有男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，女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学生"/>
          <p:cNvPicPr/>
          <p:nvPr/>
        </p:nvPicPr>
        <p:blipFill>
          <a:blip r:embed="rId1"/>
          <a:stretch/>
        </p:blipFill>
        <p:spPr>
          <a:xfrm>
            <a:off x="838080" y="1295280"/>
            <a:ext cx="7274160" cy="2157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33520" y="35053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航模组男、女生人数的比和美术组男、女生人数的比能组成比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如果可以组成比例，指出比例的内项和外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505320" y="5951520"/>
            <a:ext cx="4174920" cy="908640"/>
            <a:chOff x="3505320" y="5951520"/>
            <a:chExt cx="4174920" cy="908640"/>
          </a:xfrm>
        </p:grpSpPr>
        <p:sp>
          <p:nvSpPr>
            <p:cNvPr id="234" name="Text Box 6"/>
            <p:cNvSpPr/>
            <p:nvPr/>
          </p:nvSpPr>
          <p:spPr>
            <a:xfrm>
              <a:off x="3505320" y="6095880"/>
              <a:ext cx="417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18   15=24   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4260600" y="5979960"/>
              <a:ext cx="39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6313320" y="5951520"/>
              <a:ext cx="39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9"/>
          <p:cNvSpPr/>
          <p:nvPr/>
        </p:nvSpPr>
        <p:spPr>
          <a:xfrm>
            <a:off x="609480" y="48769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4191120" y="45720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18×20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360 15×24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＝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把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按比例放大得到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按比例缩小得到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根据图中的数据组成比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059280" y="2997360"/>
            <a:ext cx="3530520" cy="2746080"/>
            <a:chOff x="3059280" y="2997360"/>
            <a:chExt cx="3530520" cy="2746080"/>
          </a:xfrm>
        </p:grpSpPr>
        <p:sp>
          <p:nvSpPr>
            <p:cNvPr id="241" name="AutoShape 4"/>
            <p:cNvSpPr/>
            <p:nvPr/>
          </p:nvSpPr>
          <p:spPr>
            <a:xfrm>
              <a:off x="3708720" y="2997360"/>
              <a:ext cx="2881080" cy="21607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"/>
            <p:cNvSpPr/>
            <p:nvPr/>
          </p:nvSpPr>
          <p:spPr>
            <a:xfrm>
              <a:off x="4138920" y="510084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1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"/>
            <p:cNvSpPr/>
            <p:nvPr/>
          </p:nvSpPr>
          <p:spPr>
            <a:xfrm rot="16200000">
              <a:off x="2480400" y="37220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 rot="2127000">
              <a:off x="4500000" y="357336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010280" y="3429000"/>
            <a:ext cx="2438280" cy="2055960"/>
            <a:chOff x="7010280" y="3429000"/>
            <a:chExt cx="2438280" cy="2055960"/>
          </a:xfrm>
        </p:grpSpPr>
        <p:sp>
          <p:nvSpPr>
            <p:cNvPr id="246" name="AutoShape 9"/>
            <p:cNvSpPr/>
            <p:nvPr/>
          </p:nvSpPr>
          <p:spPr>
            <a:xfrm>
              <a:off x="7647480" y="4173840"/>
              <a:ext cx="917640" cy="74196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7010280" y="3429000"/>
              <a:ext cx="2438280" cy="2055960"/>
              <a:chOff x="7010280" y="3429000"/>
              <a:chExt cx="2438280" cy="2055960"/>
            </a:xfrm>
          </p:grpSpPr>
          <p:sp>
            <p:nvSpPr>
              <p:cNvPr id="248" name="Text Box 11"/>
              <p:cNvSpPr/>
              <p:nvPr/>
            </p:nvSpPr>
            <p:spPr>
              <a:xfrm>
                <a:off x="7470000" y="4842360"/>
                <a:ext cx="197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2"/>
              <p:cNvSpPr/>
              <p:nvPr/>
            </p:nvSpPr>
            <p:spPr>
              <a:xfrm rot="16200000">
                <a:off x="6403680" y="4035240"/>
                <a:ext cx="185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3"/>
              <p:cNvSpPr/>
              <p:nvPr/>
            </p:nvSpPr>
            <p:spPr>
              <a:xfrm rot="2602800">
                <a:off x="7601400" y="3973680"/>
                <a:ext cx="15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6600"/>
                    </a:solidFill>
                    <a:latin typeface="Arial"/>
                  </a:rPr>
                  <a:t>5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533520" y="2971440"/>
            <a:ext cx="3067560" cy="2736720"/>
            <a:chOff x="533520" y="2971440"/>
            <a:chExt cx="3067560" cy="2736720"/>
          </a:xfrm>
        </p:grpSpPr>
        <p:sp>
          <p:nvSpPr>
            <p:cNvPr id="252" name="AutoShape 15"/>
            <p:cNvSpPr/>
            <p:nvPr/>
          </p:nvSpPr>
          <p:spPr>
            <a:xfrm>
              <a:off x="1185480" y="3625920"/>
              <a:ext cx="1871280" cy="15127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6"/>
            <p:cNvSpPr/>
            <p:nvPr/>
          </p:nvSpPr>
          <p:spPr>
            <a:xfrm rot="2557200">
              <a:off x="1348560" y="3927240"/>
              <a:ext cx="234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7"/>
            <p:cNvSpPr/>
            <p:nvPr/>
          </p:nvSpPr>
          <p:spPr>
            <a:xfrm>
              <a:off x="1185480" y="5065560"/>
              <a:ext cx="22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8"/>
            <p:cNvSpPr/>
            <p:nvPr/>
          </p:nvSpPr>
          <p:spPr>
            <a:xfrm rot="16200000">
              <a:off x="-189360" y="36946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33200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3995640" y="40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7524720" y="4365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914400" y="2819520"/>
            <a:ext cx="7524720" cy="1886760"/>
            <a:chOff x="914400" y="2819520"/>
            <a:chExt cx="7524720" cy="1886760"/>
          </a:xfrm>
        </p:grpSpPr>
        <p:sp>
          <p:nvSpPr>
            <p:cNvPr id="260" name="Text Box 3"/>
            <p:cNvSpPr/>
            <p:nvPr/>
          </p:nvSpPr>
          <p:spPr>
            <a:xfrm>
              <a:off x="914400" y="2922480"/>
              <a:ext cx="75247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8  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6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12  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9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       8    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6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4   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8  </a:t>
              </a:r>
              <a:r>
                <a:rPr b="1" lang="en-US" sz="44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10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12  </a:t>
              </a:r>
              <a:r>
                <a:rPr b="1" lang="en-US" sz="44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15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  12  </a:t>
              </a:r>
              <a:r>
                <a:rPr b="1" lang="en-US" sz="44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15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 </a:t>
              </a:r>
              <a:r>
                <a:rPr b="1" lang="en-US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4  </a:t>
              </a:r>
              <a:r>
                <a:rPr b="1" lang="en-US" sz="4400" spc="-1" strike="noStrike">
                  <a:solidFill>
                    <a:srgbClr val="006600"/>
                  </a:solidFill>
                  <a:latin typeface="Arial"/>
                  <a:ea typeface="楷体_GB2312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1274760" y="2839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1325520" y="38271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2859120" y="28285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5343480" y="28195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>
              <a:off x="7288200" y="28195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5487840" y="3827160"/>
              <a:ext cx="6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7404120" y="38271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3327480" y="38271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52280" y="151920"/>
            <a:ext cx="3068280" cy="2736720"/>
            <a:chOff x="152280" y="151920"/>
            <a:chExt cx="3068280" cy="2736720"/>
          </a:xfrm>
        </p:grpSpPr>
        <p:sp>
          <p:nvSpPr>
            <p:cNvPr id="270" name="AutoShape 13"/>
            <p:cNvSpPr/>
            <p:nvPr/>
          </p:nvSpPr>
          <p:spPr>
            <a:xfrm>
              <a:off x="804600" y="806400"/>
              <a:ext cx="1871640" cy="15127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 rot="2557200">
              <a:off x="967680" y="1107720"/>
              <a:ext cx="234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5"/>
            <p:cNvSpPr/>
            <p:nvPr/>
          </p:nvSpPr>
          <p:spPr>
            <a:xfrm>
              <a:off x="804600" y="22460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 rot="16200000">
              <a:off x="-570600" y="87516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895480" y="152280"/>
            <a:ext cx="3530520" cy="2746080"/>
            <a:chOff x="2895480" y="152280"/>
            <a:chExt cx="3530520" cy="2746080"/>
          </a:xfrm>
        </p:grpSpPr>
        <p:sp>
          <p:nvSpPr>
            <p:cNvPr id="275" name="AutoShape 18"/>
            <p:cNvSpPr/>
            <p:nvPr/>
          </p:nvSpPr>
          <p:spPr>
            <a:xfrm>
              <a:off x="3544920" y="152280"/>
              <a:ext cx="2881080" cy="21607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9"/>
            <p:cNvSpPr/>
            <p:nvPr/>
          </p:nvSpPr>
          <p:spPr>
            <a:xfrm>
              <a:off x="3975120" y="225576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1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0"/>
            <p:cNvSpPr/>
            <p:nvPr/>
          </p:nvSpPr>
          <p:spPr>
            <a:xfrm rot="16200000">
              <a:off x="2316600" y="8769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1"/>
            <p:cNvSpPr/>
            <p:nvPr/>
          </p:nvSpPr>
          <p:spPr>
            <a:xfrm rot="2127000">
              <a:off x="4336200" y="72828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858000" y="533160"/>
            <a:ext cx="2484360" cy="2010960"/>
            <a:chOff x="6858000" y="533160"/>
            <a:chExt cx="2484360" cy="2010960"/>
          </a:xfrm>
        </p:grpSpPr>
        <p:sp>
          <p:nvSpPr>
            <p:cNvPr id="280" name="AutoShape 23"/>
            <p:cNvSpPr/>
            <p:nvPr/>
          </p:nvSpPr>
          <p:spPr>
            <a:xfrm>
              <a:off x="7507440" y="1253880"/>
              <a:ext cx="934920" cy="718920"/>
            </a:xfrm>
            <a:prstGeom prst="rtTriangl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858000" y="533160"/>
              <a:ext cx="2484360" cy="2010960"/>
              <a:chOff x="6858000" y="533160"/>
              <a:chExt cx="2484360" cy="2010960"/>
            </a:xfrm>
          </p:grpSpPr>
          <p:sp>
            <p:nvSpPr>
              <p:cNvPr id="282" name="Text Box 25"/>
              <p:cNvSpPr/>
              <p:nvPr/>
            </p:nvSpPr>
            <p:spPr>
              <a:xfrm>
                <a:off x="7326360" y="1901520"/>
                <a:ext cx="201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26"/>
              <p:cNvSpPr/>
              <p:nvPr/>
            </p:nvSpPr>
            <p:spPr>
              <a:xfrm rot="16200000">
                <a:off x="6280200" y="1110960"/>
                <a:ext cx="179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7"/>
              <p:cNvSpPr/>
              <p:nvPr/>
            </p:nvSpPr>
            <p:spPr>
              <a:xfrm rot="2602800">
                <a:off x="7453800" y="1056600"/>
                <a:ext cx="158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00"/>
                    </a:solidFill>
                    <a:latin typeface="Arial"/>
                  </a:rPr>
                  <a:t>5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厘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Text Box 28"/>
          <p:cNvSpPr/>
          <p:nvPr/>
        </p:nvSpPr>
        <p:spPr>
          <a:xfrm>
            <a:off x="762120" y="4572000"/>
            <a:ext cx="792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0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15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0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5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5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971640" y="148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99564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7380360" y="141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8000" y="54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学课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的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并完成例题和试一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49228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什么叫解比例？举例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解比例的依据是什么？举例说                        明你是怎么解比例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042920" y="5661000"/>
            <a:ext cx="7489800" cy="880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295280" cy="1012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2411280" y="2421000"/>
            <a:ext cx="4248360" cy="2844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95280" y="47628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李明在电脑上把下面的照片按比例放大，放大后照片的长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3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厘米，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多少厘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052640"/>
            <a:ext cx="151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170028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5084640"/>
            <a:ext cx="158436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1052640"/>
            <a:ext cx="19429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11280" y="5013360"/>
            <a:ext cx="4275000" cy="703440"/>
            <a:chOff x="2411280" y="5013360"/>
            <a:chExt cx="4275000" cy="703440"/>
          </a:xfrm>
        </p:grpSpPr>
        <p:sp>
          <p:nvSpPr>
            <p:cNvPr id="299" name=""/>
            <p:cNvSpPr/>
            <p:nvPr/>
          </p:nvSpPr>
          <p:spPr>
            <a:xfrm flipH="1">
              <a:off x="2460240" y="5345280"/>
              <a:ext cx="139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46720" y="5345280"/>
              <a:ext cx="128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00240" y="5013360"/>
              <a:ext cx="149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11280" y="508464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86280" y="5091120"/>
              <a:ext cx="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516720" y="2421000"/>
            <a:ext cx="703440" cy="2813040"/>
            <a:chOff x="6516720" y="2421000"/>
            <a:chExt cx="703440" cy="2813040"/>
          </a:xfrm>
        </p:grpSpPr>
        <p:sp>
          <p:nvSpPr>
            <p:cNvPr id="305" name=""/>
            <p:cNvSpPr/>
            <p:nvPr/>
          </p:nvSpPr>
          <p:spPr>
            <a:xfrm flipV="1">
              <a:off x="6850080" y="24476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5861160" y="3198240"/>
              <a:ext cx="201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0080" y="4541760"/>
              <a:ext cx="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61080" y="523404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61080" y="242100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516720" y="3500280"/>
            <a:ext cx="57636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812000" y="1125360"/>
            <a:ext cx="57636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40720" y="1700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黑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50920" y="5445000"/>
            <a:ext cx="8348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476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l-GR" sz="36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3.5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l-GR" sz="36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如何检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放大后照片的宽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9079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设放大后照片的宽是</a:t>
            </a:r>
            <a:r>
              <a:rPr b="1" lang="el-GR" sz="36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2924280"/>
            <a:ext cx="266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39640" y="1628640"/>
            <a:ext cx="3743280" cy="806760"/>
            <a:chOff x="539640" y="1628640"/>
            <a:chExt cx="3743280" cy="806760"/>
          </a:xfrm>
        </p:grpSpPr>
        <p:sp>
          <p:nvSpPr>
            <p:cNvPr id="318" name=""/>
            <p:cNvSpPr/>
            <p:nvPr/>
          </p:nvSpPr>
          <p:spPr>
            <a:xfrm>
              <a:off x="539640" y="1731960"/>
              <a:ext cx="374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13.5  6=</a:t>
              </a:r>
              <a:r>
                <a:rPr b="1" lang="el-GR" sz="4000" spc="-1" strike="noStrike">
                  <a:solidFill>
                    <a:srgbClr val="000000"/>
                  </a:solidFill>
                  <a:latin typeface="宋体"/>
                </a:rPr>
                <a:t>χ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06600" y="16286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79480" y="164916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32000" y="189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解 比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1413000"/>
            <a:ext cx="4572000" cy="1512720"/>
          </a:xfrm>
          <a:prstGeom prst="cloudCallout">
            <a:avLst>
              <a:gd name="adj1" fmla="val -54759"/>
              <a:gd name="adj2" fmla="val 46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一步计算的依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86421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136600" y="549360"/>
            <a:ext cx="5076360" cy="1397160"/>
            <a:chOff x="2136600" y="549360"/>
            <a:chExt cx="5076360" cy="1397160"/>
          </a:xfrm>
        </p:grpSpPr>
        <p:grpSp>
          <p:nvGrpSpPr>
            <p:cNvPr id="325" name=""/>
            <p:cNvGrpSpPr/>
            <p:nvPr/>
          </p:nvGrpSpPr>
          <p:grpSpPr>
            <a:xfrm>
              <a:off x="4866120" y="584280"/>
              <a:ext cx="2346840" cy="1362240"/>
              <a:chOff x="4866120" y="584280"/>
              <a:chExt cx="2346840" cy="1362240"/>
            </a:xfrm>
          </p:grpSpPr>
          <p:sp>
            <p:nvSpPr>
              <p:cNvPr id="326" name=""/>
              <p:cNvSpPr/>
              <p:nvPr/>
            </p:nvSpPr>
            <p:spPr>
              <a:xfrm>
                <a:off x="5012640" y="584280"/>
                <a:ext cx="122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66120" y="1243080"/>
                <a:ext cx="234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82680" y="1254240"/>
                <a:ext cx="76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136600" y="549360"/>
              <a:ext cx="3601080" cy="1395720"/>
              <a:chOff x="2136600" y="549360"/>
              <a:chExt cx="3601080" cy="13957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3107520" y="582840"/>
                <a:ext cx="2117160" cy="1362240"/>
                <a:chOff x="3107520" y="582840"/>
                <a:chExt cx="2117160" cy="13622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237480" y="582840"/>
                  <a:ext cx="1221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237480" y="1241640"/>
                  <a:ext cx="1987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107520" y="1252800"/>
                  <a:ext cx="76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136600" y="549360"/>
                <a:ext cx="2117160" cy="1339920"/>
                <a:chOff x="2136600" y="549360"/>
                <a:chExt cx="2117160" cy="1339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266560" y="549360"/>
                  <a:ext cx="1221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266560" y="1185840"/>
                  <a:ext cx="1987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136600" y="1219320"/>
                  <a:ext cx="76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824200" y="744480"/>
                <a:ext cx="1224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73240" y="855720"/>
                <a:ext cx="1628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l-GR" sz="4000" spc="-1" strike="noStrike">
                    <a:solidFill>
                      <a:srgbClr val="000000"/>
                    </a:solidFill>
                    <a:latin typeface="宋体"/>
                  </a:rPr>
                  <a:t>χ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14040" y="798480"/>
                <a:ext cx="1223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2627280" y="1722600"/>
            <a:ext cx="5328000" cy="1347840"/>
            <a:chOff x="2627280" y="1722600"/>
            <a:chExt cx="5328000" cy="1347840"/>
          </a:xfrm>
        </p:grpSpPr>
        <p:grpSp>
          <p:nvGrpSpPr>
            <p:cNvPr id="342" name=""/>
            <p:cNvGrpSpPr/>
            <p:nvPr/>
          </p:nvGrpSpPr>
          <p:grpSpPr>
            <a:xfrm>
              <a:off x="2627280" y="1730520"/>
              <a:ext cx="2330280" cy="1339920"/>
              <a:chOff x="2627280" y="1730520"/>
              <a:chExt cx="2330280" cy="1339920"/>
            </a:xfrm>
          </p:grpSpPr>
          <p:sp>
            <p:nvSpPr>
              <p:cNvPr id="343" name=""/>
              <p:cNvSpPr/>
              <p:nvPr/>
            </p:nvSpPr>
            <p:spPr>
              <a:xfrm>
                <a:off x="2770200" y="1730520"/>
                <a:ext cx="1344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70200" y="2367000"/>
                <a:ext cx="2187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27280" y="2400480"/>
                <a:ext cx="84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402720" y="2028960"/>
              <a:ext cx="1076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宋体"/>
                </a:rPr>
                <a:t>χ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278600" y="1722600"/>
              <a:ext cx="3676680" cy="1346400"/>
              <a:chOff x="4278600" y="1722600"/>
              <a:chExt cx="3676680" cy="13464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278600" y="1722600"/>
                <a:ext cx="2329920" cy="1339920"/>
                <a:chOff x="4278600" y="1722600"/>
                <a:chExt cx="2329920" cy="1339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421520" y="1722600"/>
                  <a:ext cx="1344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421520" y="2359080"/>
                  <a:ext cx="2187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278600" y="2392560"/>
                  <a:ext cx="84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625360" y="1729080"/>
                <a:ext cx="2329920" cy="1339920"/>
                <a:chOff x="5625360" y="1729080"/>
                <a:chExt cx="2329920" cy="133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820120" y="1729080"/>
                  <a:ext cx="1344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25360" y="2365560"/>
                  <a:ext cx="2329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76840" y="2399040"/>
                  <a:ext cx="84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5009400" y="2032200"/>
                <a:ext cx="842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419640" y="2924280"/>
            <a:ext cx="4374000" cy="1339920"/>
            <a:chOff x="3419640" y="2924280"/>
            <a:chExt cx="4374000" cy="1339920"/>
          </a:xfrm>
        </p:grpSpPr>
        <p:grpSp>
          <p:nvGrpSpPr>
            <p:cNvPr id="358" name=""/>
            <p:cNvGrpSpPr/>
            <p:nvPr/>
          </p:nvGrpSpPr>
          <p:grpSpPr>
            <a:xfrm>
              <a:off x="4291200" y="2924280"/>
              <a:ext cx="2101320" cy="1339920"/>
              <a:chOff x="4291200" y="2924280"/>
              <a:chExt cx="2101320" cy="1339920"/>
            </a:xfrm>
          </p:grpSpPr>
          <p:sp>
            <p:nvSpPr>
              <p:cNvPr id="359" name=""/>
              <p:cNvSpPr/>
              <p:nvPr/>
            </p:nvSpPr>
            <p:spPr>
              <a:xfrm>
                <a:off x="4428360" y="2924280"/>
                <a:ext cx="1292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91200" y="3560760"/>
                <a:ext cx="2101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291200" y="3594240"/>
                <a:ext cx="80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3419640" y="2924280"/>
              <a:ext cx="4374000" cy="1339920"/>
              <a:chOff x="3419640" y="2924280"/>
              <a:chExt cx="4374000" cy="1339920"/>
            </a:xfrm>
          </p:grpSpPr>
          <p:sp>
            <p:nvSpPr>
              <p:cNvPr id="363" name=""/>
              <p:cNvSpPr/>
              <p:nvPr/>
            </p:nvSpPr>
            <p:spPr>
              <a:xfrm>
                <a:off x="3419640" y="3200400"/>
                <a:ext cx="1033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4000" spc="-1" strike="noStrike">
                    <a:solidFill>
                      <a:srgbClr val="000000"/>
                    </a:solidFill>
                    <a:latin typeface="宋体"/>
                  </a:rPr>
                  <a:t>χ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5555160" y="2924280"/>
                <a:ext cx="2238480" cy="1339920"/>
                <a:chOff x="5555160" y="2924280"/>
                <a:chExt cx="2238480" cy="1339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677920" y="2924280"/>
                  <a:ext cx="1530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55160" y="3560760"/>
                  <a:ext cx="2238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604840" y="3594240"/>
                  <a:ext cx="808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963320" y="3203640"/>
                <a:ext cx="80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÷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3419640" y="3933720"/>
            <a:ext cx="3781080" cy="1339920"/>
            <a:chOff x="3419640" y="3933720"/>
            <a:chExt cx="3781080" cy="1339920"/>
          </a:xfrm>
        </p:grpSpPr>
        <p:sp>
          <p:nvSpPr>
            <p:cNvPr id="370" name=""/>
            <p:cNvSpPr/>
            <p:nvPr/>
          </p:nvSpPr>
          <p:spPr>
            <a:xfrm>
              <a:off x="4786560" y="4336920"/>
              <a:ext cx="100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419640" y="3933720"/>
              <a:ext cx="3781080" cy="1339920"/>
              <a:chOff x="3419640" y="3933720"/>
              <a:chExt cx="3781080" cy="13399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4305240" y="3933720"/>
                <a:ext cx="2135520" cy="1339920"/>
                <a:chOff x="4305240" y="3933720"/>
                <a:chExt cx="2135520" cy="13399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444560" y="3933720"/>
                  <a:ext cx="1313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305240" y="4570200"/>
                  <a:ext cx="2135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305240" y="4603680"/>
                  <a:ext cx="822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3419640" y="4209840"/>
                <a:ext cx="105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4000" spc="-1" strike="noStrike">
                    <a:solidFill>
                      <a:srgbClr val="000000"/>
                    </a:solidFill>
                    <a:latin typeface="宋体"/>
                  </a:rPr>
                  <a:t>χ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20400" y="4263840"/>
                <a:ext cx="1480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3419640" y="5084640"/>
            <a:ext cx="3301200" cy="1339920"/>
            <a:chOff x="3419640" y="5084640"/>
            <a:chExt cx="3301200" cy="1339920"/>
          </a:xfrm>
        </p:grpSpPr>
        <p:sp>
          <p:nvSpPr>
            <p:cNvPr id="379" name=""/>
            <p:cNvSpPr/>
            <p:nvPr/>
          </p:nvSpPr>
          <p:spPr>
            <a:xfrm>
              <a:off x="3419640" y="5384520"/>
              <a:ext cx="10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宋体"/>
                </a:rPr>
                <a:t>χ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365360" y="5084640"/>
              <a:ext cx="2355480" cy="1339920"/>
              <a:chOff x="4365360" y="5084640"/>
              <a:chExt cx="2355480" cy="1339920"/>
            </a:xfrm>
          </p:grpSpPr>
          <p:sp>
            <p:nvSpPr>
              <p:cNvPr id="381" name=""/>
              <p:cNvSpPr/>
              <p:nvPr/>
            </p:nvSpPr>
            <p:spPr>
              <a:xfrm>
                <a:off x="4561920" y="5084640"/>
                <a:ext cx="1359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65360" y="5721120"/>
                <a:ext cx="235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17560" y="5754600"/>
                <a:ext cx="85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1692360" y="18954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2484360" y="907920"/>
            <a:ext cx="3240000" cy="1293840"/>
            <a:chOff x="2484360" y="907920"/>
            <a:chExt cx="3240000" cy="1293840"/>
          </a:xfrm>
        </p:grpSpPr>
        <p:sp>
          <p:nvSpPr>
            <p:cNvPr id="386" name=""/>
            <p:cNvSpPr/>
            <p:nvPr/>
          </p:nvSpPr>
          <p:spPr>
            <a:xfrm>
              <a:off x="3616200" y="12222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484360" y="907920"/>
              <a:ext cx="1800360" cy="1293840"/>
              <a:chOff x="2484360" y="907920"/>
              <a:chExt cx="1800360" cy="1293840"/>
            </a:xfrm>
          </p:grpSpPr>
          <p:sp>
            <p:nvSpPr>
              <p:cNvPr id="388" name=""/>
              <p:cNvSpPr/>
              <p:nvPr/>
            </p:nvSpPr>
            <p:spPr>
              <a:xfrm>
                <a:off x="2484360" y="907920"/>
                <a:ext cx="180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514600" y="149832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0.0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87680" y="155556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068720" y="927000"/>
              <a:ext cx="1655640" cy="1270080"/>
              <a:chOff x="4068720" y="927000"/>
              <a:chExt cx="1655640" cy="1270080"/>
            </a:xfrm>
          </p:grpSpPr>
          <p:sp>
            <p:nvSpPr>
              <p:cNvPr id="392" name=""/>
              <p:cNvSpPr/>
              <p:nvPr/>
            </p:nvSpPr>
            <p:spPr>
              <a:xfrm>
                <a:off x="4192560" y="1555560"/>
                <a:ext cx="79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68720" y="92700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87680" y="1493640"/>
                <a:ext cx="71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4000" spc="-1" strike="noStrike">
                    <a:solidFill>
                      <a:srgbClr val="000000"/>
                    </a:solidFill>
                    <a:latin typeface="宋体"/>
                  </a:rPr>
                  <a:t>χ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179280" y="3429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2133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410920" y="2276640"/>
            <a:ext cx="5185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el-GR" sz="40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100×0.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el-GR" sz="40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40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1÷0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40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46240" cy="1755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533680" cy="14475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38163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=75×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=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=30÷1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=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95640" y="1413000"/>
            <a:ext cx="1800000" cy="1293480"/>
            <a:chOff x="2195640" y="1413000"/>
            <a:chExt cx="1800000" cy="1293480"/>
          </a:xfrm>
        </p:grpSpPr>
        <p:sp>
          <p:nvSpPr>
            <p:cNvPr id="47" name=""/>
            <p:cNvSpPr/>
            <p:nvPr/>
          </p:nvSpPr>
          <p:spPr>
            <a:xfrm>
              <a:off x="2195640" y="1413000"/>
              <a:ext cx="18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38200" y="2003040"/>
              <a:ext cx="79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7440" y="2060280"/>
              <a:ext cx="72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780000" y="1413000"/>
            <a:ext cx="1008000" cy="1247760"/>
            <a:chOff x="3780000" y="1413000"/>
            <a:chExt cx="1008000" cy="1247760"/>
          </a:xfrm>
        </p:grpSpPr>
        <p:sp>
          <p:nvSpPr>
            <p:cNvPr id="51" name=""/>
            <p:cNvSpPr/>
            <p:nvPr/>
          </p:nvSpPr>
          <p:spPr>
            <a:xfrm>
              <a:off x="3853080" y="20602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780000" y="1413000"/>
              <a:ext cx="1008000" cy="1247760"/>
              <a:chOff x="3780000" y="1413000"/>
              <a:chExt cx="1008000" cy="1247760"/>
            </a:xfrm>
          </p:grpSpPr>
          <p:sp>
            <p:nvSpPr>
              <p:cNvPr id="53" name=""/>
              <p:cNvSpPr/>
              <p:nvPr/>
            </p:nvSpPr>
            <p:spPr>
              <a:xfrm>
                <a:off x="3780000" y="1413000"/>
                <a:ext cx="1008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016520" y="1957320"/>
                <a:ext cx="71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4000" spc="-1" strike="noStrike">
                    <a:solidFill>
                      <a:srgbClr val="000000"/>
                    </a:solidFill>
                    <a:latin typeface="宋体"/>
                  </a:rPr>
                  <a:t>χ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 txBox="1"/>
          <p:nvPr/>
        </p:nvSpPr>
        <p:spPr>
          <a:xfrm>
            <a:off x="971640" y="333360"/>
            <a:ext cx="24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试一试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3284640"/>
            <a:ext cx="331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1197000"/>
            <a:ext cx="4572000" cy="1512720"/>
          </a:xfrm>
          <a:prstGeom prst="cloudCallout">
            <a:avLst>
              <a:gd name="adj1" fmla="val -42222"/>
              <a:gd name="adj2" fmla="val 83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比例的基本性质，交叉相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44370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54400" y="4805280"/>
            <a:ext cx="1871640" cy="1338120"/>
            <a:chOff x="3254400" y="4805280"/>
            <a:chExt cx="1871640" cy="1338120"/>
          </a:xfrm>
        </p:grpSpPr>
        <p:sp>
          <p:nvSpPr>
            <p:cNvPr id="61" name=""/>
            <p:cNvSpPr/>
            <p:nvPr/>
          </p:nvSpPr>
          <p:spPr>
            <a:xfrm>
              <a:off x="3254400" y="4805280"/>
              <a:ext cx="1150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54400" y="5441760"/>
              <a:ext cx="18716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771640" cy="92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266364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2781360"/>
            <a:ext cx="4140360" cy="151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79280" y="4365720"/>
            <a:ext cx="3384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69228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左边的长方形按比例放大后得到右边的长方形，求未知数</a:t>
            </a:r>
            <a:r>
              <a:rPr b="1" lang="el-GR" sz="40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042920" y="3191040"/>
            <a:ext cx="2450160" cy="1886040"/>
            <a:chOff x="1042920" y="3191040"/>
            <a:chExt cx="2450160" cy="1886040"/>
          </a:xfrm>
        </p:grpSpPr>
        <p:sp>
          <p:nvSpPr>
            <p:cNvPr id="69" name=""/>
            <p:cNvSpPr/>
            <p:nvPr/>
          </p:nvSpPr>
          <p:spPr>
            <a:xfrm>
              <a:off x="1042920" y="3500640"/>
              <a:ext cx="1807200" cy="9460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77800" y="4373640"/>
              <a:ext cx="940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2529360" y="34513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780000" y="2924280"/>
            <a:ext cx="4664160" cy="2648160"/>
            <a:chOff x="3780000" y="2924280"/>
            <a:chExt cx="4664160" cy="2648160"/>
          </a:xfrm>
        </p:grpSpPr>
        <p:sp>
          <p:nvSpPr>
            <p:cNvPr id="73" name=""/>
            <p:cNvSpPr/>
            <p:nvPr/>
          </p:nvSpPr>
          <p:spPr>
            <a:xfrm>
              <a:off x="3780000" y="2924280"/>
              <a:ext cx="4105440" cy="1944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67680" y="4869000"/>
              <a:ext cx="208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7732080" y="335196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宋体"/>
                </a:rPr>
                <a:t>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39640" y="182412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左边的三角形按比例缩小后得到右边的三角形，求未知数</a:t>
            </a:r>
            <a:r>
              <a:rPr b="1" lang="el-GR" sz="40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cc00ff"/>
                </a:solidFill>
                <a:latin typeface="宋体"/>
              </a:rPr>
              <a:t>（单位：</a:t>
            </a:r>
            <a:r>
              <a:rPr b="1" lang="zh-CN" sz="4000" spc="-1" strike="noStrike">
                <a:solidFill>
                  <a:srgbClr val="cc00ff"/>
                </a:solidFill>
                <a:latin typeface="宋体"/>
              </a:rPr>
              <a:t>cm</a:t>
            </a:r>
            <a:r>
              <a:rPr b="1" lang="zh-CN" sz="4000" spc="-1" strike="noStrike">
                <a:solidFill>
                  <a:srgbClr val="cc00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586400" cy="3760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30927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丽调制了两杯蜂蜜水，第一杯用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蜂蜜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水；第二杯用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蜂蜜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7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分别写出每杯蜂蜜水中蜂蜜和  水体积的比，看它们能否组成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013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照第一杯蜂蜜水中蜂蜜和水的比算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毫升水中应加入蜂蜜多少毫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5589720"/>
            <a:ext cx="684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8920" y="198864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一个比例中，两个外项的积正好互为倒 数。已知一个内项是      ，另一个内项是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16000" y="3213000"/>
            <a:ext cx="865080" cy="1167120"/>
            <a:chOff x="1116000" y="3213000"/>
            <a:chExt cx="865080" cy="1167120"/>
          </a:xfrm>
        </p:grpSpPr>
        <p:sp>
          <p:nvSpPr>
            <p:cNvPr id="86" name=""/>
            <p:cNvSpPr/>
            <p:nvPr/>
          </p:nvSpPr>
          <p:spPr>
            <a:xfrm>
              <a:off x="1116000" y="3213000"/>
              <a:ext cx="86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0600" y="367668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70080" y="380052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1258920" y="692280"/>
            <a:ext cx="259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思考题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637000"/>
            <a:ext cx="2665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357720"/>
            <a:ext cx="396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62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毫升水中应加入蜂蜜</a:t>
            </a:r>
            <a:r>
              <a:rPr b="1" lang="el-GR" sz="36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50920" y="2349360"/>
            <a:ext cx="4968720" cy="806760"/>
            <a:chOff x="2050920" y="2349360"/>
            <a:chExt cx="4968720" cy="806760"/>
          </a:xfrm>
        </p:grpSpPr>
        <p:sp>
          <p:nvSpPr>
            <p:cNvPr id="94" name=""/>
            <p:cNvSpPr/>
            <p:nvPr/>
          </p:nvSpPr>
          <p:spPr>
            <a:xfrm>
              <a:off x="2050920" y="2452680"/>
              <a:ext cx="496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25    200=</a:t>
              </a:r>
              <a:r>
                <a:rPr b="1" lang="el-GR" sz="4000" spc="-1" strike="noStrike">
                  <a:solidFill>
                    <a:srgbClr val="000000"/>
                  </a:solidFill>
                  <a:latin typeface="宋体"/>
                </a:rPr>
                <a:t>χ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3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018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7760" y="238104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516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毫升水中应加入蜂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毫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50160" y="549360"/>
            <a:ext cx="2015640" cy="801360"/>
            <a:chOff x="1550160" y="549360"/>
            <a:chExt cx="2015640" cy="801360"/>
          </a:xfrm>
        </p:grpSpPr>
        <p:sp>
          <p:nvSpPr>
            <p:cNvPr id="99" name=""/>
            <p:cNvSpPr/>
            <p:nvPr/>
          </p:nvSpPr>
          <p:spPr>
            <a:xfrm>
              <a:off x="1550160" y="64728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25  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245320" y="54936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995640" y="62064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蜂蜜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Arial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627280" y="314136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300×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7500÷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37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3:48:35Z</dcterms:created>
  <dc:creator> </dc:creator>
  <dc:description/>
  <dc:language>en-US</dc:language>
  <cp:lastModifiedBy>微软用户</cp:lastModifiedBy>
  <dcterms:modified xsi:type="dcterms:W3CDTF">2014-04-02T08:45:18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