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38A-6106-4F79-8577-41C588FD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710-D88F-4D92-AD41-01D403DC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4C8-3666-40F1-95FE-73F79C72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BE0-EBC6-4CE7-81EF-E6E10DF8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92BD-B210-4890-A16B-8AFA36F6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7289-4968-498A-956E-4005816E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51C-F5E4-47F6-97E4-677DA872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8372-0D20-4AEE-97C4-89BCF1A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7C28-4E33-4B4B-87EF-52E5FFC8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D5E4-DA64-46E2-A252-F166F20F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00E0-E500-4EA1-A4DE-15CBBB8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144-46E5-4B9B-85A8-875DA54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2B2B-7641-47B3-BAC1-FF8A0DD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869-87D7-44EF-B7A1-C970688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98B8-6B03-48B3-A8CC-64A7715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6CE9-3CD8-4817-B2E9-E3FDFA04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4C4-1E07-4C09-B45A-787C71C4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610B-AC95-41EE-833F-2397FAE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F087-93F2-40E4-91E4-4E97A68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2AC3-807D-40BA-AE43-22E55D9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343A-7C84-42D4-9F31-C945A37D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3930-F1E0-4E1D-9BF4-442E2BE3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CDA-1648-424F-8863-F4972434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63F1-1A4D-4FC4-95E5-D333BC7A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219F-554F-43C6-89A9-3496860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2D48-5B07-4049-A485-DA7E95F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670F-7024-4B66-BC32-31C9D64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B529-ABDC-494F-BBC2-F54FA05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562E-B322-4848-A366-4D537CE7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3043-2FD7-40D5-A2E3-58A6D523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A31-F118-40FD-B501-DC3D5973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802-8429-471F-917B-1FCD5FEF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C21-3B72-4CDC-B5DD-AD9DD9EB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933-8B37-4C1D-8E03-6D2A8F5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BAE-A721-4FE0-9E16-DF8BD0C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4B4-1225-4294-9E30-8AE4304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26E3-0652-449F-9D45-57F7F2FF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29F-F34B-4039-B79A-3F00763E7832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28CD-293B-4955-9EE6-085D24F3718C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2276640"/>
            <a:ext cx="73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空间与图形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图形的认识与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3414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85400">
            <a:off x="4325760" y="2759400"/>
            <a:ext cx="590400" cy="5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5440" y="2637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32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840000">
            <a:off x="4178160" y="280764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rot="11757600">
            <a:off x="4020120" y="260028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 rot="1685400">
            <a:off x="4121280" y="3066480"/>
            <a:ext cx="508320" cy="4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63640" y="3284640"/>
            <a:ext cx="475308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1341360"/>
            <a:ext cx="0" cy="4319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836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140360" y="2997360"/>
            <a:ext cx="287280" cy="287280"/>
            <a:chOff x="4140360" y="2997360"/>
            <a:chExt cx="287280" cy="287280"/>
          </a:xfrm>
        </p:grpSpPr>
        <p:sp>
          <p:nvSpPr>
            <p:cNvPr id="259" name=""/>
            <p:cNvSpPr/>
            <p:nvPr/>
          </p:nvSpPr>
          <p:spPr>
            <a:xfrm>
              <a:off x="4140360" y="299736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27640" y="2997360"/>
              <a:ext cx="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851280" y="2997360"/>
            <a:ext cx="287280" cy="287280"/>
            <a:chOff x="3851280" y="2997360"/>
            <a:chExt cx="287280" cy="287280"/>
          </a:xfrm>
        </p:grpSpPr>
        <p:sp>
          <p:nvSpPr>
            <p:cNvPr id="262" name=""/>
            <p:cNvSpPr/>
            <p:nvPr/>
          </p:nvSpPr>
          <p:spPr>
            <a:xfrm>
              <a:off x="3851280" y="299736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1280" y="2997360"/>
              <a:ext cx="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500720" y="263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763640" y="3284640"/>
            <a:ext cx="475308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1341360"/>
            <a:ext cx="0" cy="4319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836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6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601200">
            <a:off x="3700800" y="3067920"/>
            <a:ext cx="1015200" cy="11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7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718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6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763640" y="3284640"/>
            <a:ext cx="475308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1341360"/>
            <a:ext cx="0" cy="4319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836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11640" y="26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070080"/>
            <a:ext cx="43164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356000" y="3284640"/>
            <a:ext cx="237672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6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1080" y="3500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2920" y="3184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56000" y="2923920"/>
            <a:ext cx="230364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56000" y="1557360"/>
            <a:ext cx="0" cy="172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59640" y="2133720"/>
            <a:ext cx="1225440" cy="9349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3141720"/>
            <a:ext cx="1440" cy="142920"/>
          </a:xfrm>
          <a:custGeom>
            <a:avLst/>
            <a:gdLst/>
            <a:ahLst/>
            <a:rect l="l" t="t" r="r" b="b"/>
            <a:pathLst>
              <a:path w="1" h="90">
                <a:moveTo>
                  <a:pt x="0" y="0"/>
                </a:moveTo>
                <a:cubicBezTo>
                  <a:pt x="0" y="37"/>
                  <a:pt x="0" y="75"/>
                  <a:pt x="0" y="9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2997360"/>
            <a:ext cx="216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2997360"/>
            <a:ext cx="0" cy="288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1557360"/>
            <a:ext cx="1225800" cy="934920"/>
          </a:xfrm>
          <a:prstGeom prst="wedgeEllipseCallout">
            <a:avLst>
              <a:gd name="adj1" fmla="val -80828"/>
              <a:gd name="adj2" fmla="val 94481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843280" y="1699920"/>
            <a:ext cx="151272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16360" y="907920"/>
            <a:ext cx="1225440" cy="935280"/>
          </a:xfrm>
          <a:prstGeom prst="wedgeEllipseCallout">
            <a:avLst>
              <a:gd name="adj1" fmla="val 34453"/>
              <a:gd name="adj2" fmla="val 117064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95400" y="411012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角的大小和两边之间张开的大小有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边的长短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5928" t="75592" r="11584" b="8396"/>
          <a:stretch/>
        </p:blipFill>
        <p:spPr>
          <a:xfrm>
            <a:off x="250920" y="1916280"/>
            <a:ext cx="8497800" cy="2593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564000" y="3141720"/>
            <a:ext cx="0" cy="57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64000" y="371628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4000" y="3573360"/>
            <a:ext cx="216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3573360"/>
            <a:ext cx="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76480" y="255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300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0" y="3933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3284640"/>
            <a:ext cx="287280" cy="57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859280" y="386064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3673440"/>
            <a:ext cx="241200" cy="185760"/>
          </a:xfrm>
          <a:custGeom>
            <a:avLst/>
            <a:gdLst/>
            <a:ahLst/>
            <a:rect l="l" t="t" r="r" b="b"/>
            <a:pathLst>
              <a:path w="152" h="117">
                <a:moveTo>
                  <a:pt x="0" y="15"/>
                </a:moveTo>
                <a:cubicBezTo>
                  <a:pt x="47" y="0"/>
                  <a:pt x="88" y="15"/>
                  <a:pt x="127" y="41"/>
                </a:cubicBezTo>
                <a:cubicBezTo>
                  <a:pt x="146" y="68"/>
                  <a:pt x="152" y="84"/>
                  <a:pt x="152" y="117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08360" y="3933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866920" y="3573360"/>
            <a:ext cx="122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3500280"/>
            <a:ext cx="144360" cy="144720"/>
          </a:xfrm>
          <a:prstGeom prst="flowChartConnector">
            <a:avLst/>
          </a:prstGeom>
          <a:solidFill>
            <a:srgbClr val="007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7536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05080" y="3933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380360" y="357336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08720" y="3500280"/>
            <a:ext cx="144720" cy="144720"/>
          </a:xfrm>
          <a:prstGeom prst="flowChartConnector">
            <a:avLst/>
          </a:prstGeom>
          <a:solidFill>
            <a:srgbClr val="007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4372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45080" y="3933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9144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判断对错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同一平面内，平行的 两条直线永不相交。                                                                      （   ）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平角就是一条直线。（  ）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两点确定一条直线。（  ）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两点之间线段最短。（  ）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21" name=""/>
          <p:cNvSpPr/>
          <p:nvPr/>
        </p:nvSpPr>
        <p:spPr>
          <a:xfrm>
            <a:off x="53640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21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35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03280" y="5157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完成《新课程辅导》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页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rcRect l="10461" t="45204" r="56777" b="45999"/>
          <a:stretch/>
        </p:blipFill>
        <p:spPr>
          <a:xfrm>
            <a:off x="1403280" y="620640"/>
            <a:ext cx="6193080" cy="2349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rcRect l="45494" t="46790" r="11584" b="45999"/>
          <a:stretch/>
        </p:blipFill>
        <p:spPr>
          <a:xfrm>
            <a:off x="900000" y="3213000"/>
            <a:ext cx="7128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46638" t="54796" r="13826" b="35611"/>
          <a:stretch/>
        </p:blipFill>
        <p:spPr>
          <a:xfrm>
            <a:off x="1476360" y="836640"/>
            <a:ext cx="6120000" cy="2097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10461" t="54796" r="55633" b="35611"/>
          <a:stretch/>
        </p:blipFill>
        <p:spPr>
          <a:xfrm>
            <a:off x="2050920" y="3068640"/>
            <a:ext cx="5543640" cy="2216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03280" y="5300640"/>
            <a:ext cx="56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点之间，线段最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56777" t="63600" r="11584" b="24411"/>
          <a:stretch/>
        </p:blipFill>
        <p:spPr>
          <a:xfrm>
            <a:off x="3995640" y="476280"/>
            <a:ext cx="4824360" cy="2583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10440" t="63600" r="52269" b="24411"/>
          <a:stretch/>
        </p:blipFill>
        <p:spPr>
          <a:xfrm>
            <a:off x="611280" y="3068640"/>
            <a:ext cx="5689440" cy="2585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72000" y="1700280"/>
            <a:ext cx="0" cy="64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220500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2204640"/>
            <a:ext cx="0" cy="14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7596360" y="1197000"/>
            <a:ext cx="576000" cy="10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1125360"/>
            <a:ext cx="7308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667280" y="1268280"/>
            <a:ext cx="7308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 rot="13144800">
            <a:off x="3852720" y="980280"/>
            <a:ext cx="1905120" cy="1376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 rot="599400">
            <a:off x="6659640" y="1196640"/>
            <a:ext cx="19047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直线、射线、线段有什么特征？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直线没有端点，两边可以无限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349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射线有一个端点，没有端点的一边可以无限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3789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线段有两个端点，不能延长，但可以量出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rcRect l="56777" t="63600" r="11584" b="24411"/>
          <a:stretch/>
        </p:blipFill>
        <p:spPr>
          <a:xfrm>
            <a:off x="3995640" y="476280"/>
            <a:ext cx="4824360" cy="2583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572000" y="1700280"/>
            <a:ext cx="0" cy="64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220500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716360" y="2204640"/>
            <a:ext cx="0" cy="14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7596360" y="1197000"/>
            <a:ext cx="576000" cy="10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67640" y="1125360"/>
            <a:ext cx="7308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667280" y="1268280"/>
            <a:ext cx="7308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16520" y="31417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线外一点到直线的所有线段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垂线最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16965" t="8501" r="33427" b="78715"/>
          <a:stretch/>
        </p:blipFill>
        <p:spPr>
          <a:xfrm>
            <a:off x="611280" y="476280"/>
            <a:ext cx="7632720" cy="27781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67874" t="10813" r="7326" b="78715"/>
          <a:stretch/>
        </p:blipFill>
        <p:spPr>
          <a:xfrm>
            <a:off x="826920" y="3378240"/>
            <a:ext cx="4392720" cy="2619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3809880" cy="2143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630040" y="4005360"/>
            <a:ext cx="215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完成《新课程辅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3d3f41"/>
                </a:solidFill>
                <a:latin typeface="Times New Roman"/>
              </a:rPr>
              <a:t>47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页第</a:t>
            </a:r>
            <a:r>
              <a:rPr b="0" lang="en-US" sz="3200" spc="-1" strike="noStrike">
                <a:solidFill>
                  <a:srgbClr val="3d3f41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981000"/>
            <a:ext cx="2016360" cy="2016360"/>
          </a:xfrm>
          <a:prstGeom prst="rect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765000"/>
            <a:ext cx="2303280" cy="23036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3213000"/>
            <a:ext cx="2448000" cy="21607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4968720" y="3319560"/>
            <a:ext cx="1440000" cy="2233440"/>
          </a:xfrm>
          <a:prstGeom prst="flowChartDelay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580000" y="5445000"/>
            <a:ext cx="3268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(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线围成面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)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26920" y="2133720"/>
            <a:ext cx="2087640" cy="1942920"/>
          </a:xfrm>
          <a:prstGeom prst="rect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51640" y="1628640"/>
            <a:ext cx="2735280" cy="2664000"/>
          </a:xfrm>
          <a:prstGeom prst="cube">
            <a:avLst>
              <a:gd name="adj" fmla="val 25000"/>
            </a:avLst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2708280"/>
            <a:ext cx="1728720" cy="1008000"/>
          </a:xfrm>
          <a:prstGeom prst="rightArrow">
            <a:avLst>
              <a:gd name="adj1" fmla="val 50000"/>
              <a:gd name="adj2" fmla="val 42875"/>
            </a:avLst>
          </a:prstGeom>
          <a:solidFill>
            <a:srgbClr val="c0c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5229360"/>
            <a:ext cx="39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987640" y="5373720"/>
            <a:ext cx="3268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面构成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050920" y="1989000"/>
            <a:ext cx="2305080" cy="2305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1916280"/>
            <a:ext cx="237672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0920" y="1989000"/>
            <a:ext cx="2305080" cy="2305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59280" y="1916280"/>
            <a:ext cx="2376720" cy="23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515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40360" y="5373720"/>
            <a:ext cx="32684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无数个点组成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332000" y="2781360"/>
            <a:ext cx="73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空间与图形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图形的认识与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189000"/>
            <a:ext cx="28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六年级总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30d4f"/>
                </a:solidFill>
                <a:latin typeface="Garamond"/>
                <a:ea typeface="微软雅黑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幼圆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Garamond"/>
                <a:ea typeface="幼圆"/>
              </a:rPr>
              <a:t>加深对长方形、正方形、平行四边形、梯形、三角形和圆等平面图形基本特征的认识，进一步理解这些平面图形之间的关系，完善知识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 flipV="1">
            <a:off x="755640" y="1988640"/>
            <a:ext cx="360360" cy="79236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5229360"/>
            <a:ext cx="792000" cy="64764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3213000"/>
            <a:ext cx="289080" cy="194472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-183240" y="2060640"/>
            <a:ext cx="911880" cy="2232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平面图形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3480" y="1484280"/>
            <a:ext cx="911880" cy="1081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多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692360" y="1557000"/>
            <a:ext cx="358560" cy="28908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59440" y="2630160"/>
            <a:ext cx="2027520" cy="212796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916360" y="981000"/>
          <a:ext cx="1008000" cy="24480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3132000" y="476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03640" y="29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00360" y="1628640"/>
            <a:ext cx="216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7640" y="184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特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924360" y="549360"/>
          <a:ext cx="1008000" cy="11491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5076720" y="26028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Garamond"/>
              </a:rPr>
              <a:t>三个内角、和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180</a:t>
            </a:r>
            <a:r>
              <a:rPr b="1" lang="en-US" sz="2400" spc="-1" strike="noStrike" baseline="36000">
                <a:solidFill>
                  <a:srgbClr val="ff33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112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Garamond"/>
              </a:rPr>
              <a:t>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59280" y="647640"/>
            <a:ext cx="3960720" cy="1297080"/>
          </a:xfrm>
          <a:prstGeom prst="ellipse">
            <a:avLst/>
          </a:pr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148360" y="907920"/>
            <a:ext cx="3310920" cy="1008000"/>
            <a:chOff x="5148360" y="907920"/>
            <a:chExt cx="3310920" cy="1008000"/>
          </a:xfrm>
        </p:grpSpPr>
        <p:sp>
          <p:nvSpPr>
            <p:cNvPr id="390" name=""/>
            <p:cNvSpPr/>
            <p:nvPr/>
          </p:nvSpPr>
          <p:spPr>
            <a:xfrm>
              <a:off x="6880680" y="1302480"/>
              <a:ext cx="0" cy="613440"/>
            </a:xfrm>
            <a:prstGeom prst="line">
              <a:avLst/>
            </a:prstGeom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8360" y="953640"/>
              <a:ext cx="1721160" cy="351000"/>
            </a:xfrm>
            <a:prstGeom prst="line">
              <a:avLst/>
            </a:prstGeom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880680" y="907920"/>
              <a:ext cx="1578600" cy="394560"/>
            </a:xfrm>
            <a:prstGeom prst="line">
              <a:avLst/>
            </a:prstGeom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3" name=""/>
          <p:cNvGraphicFramePr/>
          <p:nvPr/>
        </p:nvGraphicFramePr>
        <p:xfrm>
          <a:off x="3924360" y="2781360"/>
          <a:ext cx="1008000" cy="11491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3924360" y="234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63cb"/>
                </a:solidFill>
                <a:latin typeface="Garamond"/>
              </a:rPr>
              <a:t>a+b&gt;c    a-b&lt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76720" y="2781360"/>
            <a:ext cx="3600720" cy="1584360"/>
          </a:xfrm>
          <a:prstGeom prst="ellipse">
            <a:avLst/>
          </a:prstGeom>
          <a:noFill/>
          <a:ln w="158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2852640"/>
            <a:ext cx="2233800" cy="1414440"/>
          </a:xfrm>
          <a:prstGeom prst="ellipse">
            <a:avLst/>
          </a:prstGeom>
          <a:noFill/>
          <a:ln w="158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18160" y="3357720"/>
            <a:ext cx="1513080" cy="766440"/>
          </a:xfrm>
          <a:prstGeom prst="ellipse">
            <a:avLst/>
          </a:prstGeom>
          <a:noFill/>
          <a:ln w="158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458136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6200" y="5445000"/>
            <a:ext cx="722520" cy="432000"/>
          </a:xfrm>
          <a:prstGeom prst="parallelogram">
            <a:avLst>
              <a:gd name="adj" fmla="val 41813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5445000"/>
            <a:ext cx="649440" cy="43200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38920" y="5326200"/>
            <a:ext cx="505080" cy="504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04000" y="2852640"/>
            <a:ext cx="79236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48360" y="3429000"/>
            <a:ext cx="576360" cy="49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16720" y="692280"/>
            <a:ext cx="576360" cy="498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26160" y="170172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64360" y="1413000"/>
            <a:ext cx="11541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51760" y="1417680"/>
            <a:ext cx="372960" cy="28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5694120" y="1225080"/>
            <a:ext cx="576360" cy="576000"/>
          </a:xfrm>
          <a:prstGeom prst="rtTriangl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0920" y="1268280"/>
            <a:ext cx="576360" cy="4986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3716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96000" y="3284640"/>
            <a:ext cx="156960" cy="426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292720" y="3284640"/>
            <a:ext cx="503280" cy="43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564000" y="4652640"/>
            <a:ext cx="288720" cy="1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64000" y="481968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5251320"/>
            <a:ext cx="5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852360" y="4675320"/>
            <a:ext cx="28764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0000" y="55897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00ff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20000" y="55897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00ff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0669400">
            <a:off x="4140360" y="4723920"/>
            <a:ext cx="649080" cy="236520"/>
          </a:xfrm>
          <a:prstGeom prst="rightArrow">
            <a:avLst>
              <a:gd name="adj1" fmla="val 50000"/>
              <a:gd name="adj2" fmla="val 68607"/>
            </a:avLst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63200">
            <a:off x="4149360" y="5392440"/>
            <a:ext cx="720720" cy="193680"/>
          </a:xfrm>
          <a:prstGeom prst="rightArrow">
            <a:avLst>
              <a:gd name="adj1" fmla="val 50000"/>
              <a:gd name="adj2" fmla="val 93030"/>
            </a:avLst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7640" y="5589720"/>
            <a:ext cx="216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763640" y="5084640"/>
          <a:ext cx="1008000" cy="10368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692360" y="458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Garamond"/>
              </a:rPr>
              <a:t>r</a:t>
            </a: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、</a:t>
            </a:r>
            <a:r>
              <a:rPr b="1" lang="en-US" sz="2400" spc="-1" strike="noStrike">
                <a:solidFill>
                  <a:srgbClr val="3d3f41"/>
                </a:solidFill>
                <a:latin typeface="Garamond"/>
              </a:rPr>
              <a:t>d</a:t>
            </a:r>
            <a:r>
              <a:rPr b="1" lang="zh-CN" sz="1600" spc="-1" strike="noStrike">
                <a:solidFill>
                  <a:srgbClr val="3d3f41"/>
                </a:solidFill>
                <a:latin typeface="Garamond"/>
              </a:rPr>
              <a:t>无数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16360" y="5805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Garamond"/>
              </a:rPr>
              <a:t>d=2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16360" y="22766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95640" y="184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Garamond"/>
              </a:rPr>
              <a:t>稳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194520" y="1731960"/>
            <a:ext cx="7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197760" y="1720440"/>
            <a:ext cx="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直线、射线、线段之间有什么关系？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2133720"/>
            <a:ext cx="5832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2060640"/>
            <a:ext cx="14436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2060640"/>
            <a:ext cx="14436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076640"/>
            <a:ext cx="14472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781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幼圆"/>
              </a:rPr>
              <a:t>过一点可以有多少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3500280"/>
            <a:ext cx="1512720" cy="1657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573360"/>
            <a:ext cx="1944360" cy="1150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357720"/>
            <a:ext cx="358560" cy="208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2447640" cy="64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76720" y="4005360"/>
            <a:ext cx="2232000" cy="28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995640" y="3357720"/>
            <a:ext cx="720720" cy="1871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92360" y="3500280"/>
            <a:ext cx="1511280" cy="1657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276360" y="3645000"/>
            <a:ext cx="1942920" cy="1152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78136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过一点有无数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51664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过两点有多少条直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3500280"/>
            <a:ext cx="144360" cy="1447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4797360"/>
            <a:ext cx="14436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3068640"/>
            <a:ext cx="2592360" cy="2376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51664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过两点只有一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幼圆"/>
              </a:rPr>
              <a:t>在同一平面内，两条直线之间有哪些位置关系？</a:t>
            </a:r>
            <a:endParaRPr b="1" lang="en-US" sz="28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916280"/>
            <a:ext cx="2448000" cy="194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16000" y="4436640"/>
            <a:ext cx="3024360" cy="863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00280"/>
            <a:ext cx="1871640" cy="1081080"/>
          </a:xfrm>
          <a:prstGeom prst="wedgeEllipseCallout">
            <a:avLst>
              <a:gd name="adj1" fmla="val 57634"/>
              <a:gd name="adj2" fmla="val 36342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</a:rPr>
              <a:t>相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2349000"/>
            <a:ext cx="3240000" cy="43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88000" y="2565000"/>
            <a:ext cx="3240000" cy="43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3716280"/>
            <a:ext cx="1871640" cy="1081080"/>
          </a:xfrm>
          <a:prstGeom prst="wedgeEllipseCallout">
            <a:avLst>
              <a:gd name="adj1" fmla="val -976"/>
              <a:gd name="adj2" fmla="val -109175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9228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在同一平面内，两条直线要么相交，要么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693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2693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8560" y="1197000"/>
            <a:ext cx="1368360" cy="19447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141720"/>
            <a:ext cx="2376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131640" y="3141720"/>
            <a:ext cx="1366920" cy="19429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5495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852640"/>
            <a:ext cx="431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3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d3f4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98560" y="1197000"/>
            <a:ext cx="1368360" cy="19447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141720"/>
            <a:ext cx="2376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131640" y="3141720"/>
            <a:ext cx="1366920" cy="19429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852640"/>
            <a:ext cx="431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3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8280" y="2781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顶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1844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00360" y="1197000"/>
            <a:ext cx="1368360" cy="194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3141720"/>
            <a:ext cx="2376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3414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85400">
            <a:off x="4325760" y="2759400"/>
            <a:ext cx="590400" cy="5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5440" y="2637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2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 rot="1685400">
            <a:off x="4121280" y="3066480"/>
            <a:ext cx="508320" cy="4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6:01:48Z</dcterms:created>
  <dc:creator/>
  <dc:description/>
  <dc:language>en-US</dc:language>
  <cp:lastModifiedBy/>
  <dcterms:modified xsi:type="dcterms:W3CDTF">2015-09-07T02:19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