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chimes.wav" ContentType="audio/x-wav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9.png" ContentType="image/png"/>
  <Override PartName="/ppt/media/image42.wmf" ContentType="image/x-wmf"/>
  <Override PartName="/ppt/media/image1.jpeg" ContentType="image/jpeg"/>
  <Override PartName="/ppt/media/image47.png" ContentType="image/png"/>
  <Override PartName="/ppt/media/image20.png" ContentType="image/png"/>
  <Override PartName="/ppt/media/image36.jpeg" ContentType="image/jpeg"/>
  <Override PartName="/ppt/media/image7.jpeg" ContentType="image/jpeg"/>
  <Override PartName="/ppt/media/image28.png" ContentType="image/png"/>
  <Override PartName="/ppt/media/image10.jpeg" ContentType="image/jpeg"/>
  <Override PartName="/ppt/media/image29.jpeg" ContentType="image/jpeg"/>
  <Override PartName="/ppt/media/image11.gif" ContentType="image/gif"/>
  <Override PartName="/ppt/media/image30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1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34.jpeg" ContentType="image/jpeg"/>
  <Override PartName="/ppt/media/image40.gif" ContentType="image/gif"/>
  <Override PartName="/ppt/media/image46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44.png" ContentType="image/png"/>
  <Override PartName="/ppt/media/image13.jpeg" ContentType="image/jpeg"/>
  <Override PartName="/ppt/media/image18.gif" ContentType="image/gif"/>
  <Override PartName="/ppt/media/image23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3.jpeg" ContentType="image/jpeg"/>
  <Override PartName="/ppt/media/image3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8AA-BFF6-4576-B6D8-F890488E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AEB2-2996-4D7F-B234-E54570DA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17FAD-954E-42EB-851E-3ACF4338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0CD9-5332-4B37-B56D-9BD058B9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65BAC-D90D-440B-A4EE-6480197D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FF9CD-E943-45BF-9224-8DA8AF2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95B7D-095B-40B5-971E-437AEC0C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51316-8703-450F-A979-98D1CE0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E5DA0-FD86-4AFF-B29F-D53BD166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3D88E-8CB7-4F9B-BB80-A531AC37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CBB5C-CD10-420A-842A-F02E8C72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8C246-56B7-4C1F-8CD5-4D6925C8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A94-6456-40A6-8230-A8E1EF79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E5D44-5558-425B-B420-CC672320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D4F5B-D867-4ED0-8024-956A470B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CB5D4-5C9A-4996-99FF-D79FCAD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8818D-8498-45F6-A608-C1BF0B26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BE95A-421D-4892-90B5-99ED065A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3D91C-5068-432B-B5D0-F93F624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C8E95-2B22-4EBC-8BF5-E42FCB20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30514-EA29-4D49-9FDA-46BF7E7A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8DE28-0439-4343-B518-E3773A1E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31716-6EEB-4225-B412-EC28FB5F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C82-6C67-42DC-9370-DA280209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6C164-47A9-40D4-8015-31EDE8EF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0A29A-A676-422E-AB1B-AAE74455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6F21-FB8D-4548-876F-75E1F5CA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176FB-B4EF-42C6-BA76-F6F2BE8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F50D6-B028-4946-BE8E-D0332E1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FCEE-3880-4F38-BDB8-45B8679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1637E-DA7B-414E-9791-61324DF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C2128-9704-49DC-84E1-0EE66F1A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C08D6-40A6-477A-BDF4-553FDC78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A3562-C632-45CE-B068-7F01DB8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496B-8323-4A66-BEAD-4FF2216F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A8190-5D22-4FB6-9FAB-24B25C1B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9E88-5101-46C9-85BF-5931D427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65F5-C10C-4093-9DD6-3AA49772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BDB0D-565E-4565-87EC-29AD2287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8A3F8-D530-40E4-BCB4-47BF30AF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792E-227E-4754-AFFB-F0116E91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25810-0CBB-4962-A7C7-6B103C02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21467-518B-470E-B867-7D3A20D8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96F91-EB83-41A6-8CD6-0092FCF2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508B8-0077-44BC-A385-A1F8F07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7C6F-C699-4E8B-A773-0D2A99F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49AFA-6622-48A5-98AB-71D8511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BAB5-DE0F-4AC9-B50F-CE031DD5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5645E-DD86-42CE-A564-6DE6A0DF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1EBD8-8693-44A8-8D71-BBBF7BFD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8759E-B884-4FD0-BC62-0478D45B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64585-5C0C-448B-88EF-0441F8FB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3858B-C509-45DF-8872-AD01445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D41E7-00EA-4395-94AC-DF3BD603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75D2F-FD4A-4DFB-9A93-BD4E667A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4322F-6C3D-4084-96FF-66CB6CCB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0B2-ED35-4B30-BA9E-464C5421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3D0AE-33B0-4C75-8060-3A5969B1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DC6B4-BC42-4B14-B8E9-EA2A53D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701B6-BEC8-4B2D-B706-57E9060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A2D03-891F-4C49-90BE-213627B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3799E-2CFF-4A72-87BA-C81BC700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CF917-DB66-4D41-AF30-ED4BDE57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2E290-CF1C-4453-9B35-48742F3B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14AF63-D5A6-4349-BA35-0F6267C6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EFAAA-1BBA-4CFE-8EB6-56F6EBA0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8AA49-D4A9-4146-9AA8-9FA7590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27D3-9C8F-4271-BA17-F8D3583D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73DD9-8FBA-4BA6-95C9-EE6FE021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56AA3-1235-48AF-9495-64863F9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B94FB-DE69-471B-8A88-3D5A55FE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DB45A-DA98-48B4-BD6E-31971F2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5E3FD-D317-43D7-A774-5D27E4C9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FA3BF-BC08-4CD8-B055-85F9CABE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23C4A-90E2-437D-8F20-858F737C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1C718F-9DCC-4BF3-8FBC-1DBE2C92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4308A-E838-4CAC-92A0-72A66742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25FD2-0B4F-4AFF-9AA7-80DB80E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BC3-883B-4B19-AE18-B51939D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D0976-9B61-420E-BCE9-B3ED8DA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61808-3395-4B1D-9BFE-A7DAB302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D5F66-E73D-449E-9573-951369E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4ED0D-7334-4770-9C49-70D81BB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A3571-61E1-404A-8F9B-B727DB4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82DD6-CA29-4EDF-8E42-B83097B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B08EC-3515-4C4E-8B3F-41C4075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7F5876-DFE5-444C-B5CD-970C78A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1D59A-6B97-4D96-AEBF-7037492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A3D59-7547-4905-AE02-63ED041C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635B-9A6D-42C7-80AA-78D4663A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52BAB-151D-4BDC-B0AA-C91B3BD5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CFD18-0E0D-4D60-9587-670F5D00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F6387-9B9D-4842-89AB-CA6B2999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FB8E0-0E08-41D8-9C47-529768FA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128A7-59CC-44B1-8CA9-EE9CB663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E728F-BF72-4FE5-97E7-401600C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49312-5722-402E-9267-AED277CD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17462-B669-47C2-9672-FA5049B2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F36DD-152F-4A4B-AD00-225700C9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AF88CC-AF51-447B-80ED-34C2FE68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8E49-DB8A-4CE3-83F1-4C90772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B464F-C7DA-416C-BCE2-6170EFAB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EB33D-EC56-483E-B8EA-0FB874F7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2FAB2-2C23-46B6-AF3C-411BDD18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5512B-B357-49AA-849B-67C2307B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12700-E656-4AD7-AA27-F8190962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EC87B-9791-472F-B949-9E126D6C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27C491-BC55-425B-BB93-C03321EC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9AC72-8F9D-4BE7-B23B-CAE33B70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A17AB-B3DB-43C1-99EC-7B990E84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871F84-BB8D-450E-97E9-2C688987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D75-FC6F-401F-B473-93AD43EC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E6E0-F715-46C0-85FB-9B04C2BA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BFF92-7B36-412A-A17F-E56873BF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6EA9C2-C2E8-4464-A547-E75D6ED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7A3C6D-648A-403A-BC56-39B6021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14184-7D94-491C-8B91-112CE974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83F21-5E32-4BF9-A9FB-48C38BD2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05C5A6-7C58-41C9-AB9D-12A6F5E1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FCFCBB-299C-4933-B991-548AFC0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DDC42-CD26-4338-816E-5B115D7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5B97F-8AFF-4551-95D5-2C65CFB5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8DD57C-38F8-40CA-8994-52A5A048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51DB-F72A-4A90-8054-0E16A4B1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5DDCA-B487-4BB6-A153-17E78A88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933CB-DCF7-4252-87A5-29C2B75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7B410F-4EEF-4FBB-9DEE-C1BA8B6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942E0-3165-473C-9BD9-79FA491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5A5E2-9066-4F5D-A44E-247C76E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9634A-C446-4F62-A1AC-774EB1F0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EA418-7549-4D1B-9D95-CDC36906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A556E0-7E49-4016-B269-89BFD2C7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AF556A-2B6A-4064-BE88-9E7DEF3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F6602E-69B4-456D-84EA-7B9D842B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0897-50B2-4D8E-A629-DD1B0AC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ABD86-78AF-450B-970A-29485C07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8CBE4-E3A8-4897-B23C-316622E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60CC4-A979-4D4B-B57E-831DFA3D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D3014-A766-4619-B062-1FB264A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46295-672C-4A52-8CE0-250896A3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E61508-4CDE-4069-B024-88AAEF9E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9D345-931B-4B00-86C8-7A0467F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5C8E1-4A28-4E20-82AA-2203A631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B77314-3FA6-4C0D-B359-71A86352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A6E36-4784-4372-A96F-32261924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33D6-7F5A-4B18-868A-19D2401D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0BE68-7F54-4450-AA75-2EAA5AB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4075CE-9F47-4F1E-BD8E-881390E1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8DE27-85FE-4535-AF0D-D413FBD5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6296F-EFB6-432C-82D8-2886B42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CC4C4-C4D9-4CD1-9D89-6E28E250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105E9-A260-4A8A-BDEE-9284A6B2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D4A2D-7EA9-4D27-9B7D-0297DD2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FE2783-4003-4336-B90C-9DF8E7F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7304F-2E1C-4C67-941B-762AE71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70AFDF-A269-4676-881F-A5399EC6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689F-AD6F-47C2-9F51-06765941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1E8A5-F1C5-43A4-BC5F-8F542BC4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B7689-7ADB-4DEB-A370-C418E7B5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0E4BD-B60B-4BE2-AA5B-ED4A25F8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B844C-E684-4D82-9D5B-AB761E12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AD61C3-732C-4D14-ABC2-EE51248F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A89F2-5AD5-4B4F-A901-A59F5C2C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F01F82-D8F8-4330-AF56-6B35890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D8185-2FED-448C-8B1D-85E5080B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2322B2-74B0-460C-909D-B0A3ED10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B2C93-8E72-4656-9EF6-76D6809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CECF-641D-46F8-BBB7-2FCCEB05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6A889A-9286-4FE7-B9AE-D43C3345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32D343-106F-4DC3-BF89-2E395410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AEBEE-0CE1-4F2D-AA78-80D9966A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D78A1-F619-4BF9-99AA-3922573C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7B762B-C36E-4228-81A3-4EA1A164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601F5-D240-4C52-832F-F40226C9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742C5A-4B1B-4F88-B34D-BB5E8CF9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76F2AD-3E9D-45CB-80BB-3D57DD1B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9813EC-2886-437D-9CA8-FC3F444B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8413E-A84C-431E-88FF-1912E0BC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0BB0F-EB52-42D7-9E74-5C30F70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0A3A94-6EA5-4395-AADB-88254E79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BB73E1-AF75-42A4-A467-654B495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B49F1B-5C7B-474C-9C65-EC38606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D3EA0-B88A-4C65-B125-3EA02B0A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280FF-D700-49ED-AA02-B36EC343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9DD4AD-3151-4C63-845C-6C5DDD3C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8502CC-E8B6-40E9-869D-BE0E9F31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93A4A8-BB50-4E5F-A615-FC5415C8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4523C-8812-4B86-8DE4-29486C50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EE7788-6F84-40F7-A84F-321AB20D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FAD4-F20B-45C6-B831-70ECF04C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3E13B-67C2-40E4-B863-1BF2E8ED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9E2D04-EB6E-4E8F-B294-D46F7614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C40749-C386-493B-ABEC-7C739967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0C6F62-FBC1-4AAD-A1E0-E648388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A0A226-FADF-415E-93F5-91868C1C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837949-FE9F-4DB6-BD30-2CA7129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E569CC-9DDD-48DF-B84C-6156B0E3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4975-EB36-4142-9E2B-016CFCB2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6AF0-AEFE-4A3A-A16D-6A0A285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877-89FB-48F5-A0A1-035B031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6A35-D19B-45F3-9A23-0B37311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A501-2586-4061-89FC-6A0B66F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A737-9DCE-48BC-A2ED-F5E0742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30916-2570-455C-8D5F-B4B9060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0017-9C6E-453D-BCB2-2D0CD0AF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9BC7-C2FD-4277-99AA-D7121C52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2C35C-1E39-43F0-B812-43A194B8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164A-0B38-448B-8B23-4B6797FA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AF01-1868-496D-B33A-63B11670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9EFB-2AAA-48A5-BB7D-5100961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17C-C58C-4FCE-8B66-3C4A4E56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8104-482D-4223-8000-F4911E40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E4E2-C7A2-4CBE-B605-B43CB6F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0E6E-B97C-48AB-8319-4A6754BD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78B88-C178-4F0E-8748-CDB9180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938E-C96A-43DE-8C03-0D6300E9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0BF8-CF21-4711-9962-D72BD126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1839-F0DC-4A56-A49D-E936977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47B7E-0CCB-412C-9C5F-C47E05E2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F37B-8770-40BB-BD69-7B46F238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04D5-62E4-4EAB-B2B2-20523E63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844-D74E-45BB-8736-1675F56E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1E95-6CFB-4877-904D-0765528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6616E-F4AD-4E00-8EB4-C7820A1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2D739-05E7-4384-BCC1-9C2BB524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75A69-2EC8-45C6-9F1F-963AF66F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F238-F33A-4BA1-9E0C-F13D04A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94C4-CECC-4DA7-B16A-256AF797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EBD5F-AE70-46AD-8E4C-E8FB302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0D56-4A3F-438E-B4AB-A29B7287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C841-64F1-4BE2-8C2A-B3DBB3C8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8C94-A545-43D2-AFAD-30ACCEB7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1B9-DA92-44D5-B6AF-2C95CB9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36B70-247B-420D-93D3-FEF267E1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3D692-AAAC-4404-AC04-04390DB2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AA085-3A1C-4F8A-B265-E17955D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67C4F-62B7-41A7-A216-F584F56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A28A9-6C57-4544-90C5-B9DD4558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17916-F256-4F0D-9C9C-3E87A1E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6BA5-7478-4A00-AA9C-A26E5343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3CDC0-6E0C-4B24-8ED4-1C22D66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14B26-917C-43C8-9326-D47E9D7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2CAFD-726C-48F6-8623-7247A77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6A9-6871-4C87-B6BD-4A169E9D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BAB8-F8F4-4512-BFAB-81C8A3F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68308-48D0-4E6C-B374-1828ACF0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E3346-0828-4707-ACA8-2A5A515F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D5A0-CED9-402A-A258-307C37FC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29F9-D91F-40C4-8A42-3333237D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11060-A56B-49A5-A36C-56B81AD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114D-968B-4C69-B22C-5191C954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10D55-B7FA-453C-ADAB-F16CC65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47DD8-A239-4788-9C6D-091A379A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E7AA8-0A9B-4727-88AF-14A86A5D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A57-8188-4521-90B7-DA94E18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DA1D-6ABD-4838-A248-2B76DB07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556E3-E12B-47BA-A35B-FFBBC11B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5E314-0AA7-4205-8D95-D44C36A2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B6762-0059-4674-BF22-C622AE70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37608-B491-48C8-8994-9024B458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5177E-9786-449B-888D-86E0C31F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504CB-7413-4BE6-BA18-2EDE0C7A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05ED7-4452-4734-9993-65D93AFF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16AD-CCE7-4EC4-ABBA-6EC098E3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D32B4-98D6-4F46-8D4E-934F2063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4E4-1C9A-45E7-85FE-87393650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79FE7-A681-47D6-A4A9-B0B5D9A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70DC-DFDC-450D-AB4B-AAC5FEEF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7F2E5-2EB4-4CEE-94FE-B939FC4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3AC0F-0AC1-43E5-A4C4-8EF4EE25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7E247-C711-4D14-9C13-AA26D61D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D142-2543-40A5-925F-148C7E3B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54C1C-888A-456A-BCD2-B1AFEC89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96EC2-65FE-4F4A-BC09-52DEE177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54675-8D6B-4170-B99C-0301C17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7DBC2-68D1-43FB-AE86-65075DD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image" Target="../media/image10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image" Target="../media/image10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image" Target="../media/image10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4057560"/>
            <a:ext cx="3200400" cy="280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000680" y="0"/>
            <a:ext cx="5143320" cy="503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038480" cy="5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46C-071D-495A-AC70-F02239241C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763120" y="472428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3886200" y="50292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0" y="1066680"/>
            <a:ext cx="960480" cy="18637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60480" cy="1063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698C-2EF0-42AB-9314-B6E3BD9D51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0" y="4057560"/>
            <a:ext cx="3200400" cy="2800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4000680" y="0"/>
            <a:ext cx="5143320" cy="503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038480" cy="50004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6CC-7C06-4AA0-BBB1-3BA0D86C96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8763120" y="472428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0" y="4057560"/>
            <a:ext cx="3200400" cy="28004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4000680" y="0"/>
            <a:ext cx="5143320" cy="5032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03848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D57-7B65-48D2-AF13-E2D5D61E5F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8763120" y="472428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78080" cy="12193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7029360" y="0"/>
            <a:ext cx="2114640" cy="12193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3124080" y="147600"/>
            <a:ext cx="3962520" cy="1162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6"/>
          <a:stretch/>
        </p:blipFill>
        <p:spPr>
          <a:xfrm>
            <a:off x="6095880" y="640080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577" name=""/>
          <p:cNvGrpSpPr/>
          <p:nvPr/>
        </p:nvGrpSpPr>
        <p:grpSpPr>
          <a:xfrm>
            <a:off x="0" y="5410080"/>
            <a:ext cx="9144000" cy="1447920"/>
            <a:chOff x="0" y="5410080"/>
            <a:chExt cx="9144000" cy="1447920"/>
          </a:xfrm>
        </p:grpSpPr>
        <p:pic>
          <p:nvPicPr>
            <p:cNvPr id="578" name="" descr=""/>
            <p:cNvPicPr/>
            <p:nvPr/>
          </p:nvPicPr>
          <p:blipFill>
            <a:blip r:embed="rId7"/>
            <a:stretch/>
          </p:blipFill>
          <p:spPr>
            <a:xfrm>
              <a:off x="2209680" y="5410080"/>
              <a:ext cx="69343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8"/>
            <a:stretch/>
          </p:blipFill>
          <p:spPr>
            <a:xfrm>
              <a:off x="0" y="5410080"/>
              <a:ext cx="227484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537E-FAB9-415B-BEC9-AE581EC68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39243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DBC1-82FF-448F-AADE-7AC5312E7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857160" cy="12574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0" cy="57168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5"/>
          <a:stretch/>
        </p:blipFill>
        <p:spPr>
          <a:xfrm>
            <a:off x="0" y="561960"/>
            <a:ext cx="1965240" cy="422928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54AE-4BD1-4191-93F7-1BFC1E781C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4"/>
          <a:stretch/>
        </p:blipFill>
        <p:spPr>
          <a:xfrm>
            <a:off x="3886200" y="50292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5"/>
          <a:stretch/>
        </p:blipFill>
        <p:spPr>
          <a:xfrm>
            <a:off x="0" y="1066680"/>
            <a:ext cx="960480" cy="186372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60480" cy="106380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FE99-068C-48F3-9080-0788C1DF23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4A5-E87D-4344-AEB5-E81342CCEF82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7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8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9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1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0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04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2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1A6D-8EAD-40D1-A159-8744F0C82B49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55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59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865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869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3"/>
          <a:stretch/>
        </p:blipFill>
        <p:spPr>
          <a:xfrm>
            <a:off x="0" y="4950000"/>
            <a:ext cx="9144000" cy="190800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4"/>
          <a:stretch/>
        </p:blipFill>
        <p:spPr>
          <a:xfrm>
            <a:off x="3200400" y="4950000"/>
            <a:ext cx="2378160" cy="190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92DC-BEB5-4267-A160-997A48D722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78080" cy="1219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029360" y="0"/>
            <a:ext cx="211464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124080" y="147600"/>
            <a:ext cx="3962520" cy="116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095880" y="640080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0" y="5410080"/>
            <a:ext cx="9144000" cy="1447920"/>
            <a:chOff x="0" y="5410080"/>
            <a:chExt cx="9144000" cy="1447920"/>
          </a:xfrm>
        </p:grpSpPr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2209680" y="5410080"/>
              <a:ext cx="69343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0" y="5410080"/>
              <a:ext cx="227484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29B-1AF1-48B7-B349-4A787DC1FE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-1440" y="-6480"/>
            <a:ext cx="9150120" cy="687384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-소망M"/>
              </a:rPr>
              <a:t>Click to edit the title text format</a:t>
            </a:r>
            <a:endParaRPr b="0" lang="en-US" sz="3000" spc="-1" strike="noStrike">
              <a:solidFill>
                <a:srgbClr val="333399"/>
              </a:solidFill>
              <a:latin typeface="-소망M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69a1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4369a1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4369a1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4369a1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4369a1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69a1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8CD1-557D-4138-8DC3-1C7EF330098A}" type="slidenum">
              <a:rPr b="0" lang="ko-KR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9840" cy="687384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-소망M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-소망M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47fd6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870-D5BE-470D-89C1-A7C0C0C02764}" type="slidenum">
              <a:rPr b="0" lang="ko-KR" sz="1400" spc="-1" strike="noStrike">
                <a:solidFill>
                  <a:srgbClr val="447fd6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D21-D546-4BAB-9199-2247A77A013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48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59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66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7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75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078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079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081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A02-D2A2-47AD-A388-1E0705BA8FC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132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136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1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142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146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1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392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5AD-91F6-43FB-8D27-C2E384580D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857160" cy="12574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0" y="561960"/>
            <a:ext cx="1965240" cy="4229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978-FC76-484A-BDD1-BED8855AE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886200" y="50292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0" y="1066680"/>
            <a:ext cx="960480" cy="18637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60480" cy="1063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23B-A271-4C05-B407-CC5625C900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4057560"/>
            <a:ext cx="3200400" cy="2800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000680" y="0"/>
            <a:ext cx="5143320" cy="503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038480" cy="5000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5F9-03FF-4D77-A6DB-45C4DDCE0D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0" y="2057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8763120" y="472428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209680" y="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78080" cy="1219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7029360" y="0"/>
            <a:ext cx="2114640" cy="12193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3124080" y="147600"/>
            <a:ext cx="3962520" cy="11620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6095880" y="640080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0" y="5410080"/>
            <a:ext cx="9144000" cy="1447920"/>
            <a:chOff x="0" y="5410080"/>
            <a:chExt cx="9144000" cy="1447920"/>
          </a:xfrm>
        </p:grpSpPr>
        <p:pic>
          <p:nvPicPr>
            <p:cNvPr id="292" name="" descr=""/>
            <p:cNvPicPr/>
            <p:nvPr/>
          </p:nvPicPr>
          <p:blipFill>
            <a:blip r:embed="rId7"/>
            <a:stretch/>
          </p:blipFill>
          <p:spPr>
            <a:xfrm>
              <a:off x="2209680" y="5410080"/>
              <a:ext cx="69343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8"/>
            <a:stretch/>
          </p:blipFill>
          <p:spPr>
            <a:xfrm>
              <a:off x="0" y="5410080"/>
              <a:ext cx="227484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89F1-26C4-4619-AD1C-639E07F02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9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0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286000" cy="2971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6848640" y="0"/>
            <a:ext cx="2295360" cy="3924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6"/>
          <a:stretch/>
        </p:blipFill>
        <p:spPr>
          <a:xfrm>
            <a:off x="304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3F7C-F801-490C-BD87-589AF1C4A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8077320" y="4800600"/>
            <a:ext cx="857160" cy="12574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6858000" cy="5716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0" y="561960"/>
            <a:ext cx="1965240" cy="422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EB9-76A0-43D1-88CC-B495BCD1A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file:///tmp/home/.config/libreoffice/4/user/gallery/~PP3116.WAV" TargetMode="External"/><Relationship Id="rId3" Type="http://schemas.microsoft.com/office/2007/relationships/media" Target="file:///tmp/home/.config/libreoffice/4/user/gallery/~PP3116.WAV" TargetMode="External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" Target="slide6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9.jpeg"/><Relationship Id="rId6" Type="http://schemas.openxmlformats.org/officeDocument/2006/relationships/image" Target="../media/image39.jpeg"/><Relationship Id="rId7" Type="http://schemas.openxmlformats.org/officeDocument/2006/relationships/image" Target="../media/image39.jpeg"/><Relationship Id="rId8" Type="http://schemas.openxmlformats.org/officeDocument/2006/relationships/image" Target="../media/image39.jpeg"/><Relationship Id="rId9" Type="http://schemas.openxmlformats.org/officeDocument/2006/relationships/image" Target="../media/image39.jpeg"/><Relationship Id="rId10" Type="http://schemas.openxmlformats.org/officeDocument/2006/relationships/image" Target="../media/image39.jpeg"/><Relationship Id="rId11" Type="http://schemas.openxmlformats.org/officeDocument/2006/relationships/image" Target="../media/image39.jpeg"/><Relationship Id="rId12" Type="http://schemas.openxmlformats.org/officeDocument/2006/relationships/image" Target="../media/image39.jpeg"/><Relationship Id="rId13" Type="http://schemas.openxmlformats.org/officeDocument/2006/relationships/image" Target="../media/image39.jpeg"/><Relationship Id="rId14" Type="http://schemas.openxmlformats.org/officeDocument/2006/relationships/image" Target="../media/image39.jpeg"/><Relationship Id="rId15" Type="http://schemas.openxmlformats.org/officeDocument/2006/relationships/image" Target="../media/image39.jpeg"/><Relationship Id="rId16" Type="http://schemas.openxmlformats.org/officeDocument/2006/relationships/image" Target="../media/image39.jpeg"/><Relationship Id="rId17" Type="http://schemas.openxmlformats.org/officeDocument/2006/relationships/image" Target="../media/image39.jpeg"/><Relationship Id="rId18" Type="http://schemas.openxmlformats.org/officeDocument/2006/relationships/image" Target="../media/image39.jpeg"/><Relationship Id="rId19" Type="http://schemas.openxmlformats.org/officeDocument/2006/relationships/image" Target="../media/image39.jpeg"/><Relationship Id="rId20" Type="http://schemas.openxmlformats.org/officeDocument/2006/relationships/image" Target="../media/image39.jpeg"/><Relationship Id="rId21" Type="http://schemas.openxmlformats.org/officeDocument/2006/relationships/image" Target="../media/image39.jpeg"/><Relationship Id="rId22" Type="http://schemas.openxmlformats.org/officeDocument/2006/relationships/image" Target="../media/image39.jpeg"/><Relationship Id="rId23" Type="http://schemas.openxmlformats.org/officeDocument/2006/relationships/image" Target="../media/image39.jpeg"/><Relationship Id="rId24" Type="http://schemas.openxmlformats.org/officeDocument/2006/relationships/image" Target="../media/image39.jpeg"/><Relationship Id="rId25" Type="http://schemas.openxmlformats.org/officeDocument/2006/relationships/image" Target="../media/image39.jpeg"/><Relationship Id="rId26" Type="http://schemas.openxmlformats.org/officeDocument/2006/relationships/image" Target="../media/image39.jpeg"/><Relationship Id="rId27" Type="http://schemas.openxmlformats.org/officeDocument/2006/relationships/image" Target="../media/image39.jpeg"/><Relationship Id="rId28" Type="http://schemas.openxmlformats.org/officeDocument/2006/relationships/image" Target="../media/image39.jpeg"/><Relationship Id="rId29" Type="http://schemas.openxmlformats.org/officeDocument/2006/relationships/image" Target="../media/image39.jpeg"/><Relationship Id="rId30" Type="http://schemas.openxmlformats.org/officeDocument/2006/relationships/image" Target="../media/image39.jpeg"/><Relationship Id="rId31" Type="http://schemas.openxmlformats.org/officeDocument/2006/relationships/image" Target="../media/image39.jpeg"/><Relationship Id="rId32" Type="http://schemas.openxmlformats.org/officeDocument/2006/relationships/image" Target="../media/image39.jpeg"/><Relationship Id="rId33" Type="http://schemas.openxmlformats.org/officeDocument/2006/relationships/image" Target="../media/image39.jpeg"/><Relationship Id="rId34" Type="http://schemas.openxmlformats.org/officeDocument/2006/relationships/image" Target="../media/image39.jpeg"/><Relationship Id="rId35" Type="http://schemas.openxmlformats.org/officeDocument/2006/relationships/image" Target="../media/image39.jpeg"/><Relationship Id="rId36" Type="http://schemas.openxmlformats.org/officeDocument/2006/relationships/image" Target="../media/image39.jpeg"/><Relationship Id="rId37" Type="http://schemas.openxmlformats.org/officeDocument/2006/relationships/image" Target="../media/image39.jpeg"/><Relationship Id="rId38" Type="http://schemas.openxmlformats.org/officeDocument/2006/relationships/image" Target="../media/image39.jpeg"/><Relationship Id="rId39" Type="http://schemas.openxmlformats.org/officeDocument/2006/relationships/image" Target="../media/image39.jpeg"/><Relationship Id="rId40" Type="http://schemas.openxmlformats.org/officeDocument/2006/relationships/image" Target="../media/image39.jpeg"/><Relationship Id="rId41" Type="http://schemas.openxmlformats.org/officeDocument/2006/relationships/image" Target="../media/image39.jpeg"/><Relationship Id="rId42" Type="http://schemas.openxmlformats.org/officeDocument/2006/relationships/image" Target="../media/image39.jpeg"/><Relationship Id="rId43" Type="http://schemas.openxmlformats.org/officeDocument/2006/relationships/image" Target="../media/image39.jpeg"/><Relationship Id="rId44" Type="http://schemas.openxmlformats.org/officeDocument/2006/relationships/image" Target="../media/image39.jpeg"/><Relationship Id="rId45" Type="http://schemas.openxmlformats.org/officeDocument/2006/relationships/image" Target="../media/image39.jpeg"/><Relationship Id="rId46" Type="http://schemas.openxmlformats.org/officeDocument/2006/relationships/image" Target="../media/image39.jpeg"/><Relationship Id="rId47" Type="http://schemas.openxmlformats.org/officeDocument/2006/relationships/image" Target="../media/image39.jpeg"/><Relationship Id="rId48" Type="http://schemas.openxmlformats.org/officeDocument/2006/relationships/image" Target="../media/image39.jpeg"/><Relationship Id="rId49" Type="http://schemas.openxmlformats.org/officeDocument/2006/relationships/image" Target="../media/image39.jpeg"/><Relationship Id="rId50" Type="http://schemas.openxmlformats.org/officeDocument/2006/relationships/image" Target="../media/image28.png"/><Relationship Id="rId5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hyperlink" Target="file:///tmp/home/.config/libreoffice/4/user/gallery/xls.wav" TargetMode="External"/><Relationship Id="rId4" Type="http://schemas.openxmlformats.org/officeDocument/2006/relationships/image" Target="../media/image44.png"/><Relationship Id="rId5" Type="http://schemas.openxmlformats.org/officeDocument/2006/relationships/image" Target="../media/image43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" Target="slide6.xm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1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8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" Target="slide6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6.xml"/><Relationship Id="rId3" Type="http://schemas.openxmlformats.org/officeDocument/2006/relationships/image" Target="../media/image28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2.jpeg"/><Relationship Id="rId3" Type="http://schemas.openxmlformats.org/officeDocument/2006/relationships/slide" Target="slide20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28.png"/><Relationship Id="rId4" Type="http://schemas.openxmlformats.org/officeDocument/2006/relationships/image" Target="../media/image3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0874_GIF" descr=""/>
          <p:cNvPicPr/>
          <p:nvPr/>
        </p:nvPicPr>
        <p:blipFill>
          <a:blip r:embed="rId1"/>
          <a:stretch/>
        </p:blipFill>
        <p:spPr>
          <a:xfrm>
            <a:off x="1258920" y="3581280"/>
            <a:ext cx="4249800" cy="327672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2819520" y="0"/>
            <a:ext cx="4038480" cy="3124080"/>
          </a:xfrm>
          <a:prstGeom prst="cloudCallout">
            <a:avLst>
              <a:gd name="adj1" fmla="val -28300"/>
              <a:gd name="adj2" fmla="val 6412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828800" y="533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24080" y="685800"/>
            <a:ext cx="358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孩子们，帮我把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30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元钱存入银行，好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5"/>
          <a:srcRect l="0" t="23177" r="0" b="22941"/>
          <a:stretch/>
        </p:blipFill>
        <p:spPr>
          <a:xfrm>
            <a:off x="4427640" y="429264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524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9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2050920" y="62064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小知识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67" name=""/>
          <p:cNvSpPr/>
          <p:nvPr/>
        </p:nvSpPr>
        <p:spPr>
          <a:xfrm>
            <a:off x="1763640" y="2205000"/>
            <a:ext cx="6553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0093"/>
                </a:solidFill>
                <a:latin typeface="Times New Roman"/>
                <a:ea typeface="隶书"/>
              </a:rPr>
              <a:t>整存整取</a:t>
            </a:r>
            <a:r>
              <a:rPr b="0" lang="en-US" sz="6000" spc="-1" strike="noStrike">
                <a:solidFill>
                  <a:srgbClr val="d60093"/>
                </a:solidFill>
                <a:latin typeface="Times New Roman"/>
              </a:rPr>
              <a:t>:              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一次性把钱存入银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到一定的期限再把钱取出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050920" y="62064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小知识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71" name=""/>
          <p:cNvSpPr/>
          <p:nvPr/>
        </p:nvSpPr>
        <p:spPr>
          <a:xfrm>
            <a:off x="1619280" y="1557360"/>
            <a:ext cx="7524720" cy="916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存入银行的钱叫做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本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19280" y="2781360"/>
            <a:ext cx="7524720" cy="916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取款时银行多支付的钱叫做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</a:rPr>
              <a:t>利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19280" y="4221000"/>
            <a:ext cx="7524720" cy="916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利息与本金的比值叫做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Arial"/>
              </a:rPr>
              <a:t>利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4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2195640" y="907920"/>
            <a:ext cx="433368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小知识提醒你：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6" name=""/>
          <p:cNvSpPr/>
          <p:nvPr/>
        </p:nvSpPr>
        <p:spPr>
          <a:xfrm>
            <a:off x="1619280" y="2852640"/>
            <a:ext cx="67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有按年规定的叫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</a:rPr>
              <a:t>年利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19280" y="3789360"/>
            <a:ext cx="669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b12c8"/>
                </a:solidFill>
                <a:latin typeface="Times New Roman"/>
              </a:rPr>
              <a:t>有按月规定的叫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月利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2050920" y="1628640"/>
            <a:ext cx="5229360" cy="1263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隶书"/>
              </a:rPr>
              <a:t>利率是由银行决定的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4869000"/>
            <a:ext cx="8459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1b12c8"/>
                </a:solidFill>
                <a:latin typeface="Times New Roman"/>
              </a:rPr>
              <a:t>利率可根据存款</a:t>
            </a:r>
            <a:r>
              <a:rPr b="1" lang="zh-CN" sz="4400" spc="-1" strike="noStrike" u="sng">
                <a:solidFill>
                  <a:srgbClr val="ff6600"/>
                </a:solidFill>
                <a:uFillTx/>
                <a:latin typeface="Times New Roman"/>
              </a:rPr>
              <a:t>时间的短</a:t>
            </a:r>
            <a:r>
              <a:rPr b="1" lang="zh-CN" sz="4400" spc="-1" strike="noStrike">
                <a:solidFill>
                  <a:srgbClr val="1b12c8"/>
                </a:solidFill>
                <a:latin typeface="Times New Roman"/>
              </a:rPr>
              <a:t>，    和</a:t>
            </a:r>
            <a:r>
              <a:rPr b="1" lang="zh-CN" sz="4400" spc="-1" strike="noStrike" u="sng">
                <a:solidFill>
                  <a:srgbClr val="ff6600"/>
                </a:solidFill>
                <a:uFillTx/>
                <a:latin typeface="Times New Roman"/>
              </a:rPr>
              <a:t>存款的方式</a:t>
            </a:r>
            <a:r>
              <a:rPr b="1" lang="zh-CN" sz="4400" spc="-1" strike="noStrike">
                <a:solidFill>
                  <a:srgbClr val="1b12c8"/>
                </a:solidFill>
                <a:latin typeface="Times New Roman"/>
              </a:rPr>
              <a:t>不同而不同</a:t>
            </a:r>
            <a:r>
              <a:rPr b="1" lang="en-US" sz="4400" spc="-1" strike="noStrike">
                <a:solidFill>
                  <a:srgbClr val="1b12c8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0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45720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39640" y="69228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我国银行活期和整存整取调整后的利率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3" name=""/>
          <p:cNvGraphicFramePr/>
          <p:nvPr/>
        </p:nvGraphicFramePr>
        <p:xfrm>
          <a:off x="0" y="1484280"/>
          <a:ext cx="8642520" cy="3933720"/>
        </p:xfrm>
        <a:graphic>
          <a:graphicData uri="http://schemas.openxmlformats.org/drawingml/2006/table">
            <a:tbl>
              <a:tblPr/>
              <a:tblGrid>
                <a:gridCol w="1712880"/>
                <a:gridCol w="1168560"/>
                <a:gridCol w="1441440"/>
                <a:gridCol w="1438200"/>
                <a:gridCol w="1441440"/>
                <a:gridCol w="1440000"/>
              </a:tblGrid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时   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活  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整     存     整       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年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98.3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1.7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.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.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6.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6.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98.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1.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7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.2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98.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1.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3.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3.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99.6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0.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8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002.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0.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1.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004.10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0.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1.7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007.8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.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3.3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3.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4.6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5.2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84" name=""/>
          <p:cNvSpPr txBox="1"/>
          <p:nvPr/>
        </p:nvSpPr>
        <p:spPr>
          <a:xfrm>
            <a:off x="2124000" y="0"/>
            <a:ext cx="4392720" cy="549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1998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年至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2007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年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50"/>
          <a:stretch/>
        </p:blipFill>
        <p:spPr>
          <a:xfrm>
            <a:off x="8532720" y="6308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0" y="549360"/>
            <a:ext cx="77342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標楷體"/>
              </a:rPr>
              <a:t>看一看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標楷體"/>
              </a:rPr>
              <a:t>,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標楷體"/>
              </a:rPr>
              <a:t>比一比说说你发现了什么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標楷體"/>
              </a:rPr>
              <a:t>?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942920" cy="140508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>
            <a:off x="1116000" y="2205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826920" y="2060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利息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本金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利息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×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时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0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1000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1000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000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2050920" y="62064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小知识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93" name=""/>
          <p:cNvSpPr/>
          <p:nvPr/>
        </p:nvSpPr>
        <p:spPr>
          <a:xfrm>
            <a:off x="1187280" y="1628640"/>
            <a:ext cx="7560000" cy="2562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年的规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存款的利息要按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税率纳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Times New Roman"/>
              </a:rPr>
              <a:t>国债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的利息</a:t>
            </a:r>
            <a:r>
              <a:rPr b="1" lang="zh-CN" sz="5400" spc="-1" strike="noStrike" u="sng">
                <a:solidFill>
                  <a:srgbClr val="d60093"/>
                </a:solidFill>
                <a:uFillTx/>
                <a:latin typeface="Times New Roman"/>
              </a:rPr>
              <a:t>不纳税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411280" y="4365720"/>
            <a:ext cx="655344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税后利息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利息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利息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2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                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利息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1-20%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3924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6309" fill="hold"/>
                                        <p:tgtEl>
                                          <p:spTgt spid="1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 txBox="1"/>
          <p:nvPr/>
        </p:nvSpPr>
        <p:spPr>
          <a:xfrm>
            <a:off x="1619280" y="620640"/>
            <a:ext cx="371484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標楷體"/>
              </a:rPr>
              <a:t>小问题考考你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標楷體"/>
              <a:ea typeface="標楷體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942920" cy="140508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1116000" y="220500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286000" y="21337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本金</a:t>
            </a:r>
            <a:r>
              <a:rPr b="1" lang="en-US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=</a:t>
            </a:r>
            <a:r>
              <a:rPr b="1" lang="zh-CN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利息</a:t>
            </a:r>
            <a:r>
              <a:rPr b="1" lang="en-US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利率</a:t>
            </a:r>
            <a:r>
              <a:rPr b="1" lang="en-US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006600"/>
                </a:solidFill>
                <a:latin typeface="方正彩云繁体"/>
                <a:ea typeface="方正彩云繁体"/>
              </a:rPr>
              <a:t>时间</a:t>
            </a:r>
            <a:r>
              <a:rPr b="1" lang="zh-CN" sz="36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286000" y="32846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利率</a:t>
            </a:r>
            <a:r>
              <a:rPr b="1" lang="en-US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利息</a:t>
            </a:r>
            <a:r>
              <a:rPr b="1" lang="en-US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本金</a:t>
            </a:r>
            <a:r>
              <a:rPr b="1" lang="en-US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000000"/>
                </a:solidFill>
                <a:latin typeface="方正彩云繁体"/>
                <a:ea typeface="方正彩云繁体"/>
              </a:rPr>
              <a:t>时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556000" y="46530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时间</a:t>
            </a:r>
            <a:r>
              <a:rPr b="1" lang="en-US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=</a:t>
            </a:r>
            <a:r>
              <a:rPr b="1" lang="zh-CN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利息</a:t>
            </a:r>
            <a:r>
              <a:rPr b="1" lang="en-US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本金</a:t>
            </a:r>
            <a:r>
              <a:rPr b="1" lang="en-US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÷</a:t>
            </a:r>
            <a:r>
              <a:rPr b="1" lang="zh-CN" sz="4400" spc="-1" strike="noStrike">
                <a:solidFill>
                  <a:srgbClr val="ff6600"/>
                </a:solidFill>
                <a:latin typeface="方正彩云繁体"/>
                <a:ea typeface="方正彩云繁体"/>
              </a:rPr>
              <a:t>利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58920" y="2565360"/>
            <a:ext cx="914400" cy="685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14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" descr=""/>
          <p:cNvPicPr/>
          <p:nvPr/>
        </p:nvPicPr>
        <p:blipFill>
          <a:blip r:embed="rId1"/>
          <a:stretch/>
        </p:blipFill>
        <p:spPr>
          <a:xfrm>
            <a:off x="0" y="4941720"/>
            <a:ext cx="2376360" cy="1654200"/>
          </a:xfrm>
          <a:prstGeom prst="rect">
            <a:avLst/>
          </a:prstGeom>
          <a:ln w="0">
            <a:noFill/>
          </a:ln>
        </p:spPr>
      </p:pic>
      <p:pic>
        <p:nvPicPr>
          <p:cNvPr id="1306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921800" cy="3903480"/>
          </a:xfrm>
          <a:prstGeom prst="rect">
            <a:avLst/>
          </a:prstGeom>
          <a:ln w="0">
            <a:noFill/>
          </a:ln>
        </p:spPr>
      </p:pic>
      <p:pic>
        <p:nvPicPr>
          <p:cNvPr id="1307" name="" descr=""/>
          <p:cNvPicPr/>
          <p:nvPr/>
        </p:nvPicPr>
        <p:blipFill>
          <a:blip r:embed="rId3"/>
          <a:stretch/>
        </p:blipFill>
        <p:spPr>
          <a:xfrm>
            <a:off x="8604360" y="609300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8101080" y="1989000"/>
            <a:ext cx="1042920" cy="721440"/>
            <a:chOff x="8101080" y="1989000"/>
            <a:chExt cx="1042920" cy="721440"/>
          </a:xfrm>
        </p:grpSpPr>
        <p:sp>
          <p:nvSpPr>
            <p:cNvPr id="1309" name=""/>
            <p:cNvSpPr/>
            <p:nvPr/>
          </p:nvSpPr>
          <p:spPr>
            <a:xfrm flipH="1" rot="10800000">
              <a:off x="8100720" y="1989000"/>
              <a:ext cx="1042920" cy="721440"/>
            </a:xfrm>
            <a:prstGeom prst="wedgeRoundRectCallout">
              <a:avLst>
                <a:gd name="adj1" fmla="val -80342"/>
                <a:gd name="adj2" fmla="val 181546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229960" y="1989000"/>
              <a:ext cx="78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时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2050560" y="1628640"/>
            <a:ext cx="1219320" cy="533520"/>
            <a:chOff x="2050560" y="1628640"/>
            <a:chExt cx="1219320" cy="533520"/>
          </a:xfrm>
        </p:grpSpPr>
        <p:sp>
          <p:nvSpPr>
            <p:cNvPr id="1312" name=""/>
            <p:cNvSpPr/>
            <p:nvPr/>
          </p:nvSpPr>
          <p:spPr>
            <a:xfrm rot="10800000">
              <a:off x="2050560" y="1628640"/>
              <a:ext cx="1219320" cy="533520"/>
            </a:xfrm>
            <a:prstGeom prst="wedgeRoundRectCallout">
              <a:avLst>
                <a:gd name="adj1" fmla="val -80342"/>
                <a:gd name="adj2" fmla="val 181546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03200" y="162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本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77800" y="404640"/>
            <a:ext cx="85662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如果把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0000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元存入银行，定期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年。年利率是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2.70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%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帮老师计算出到期时能得到多少税后利息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1280" y="2421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Χ2.70%Χ3=8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10(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285264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　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10Χ(1-20%)=6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48(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0.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00.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×20%=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00.4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-177840" y="4149720"/>
            <a:ext cx="3425400" cy="2362320"/>
            <a:chOff x="-177840" y="4149720"/>
            <a:chExt cx="3425400" cy="2362320"/>
          </a:xfrm>
        </p:grpSpPr>
        <p:sp>
          <p:nvSpPr>
            <p:cNvPr id="1318" name="Litebulb"/>
            <p:cNvSpPr/>
            <p:nvPr/>
          </p:nvSpPr>
          <p:spPr>
            <a:xfrm>
              <a:off x="-177840" y="4149720"/>
              <a:ext cx="3425400" cy="2362320"/>
            </a:xfrm>
            <a:prstGeom prst="pie">
              <a:avLst/>
            </a:prstGeom>
            <a:solidFill>
              <a:srgbClr val="ff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-7920" y="4378320"/>
              <a:ext cx="288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3333cc"/>
                  </a:solidFill>
                  <a:latin typeface="Times New Roman"/>
                  <a:ea typeface="PMingLiU"/>
                </a:rPr>
                <a:t>老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PMingLiU"/>
                </a:rPr>
                <a:t>师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一共可取回多少元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r>
                <a:rPr b="1" lang="zh-CN" sz="3600" spc="-1" strike="noStrike">
                  <a:solidFill>
                    <a:srgbClr val="993366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796000" y="2637000"/>
            <a:ext cx="2592360" cy="1152360"/>
            <a:chOff x="5796000" y="2637000"/>
            <a:chExt cx="2592360" cy="1152360"/>
          </a:xfrm>
        </p:grpSpPr>
        <p:sp>
          <p:nvSpPr>
            <p:cNvPr id="1321" name=""/>
            <p:cNvSpPr/>
            <p:nvPr/>
          </p:nvSpPr>
          <p:spPr>
            <a:xfrm>
              <a:off x="5796000" y="2637000"/>
              <a:ext cx="2592360" cy="1152360"/>
            </a:xfrm>
            <a:prstGeom prst="cloudCallout">
              <a:avLst>
                <a:gd name="adj1" fmla="val -98791"/>
                <a:gd name="adj2" fmla="val 1028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273360" y="278640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3366"/>
                  </a:solidFill>
                  <a:latin typeface="Arial"/>
                </a:rPr>
                <a:t>税后利息是多少元？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2771640" y="981000"/>
            <a:ext cx="115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565360" y="14842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3492360" y="1628640"/>
            <a:ext cx="820800" cy="760680"/>
            <a:chOff x="3492360" y="1628640"/>
            <a:chExt cx="820800" cy="760680"/>
          </a:xfrm>
        </p:grpSpPr>
        <p:sp>
          <p:nvSpPr>
            <p:cNvPr id="1326" name=""/>
            <p:cNvSpPr/>
            <p:nvPr/>
          </p:nvSpPr>
          <p:spPr>
            <a:xfrm>
              <a:off x="3492360" y="1628640"/>
              <a:ext cx="820800" cy="760680"/>
            </a:xfrm>
            <a:prstGeom prst="wedgeEllipseCallout">
              <a:avLst>
                <a:gd name="adj1" fmla="val -67013"/>
                <a:gd name="adj2" fmla="val -6953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629160" y="1723680"/>
              <a:ext cx="51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利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250920" y="476280"/>
            <a:ext cx="990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38560" y="2133720"/>
            <a:ext cx="18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41800" y="2199240"/>
            <a:ext cx="1868400" cy="6123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356000" y="21016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Arial"/>
              </a:rPr>
              <a:t>利息是多少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20960" y="4694400"/>
            <a:ext cx="42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或  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100</a:t>
            </a: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00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Χ2.70%Χ3Χ(1-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=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8</a:t>
            </a: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00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.10Χ0.8</a:t>
            </a: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= </a:t>
            </a:r>
            <a:r>
              <a:rPr b="1" lang="en-US" sz="2400" spc="-1" strike="noStrike">
                <a:solidFill>
                  <a:srgbClr val="006600"/>
                </a:solidFill>
                <a:latin typeface="PMingLiU"/>
                <a:ea typeface="PMingLiU"/>
              </a:rPr>
              <a:t>600.48</a:t>
            </a:r>
            <a:r>
              <a:rPr b="1" lang="zh-CN" sz="2400" spc="-1" strike="noStrike">
                <a:solidFill>
                  <a:srgbClr val="006600"/>
                </a:solidFill>
                <a:latin typeface="PMingLiU"/>
                <a:ea typeface="PMingLiU"/>
              </a:rPr>
              <a:t>（元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599280" y="5805360"/>
            <a:ext cx="33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答</a:t>
            </a:r>
            <a:r>
              <a:rPr b="0" lang="zh-CN" sz="2000" spc="-1" strike="noStrike">
                <a:solidFill>
                  <a:srgbClr val="006600"/>
                </a:solidFill>
                <a:latin typeface="黑体"/>
                <a:ea typeface="黑体"/>
              </a:rPr>
              <a:t>：到期时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师能得到税后利息是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6.48</a:t>
            </a:r>
            <a:r>
              <a:rPr b="1" lang="zh-TW" sz="2000" spc="-1" strike="noStrike">
                <a:solidFill>
                  <a:srgbClr val="006600"/>
                </a:solidFill>
                <a:latin typeface="Times New Roman"/>
              </a:rPr>
              <a:t>元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3789360"/>
            <a:ext cx="1295280" cy="2666880"/>
          </a:xfrm>
          <a:prstGeom prst="rect">
            <a:avLst/>
          </a:prstGeom>
          <a:ln w="0">
            <a:noFill/>
          </a:ln>
        </p:spPr>
      </p:pic>
      <p:pic>
        <p:nvPicPr>
          <p:cNvPr id="1335" name="" descr=""/>
          <p:cNvPicPr/>
          <p:nvPr/>
        </p:nvPicPr>
        <p:blipFill>
          <a:blip r:embed="rId5"/>
          <a:stretch/>
        </p:blipFill>
        <p:spPr>
          <a:xfrm>
            <a:off x="6588000" y="3933720"/>
            <a:ext cx="1368720" cy="576360"/>
          </a:xfrm>
          <a:prstGeom prst="rect">
            <a:avLst/>
          </a:prstGeom>
          <a:ln w="0">
            <a:noFill/>
          </a:ln>
        </p:spPr>
      </p:pic>
      <p:sp>
        <p:nvSpPr>
          <p:cNvPr id="1336" name=""/>
          <p:cNvSpPr/>
          <p:nvPr/>
        </p:nvSpPr>
        <p:spPr>
          <a:xfrm>
            <a:off x="7667640" y="981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" name="" descr=""/>
          <p:cNvPicPr/>
          <p:nvPr/>
        </p:nvPicPr>
        <p:blipFill>
          <a:blip r:embed="rId6"/>
          <a:stretch/>
        </p:blipFill>
        <p:spPr>
          <a:xfrm>
            <a:off x="8459640" y="6381720"/>
            <a:ext cx="314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3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小明把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元钱存入银行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定期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年利率是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5.56%,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到期时他得到的利息是多少钱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1b12c8"/>
                </a:solidFill>
                <a:latin typeface="Times New Roman"/>
              </a:rPr>
              <a:t>列式为</a:t>
            </a:r>
            <a:r>
              <a:rPr b="0" lang="en-US" sz="3200" spc="-1" strike="noStrike">
                <a:solidFill>
                  <a:srgbClr val="1b12c8"/>
                </a:solidFill>
                <a:latin typeface="Times New Roman"/>
              </a:rPr>
              <a:t>(  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0" y="2276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</a:rPr>
              <a:t>5000X3*5.5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132000" y="220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</a:rPr>
              <a:t>5000+3X5.5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179280" y="0"/>
            <a:ext cx="25923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选择题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: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"/>
          <p:cNvSpPr/>
          <p:nvPr/>
        </p:nvSpPr>
        <p:spPr>
          <a:xfrm>
            <a:off x="6191280" y="2205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</a:rPr>
              <a:t>5000X3X5.5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95280" y="2924280"/>
            <a:ext cx="828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红红把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2100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元钱存入银行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定期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年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年利率为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4.50%,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到期她可以取回本金和税               后利息是多少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1b12c8"/>
                </a:solidFill>
                <a:latin typeface="Times New Roman"/>
              </a:rPr>
              <a:t>列式为</a:t>
            </a:r>
            <a:r>
              <a:rPr b="0" lang="en-US" sz="3600" spc="-1" strike="noStrike">
                <a:solidFill>
                  <a:srgbClr val="1b12c8"/>
                </a:solidFill>
                <a:latin typeface="Times New Roman"/>
              </a:rPr>
              <a:t>(   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59280" y="472428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6600"/>
                </a:solidFill>
                <a:latin typeface="Times New Roman"/>
              </a:rPr>
              <a:t>2100X2X4.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132000" y="537372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2100X2X4.50%X(1_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203640" y="602136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</a:rPr>
              <a:t>2100+2100X2X4.50%X(1__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7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5928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604360" y="623736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350" name="" descr=""/>
          <p:cNvPicPr/>
          <p:nvPr/>
        </p:nvPicPr>
        <p:blipFill>
          <a:blip r:embed="rId2"/>
          <a:stretch/>
        </p:blipFill>
        <p:spPr>
          <a:xfrm>
            <a:off x="226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35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35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6309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0874_GIF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469960" cy="311148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2743200" y="609480"/>
            <a:ext cx="6221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姓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王守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住址：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长发镇长发街居委会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帐号：</a:t>
            </a:r>
            <a:r>
              <a:rPr b="1" lang="en-US" sz="3200" spc="-1" strike="noStrike">
                <a:solidFill>
                  <a:srgbClr val="1b12c8"/>
                </a:solidFill>
                <a:latin typeface="Times New Roman"/>
                <a:ea typeface="黑体"/>
              </a:rPr>
              <a:t>6056101802003792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身份证号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cc"/>
                </a:solidFill>
                <a:latin typeface="Trebuchet MS"/>
              </a:rPr>
              <a:t>45042119421203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6084720" y="5499000"/>
            <a:ext cx="2700360" cy="135900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3"/>
          <a:stretch/>
        </p:blipFill>
        <p:spPr>
          <a:xfrm>
            <a:off x="2916360" y="4822920"/>
            <a:ext cx="3240000" cy="2035080"/>
          </a:xfrm>
          <a:prstGeom prst="rect">
            <a:avLst/>
          </a:prstGeom>
          <a:ln w="0">
            <a:noFill/>
          </a:ln>
        </p:spPr>
      </p:pic>
      <p:pic>
        <p:nvPicPr>
          <p:cNvPr id="120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829720" y="6524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-14940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 txBox="1"/>
          <p:nvPr/>
        </p:nvSpPr>
        <p:spPr>
          <a:xfrm>
            <a:off x="250920" y="549360"/>
            <a:ext cx="647676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议一议</a:t>
            </a:r>
            <a:r>
              <a:rPr b="0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比一比</a:t>
            </a:r>
            <a:r>
              <a:rPr b="0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你来评一下谁对谁错</a:t>
            </a:r>
            <a:r>
              <a:rPr b="0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(</a:t>
            </a:r>
            <a:r>
              <a:rPr b="0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对的打√</a:t>
            </a:r>
            <a:r>
              <a:rPr b="0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错的打</a:t>
            </a:r>
            <a:r>
              <a:rPr b="0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Χ)</a:t>
            </a:r>
            <a:endParaRPr b="0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"/>
          <p:cNvSpPr/>
          <p:nvPr/>
        </p:nvSpPr>
        <p:spPr>
          <a:xfrm>
            <a:off x="108000" y="1268280"/>
            <a:ext cx="8458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存款的利息按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的税率纳税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（   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50920" y="2276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利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本金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利率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时间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（  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4000" y="285264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利息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税后利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       （  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79280" y="3573360"/>
            <a:ext cx="815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④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3333cc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央</a:t>
            </a: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人民銀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行调低存款的利率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可能会拉动消费增长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（  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72360" y="22766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859280" y="4365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156360" y="328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516720" y="1413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把钱存入银行只对国家有好处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（  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227640" y="501336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14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王伯伯打算在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2008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年到北京去看奥运会，分别在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2006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年、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2007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年的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月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日，每年在银行定期存入人民币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2000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元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两笔存款都在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2008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年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月</a:t>
            </a:r>
            <a:r>
              <a:rPr b="0" lang="en-US" sz="4000" spc="-1" strike="noStrike">
                <a:solidFill>
                  <a:srgbClr val="d60093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日时到期。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王伯伯到时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可取出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Times New Roman"/>
              </a:rPr>
              <a:t>本金和税后利息</a:t>
            </a:r>
            <a:r>
              <a:rPr b="0" lang="zh-CN" sz="4000" spc="-1" strike="noStrike">
                <a:solidFill>
                  <a:srgbClr val="d60093"/>
                </a:solidFill>
                <a:latin typeface="Times New Roman"/>
              </a:rPr>
              <a:t>多少元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971640" y="189000"/>
            <a:ext cx="508644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生活中的储蓄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"/>
          <a:stretch/>
        </p:blipFill>
        <p:spPr>
          <a:xfrm>
            <a:off x="8532720" y="616572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304920" y="2286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2006-2007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年存款利率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8" name=""/>
          <p:cNvGraphicFramePr/>
          <p:nvPr/>
        </p:nvGraphicFramePr>
        <p:xfrm>
          <a:off x="228600" y="990720"/>
          <a:ext cx="8532720" cy="1685880"/>
        </p:xfrm>
        <a:graphic>
          <a:graphicData uri="http://schemas.openxmlformats.org/drawingml/2006/table">
            <a:tbl>
              <a:tblPr/>
              <a:tblGrid>
                <a:gridCol w="1600200"/>
                <a:gridCol w="1109520"/>
                <a:gridCol w="947880"/>
                <a:gridCol w="1112760"/>
                <a:gridCol w="1130400"/>
                <a:gridCol w="1351080"/>
                <a:gridCol w="12808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调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时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整存整取 （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活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三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半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一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两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-소망M"/>
                          <a:ea typeface="-소망M"/>
                        </a:rPr>
                        <a:t>三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006</a:t>
                      </a:r>
                      <a:r>
                        <a:rPr b="1" lang="zh-CN" sz="14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1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3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3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007</a:t>
                      </a:r>
                      <a:r>
                        <a:rPr b="1" lang="zh-CN" sz="14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1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.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3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0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9" name=""/>
          <p:cNvGraphicFramePr/>
          <p:nvPr/>
        </p:nvGraphicFramePr>
        <p:xfrm>
          <a:off x="228600" y="3581280"/>
          <a:ext cx="8610480" cy="2514600"/>
        </p:xfrm>
        <a:graphic>
          <a:graphicData uri="http://schemas.openxmlformats.org/drawingml/2006/table">
            <a:tbl>
              <a:tblPr/>
              <a:tblGrid>
                <a:gridCol w="1371600"/>
                <a:gridCol w="1284120"/>
                <a:gridCol w="1368720"/>
                <a:gridCol w="1366560"/>
                <a:gridCol w="1449360"/>
                <a:gridCol w="17701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本金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利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（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利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税后利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年存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4369a1"/>
                          </a:solidFill>
                          <a:latin typeface="-소망M"/>
                          <a:ea typeface="-소망M"/>
                        </a:rPr>
                        <a:t>存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0" name=""/>
          <p:cNvSpPr txBox="1"/>
          <p:nvPr/>
        </p:nvSpPr>
        <p:spPr>
          <a:xfrm>
            <a:off x="250920" y="278136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算！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1" name=""/>
          <p:cNvSpPr/>
          <p:nvPr/>
        </p:nvSpPr>
        <p:spPr>
          <a:xfrm>
            <a:off x="4695840" y="30369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83528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08000" y="5373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27672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3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572000" y="4581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012000" y="458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12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451640" y="458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87.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203640" y="5373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2.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716360" y="5373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156360" y="5373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596360" y="5373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4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8532720" y="6308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785988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你爸爸为了奖励你学习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假如他给你</a:t>
            </a:r>
            <a:r>
              <a:rPr b="1" lang="zh-CN" sz="9600" spc="-1" strike="noStrike">
                <a:solidFill>
                  <a:srgbClr val="ff6600"/>
                </a:solidFill>
                <a:latin typeface="华文行楷"/>
                <a:ea typeface="华文行楷"/>
              </a:rPr>
              <a:t>1000</a:t>
            </a:r>
            <a:r>
              <a:rPr b="1" lang="zh-CN" sz="9600" spc="-1" strike="noStrike">
                <a:solidFill>
                  <a:srgbClr val="ff6600"/>
                </a:solidFill>
                <a:latin typeface="华文行楷"/>
                <a:ea typeface="华文行楷"/>
              </a:rPr>
              <a:t>元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的奖励金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你如何处理奖励金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684360" y="476280"/>
            <a:ext cx="4464000" cy="116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新細明體"/>
              </a:rPr>
              <a:t>实际应用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新細明體"/>
              <a:ea typeface="新細明體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324000" y="2133720"/>
            <a:ext cx="86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这节课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使我感触最深的是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我感到最困难的是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我学会了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我发现了生活中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我想我将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</a:rPr>
              <a:t>学生自我总结，在班上交流或说给同桌听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1332000" y="907920"/>
            <a:ext cx="6912000" cy="1081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新細明體"/>
              </a:rPr>
              <a:t>反思评价    拓展思维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2124000" y="4941720"/>
            <a:ext cx="440208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1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我最棒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2"/>
          <a:stretch/>
        </p:blipFill>
        <p:spPr>
          <a:xfrm>
            <a:off x="8604360" y="616572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"/>
          <p:cNvPicPr/>
          <p:nvPr/>
        </p:nvPicPr>
        <p:blipFill>
          <a:blip r:embed="rId3"/>
          <a:stretch/>
        </p:blipFill>
        <p:spPr>
          <a:xfrm>
            <a:off x="147636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restart="whenNotActive" nodeType="interactiveSeq" fill="hold">
                <p:stCondLst>
                  <p:cond evt="onClick">
                    <p:tgtEl>
                      <p:spTgt spid="1390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390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291779" fill="hold"/>
                                        <p:tgtEl>
                                          <p:spTgt spid="1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fefefe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324000" y="2133720"/>
            <a:ext cx="770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华文中宋"/>
                <a:ea typeface="华文中宋"/>
              </a:rPr>
              <a:t>      </a:t>
            </a: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同学们，大家都能切身感受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边日新月异的变化，下面我们校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华文中宋"/>
                <a:ea typeface="华文中宋"/>
              </a:rPr>
              <a:t>之声的录音报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采访人：校园之声小记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被采访人：富里信用社李建军主任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1187280" y="1125360"/>
            <a:ext cx="58485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新細明體"/>
              </a:rPr>
              <a:t>巩固升华  启迪创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8675640" y="602136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394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0" dur="indefinite" restart="never" nodeType="tmRoot">
          <p:childTnLst>
            <p:seq>
              <p:cTn id="571" restart="whenNotActive" nodeType="interactiveSeq" fill="hold">
                <p:stCondLst>
                  <p:cond evt="onClick">
                    <p:tgtEl>
                      <p:spTgt spid="1394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1394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254377" fill="hold"/>
                                        <p:tgtEl>
                                          <p:spTgt spid="1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/>
          </p:nvPr>
        </p:nvSpPr>
        <p:spPr>
          <a:xfrm>
            <a:off x="973080" y="1980720"/>
            <a:ext cx="74232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王伯伯的孙子小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今年春节期间收到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00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元压岁钱她的父母让他自己管理这笔钱。你们帮她出个主意吧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后升入中学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1979640" y="549360"/>
            <a:ext cx="5040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是小小银行家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324000" y="5084640"/>
          <a:ext cx="8424720" cy="1335240"/>
        </p:xfrm>
        <a:graphic>
          <a:graphicData uri="http://schemas.openxmlformats.org/drawingml/2006/table">
            <a:tbl>
              <a:tblPr/>
              <a:tblGrid>
                <a:gridCol w="1592280"/>
                <a:gridCol w="1125360"/>
                <a:gridCol w="973440"/>
                <a:gridCol w="1047600"/>
                <a:gridCol w="1109520"/>
                <a:gridCol w="1322640"/>
                <a:gridCol w="12538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调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时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整存整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活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三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半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一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两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三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8675640" y="6524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324000" y="259920"/>
            <a:ext cx="457200" cy="18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0" name=""/>
          <p:cNvGraphicFramePr/>
          <p:nvPr/>
        </p:nvGraphicFramePr>
        <p:xfrm>
          <a:off x="2057400" y="990720"/>
          <a:ext cx="6324480" cy="1582560"/>
        </p:xfrm>
        <a:graphic>
          <a:graphicData uri="http://schemas.openxmlformats.org/drawingml/2006/table">
            <a:tbl>
              <a:tblPr/>
              <a:tblGrid>
                <a:gridCol w="1066680"/>
                <a:gridCol w="838440"/>
                <a:gridCol w="914400"/>
                <a:gridCol w="914400"/>
                <a:gridCol w="838080"/>
                <a:gridCol w="914400"/>
                <a:gridCol w="838080"/>
              </a:tblGrid>
              <a:tr h="44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调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时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整存整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活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三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半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一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两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6600ff"/>
                          </a:solidFill>
                          <a:latin typeface="Times New Roman"/>
                          <a:ea typeface="宋体"/>
                        </a:rPr>
                        <a:t>三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04560" y="2743200"/>
            <a:ext cx="856908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方案一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定期</a:t>
            </a:r>
            <a:r>
              <a:rPr b="1" lang="zh-CN" sz="3200" spc="-1" strike="noStrike">
                <a:solidFill>
                  <a:srgbClr val="ff6600"/>
                </a:solidFill>
                <a:latin typeface="华文仿宋"/>
                <a:ea typeface="华文仿宋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整存整取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方案二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先存定期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一年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后取出，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本息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一起再存定期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一年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仿宋"/>
                <a:ea typeface="华文仿宋"/>
              </a:rPr>
              <a:t>         </a:t>
            </a:r>
            <a:r>
              <a:rPr b="1" lang="zh-CN" sz="3600" spc="-1" strike="noStrike">
                <a:solidFill>
                  <a:srgbClr val="6600ff"/>
                </a:solidFill>
                <a:latin typeface="华文仿宋"/>
                <a:ea typeface="华文仿宋"/>
              </a:rPr>
              <a:t>算一算，哪一种方案更好一些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Comic Sans MS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99"/>
              </a:solidFill>
              <a:latin typeface="-소망M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69a1"/>
              </a:solidFill>
              <a:latin typeface="-소망M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rcRect l="3489" t="0" r="0" b="346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1204" name="">
            <a:hlinkClick r:id="" action="ppaction://hlinkshowjump?jump=nextslide"/>
          </p:cNvPr>
          <p:cNvSpPr/>
          <p:nvPr/>
        </p:nvSpPr>
        <p:spPr>
          <a:xfrm>
            <a:off x="611280" y="0"/>
            <a:ext cx="3457440" cy="2664000"/>
          </a:xfrm>
          <a:prstGeom prst="cloudCallout">
            <a:avLst>
              <a:gd name="adj1" fmla="val 41412"/>
              <a:gd name="adj2" fmla="val 8921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2"/>
          <a:srcRect l="0" t="22941" r="0" b="21966"/>
          <a:stretch/>
        </p:blipFill>
        <p:spPr>
          <a:xfrm>
            <a:off x="4788000" y="3645000"/>
            <a:ext cx="1463400" cy="72072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04360" y="652464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1763640" y="2492280"/>
            <a:ext cx="7201080" cy="237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隶书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人们把暂时不用的钱存入银行</a:t>
            </a:r>
            <a:r>
              <a:rPr b="1" lang="en-US" sz="4800" spc="-1" strike="noStrike">
                <a:solidFill>
                  <a:srgbClr val="ff66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不仅可以支援国家建设</a:t>
            </a:r>
            <a:r>
              <a:rPr b="1" lang="en-US" sz="4800" spc="-1" strike="noStrike">
                <a:solidFill>
                  <a:srgbClr val="ff66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ff6600"/>
                </a:solidFill>
                <a:latin typeface="隶书"/>
                <a:ea typeface="隶书"/>
              </a:rPr>
              <a:t>也使得个人用钱更加安全和有计划</a:t>
            </a:r>
            <a:r>
              <a:rPr b="1" lang="en-US" sz="4800" spc="-1" strike="noStrike">
                <a:solidFill>
                  <a:srgbClr val="ff6600"/>
                </a:solidFill>
                <a:latin typeface="隶书"/>
                <a:ea typeface="隶书"/>
              </a:rPr>
              <a:t>,  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还可以增加一些收入</a:t>
            </a:r>
            <a:r>
              <a:rPr b="1" lang="en-US" sz="5400" spc="-1" strike="noStrike" u="sng">
                <a:solidFill>
                  <a:srgbClr val="ff3300"/>
                </a:solidFill>
                <a:uFillTx/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050920" y="112536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人们把暂时不用的钱存入银行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,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对国家个人有好处吗</a:t>
            </a: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?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81720"/>
            <a:ext cx="314640" cy="3333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4"/>
          <a:stretch/>
        </p:blipFill>
        <p:spPr>
          <a:xfrm>
            <a:off x="125892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5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500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21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21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6309" fill="hold"/>
                                        <p:tgtEl>
                                          <p:spTgt spid="1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8693280" y="6381720"/>
            <a:ext cx="398160" cy="34596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252360" y="2421000"/>
            <a:ext cx="0" cy="41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2360" y="6597720"/>
            <a:ext cx="6313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20160" y="2492280"/>
            <a:ext cx="1526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0" spc="-1" strike="noStrike">
                <a:solidFill>
                  <a:srgbClr val="9900ff"/>
                </a:solidFill>
                <a:latin typeface="Webdings"/>
                <a:ea typeface="Webdings"/>
              </a:rPr>
              <a:t></a:t>
            </a:r>
            <a:endParaRPr b="0" lang="en-US" sz="2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8360" y="3500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r>
              <a:rPr b="1" lang="zh-TW" sz="4000" spc="-1" strike="noStrike">
                <a:solidFill>
                  <a:srgbClr val="37cc0e"/>
                </a:solidFill>
                <a:latin typeface="Arial Black"/>
              </a:rPr>
              <a:t>制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yq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2143800">
            <a:off x="-360" y="5229000"/>
            <a:ext cx="16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ff"/>
                </a:solidFill>
                <a:latin typeface="Wingdings 2"/>
                <a:ea typeface="Wingdings 2"/>
              </a:rPr>
              <a:t></a:t>
            </a:r>
            <a:r>
              <a:rPr b="1" lang="en-US" sz="3000" spc="-1" strike="noStrike">
                <a:solidFill>
                  <a:srgbClr val="0066ff"/>
                </a:solidFill>
                <a:latin typeface="GungsuhChe"/>
                <a:ea typeface="GungsuhChe"/>
              </a:rPr>
              <a:t>Dat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11400" y="429264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rot="20122800">
            <a:off x="1403640" y="5444640"/>
            <a:ext cx="20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Script MT Bold"/>
              </a:rPr>
              <a:t>2014.2.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未知"/>
          <p:cNvSpPr/>
          <p:nvPr/>
        </p:nvSpPr>
        <p:spPr>
          <a:xfrm rot="1469400">
            <a:off x="250920" y="764640"/>
            <a:ext cx="1461960" cy="8636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933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3132000" y="1700280"/>
            <a:ext cx="568980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利息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-23976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1223" name="" descr=""/>
          <p:cNvPicPr/>
          <p:nvPr/>
        </p:nvPicPr>
        <p:blipFill>
          <a:blip r:embed="rId2"/>
          <a:stretch/>
        </p:blipFill>
        <p:spPr>
          <a:xfrm>
            <a:off x="8693280" y="6381720"/>
            <a:ext cx="398160" cy="34596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252360" y="2421000"/>
            <a:ext cx="0" cy="4176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2360" y="6597720"/>
            <a:ext cx="6313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rId3" action="ppaction://hlinksldjump"/>
          </p:cNvPr>
          <p:cNvSpPr/>
          <p:nvPr/>
        </p:nvSpPr>
        <p:spPr>
          <a:xfrm>
            <a:off x="6732720" y="2492280"/>
            <a:ext cx="1655640" cy="57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66ff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>
            <a:hlinkClick r:id="rId4" action="ppaction://hlinksldjump"/>
          </p:cNvPr>
          <p:cNvSpPr/>
          <p:nvPr/>
        </p:nvSpPr>
        <p:spPr>
          <a:xfrm>
            <a:off x="3924360" y="836640"/>
            <a:ext cx="187164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79400" y="3284640"/>
            <a:ext cx="36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940120" y="508464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未知"/>
          <p:cNvSpPr/>
          <p:nvPr/>
        </p:nvSpPr>
        <p:spPr>
          <a:xfrm rot="1469400">
            <a:off x="250920" y="764640"/>
            <a:ext cx="1461960" cy="8636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lin ang="933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2987640" y="1989000"/>
            <a:ext cx="352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利息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32" name=""/>
          <p:cNvSpPr/>
          <p:nvPr/>
        </p:nvSpPr>
        <p:spPr>
          <a:xfrm>
            <a:off x="1476360" y="2276640"/>
            <a:ext cx="187164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55640" y="3716280"/>
            <a:ext cx="187164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492360" y="5229360"/>
            <a:ext cx="187164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732720" y="4221000"/>
            <a:ext cx="187164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27760" y="371628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ffff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612120" y="198900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d60093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732120" y="54936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7cc0e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00120" y="184464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1b12c8"/>
                </a:solidFill>
                <a:latin typeface="Wingdings 2"/>
                <a:ea typeface="Wingdings 2"/>
              </a:rPr>
              <a:t>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26920" y="3789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情景导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1547640" y="2349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自主学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924360" y="981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转变思维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6588000" y="2565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拓展练习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6732720" y="429264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实践调查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3635280" y="5373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反思体验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900000" y="0"/>
            <a:ext cx="7488360" cy="3500280"/>
          </a:xfrm>
          <a:prstGeom prst="cloudCallout">
            <a:avLst>
              <a:gd name="adj1" fmla="val -41222"/>
              <a:gd name="adj2" fmla="val 7798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8000" y="47628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006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月，中国各银行给工业发放贷款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21636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亿元，给商业发放贷款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956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亿元，给建筑业发放贷款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3099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亿元，给农业发放贷款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671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亿元。这些钱就是我们大家平时的储蓄。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8" name="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1812960" cy="2152800"/>
          </a:xfrm>
          <a:prstGeom prst="rect">
            <a:avLst/>
          </a:prstGeom>
          <a:ln w="0">
            <a:noFill/>
          </a:ln>
        </p:spPr>
      </p:pic>
      <p:pic>
        <p:nvPicPr>
          <p:cNvPr id="1249" name="" descr=""/>
          <p:cNvPicPr/>
          <p:nvPr/>
        </p:nvPicPr>
        <p:blipFill>
          <a:blip r:embed="rId3"/>
          <a:stretch/>
        </p:blipFill>
        <p:spPr>
          <a:xfrm>
            <a:off x="8532720" y="623736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250" name="" descr=""/>
          <p:cNvPicPr/>
          <p:nvPr/>
        </p:nvPicPr>
        <p:blipFill>
          <a:blip r:embed="rId4"/>
          <a:stretch/>
        </p:blipFill>
        <p:spPr>
          <a:xfrm>
            <a:off x="7667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250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250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6309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050920" y="62064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小知识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53" name=""/>
          <p:cNvSpPr/>
          <p:nvPr/>
        </p:nvSpPr>
        <p:spPr>
          <a:xfrm>
            <a:off x="1258920" y="278136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隶书"/>
              </a:rPr>
              <a:t>存款方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211640" y="2637000"/>
            <a:ext cx="5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6600"/>
                </a:solidFill>
                <a:latin typeface="Arial Black"/>
              </a:rPr>
              <a:t>{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643280" y="213372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隶书"/>
              </a:rPr>
              <a:t>活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572000" y="371628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Times New Roman"/>
                <a:ea typeface="隶书"/>
              </a:rPr>
              <a:t>定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67280" y="386064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 Black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72360" y="350028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80"/>
                </a:solidFill>
                <a:latin typeface="Times New Roman"/>
                <a:ea typeface="隶书"/>
              </a:rPr>
              <a:t>零存整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516720" y="429264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Times New Roman"/>
                <a:ea typeface="隶书"/>
              </a:rPr>
              <a:t>整存整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0" name="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1908000" y="260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2050920" y="620640"/>
            <a:ext cx="2521080" cy="863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小知识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63" name=""/>
          <p:cNvSpPr/>
          <p:nvPr/>
        </p:nvSpPr>
        <p:spPr>
          <a:xfrm>
            <a:off x="1763640" y="1844640"/>
            <a:ext cx="7056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60093"/>
                </a:solidFill>
                <a:latin typeface="Times New Roman"/>
                <a:ea typeface="隶书"/>
              </a:rPr>
              <a:t>零存整取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                 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按照银行规定每个月或每几个月准时把钱存入银行</a:t>
            </a:r>
            <a:r>
              <a:rPr b="1" lang="en-US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到一定的期限再把钱取出来</a:t>
            </a:r>
            <a:r>
              <a:rPr b="1" lang="en-US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1"/>
          <a:stretch/>
        </p:blipFill>
        <p:spPr>
          <a:xfrm>
            <a:off x="8388360" y="623736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6:54:48Z</dcterms:created>
  <dc:creator> </dc:creator>
  <dc:description/>
  <cp:keywords/>
  <dc:language>en-US</dc:language>
  <cp:lastModifiedBy>微软用户</cp:lastModifiedBy>
  <dcterms:modified xsi:type="dcterms:W3CDTF">2014-02-24T00:47:12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42</vt:lpwstr>
  </property>
</Properties>
</file>