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158-BB5A-4617-B350-D36BEF6D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282-B572-4266-9123-BE48F41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9A6-0E72-4332-8CDF-4EC3C532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44E-232F-4FF0-91AB-FA078A75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321-F41A-4EA9-AF85-1EE21296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625-DCF1-4EA2-9736-06408AEA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F6E-6E1E-4FC5-B19C-C5905D8D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123-1CA6-4818-B2BA-B084B630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272-FFE5-4F16-9F8E-F653B47C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DAB-08FC-471A-8084-3A9CDB9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293-13CE-4EE5-B070-98A98B71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556-F22D-4887-BB32-453CEC8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3842-590D-4C9D-9426-BEA65ACF0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方程解决稍复杂的百分数实际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3860280"/>
            <a:ext cx="384804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一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解方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62755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 + 20%X=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 – 15%X=10.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85068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7993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朝阳小学美术组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，女生人数是男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美术组男、女生各有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人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）人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美术组的总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一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说说下面各题的数量关系，再解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同学们种蓖麻的棵数是向日葵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向日葵和蓖麻一共种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棵。向日葵和蓖麻各种了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同学们种蓖麻的棵数是向日葵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种的向日葵比蓖麻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棵。向日葵和蓖麻各种了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360" y="17733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解方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X+60%X=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X-25%X=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X-35%X=0.5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林明宇一共收集了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张邮票，其中外国邮票是中国邮票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5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林明宇收集的外国邮票和中国邮票各有多少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少先队员采集的动物标本比植物标本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件，其中动物标本是植物标本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两种标本各采集了多少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746000"/>
            <a:ext cx="8497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桃树和梨树一共有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根据下面的条件算出桃树和梨树各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桃树的棵数是梨树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梨树的棵数是桃数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4:43:55Z</dcterms:created>
  <dc:creator/>
  <dc:description/>
  <dc:language>en-US</dc:language>
  <cp:lastModifiedBy/>
  <dcterms:modified xsi:type="dcterms:W3CDTF">2015-06-18T08:07:41Z</dcterms:modified>
  <cp:revision>6</cp:revision>
  <dc:subject/>
  <dc:title/>
</cp:coreProperties>
</file>