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955F-FC0F-45AD-91F6-2E40DD959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E5F6-0156-40D3-8E65-986FE3C9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32C0-9C3C-45E5-B371-39292751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29AA-3EB2-4B64-8605-A71E6F95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F9E0-EBAD-4613-8209-D32A9438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7A55-B5FF-4957-A048-607BE251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FA6B-5B42-4650-BE4A-7A728C8B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16BB-F950-4C80-8025-8582230B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2E27-0617-47C2-B1BE-6CFC752E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1EDF-9484-46CB-9728-CD3198D3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42F4-FB55-4C04-BD0B-E78EB11D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24EE-8002-4970-B780-16FCC43B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FF24-BEE0-425C-A1A5-3C17FCC77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列方程解决稍复杂的百分数实际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39640" y="3860280"/>
            <a:ext cx="3848040" cy="5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第一课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289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解方程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47840"/>
            <a:ext cx="627552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X + 20%X=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X – 15%X=10.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850680"/>
            <a:ext cx="224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例题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2133360"/>
            <a:ext cx="799308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朝阳小学美术组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，女生人数是男生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0%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美术组男、女生各有多少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 ）人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）人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美术组的总人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7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练一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先说说下面各题的数量关系，再解答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同学们种蓖麻的棵数是向日葵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5%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向日葵和蓖麻一共种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4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棵。向日葵和蓖麻各种了多少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同学们种蓖麻的棵数是向日葵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5%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种的向日葵比蓖麻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棵。向日葵和蓖麻各种了多少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3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练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92360" y="177336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解方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X+60%X=4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X-25%X=2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X-35%X=0.5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练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5280" y="1916280"/>
            <a:ext cx="799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林明宇一共收集了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20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张邮票，其中外国邮票是中国邮票的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5%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林明宇收集的外国邮票和中国邮票各有多少张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练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少先队员采集的动物标本比植物标本少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件，其中动物标本是植物标本的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80%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两种标本各采集了多少件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3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练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1746000"/>
            <a:ext cx="8497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桃树和梨树一共有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96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棵，根据下面的条件算出桃树和梨树各有多少棵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）桃树的棵数是梨树的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倍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）梨树的棵数是桃数的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04:43:55Z</dcterms:created>
  <dc:creator/>
  <dc:description/>
  <dc:language>en-US</dc:language>
  <cp:lastModifiedBy/>
  <dcterms:modified xsi:type="dcterms:W3CDTF">2015-06-18T08:07:41Z</dcterms:modified>
  <cp:revision>6</cp:revision>
  <dc:subject/>
  <dc:title/>
</cp:coreProperties>
</file>