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8AB-13C0-44BF-ACAD-9536BBDA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FF9-04CE-46D9-BB5E-91B9EDB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385-2A3E-4DD7-A434-719E20F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421-6C83-4267-B1B3-D467E01A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D18-D54D-4F26-84C0-FEA57776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E27-6AB3-458E-8C1C-EBBD2FD5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E2D-9855-4658-AA64-5555E28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D62-0B01-4EBD-B8D3-9DE924AF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2B1-FA38-4690-AA97-80ED65C4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DFC-6241-45E1-B823-4EE9E6F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55B-163A-4052-AD96-AFFBCA4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11B-C98A-410B-9F74-E29F099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1C3-364B-4EEA-9DC7-71BF8C875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方程解决稍复杂的百分数实际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3860280"/>
            <a:ext cx="384804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85068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7993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青云小学十月份用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立方米，比九月份节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九月份用水多少立方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说说下面各题的数量关系，再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东港小学美术组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，比舞蹈组的人数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舞蹈组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件毛衣现在售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，比原来降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原来售价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8920" y="2142720"/>
            <a:ext cx="38163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解方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P13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新庄苗圃今年培育了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8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松树苗，比原计划多培育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0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原计划培育松树苗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年我国留学生回国人员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.0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万人，比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年增长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3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年我国留学回国多少万人？（得数保留两位小数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光明畜牧场养了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9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头肉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肉牛比奶牛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奶牛有多少头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奶牛比肉牛多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奶牛有多少头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4:43:55Z</dcterms:created>
  <dc:creator/>
  <dc:description/>
  <dc:language>en-US</dc:language>
  <cp:lastModifiedBy/>
  <dcterms:modified xsi:type="dcterms:W3CDTF">2015-06-18T08:08:14Z</dcterms:modified>
  <cp:revision>9</cp:revision>
  <dc:subject/>
  <dc:title/>
</cp:coreProperties>
</file>