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730-139D-4E2F-BE7C-8978A551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9E0-3D2C-4C39-B5DD-3A8453F1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FD6-7ECA-4CA8-B356-BDB1B6A3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853-2F4E-4A30-91C4-A43FD4BE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CAC-BCFF-439C-AD82-92F8FAC5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614-B7FD-4349-8B94-D0183D9A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3F3-3E90-440D-B416-42E6C721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E76-8571-4162-A3E9-89E00263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E06-C76C-45C2-979E-FBA59B80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EC9-6A66-41E5-9FC8-E0C8A239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FD6-ED5E-44CA-AE40-CA7EF2F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417-5C10-43AE-8EB7-AAAAB239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75E6-2852-4A2F-A75B-07CE1501A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列方程解决稍复杂的百分数实际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3860280"/>
            <a:ext cx="384804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三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解方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7993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X+3/4X=3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X+3/5X=7/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X-3/8X=5/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7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一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一桶油，用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正好用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克。这桶油有多少千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一桶油，用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还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克。这通油有多少千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建筑工地要运进一批水泥，已经运来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吨，还剩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0%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没有运。这批水泥有多少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同学们到车站参加义务劳动，男生人数占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5%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女生有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。参加义务劳动的一共有多少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织女星运行的速度是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秒，相当于牛郎星运行速度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7/1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牛郎星的运行速度是多少千米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秒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织女星运行的速度是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秒，比牛郎星运行的速度慢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6/1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牛郎星的运行速度是多少千米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秒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新民食品厂九月份生产的牛奶饼干比果汁饼干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7/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吨，牛奶饼干的吨数是果汁饼干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/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两种饼干各生产多少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小星看一本课外书，第一天看了全书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/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第二天看了全书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两天共看了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页。这本书有多少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4:43:55Z</dcterms:created>
  <dc:creator/>
  <dc:description/>
  <dc:language>en-US</dc:language>
  <cp:lastModifiedBy/>
  <dcterms:modified xsi:type="dcterms:W3CDTF">2015-06-18T08:08:37Z</dcterms:modified>
  <cp:revision>12</cp:revision>
  <dc:subject/>
  <dc:title/>
</cp:coreProperties>
</file>