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2E3-A66F-4DEA-AB58-90A5CD5A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09E-A10C-4439-AF92-FDF45FBE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F21-EC92-4366-A8F0-E2A67875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565-D896-427A-A5B3-386E7710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E814-D1BD-46C5-98EE-5E61A1ED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9F4F-2F14-46B0-B86A-63902ABD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AE5A-9E07-44AA-9C36-1D9CA9D0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1A94-CA2F-4FFB-B05F-C38F981A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D9DB-21A0-49FF-A6DA-2E1A0A9B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0261-BDE4-4FBE-B7A6-B77B0A3F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AD7A-59F4-4A63-9B65-063D8ABF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7F2-6EE4-424C-AE53-13F94F2E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73C6-7B06-42E2-9730-5D42BD89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3E35-04F6-480E-905C-BA6CA5D3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2FAD-4E29-4967-8995-72B883CF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90E5-1393-4A22-AD50-98603E5B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7036-5C9D-4973-97A4-899A2FD3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A2C-A656-4CDB-810F-35CEFC40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5F6-D17F-4717-BB20-C91F425A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559-41C6-4C90-A629-FB998BCD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259-3ED9-437E-8B5B-64E072AD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E91-6111-42E9-9497-B4FED18C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E97-1C07-495D-ADFA-A302898E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C26-41E2-4C37-98AF-5C0FB620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7C40-01F0-4D58-A9C2-73A3089131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5C02-4A7C-40F1-B6E3-9ABF36633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4B0C-F8A5-4DE7-9406-1D5468E20FDE}" type="datetime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AE23-6C37-4178-850C-CD08F645622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336600" y="192240"/>
            <a:ext cx="39052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苏教版六年级数学下册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857160" y="2857680"/>
            <a:ext cx="7467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e0e14"/>
                  </a:solidFill>
                  <a:miter/>
                </a:ln>
                <a:solidFill>
                  <a:srgbClr val="0e0e14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列方程解稍复杂的百分数实际问题（一）</a:t>
            </a:r>
            <a:endParaRPr b="1" lang="en-US" sz="2400" spc="1" strike="noStrike">
              <a:ln w="9360">
                <a:solidFill>
                  <a:srgbClr val="0e0e14"/>
                </a:solidFill>
                <a:miter/>
              </a:ln>
              <a:solidFill>
                <a:srgbClr val="0e0e14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矩形 3" descr=""/>
          <p:cNvPicPr/>
          <p:nvPr/>
        </p:nvPicPr>
        <p:blipFill>
          <a:blip r:embed="rId1"/>
          <a:stretch/>
        </p:blipFill>
        <p:spPr>
          <a:xfrm>
            <a:off x="2273400" y="731880"/>
            <a:ext cx="3657600" cy="11332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1071720" y="2500200"/>
            <a:ext cx="6929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545472"/>
                </a:solidFill>
                <a:latin typeface="华文行楷"/>
                <a:ea typeface="华文行楷"/>
              </a:rPr>
              <a:t>今天学的百分数应用题有什么特点？解决这类题目的关键是什么？</a:t>
            </a:r>
            <a:endParaRPr b="0" lang="en-US" sz="4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785880" y="2357280"/>
            <a:ext cx="79293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进一步掌握稍复杂的百分数应用题的分析与解答的方法，提高同学们的分析解题能力。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2.</a:t>
            </a:r>
            <a:r>
              <a:rPr b="1" lang="zh-CN" sz="30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通过练习，体会列方程解答稍复杂的百分数的实际问题，正确理解数量之间的相等关系的重要性。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9" name="矩形 2" descr=""/>
          <p:cNvPicPr/>
          <p:nvPr/>
        </p:nvPicPr>
        <p:blipFill>
          <a:blip r:embed="rId1"/>
          <a:stretch/>
        </p:blipFill>
        <p:spPr>
          <a:xfrm>
            <a:off x="2273400" y="731880"/>
            <a:ext cx="36576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7777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找出单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5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947880" y="1928880"/>
            <a:ext cx="6553080" cy="38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．一本书已经看了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．实际比计划节约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．今年产量比去年提高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．乙数比甲数少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根据所给信息，说出数量间的相等关系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一条路，已修了全长的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Arial"/>
              </a:rPr>
              <a:t>60%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219840" y="3119400"/>
            <a:ext cx="25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一种彩电，现价比原价降低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Arial"/>
              </a:rPr>
              <a:t>10%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330560" y="4491000"/>
            <a:ext cx="475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松树的棵数比柏树多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Arial"/>
              </a:rPr>
              <a:t>80%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57120" y="221472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青云小学九月份用水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550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立方米，十月份比九月份节约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0%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十月份用水多少立方米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50800" y="714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复习题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9880" y="713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列式计算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）一个数的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75%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比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0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5%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多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5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求这个数。</a:t>
            </a:r>
            <a:br>
              <a:rPr sz="4000"/>
            </a:b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91160" y="3809880"/>
            <a:ext cx="6417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）一个数的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5%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比它的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75%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少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0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求这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数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Tahoma"/>
                <a:ea typeface="黑体"/>
              </a:rPr>
              <a:t>对比练习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988640"/>
            <a:ext cx="859644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）某工厂六月份用煤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吨，六月份比五月份少用煤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％，五月份用煤多少吨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52280" y="3886200"/>
            <a:ext cx="82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）某工厂六月份用煤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60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吨，五月份比六月份多用煤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5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％，五月份用煤多少吨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320" y="160020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八月份用水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吨，九月份用水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吨，比八月份多百分之几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八月份用水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吨，九月份用水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吨，九月份是八月份的百分之几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八月份用水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吨，九月份比八月份多用水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吨，九月份比八月份多百分之几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九月份用水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吨，比八月份多用水</a:t>
            </a:r>
            <a:r>
              <a:rPr b="1" lang="en-US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吨，九月份比八月份多百分之几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52280" y="7621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Tahoma"/>
                <a:ea typeface="黑体"/>
              </a:rPr>
              <a:t>对比练习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640" y="785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e14"/>
                </a:solidFill>
                <a:latin typeface="Tahoma"/>
                <a:ea typeface="黑体"/>
              </a:rPr>
              <a:t>根据所给信息，选取条件和问题，编写题目并解答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今年造林</a:t>
            </a:r>
            <a:r>
              <a:rPr b="1" lang="en-US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公顷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去年造林</a:t>
            </a:r>
            <a:r>
              <a:rPr b="1" lang="en-US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32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公顷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今年比去年多造林</a:t>
            </a:r>
            <a:r>
              <a:rPr b="1" lang="en-US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公顷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去年比今年少造林</a:t>
            </a:r>
            <a:r>
              <a:rPr b="1" lang="en-US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公顷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今年比去年多造林百分之几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去年比今年少造林百分之几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1:52:59Z</dcterms:created>
  <dc:creator/>
  <dc:description/>
  <dc:language>en-US</dc:language>
  <cp:lastModifiedBy/>
  <dcterms:modified xsi:type="dcterms:W3CDTF">2015-06-18T08:09:06Z</dcterms:modified>
  <cp:revision>24</cp:revision>
  <dc:subject/>
  <dc:title/>
</cp:coreProperties>
</file>