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D574-F621-4FC4-BA56-424AF63A5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5F2F-D68A-4D94-98DD-F2CF1B2E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FEF5-25C1-4DAD-8502-91E05EF01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19FD-0D21-4B7C-9763-E55C7DED4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6777-4222-45F6-9027-C8776CD52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7713-98A5-489F-90F7-CE143DC1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1A9B-EE03-456E-A96C-77A0B124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C300-6736-48FC-BB07-E81E53E4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EC16-9801-4BC3-9D52-3924E914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70BC-48FA-4F57-9891-DA3E71AF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6DAE-F80D-47BC-8C88-DCE29DE6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5E7F-5686-4EDB-BEF9-B9A09B7D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F657-1480-48F8-A6E9-6CE67010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750A-EF8A-44D2-800D-81AB759A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CC7F-0C07-4CFF-A18A-07D1C086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4064-CDE7-4EFF-8208-6AB9F028C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FCF2-8CF0-41B1-932C-F00C6638D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E795-F0DD-46BB-9C56-60D2663A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AF61-A660-435F-A611-91E54576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E387-2D62-4D30-BEEA-5E61697A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5556-CE58-47BE-938F-03AA8B65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0050-5577-4DC2-8449-C526D377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533C-3FF3-4ABE-8E00-C8777169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E75B-C82A-4308-AB78-2D9F208A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5890-8E38-4615-8203-05F5C9BBA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4387-5EA9-43B9-9876-6E0D79EF99F5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WordArt 4" descr=""/>
          <p:cNvPicPr/>
          <p:nvPr/>
        </p:nvPicPr>
        <p:blipFill>
          <a:blip r:embed="rId1"/>
          <a:stretch/>
        </p:blipFill>
        <p:spPr>
          <a:xfrm>
            <a:off x="822240" y="2803680"/>
            <a:ext cx="752328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找出下列各题中的单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并说出下列句子的含义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380880" y="1981080"/>
            <a:ext cx="7391520" cy="32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男生人数占女生人数</a:t>
            </a: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60%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男生人数比女生人数多</a:t>
            </a: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0%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女生人数比男生人数少</a:t>
            </a: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5%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加工一批零件，已完成了</a:t>
            </a: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80%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。   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树苗的成活率是</a:t>
            </a: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95%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今年的猪肉单价比去年上涨了</a:t>
            </a: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80%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进行变式：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一桶油共</a:t>
            </a: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35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千克，用去的是剩下的</a:t>
            </a: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5%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，用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去和剩下各是多少千克？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lvl="4" marL="1707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80880" y="3809880"/>
            <a:ext cx="847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一桶油用去的比剩下的少</a:t>
            </a: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千克，用去的是剩下的</a:t>
            </a: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5%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，用去和剩下各是多少千克？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609480" y="914400"/>
            <a:ext cx="8016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一桶油剩下的是</a:t>
            </a: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8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千克，用去的是剩下的</a:t>
            </a: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5%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，用去的是多少千克？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09480" y="3505320"/>
            <a:ext cx="809316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一桶油用去了</a:t>
            </a: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7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千克，用去的是剩下的</a:t>
            </a: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5%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，用去的是多少千克？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-360" y="167652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条绳子，第一次剪去全长的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%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第二次剪去全长的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5%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两次共剪去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，这条绳子共长多少米？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28600" y="4038480"/>
            <a:ext cx="868680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条绳子，第一次剪去全长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第二次剪去全长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5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第二次比第一次多剪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，这条绳子长多少米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-360" y="1219320"/>
            <a:ext cx="8596440" cy="121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修一条公路，第一天修了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第二天修了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，两天正好修了全长的一半，这条路全长多少米？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04920" y="1447920"/>
            <a:ext cx="824544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一根钢管长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米，第一次接去全长的  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第二次截去  米，还剩多少米？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48" name="Group 6"/>
          <p:cNvGrpSpPr/>
          <p:nvPr/>
        </p:nvGrpSpPr>
        <p:grpSpPr>
          <a:xfrm>
            <a:off x="7696080" y="1371600"/>
            <a:ext cx="381240" cy="609480"/>
            <a:chOff x="7696080" y="1371600"/>
            <a:chExt cx="381240" cy="609480"/>
          </a:xfrm>
        </p:grpSpPr>
        <p:sp>
          <p:nvSpPr>
            <p:cNvPr id="149" name="WordArt 3"/>
            <p:cNvSpPr txBox="1"/>
            <p:nvPr/>
          </p:nvSpPr>
          <p:spPr>
            <a:xfrm>
              <a:off x="7772400" y="1371600"/>
              <a:ext cx="228600" cy="190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50" name="WordArt 4"/>
            <p:cNvSpPr txBox="1"/>
            <p:nvPr/>
          </p:nvSpPr>
          <p:spPr>
            <a:xfrm>
              <a:off x="7772400" y="1790640"/>
              <a:ext cx="228600" cy="190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51" name="Line 5"/>
            <p:cNvSpPr/>
            <p:nvPr/>
          </p:nvSpPr>
          <p:spPr>
            <a:xfrm>
              <a:off x="7696080" y="1676520"/>
              <a:ext cx="381240" cy="0"/>
            </a:xfrm>
            <a:prstGeom prst="line">
              <a:avLst/>
            </a:prstGeom>
            <a:ln w="2844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52" name="Group 7"/>
          <p:cNvGrpSpPr/>
          <p:nvPr/>
        </p:nvGrpSpPr>
        <p:grpSpPr>
          <a:xfrm>
            <a:off x="2743200" y="2666880"/>
            <a:ext cx="380880" cy="609480"/>
            <a:chOff x="2743200" y="2666880"/>
            <a:chExt cx="380880" cy="609480"/>
          </a:xfrm>
        </p:grpSpPr>
        <p:sp>
          <p:nvSpPr>
            <p:cNvPr id="153" name="WordArt 8"/>
            <p:cNvSpPr txBox="1"/>
            <p:nvPr/>
          </p:nvSpPr>
          <p:spPr>
            <a:xfrm>
              <a:off x="2819160" y="2666880"/>
              <a:ext cx="228240" cy="190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54" name="WordArt 9"/>
            <p:cNvSpPr txBox="1"/>
            <p:nvPr/>
          </p:nvSpPr>
          <p:spPr>
            <a:xfrm>
              <a:off x="2819160" y="3085920"/>
              <a:ext cx="228240" cy="190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55" name="Line 10"/>
            <p:cNvSpPr/>
            <p:nvPr/>
          </p:nvSpPr>
          <p:spPr>
            <a:xfrm>
              <a:off x="2743200" y="2971800"/>
              <a:ext cx="380880" cy="0"/>
            </a:xfrm>
            <a:prstGeom prst="line">
              <a:avLst/>
            </a:prstGeom>
            <a:ln w="2844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21:52:59Z</dcterms:created>
  <dc:creator/>
  <dc:description/>
  <dc:language>en-US</dc:language>
  <cp:lastModifiedBy/>
  <dcterms:modified xsi:type="dcterms:W3CDTF">2015-06-18T08:09:29Z</dcterms:modified>
  <cp:revision>17</cp:revision>
  <dc:subject/>
  <dc:title/>
</cp:coreProperties>
</file>