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type.wav" ContentType="audio/x-wav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460-D3A5-46E8-BD87-1468CEBE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AEF-9468-46CC-9723-439159F8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662-6B5F-48FD-8B27-0B9DD295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662-7470-482A-994D-6E7CAFA4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B6A-4D36-4092-98A0-18AF8D3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DEB-7564-4F61-9FE3-52FC89A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BA3-6480-4D55-B9FF-6E3FD721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310-3F57-4328-911F-C304569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B10-326F-42ED-93E0-8A7F3B0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F38-69C6-4B48-9B28-A059B099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3FB-C587-474E-940D-7A05579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6AE-892D-4383-BA94-589CF61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B89-F72F-45A4-A9A6-4BD571C7BF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16160" y="19162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认识中位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42160" y="13636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  25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36   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46760" y="2443320"/>
            <a:ext cx="66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   28   19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4   13  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73680" y="155736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46    56    1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73680" y="155736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56    1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73680" y="270828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46    56    6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73680" y="155736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56    1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73680" y="270828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56    6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73680" y="155736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56    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1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3680" y="2708280"/>
            <a:ext cx="66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3    34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56    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6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05080" y="1197000"/>
            <a:ext cx="63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  27   20   19   13   11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5080" y="1197000"/>
            <a:ext cx="63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  27   20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3   11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3120" y="2349360"/>
            <a:ext cx="67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    6    10    20   16   12  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05080" y="1197000"/>
            <a:ext cx="63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  27   20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3   11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2349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    4     6     10   12   16   20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05080" y="1197000"/>
            <a:ext cx="63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   27   20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3   11 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2349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    4     6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2   16   20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77280" y="1413000"/>
            <a:ext cx="49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  1.8   1.3   1.1   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4360" y="17002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因公司发展需要，现诚聘优秀业务员若干名，如有意者请与甲、乙两公司联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77640" y="1413000"/>
            <a:ext cx="49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  1.8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1.1   0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306864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  12   14   18   25  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64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4+18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÷2=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9440" y="25891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3960" y="4941720"/>
            <a:ext cx="73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   144   140   130   128   1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5589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140+130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÷2=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1080" y="45165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023920" y="220500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0    16    12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  6       4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88000" y="2708280"/>
            <a:ext cx="45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5     1.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1.1   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38320" y="1655640"/>
            <a:ext cx="62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2    27    20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13      11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09880" y="1116000"/>
            <a:ext cx="63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5    28    19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14      13 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6720" y="620640"/>
            <a:ext cx="45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0    25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 36     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63560" y="3429000"/>
            <a:ext cx="751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   12     14             18      25 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42210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     144    140              130    128   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2040" y="3716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9760" y="47196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76720" y="189000"/>
            <a:ext cx="0" cy="616572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5280" y="23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这组数据的中位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76880" y="1382760"/>
            <a:ext cx="58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第一小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同学家庭的住房面积。（单位：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6    84    50    92    87    80    83    43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23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这组数据的中位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880" y="1382760"/>
            <a:ext cx="58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第一小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同学家庭的住房面积。（单位：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2    88    87    86    84    83    80    50   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23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这组数据的中位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41497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92+88+87+86+84+83+80+50+43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÷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2997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位数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7671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用哪个数据代表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同学家庭的住房情况比较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32520" y="1177920"/>
            <a:ext cx="58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是第一小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同学家庭的住房面积。（单位：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2    88    87    86    84    83    80    50   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3573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组数据的平均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90160" y="4149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64560" y="566100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用中位数代表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位同学家庭的住房情况比较合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03840" y="7650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六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第一小队几名同学身高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1280" y="1773360"/>
          <a:ext cx="7704000" cy="1871640"/>
        </p:xfrm>
        <a:graphic>
          <a:graphicData uri="http://schemas.openxmlformats.org/drawingml/2006/table">
            <a:tbl>
              <a:tblPr/>
              <a:tblGrid>
                <a:gridCol w="1440000"/>
                <a:gridCol w="1079280"/>
                <a:gridCol w="1081080"/>
                <a:gridCol w="1008000"/>
                <a:gridCol w="936720"/>
                <a:gridCol w="1008000"/>
                <a:gridCol w="1150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275280" y="400536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用（        ）表示这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名同学的身高情况比较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400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03840" y="7650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是六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班第一小队几名同学身高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11280" y="1773360"/>
          <a:ext cx="7704000" cy="1871640"/>
        </p:xfrm>
        <a:graphic>
          <a:graphicData uri="http://schemas.openxmlformats.org/drawingml/2006/table">
            <a:tbl>
              <a:tblPr/>
              <a:tblGrid>
                <a:gridCol w="1440000"/>
                <a:gridCol w="1079280"/>
                <a:gridCol w="1081080"/>
                <a:gridCol w="1008000"/>
                <a:gridCol w="936720"/>
                <a:gridCol w="1008000"/>
                <a:gridCol w="1150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编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高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3246840" y="464328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用（        ）表示这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名同学的身高情况比较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1773360"/>
            <a:ext cx="1081080" cy="187164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400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5280" y="400536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用（        ）表示这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名同学的身高情况比较合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22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位数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7160" y="580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均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5805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.49+1.48+1.47+1.46+1.44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÷5=1.468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96120" y="1082520"/>
            <a:ext cx="564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朱彤同学参加垒球比赛，预、决赛中共投掷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绩如下表：（表中的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示犯规，无成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869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你知道朱彤的成绩应该用哪个数据来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551664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好成绩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46.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42920" y="2637000"/>
          <a:ext cx="6840720" cy="1806480"/>
        </p:xfrm>
        <a:graphic>
          <a:graphicData uri="http://schemas.openxmlformats.org/drawingml/2006/table">
            <a:tbl>
              <a:tblPr/>
              <a:tblGrid>
                <a:gridCol w="1231920"/>
                <a:gridCol w="1000080"/>
                <a:gridCol w="863640"/>
                <a:gridCol w="1008000"/>
                <a:gridCol w="865080"/>
                <a:gridCol w="935280"/>
                <a:gridCol w="936720"/>
              </a:tblGrid>
              <a:tr h="85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绩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087280" y="2781360"/>
            <a:ext cx="6840360" cy="1439640"/>
            <a:chOff x="2087280" y="2781360"/>
            <a:chExt cx="6840360" cy="1439640"/>
          </a:xfrm>
        </p:grpSpPr>
        <p:sp>
          <p:nvSpPr>
            <p:cNvPr id="45" name=""/>
            <p:cNvSpPr/>
            <p:nvPr/>
          </p:nvSpPr>
          <p:spPr>
            <a:xfrm flipH="1">
              <a:off x="2086920" y="2781360"/>
              <a:ext cx="6840360" cy="1439640"/>
            </a:xfrm>
            <a:prstGeom prst="wedgeEllipseCallout">
              <a:avLst>
                <a:gd name="adj1" fmla="val -39837"/>
                <a:gd name="adj2" fmla="val 802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57000" y="3100320"/>
              <a:ext cx="468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乙公司月平均工资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00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55640" y="692280"/>
            <a:ext cx="6696000" cy="2104200"/>
            <a:chOff x="755640" y="692280"/>
            <a:chExt cx="6696000" cy="2104200"/>
          </a:xfrm>
        </p:grpSpPr>
        <p:sp>
          <p:nvSpPr>
            <p:cNvPr id="48" name=""/>
            <p:cNvSpPr/>
            <p:nvPr/>
          </p:nvSpPr>
          <p:spPr>
            <a:xfrm>
              <a:off x="755640" y="692280"/>
              <a:ext cx="6696000" cy="151128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8560" y="1012680"/>
              <a:ext cx="64627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甲公司月平均工资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00</a:t>
              </a: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62720" y="4365720"/>
            <a:ext cx="1781280" cy="2249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1924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公司职工月工资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4360" y="1052640"/>
          <a:ext cx="7848360" cy="149220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  <a:gridCol w="863640"/>
                <a:gridCol w="863640"/>
                <a:gridCol w="863640"/>
                <a:gridCol w="865080"/>
                <a:gridCol w="935280"/>
                <a:gridCol w="936720"/>
                <a:gridCol w="93636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职工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平均工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工资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484360" y="37861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公司职工月工资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4508640"/>
          <a:ext cx="7848360" cy="149220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  <a:gridCol w="863640"/>
                <a:gridCol w="863640"/>
                <a:gridCol w="863640"/>
                <a:gridCol w="865080"/>
                <a:gridCol w="935280"/>
                <a:gridCol w="936720"/>
                <a:gridCol w="93636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职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平均工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工资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8436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公司职工月工资报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052640"/>
          <a:ext cx="7848360" cy="1492200"/>
        </p:xfrm>
        <a:graphic>
          <a:graphicData uri="http://schemas.openxmlformats.org/drawingml/2006/table">
            <a:tbl>
              <a:tblPr/>
              <a:tblGrid>
                <a:gridCol w="718920"/>
                <a:gridCol w="865080"/>
                <a:gridCol w="863640"/>
                <a:gridCol w="863640"/>
                <a:gridCol w="863640"/>
                <a:gridCol w="865080"/>
                <a:gridCol w="935280"/>
                <a:gridCol w="936720"/>
                <a:gridCol w="936360"/>
              </a:tblGrid>
              <a:tr h="7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职工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经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业务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平均工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工资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微软雅黑"/>
                          <a:ea typeface="微软雅黑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741320" y="623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50160" y="2637000"/>
            <a:ext cx="6622200" cy="4086720"/>
            <a:chOff x="1550160" y="2637000"/>
            <a:chExt cx="6622200" cy="4086720"/>
          </a:xfrm>
        </p:grpSpPr>
        <p:grpSp>
          <p:nvGrpSpPr>
            <p:cNvPr id="60" name=""/>
            <p:cNvGrpSpPr/>
            <p:nvPr/>
          </p:nvGrpSpPr>
          <p:grpSpPr>
            <a:xfrm>
              <a:off x="1550160" y="2637000"/>
              <a:ext cx="6622200" cy="3744720"/>
              <a:chOff x="1550160" y="2637000"/>
              <a:chExt cx="6622200" cy="3744720"/>
            </a:xfrm>
          </p:grpSpPr>
          <p:sp>
            <p:nvSpPr>
              <p:cNvPr id="61" name=""/>
              <p:cNvSpPr/>
              <p:nvPr/>
            </p:nvSpPr>
            <p:spPr>
              <a:xfrm>
                <a:off x="2268360" y="6381720"/>
                <a:ext cx="590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2268360" y="2637000"/>
                <a:ext cx="0" cy="374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68360" y="60213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68360" y="566100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68360" y="350028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68360" y="530064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68360" y="494028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68360" y="45813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68360" y="313992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268360" y="422100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68360" y="386064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50160" y="29973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50160" y="334980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50160" y="3710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50160" y="407052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50160" y="443088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50160" y="479124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50160" y="514980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50160" y="5510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94520" y="58705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27200" y="27018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位：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98560" y="3357720"/>
                <a:ext cx="288720" cy="30225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19280" y="5373720"/>
                <a:ext cx="288720" cy="10065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38200" y="5445000"/>
                <a:ext cx="289080" cy="935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858920" y="5516640"/>
                <a:ext cx="289080" cy="86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79640" y="5589720"/>
                <a:ext cx="289080" cy="7905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19640" y="5661000"/>
                <a:ext cx="289080" cy="7207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00360" y="5589720"/>
                <a:ext cx="289080" cy="7905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19120" y="51084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38040" y="517356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58760" y="524664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78040" y="532440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6160" y="531828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05080" y="5389560"/>
                <a:ext cx="63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484000" y="3068640"/>
                <a:ext cx="597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628360" y="63882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83280" y="6381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05440" y="6381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22920" y="639936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3640" y="64166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64360" y="64166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880" y="641664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业务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00360" y="3357720"/>
            <a:ext cx="287280" cy="30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55640" y="4581360"/>
            <a:ext cx="8136000" cy="576360"/>
            <a:chOff x="755640" y="4581360"/>
            <a:chExt cx="8136000" cy="576360"/>
          </a:xfrm>
        </p:grpSpPr>
        <p:sp>
          <p:nvSpPr>
            <p:cNvPr id="105" name=""/>
            <p:cNvSpPr/>
            <p:nvPr/>
          </p:nvSpPr>
          <p:spPr>
            <a:xfrm>
              <a:off x="755640" y="5157720"/>
              <a:ext cx="8136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4920" y="4581360"/>
              <a:ext cx="25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平均数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6920" y="893880"/>
            <a:ext cx="81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00    1300    1250    1200    1150    1100   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6920" y="893880"/>
            <a:ext cx="81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00    1300    1250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1150    1100   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773360"/>
            <a:ext cx="8713800" cy="4086720"/>
            <a:chOff x="539640" y="1773360"/>
            <a:chExt cx="8713800" cy="4086720"/>
          </a:xfrm>
        </p:grpSpPr>
        <p:grpSp>
          <p:nvGrpSpPr>
            <p:cNvPr id="110" name=""/>
            <p:cNvGrpSpPr/>
            <p:nvPr/>
          </p:nvGrpSpPr>
          <p:grpSpPr>
            <a:xfrm>
              <a:off x="1334520" y="1773360"/>
              <a:ext cx="6622200" cy="4086720"/>
              <a:chOff x="1334520" y="1773360"/>
              <a:chExt cx="6622200" cy="408672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334520" y="1773360"/>
                <a:ext cx="6622200" cy="3744720"/>
                <a:chOff x="1334520" y="1773360"/>
                <a:chExt cx="6622200" cy="37447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052720" y="5518080"/>
                  <a:ext cx="5904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2052720" y="1773360"/>
                  <a:ext cx="0" cy="3743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052720" y="515772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52720" y="479736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52720" y="263664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052720" y="443700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52720" y="407664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052720" y="371772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2720" y="227628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52720" y="335736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052720" y="2997000"/>
                  <a:ext cx="14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34520" y="213372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34520" y="248616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34520" y="284652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334520" y="320688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334520" y="356724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334520" y="392760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34520" y="428616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34520" y="464652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478880" y="5006880"/>
                  <a:ext cx="56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308680" y="183816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单位：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482920" y="2494080"/>
                  <a:ext cx="288720" cy="302256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203640" y="4510080"/>
                  <a:ext cx="288720" cy="100656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2560" y="4581360"/>
                  <a:ext cx="289080" cy="9352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643280" y="4653000"/>
                  <a:ext cx="289080" cy="86364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64000" y="4726080"/>
                  <a:ext cx="289080" cy="79056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804000" y="4797360"/>
                  <a:ext cx="289080" cy="72072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084720" y="4726080"/>
                  <a:ext cx="289080" cy="79056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03480" y="424476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22400" y="430992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5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43120" y="438300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62400" y="446076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15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870520" y="445464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589440" y="4525920"/>
                  <a:ext cx="631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268360" y="2205000"/>
                  <a:ext cx="597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2412720" y="55245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经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67640" y="551808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9800" y="551808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7280" y="553572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28000" y="55530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48720" y="55530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71240" y="55530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业务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484360" y="2494080"/>
              <a:ext cx="287280" cy="3024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640" y="4294080"/>
              <a:ext cx="8136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38545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平均数  </a:t>
              </a: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9640" y="4365720"/>
            <a:ext cx="8136000" cy="368280"/>
            <a:chOff x="539640" y="4365720"/>
            <a:chExt cx="8136000" cy="368280"/>
          </a:xfrm>
        </p:grpSpPr>
        <p:sp>
          <p:nvSpPr>
            <p:cNvPr id="158" name=""/>
            <p:cNvSpPr/>
            <p:nvPr/>
          </p:nvSpPr>
          <p:spPr>
            <a:xfrm>
              <a:off x="539640" y="4659480"/>
              <a:ext cx="8136000" cy="0"/>
            </a:xfrm>
            <a:prstGeom prst="line">
              <a:avLst/>
            </a:prstGeom>
            <a:ln w="3816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51120" y="4365720"/>
              <a:ext cx="12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ff"/>
                  </a:solidFill>
                  <a:latin typeface="Arial"/>
                </a:rPr>
                <a:t>中位数：</a:t>
              </a:r>
              <a:r>
                <a:rPr b="1" lang="zh-CN" sz="1800" spc="-1" strike="noStrike">
                  <a:solidFill>
                    <a:srgbClr val="3333ff"/>
                  </a:solidFill>
                  <a:latin typeface="Arial"/>
                </a:rPr>
                <a:t>1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42160" y="13636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  25   30   36   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42160" y="13636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  25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36   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46760" y="2443320"/>
            <a:ext cx="66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   28   19   15   14   13  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5:26:45Z</dcterms:created>
  <dc:creator> </dc:creator>
  <dc:description> </dc:description>
  <dc:language>en-US</dc:language>
  <cp:lastModifiedBy>微软用户</cp:lastModifiedBy>
  <dcterms:modified xsi:type="dcterms:W3CDTF">2014-11-18T19:51:48Z</dcterms:modified>
  <cp:revision>0</cp:revision>
  <dc:subject/>
  <dc:title> </dc:title>
</cp:coreProperties>
</file>