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697-536E-4D9F-960F-D5E42E1E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A61-B363-4048-8992-78815409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8DB-A38D-4098-9306-7335459C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F52-4C80-4E5B-881A-2E36F161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044-04D5-4286-B611-07D2DE34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E29-DF36-437A-8E82-820E28FA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11D-5067-4498-ACAD-BF8D190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4E8-0124-4D5C-A5AC-DB2B0FB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031-F13A-4429-8612-3F94174A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A96-1A05-4D15-B4A7-8D1155D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10B-8D96-4792-8633-83522D6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87C-D439-4C54-9107-4DC39B0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8652-B554-4EDA-8CA9-BC4DE3C09B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flipH="1">
            <a:off x="533520" y="1447920"/>
            <a:ext cx="10080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2438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宋体"/>
              </a:rPr>
              <a:t>统计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42920" y="189000"/>
            <a:ext cx="7273800" cy="4364640"/>
            <a:chOff x="1042920" y="189000"/>
            <a:chExt cx="7273800" cy="4364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042920" y="191520"/>
              <a:ext cx="7273800" cy="43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320920" y="189000"/>
              <a:ext cx="4122360" cy="399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336920"/>
            <a:ext cx="9144000" cy="252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620640"/>
            <a:ext cx="21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隶书"/>
              </a:rPr>
              <a:t>算一算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609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19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6093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5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609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4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609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80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85080" y="6093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1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5573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识扇形统计图，初步体会扇形统计图描述数据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懂扇形统计图，对扇形统计图提供的信息进行简单的分析，体会统计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3065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11280" y="220500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当堂检测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42920" y="617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红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支出情况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769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08000" y="133200"/>
            <a:ext cx="4824720" cy="3668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37497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4076280"/>
            <a:ext cx="8569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红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的总支出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个月哪项支出最多？支出了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这个月文化教育支出了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还能提出哪些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49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00×3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1268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8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7800" y="249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00×2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6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11280" y="220500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当堂检测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10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观察下面的统计图，从统计图里你获得了哪些信息？有什么想法？在班级里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51004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人口所占的百分比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远远高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国土面积所占的百分比。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人口过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是我国经济发展中所面临的主要困难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836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当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766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练习十五  第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217080" cy="3137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458136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比一比，哪一天的食物搭配比较合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201080" cy="1457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营养学的观点，每天的食物应注意荤素搭配，而且要多吃蔬菜和水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64000" y="1519200"/>
            <a:ext cx="5435640" cy="284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13651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右边是萌萌摆出的一个干果拼盘，已知花生米大约占了果盘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你能估计其其他几种干果大约各占百分之几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9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981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508360" y="2924280"/>
            <a:ext cx="647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19835" r="0" b="9409"/>
          <a:stretch/>
        </p:blipFill>
        <p:spPr>
          <a:xfrm>
            <a:off x="503280" y="1052640"/>
            <a:ext cx="8137440" cy="41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260280"/>
            <a:ext cx="79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国体育代表团在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届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届奥运会上获得的金牌数统计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01760" y="1008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枚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59640" y="65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5400720" cy="3524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128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国临海海域广阔，海域面积一共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4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万平方千米。根据图中的分布情况，用计算器算出我国各海域的面积大约是多少万平方千米，填在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5130720"/>
            <a:ext cx="8964000" cy="1726200"/>
            <a:chOff x="0" y="5130720"/>
            <a:chExt cx="8964000" cy="1726200"/>
          </a:xfrm>
        </p:grpSpPr>
        <p:grpSp>
          <p:nvGrpSpPr>
            <p:cNvPr id="146" name=""/>
            <p:cNvGrpSpPr/>
            <p:nvPr/>
          </p:nvGrpSpPr>
          <p:grpSpPr>
            <a:xfrm>
              <a:off x="164160" y="5172120"/>
              <a:ext cx="8799840" cy="1684800"/>
              <a:chOff x="164160" y="5172120"/>
              <a:chExt cx="8799840" cy="16848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4240" y="5172120"/>
                <a:ext cx="876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4160" y="6815160"/>
                <a:ext cx="876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6200" y="5993640"/>
                <a:ext cx="876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28200" y="5172120"/>
                <a:ext cx="0" cy="168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65760" y="5172120"/>
                <a:ext cx="0" cy="168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51040" y="5172120"/>
                <a:ext cx="0" cy="168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11200" y="5172120"/>
                <a:ext cx="0" cy="168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5130720"/>
              <a:ext cx="8957160" cy="1481760"/>
              <a:chOff x="0" y="5130720"/>
              <a:chExt cx="8957160" cy="1481760"/>
            </a:xfrm>
          </p:grpSpPr>
          <p:sp>
            <p:nvSpPr>
              <p:cNvPr id="155" name=""/>
              <p:cNvSpPr/>
              <p:nvPr/>
            </p:nvSpPr>
            <p:spPr>
              <a:xfrm>
                <a:off x="428400" y="5144040"/>
                <a:ext cx="322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海洋名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031080"/>
                <a:ext cx="3499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面积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/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万平方千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38360" y="5130720"/>
                <a:ext cx="1142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渤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8320" y="5150520"/>
                <a:ext cx="1076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黄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61560" y="516780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东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28120" y="5150520"/>
                <a:ext cx="122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南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7705800" y="609300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50.4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609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77.0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609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7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609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7.5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73520" y="3871800"/>
            <a:ext cx="2359080" cy="2641680"/>
          </a:xfrm>
          <a:custGeom>
            <a:avLst/>
            <a:gdLst/>
            <a:ahLst/>
            <a:rect l="l" t="t" r="r" b="b"/>
            <a:pathLst>
              <a:path w="1486" h="1664">
                <a:moveTo>
                  <a:pt x="1116" y="100"/>
                </a:moveTo>
                <a:cubicBezTo>
                  <a:pt x="1089" y="107"/>
                  <a:pt x="1071" y="120"/>
                  <a:pt x="1045" y="128"/>
                </a:cubicBezTo>
                <a:cubicBezTo>
                  <a:pt x="1032" y="136"/>
                  <a:pt x="1023" y="149"/>
                  <a:pt x="1010" y="157"/>
                </a:cubicBezTo>
                <a:cubicBezTo>
                  <a:pt x="984" y="173"/>
                  <a:pt x="957" y="178"/>
                  <a:pt x="932" y="199"/>
                </a:cubicBezTo>
                <a:cubicBezTo>
                  <a:pt x="900" y="225"/>
                  <a:pt x="878" y="254"/>
                  <a:pt x="832" y="256"/>
                </a:cubicBezTo>
                <a:cubicBezTo>
                  <a:pt x="751" y="260"/>
                  <a:pt x="671" y="261"/>
                  <a:pt x="590" y="263"/>
                </a:cubicBezTo>
                <a:cubicBezTo>
                  <a:pt x="556" y="271"/>
                  <a:pt x="527" y="280"/>
                  <a:pt x="498" y="299"/>
                </a:cubicBezTo>
                <a:cubicBezTo>
                  <a:pt x="496" y="368"/>
                  <a:pt x="498" y="437"/>
                  <a:pt x="491" y="505"/>
                </a:cubicBezTo>
                <a:cubicBezTo>
                  <a:pt x="488" y="536"/>
                  <a:pt x="412" y="555"/>
                  <a:pt x="412" y="555"/>
                </a:cubicBezTo>
                <a:cubicBezTo>
                  <a:pt x="311" y="547"/>
                  <a:pt x="335" y="561"/>
                  <a:pt x="284" y="512"/>
                </a:cubicBezTo>
                <a:cubicBezTo>
                  <a:pt x="267" y="461"/>
                  <a:pt x="254" y="421"/>
                  <a:pt x="313" y="405"/>
                </a:cubicBezTo>
                <a:cubicBezTo>
                  <a:pt x="340" y="378"/>
                  <a:pt x="349" y="363"/>
                  <a:pt x="306" y="349"/>
                </a:cubicBezTo>
                <a:cubicBezTo>
                  <a:pt x="285" y="326"/>
                  <a:pt x="266" y="326"/>
                  <a:pt x="235" y="320"/>
                </a:cubicBezTo>
                <a:cubicBezTo>
                  <a:pt x="216" y="322"/>
                  <a:pt x="197" y="322"/>
                  <a:pt x="178" y="327"/>
                </a:cubicBezTo>
                <a:cubicBezTo>
                  <a:pt x="156" y="333"/>
                  <a:pt x="140" y="359"/>
                  <a:pt x="121" y="370"/>
                </a:cubicBezTo>
                <a:cubicBezTo>
                  <a:pt x="112" y="375"/>
                  <a:pt x="102" y="380"/>
                  <a:pt x="92" y="384"/>
                </a:cubicBezTo>
                <a:cubicBezTo>
                  <a:pt x="78" y="389"/>
                  <a:pt x="50" y="398"/>
                  <a:pt x="50" y="398"/>
                </a:cubicBezTo>
                <a:cubicBezTo>
                  <a:pt x="31" y="411"/>
                  <a:pt x="24" y="412"/>
                  <a:pt x="14" y="434"/>
                </a:cubicBezTo>
                <a:cubicBezTo>
                  <a:pt x="8" y="448"/>
                  <a:pt x="0" y="477"/>
                  <a:pt x="0" y="477"/>
                </a:cubicBezTo>
                <a:cubicBezTo>
                  <a:pt x="2" y="485"/>
                  <a:pt x="7" y="522"/>
                  <a:pt x="14" y="533"/>
                </a:cubicBezTo>
                <a:cubicBezTo>
                  <a:pt x="38" y="575"/>
                  <a:pt x="143" y="573"/>
                  <a:pt x="178" y="576"/>
                </a:cubicBezTo>
                <a:cubicBezTo>
                  <a:pt x="204" y="585"/>
                  <a:pt x="212" y="609"/>
                  <a:pt x="235" y="619"/>
                </a:cubicBezTo>
                <a:cubicBezTo>
                  <a:pt x="255" y="627"/>
                  <a:pt x="278" y="628"/>
                  <a:pt x="299" y="633"/>
                </a:cubicBezTo>
                <a:cubicBezTo>
                  <a:pt x="356" y="646"/>
                  <a:pt x="313" y="633"/>
                  <a:pt x="377" y="654"/>
                </a:cubicBezTo>
                <a:cubicBezTo>
                  <a:pt x="384" y="656"/>
                  <a:pt x="398" y="661"/>
                  <a:pt x="398" y="661"/>
                </a:cubicBezTo>
                <a:cubicBezTo>
                  <a:pt x="407" y="689"/>
                  <a:pt x="406" y="720"/>
                  <a:pt x="420" y="747"/>
                </a:cubicBezTo>
                <a:cubicBezTo>
                  <a:pt x="434" y="775"/>
                  <a:pt x="455" y="797"/>
                  <a:pt x="469" y="825"/>
                </a:cubicBezTo>
                <a:cubicBezTo>
                  <a:pt x="487" y="862"/>
                  <a:pt x="462" y="832"/>
                  <a:pt x="491" y="861"/>
                </a:cubicBezTo>
                <a:cubicBezTo>
                  <a:pt x="508" y="911"/>
                  <a:pt x="497" y="891"/>
                  <a:pt x="519" y="925"/>
                </a:cubicBezTo>
                <a:cubicBezTo>
                  <a:pt x="513" y="1009"/>
                  <a:pt x="513" y="1052"/>
                  <a:pt x="469" y="1117"/>
                </a:cubicBezTo>
                <a:cubicBezTo>
                  <a:pt x="448" y="1179"/>
                  <a:pt x="435" y="1205"/>
                  <a:pt x="391" y="1252"/>
                </a:cubicBezTo>
                <a:cubicBezTo>
                  <a:pt x="380" y="1285"/>
                  <a:pt x="374" y="1313"/>
                  <a:pt x="348" y="1337"/>
                </a:cubicBezTo>
                <a:cubicBezTo>
                  <a:pt x="343" y="1351"/>
                  <a:pt x="339" y="1366"/>
                  <a:pt x="334" y="1380"/>
                </a:cubicBezTo>
                <a:cubicBezTo>
                  <a:pt x="332" y="1387"/>
                  <a:pt x="327" y="1401"/>
                  <a:pt x="327" y="1401"/>
                </a:cubicBezTo>
                <a:cubicBezTo>
                  <a:pt x="336" y="1514"/>
                  <a:pt x="349" y="1559"/>
                  <a:pt x="441" y="1621"/>
                </a:cubicBezTo>
                <a:cubicBezTo>
                  <a:pt x="460" y="1634"/>
                  <a:pt x="481" y="1655"/>
                  <a:pt x="505" y="1657"/>
                </a:cubicBezTo>
                <a:cubicBezTo>
                  <a:pt x="552" y="1661"/>
                  <a:pt x="600" y="1662"/>
                  <a:pt x="647" y="1664"/>
                </a:cubicBezTo>
                <a:cubicBezTo>
                  <a:pt x="760" y="1659"/>
                  <a:pt x="877" y="1658"/>
                  <a:pt x="974" y="1593"/>
                </a:cubicBezTo>
                <a:cubicBezTo>
                  <a:pt x="986" y="1557"/>
                  <a:pt x="1030" y="1538"/>
                  <a:pt x="1060" y="1515"/>
                </a:cubicBezTo>
                <a:cubicBezTo>
                  <a:pt x="1074" y="1505"/>
                  <a:pt x="1102" y="1486"/>
                  <a:pt x="1102" y="1486"/>
                </a:cubicBezTo>
                <a:cubicBezTo>
                  <a:pt x="1110" y="1473"/>
                  <a:pt x="1127" y="1466"/>
                  <a:pt x="1131" y="1451"/>
                </a:cubicBezTo>
                <a:cubicBezTo>
                  <a:pt x="1139" y="1418"/>
                  <a:pt x="1124" y="1378"/>
                  <a:pt x="1145" y="1351"/>
                </a:cubicBezTo>
                <a:cubicBezTo>
                  <a:pt x="1161" y="1331"/>
                  <a:pt x="1202" y="1305"/>
                  <a:pt x="1223" y="1287"/>
                </a:cubicBezTo>
                <a:cubicBezTo>
                  <a:pt x="1273" y="1244"/>
                  <a:pt x="1325" y="1194"/>
                  <a:pt x="1380" y="1159"/>
                </a:cubicBezTo>
                <a:cubicBezTo>
                  <a:pt x="1385" y="1152"/>
                  <a:pt x="1391" y="1146"/>
                  <a:pt x="1394" y="1138"/>
                </a:cubicBezTo>
                <a:cubicBezTo>
                  <a:pt x="1400" y="1124"/>
                  <a:pt x="1408" y="1095"/>
                  <a:pt x="1408" y="1095"/>
                </a:cubicBezTo>
                <a:cubicBezTo>
                  <a:pt x="1411" y="1057"/>
                  <a:pt x="1403" y="1014"/>
                  <a:pt x="1422" y="981"/>
                </a:cubicBezTo>
                <a:cubicBezTo>
                  <a:pt x="1430" y="966"/>
                  <a:pt x="1451" y="939"/>
                  <a:pt x="1451" y="939"/>
                </a:cubicBezTo>
                <a:cubicBezTo>
                  <a:pt x="1453" y="932"/>
                  <a:pt x="1455" y="924"/>
                  <a:pt x="1458" y="917"/>
                </a:cubicBezTo>
                <a:cubicBezTo>
                  <a:pt x="1462" y="909"/>
                  <a:pt x="1469" y="904"/>
                  <a:pt x="1472" y="896"/>
                </a:cubicBezTo>
                <a:cubicBezTo>
                  <a:pt x="1478" y="882"/>
                  <a:pt x="1486" y="853"/>
                  <a:pt x="1486" y="853"/>
                </a:cubicBezTo>
                <a:cubicBezTo>
                  <a:pt x="1476" y="803"/>
                  <a:pt x="1448" y="781"/>
                  <a:pt x="1408" y="754"/>
                </a:cubicBezTo>
                <a:cubicBezTo>
                  <a:pt x="1380" y="712"/>
                  <a:pt x="1385" y="690"/>
                  <a:pt x="1380" y="633"/>
                </a:cubicBezTo>
                <a:cubicBezTo>
                  <a:pt x="1382" y="556"/>
                  <a:pt x="1374" y="459"/>
                  <a:pt x="1394" y="377"/>
                </a:cubicBezTo>
                <a:cubicBezTo>
                  <a:pt x="1400" y="351"/>
                  <a:pt x="1418" y="343"/>
                  <a:pt x="1429" y="320"/>
                </a:cubicBezTo>
                <a:cubicBezTo>
                  <a:pt x="1435" y="306"/>
                  <a:pt x="1444" y="277"/>
                  <a:pt x="1444" y="277"/>
                </a:cubicBezTo>
                <a:cubicBezTo>
                  <a:pt x="1439" y="216"/>
                  <a:pt x="1457" y="170"/>
                  <a:pt x="1401" y="149"/>
                </a:cubicBezTo>
                <a:cubicBezTo>
                  <a:pt x="1383" y="122"/>
                  <a:pt x="1354" y="111"/>
                  <a:pt x="1337" y="85"/>
                </a:cubicBezTo>
                <a:cubicBezTo>
                  <a:pt x="1308" y="41"/>
                  <a:pt x="1283" y="17"/>
                  <a:pt x="1230" y="0"/>
                </a:cubicBezTo>
                <a:cubicBezTo>
                  <a:pt x="1208" y="22"/>
                  <a:pt x="1195" y="27"/>
                  <a:pt x="1166" y="36"/>
                </a:cubicBezTo>
                <a:cubicBezTo>
                  <a:pt x="1142" y="72"/>
                  <a:pt x="1110" y="92"/>
                  <a:pt x="1081" y="121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458136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南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94640" y="2641680"/>
            <a:ext cx="1338120" cy="1049400"/>
          </a:xfrm>
          <a:custGeom>
            <a:avLst/>
            <a:gdLst/>
            <a:ahLst/>
            <a:rect l="l" t="t" r="r" b="b"/>
            <a:pathLst>
              <a:path w="843" h="661">
                <a:moveTo>
                  <a:pt x="428" y="64"/>
                </a:moveTo>
                <a:cubicBezTo>
                  <a:pt x="400" y="90"/>
                  <a:pt x="345" y="94"/>
                  <a:pt x="307" y="107"/>
                </a:cubicBezTo>
                <a:cubicBezTo>
                  <a:pt x="300" y="114"/>
                  <a:pt x="293" y="122"/>
                  <a:pt x="285" y="128"/>
                </a:cubicBezTo>
                <a:cubicBezTo>
                  <a:pt x="279" y="132"/>
                  <a:pt x="270" y="130"/>
                  <a:pt x="264" y="135"/>
                </a:cubicBezTo>
                <a:cubicBezTo>
                  <a:pt x="248" y="147"/>
                  <a:pt x="238" y="167"/>
                  <a:pt x="221" y="178"/>
                </a:cubicBezTo>
                <a:cubicBezTo>
                  <a:pt x="214" y="183"/>
                  <a:pt x="207" y="187"/>
                  <a:pt x="200" y="192"/>
                </a:cubicBezTo>
                <a:cubicBezTo>
                  <a:pt x="187" y="212"/>
                  <a:pt x="174" y="226"/>
                  <a:pt x="157" y="242"/>
                </a:cubicBezTo>
                <a:cubicBezTo>
                  <a:pt x="149" y="266"/>
                  <a:pt x="139" y="281"/>
                  <a:pt x="122" y="299"/>
                </a:cubicBezTo>
                <a:cubicBezTo>
                  <a:pt x="120" y="306"/>
                  <a:pt x="119" y="314"/>
                  <a:pt x="115" y="320"/>
                </a:cubicBezTo>
                <a:cubicBezTo>
                  <a:pt x="111" y="326"/>
                  <a:pt x="103" y="328"/>
                  <a:pt x="100" y="334"/>
                </a:cubicBezTo>
                <a:cubicBezTo>
                  <a:pt x="86" y="361"/>
                  <a:pt x="89" y="401"/>
                  <a:pt x="72" y="427"/>
                </a:cubicBezTo>
                <a:cubicBezTo>
                  <a:pt x="63" y="441"/>
                  <a:pt x="53" y="455"/>
                  <a:pt x="44" y="469"/>
                </a:cubicBezTo>
                <a:cubicBezTo>
                  <a:pt x="39" y="476"/>
                  <a:pt x="29" y="491"/>
                  <a:pt x="29" y="491"/>
                </a:cubicBezTo>
                <a:cubicBezTo>
                  <a:pt x="20" y="519"/>
                  <a:pt x="0" y="568"/>
                  <a:pt x="36" y="590"/>
                </a:cubicBezTo>
                <a:cubicBezTo>
                  <a:pt x="127" y="646"/>
                  <a:pt x="249" y="616"/>
                  <a:pt x="356" y="619"/>
                </a:cubicBezTo>
                <a:cubicBezTo>
                  <a:pt x="390" y="627"/>
                  <a:pt x="415" y="643"/>
                  <a:pt x="449" y="654"/>
                </a:cubicBezTo>
                <a:cubicBezTo>
                  <a:pt x="456" y="656"/>
                  <a:pt x="470" y="661"/>
                  <a:pt x="470" y="661"/>
                </a:cubicBezTo>
                <a:cubicBezTo>
                  <a:pt x="523" y="654"/>
                  <a:pt x="561" y="644"/>
                  <a:pt x="598" y="604"/>
                </a:cubicBezTo>
                <a:cubicBezTo>
                  <a:pt x="605" y="583"/>
                  <a:pt x="601" y="559"/>
                  <a:pt x="612" y="540"/>
                </a:cubicBezTo>
                <a:cubicBezTo>
                  <a:pt x="632" y="504"/>
                  <a:pt x="645" y="512"/>
                  <a:pt x="669" y="491"/>
                </a:cubicBezTo>
                <a:cubicBezTo>
                  <a:pt x="707" y="458"/>
                  <a:pt x="741" y="419"/>
                  <a:pt x="783" y="391"/>
                </a:cubicBezTo>
                <a:cubicBezTo>
                  <a:pt x="796" y="372"/>
                  <a:pt x="810" y="358"/>
                  <a:pt x="826" y="341"/>
                </a:cubicBezTo>
                <a:cubicBezTo>
                  <a:pt x="825" y="317"/>
                  <a:pt x="843" y="225"/>
                  <a:pt x="804" y="192"/>
                </a:cubicBezTo>
                <a:cubicBezTo>
                  <a:pt x="796" y="185"/>
                  <a:pt x="712" y="118"/>
                  <a:pt x="705" y="114"/>
                </a:cubicBezTo>
                <a:cubicBezTo>
                  <a:pt x="692" y="107"/>
                  <a:pt x="662" y="100"/>
                  <a:pt x="662" y="100"/>
                </a:cubicBezTo>
                <a:cubicBezTo>
                  <a:pt x="657" y="96"/>
                  <a:pt x="615" y="71"/>
                  <a:pt x="605" y="57"/>
                </a:cubicBezTo>
                <a:cubicBezTo>
                  <a:pt x="562" y="0"/>
                  <a:pt x="596" y="27"/>
                  <a:pt x="556" y="0"/>
                </a:cubicBezTo>
                <a:cubicBezTo>
                  <a:pt x="547" y="2"/>
                  <a:pt x="511" y="7"/>
                  <a:pt x="499" y="14"/>
                </a:cubicBezTo>
                <a:cubicBezTo>
                  <a:pt x="478" y="26"/>
                  <a:pt x="462" y="51"/>
                  <a:pt x="442" y="64"/>
                </a:cubicBezTo>
                <a:cubicBezTo>
                  <a:pt x="421" y="78"/>
                  <a:pt x="388" y="78"/>
                  <a:pt x="364" y="78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2924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东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16640" y="2292480"/>
            <a:ext cx="984240" cy="653760"/>
          </a:xfrm>
          <a:custGeom>
            <a:avLst/>
            <a:gdLst/>
            <a:ahLst/>
            <a:rect l="l" t="t" r="r" b="b"/>
            <a:pathLst>
              <a:path w="620" h="412">
                <a:moveTo>
                  <a:pt x="260" y="49"/>
                </a:moveTo>
                <a:cubicBezTo>
                  <a:pt x="232" y="79"/>
                  <a:pt x="196" y="125"/>
                  <a:pt x="154" y="135"/>
                </a:cubicBezTo>
                <a:cubicBezTo>
                  <a:pt x="142" y="138"/>
                  <a:pt x="130" y="139"/>
                  <a:pt x="118" y="142"/>
                </a:cubicBezTo>
                <a:cubicBezTo>
                  <a:pt x="103" y="146"/>
                  <a:pt x="75" y="156"/>
                  <a:pt x="75" y="156"/>
                </a:cubicBezTo>
                <a:cubicBezTo>
                  <a:pt x="60" y="179"/>
                  <a:pt x="49" y="191"/>
                  <a:pt x="26" y="206"/>
                </a:cubicBezTo>
                <a:cubicBezTo>
                  <a:pt x="0" y="275"/>
                  <a:pt x="34" y="282"/>
                  <a:pt x="90" y="291"/>
                </a:cubicBezTo>
                <a:cubicBezTo>
                  <a:pt x="97" y="298"/>
                  <a:pt x="106" y="303"/>
                  <a:pt x="111" y="312"/>
                </a:cubicBezTo>
                <a:cubicBezTo>
                  <a:pt x="120" y="328"/>
                  <a:pt x="128" y="401"/>
                  <a:pt x="161" y="405"/>
                </a:cubicBezTo>
                <a:cubicBezTo>
                  <a:pt x="213" y="411"/>
                  <a:pt x="265" y="410"/>
                  <a:pt x="317" y="412"/>
                </a:cubicBezTo>
                <a:cubicBezTo>
                  <a:pt x="345" y="410"/>
                  <a:pt x="374" y="410"/>
                  <a:pt x="402" y="405"/>
                </a:cubicBezTo>
                <a:cubicBezTo>
                  <a:pt x="417" y="403"/>
                  <a:pt x="445" y="391"/>
                  <a:pt x="445" y="391"/>
                </a:cubicBezTo>
                <a:cubicBezTo>
                  <a:pt x="472" y="362"/>
                  <a:pt x="511" y="347"/>
                  <a:pt x="538" y="320"/>
                </a:cubicBezTo>
                <a:cubicBezTo>
                  <a:pt x="580" y="277"/>
                  <a:pt x="561" y="296"/>
                  <a:pt x="594" y="263"/>
                </a:cubicBezTo>
                <a:cubicBezTo>
                  <a:pt x="599" y="258"/>
                  <a:pt x="609" y="248"/>
                  <a:pt x="609" y="248"/>
                </a:cubicBezTo>
                <a:cubicBezTo>
                  <a:pt x="602" y="111"/>
                  <a:pt x="620" y="136"/>
                  <a:pt x="573" y="64"/>
                </a:cubicBezTo>
                <a:cubicBezTo>
                  <a:pt x="565" y="51"/>
                  <a:pt x="557" y="38"/>
                  <a:pt x="545" y="28"/>
                </a:cubicBezTo>
                <a:cubicBezTo>
                  <a:pt x="532" y="17"/>
                  <a:pt x="502" y="0"/>
                  <a:pt x="502" y="0"/>
                </a:cubicBezTo>
                <a:cubicBezTo>
                  <a:pt x="440" y="2"/>
                  <a:pt x="379" y="3"/>
                  <a:pt x="317" y="7"/>
                </a:cubicBezTo>
                <a:cubicBezTo>
                  <a:pt x="308" y="8"/>
                  <a:pt x="221" y="49"/>
                  <a:pt x="260" y="49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234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黄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07120" y="1924200"/>
            <a:ext cx="433440" cy="492120"/>
          </a:xfrm>
          <a:custGeom>
            <a:avLst/>
            <a:gdLst/>
            <a:ahLst/>
            <a:rect l="l" t="t" r="r" b="b"/>
            <a:pathLst>
              <a:path w="273" h="310">
                <a:moveTo>
                  <a:pt x="243" y="168"/>
                </a:moveTo>
                <a:cubicBezTo>
                  <a:pt x="260" y="117"/>
                  <a:pt x="249" y="138"/>
                  <a:pt x="271" y="104"/>
                </a:cubicBezTo>
                <a:cubicBezTo>
                  <a:pt x="259" y="66"/>
                  <a:pt x="234" y="72"/>
                  <a:pt x="271" y="47"/>
                </a:cubicBezTo>
                <a:cubicBezTo>
                  <a:pt x="269" y="33"/>
                  <a:pt x="273" y="15"/>
                  <a:pt x="264" y="4"/>
                </a:cubicBezTo>
                <a:cubicBezTo>
                  <a:pt x="261" y="0"/>
                  <a:pt x="236" y="14"/>
                  <a:pt x="222" y="25"/>
                </a:cubicBezTo>
                <a:cubicBezTo>
                  <a:pt x="200" y="43"/>
                  <a:pt x="191" y="70"/>
                  <a:pt x="172" y="89"/>
                </a:cubicBezTo>
                <a:cubicBezTo>
                  <a:pt x="154" y="107"/>
                  <a:pt x="133" y="128"/>
                  <a:pt x="115" y="146"/>
                </a:cubicBezTo>
                <a:cubicBezTo>
                  <a:pt x="92" y="169"/>
                  <a:pt x="68" y="179"/>
                  <a:pt x="37" y="189"/>
                </a:cubicBezTo>
                <a:cubicBezTo>
                  <a:pt x="30" y="191"/>
                  <a:pt x="15" y="196"/>
                  <a:pt x="15" y="196"/>
                </a:cubicBezTo>
                <a:cubicBezTo>
                  <a:pt x="10" y="205"/>
                  <a:pt x="2" y="214"/>
                  <a:pt x="1" y="224"/>
                </a:cubicBezTo>
                <a:cubicBezTo>
                  <a:pt x="0" y="232"/>
                  <a:pt x="6" y="239"/>
                  <a:pt x="8" y="246"/>
                </a:cubicBezTo>
                <a:cubicBezTo>
                  <a:pt x="17" y="280"/>
                  <a:pt x="31" y="299"/>
                  <a:pt x="65" y="310"/>
                </a:cubicBezTo>
                <a:cubicBezTo>
                  <a:pt x="76" y="309"/>
                  <a:pt x="145" y="310"/>
                  <a:pt x="172" y="296"/>
                </a:cubicBezTo>
                <a:cubicBezTo>
                  <a:pt x="230" y="266"/>
                  <a:pt x="159" y="292"/>
                  <a:pt x="214" y="274"/>
                </a:cubicBezTo>
                <a:cubicBezTo>
                  <a:pt x="253" y="237"/>
                  <a:pt x="241" y="173"/>
                  <a:pt x="257" y="125"/>
                </a:cubicBezTo>
                <a:cubicBezTo>
                  <a:pt x="260" y="98"/>
                  <a:pt x="271" y="54"/>
                  <a:pt x="271" y="25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1125360"/>
            <a:ext cx="1368720" cy="648000"/>
          </a:xfrm>
          <a:prstGeom prst="wedgeRoundRectCallout">
            <a:avLst>
              <a:gd name="adj1" fmla="val -52550"/>
              <a:gd name="adj2" fmla="val 811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渤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51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0.4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645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7.0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8720" y="2133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.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6560" y="1197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68800" y="620640"/>
            <a:ext cx="8019720" cy="5618880"/>
            <a:chOff x="568800" y="620640"/>
            <a:chExt cx="8019720" cy="5618880"/>
          </a:xfrm>
        </p:grpSpPr>
        <p:sp>
          <p:nvSpPr>
            <p:cNvPr id="50" name=""/>
            <p:cNvSpPr/>
            <p:nvPr/>
          </p:nvSpPr>
          <p:spPr>
            <a:xfrm>
              <a:off x="2262600" y="620640"/>
              <a:ext cx="462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9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扬中市各季度平均气温统计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82240" y="4552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77160" y="3117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89880" y="2489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39280" y="5658120"/>
              <a:ext cx="13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73520" y="56581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92000" y="5658120"/>
              <a:ext cx="13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8000" y="5658120"/>
              <a:ext cx="13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第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8120" y="5353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8120" y="481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8800" y="4362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8800" y="3829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8800" y="33721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8800" y="28386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800" y="23814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16000" y="5129280"/>
              <a:ext cx="497160" cy="5288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63920" y="3676680"/>
              <a:ext cx="457200" cy="198144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87800" y="3041640"/>
              <a:ext cx="457200" cy="261648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5720" y="4552920"/>
              <a:ext cx="457200" cy="110520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4440" y="565812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144440" y="2076120"/>
              <a:ext cx="0" cy="358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4440" y="263700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4440" y="512460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4440" y="466740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4440" y="41338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4440" y="36766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4440" y="31435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61040" y="1314720"/>
              <a:ext cx="15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0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87120" y="40467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61080" y="1592280"/>
              <a:ext cx="13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单位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flipH="1">
            <a:off x="533520" y="1447920"/>
            <a:ext cx="1008000" cy="949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71600" y="2438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扇形统计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1557360"/>
            <a:ext cx="73454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识扇形统计图，初步体会扇形统计图描述数据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懂扇形统计图，对扇形统计图提供的信息进行简单的分析，体会统计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板块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1557360"/>
            <a:ext cx="73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识扇形统计图，初步体会扇形统计图描述数据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403280" y="1700280"/>
            <a:ext cx="6337080" cy="4104720"/>
            <a:chOff x="1403280" y="1700280"/>
            <a:chExt cx="6337080" cy="41047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1403280" y="1702800"/>
              <a:ext cx="6337080" cy="41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516760" y="1700280"/>
              <a:ext cx="3591720" cy="3758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476360" y="692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陆地地形分布情况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72360" y="1341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0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0920" y="692280"/>
            <a:ext cx="1563120" cy="733680"/>
            <a:chOff x="250920" y="692280"/>
            <a:chExt cx="1563120" cy="733680"/>
          </a:xfrm>
        </p:grpSpPr>
        <p:sp>
          <p:nvSpPr>
            <p:cNvPr id="93" name=""/>
            <p:cNvSpPr/>
            <p:nvPr/>
          </p:nvSpPr>
          <p:spPr>
            <a:xfrm>
              <a:off x="250920" y="692280"/>
              <a:ext cx="1258560" cy="7225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4400" y="72252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例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83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557360"/>
            <a:ext cx="84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你手中的扇形统计图，说一说图中的圆代表（      ）；扇形代表（          ）；扇形的大小反映（                            ）；各个扇形所占的百分比之和为（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自己说一说，再同桌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1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总数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3360" y="2133720"/>
            <a:ext cx="17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各部分数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2440" y="256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各部分数量占总数量的百分之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1240" y="3068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5640" y="198900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扇形统计图与我们以前学过的统计图有什么不同？它有什么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492280"/>
            <a:ext cx="80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扇形统计图可以清楚地表示出各部分数量同总数量之间的关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03:52:32Z</dcterms:created>
  <dc:creator> </dc:creator>
  <dc:description/>
  <dc:language>en-US</dc:language>
  <cp:lastModifiedBy>User</cp:lastModifiedBy>
  <dcterms:modified xsi:type="dcterms:W3CDTF">2013-04-25T03:03:02Z</dcterms:modified>
  <cp:revision>0</cp:revision>
  <dc:subject/>
  <dc:title> </dc:title>
</cp:coreProperties>
</file>