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7FC-E1E8-4287-955F-791AD8BB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E3E-B84A-486B-AAA6-CC99C3DC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89C-C127-4BC5-9AEC-79B84919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604-1A4A-44C1-9AB4-3CB1B62F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097-9566-4F4E-8E8D-E31C4C0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DF8-BF06-4361-BFC6-358ACAF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3FD-72C4-4D0F-991A-DA1FAE7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A2B-2660-426E-9930-AEC53597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439-E59C-4370-969B-2B98070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7D5-D08B-4DC8-849F-E9D5C9B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6B8-5192-4223-A42E-79222C8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F85-E37E-4ADB-BAD9-F55AE3C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409-7622-4792-8E0C-CE0CD50F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268280"/>
            <a:ext cx="56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数的认识复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个一千是一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亿里面有（       ）个千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0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（       ）个万组成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一组成的数是（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98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589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5589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589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01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01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01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5013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01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39337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49004900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苹果平均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，每份是（     ）个苹果，每份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苹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长的铁丝平均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，每份是这根铁丝的          ，每份长        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生人数和女生人数的比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: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男生占全班人数的         ，女生占全班人数的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，其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是        米；把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， 其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是           米；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，其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份是           米。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填一填，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11640" y="1557360"/>
            <a:ext cx="1512720" cy="1074240"/>
            <a:chOff x="4211640" y="1557360"/>
            <a:chExt cx="1512720" cy="1074240"/>
          </a:xfrm>
        </p:grpSpPr>
        <p:sp>
          <p:nvSpPr>
            <p:cNvPr id="132" name=""/>
            <p:cNvSpPr/>
            <p:nvPr/>
          </p:nvSpPr>
          <p:spPr>
            <a:xfrm>
              <a:off x="4211640" y="1989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11640" y="1557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2060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198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1484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6920" y="2565360"/>
            <a:ext cx="1512720" cy="1074240"/>
            <a:chOff x="826920" y="2565360"/>
            <a:chExt cx="1512720" cy="1074240"/>
          </a:xfrm>
        </p:grpSpPr>
        <p:sp>
          <p:nvSpPr>
            <p:cNvPr id="138" name=""/>
            <p:cNvSpPr/>
            <p:nvPr/>
          </p:nvSpPr>
          <p:spPr>
            <a:xfrm>
              <a:off x="826920" y="2997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6920" y="2565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87280" y="3068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92360" y="2565360"/>
            <a:ext cx="1512720" cy="1074240"/>
            <a:chOff x="3492360" y="2565360"/>
            <a:chExt cx="1512720" cy="1074240"/>
          </a:xfrm>
        </p:grpSpPr>
        <p:sp>
          <p:nvSpPr>
            <p:cNvPr id="142" name=""/>
            <p:cNvSpPr/>
            <p:nvPr/>
          </p:nvSpPr>
          <p:spPr>
            <a:xfrm>
              <a:off x="3492360" y="2997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92360" y="2565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52720" y="3068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187280" y="2997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25639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9988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565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3645000"/>
            <a:ext cx="1512720" cy="1074240"/>
            <a:chOff x="1116000" y="3645000"/>
            <a:chExt cx="1512720" cy="1074240"/>
          </a:xfrm>
        </p:grpSpPr>
        <p:sp>
          <p:nvSpPr>
            <p:cNvPr id="150" name=""/>
            <p:cNvSpPr/>
            <p:nvPr/>
          </p:nvSpPr>
          <p:spPr>
            <a:xfrm>
              <a:off x="1116000" y="4076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6000" y="3645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76360" y="4148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96000" y="3645000"/>
            <a:ext cx="1512720" cy="1074240"/>
            <a:chOff x="5796000" y="3645000"/>
            <a:chExt cx="1512720" cy="1074240"/>
          </a:xfrm>
        </p:grpSpPr>
        <p:sp>
          <p:nvSpPr>
            <p:cNvPr id="154" name=""/>
            <p:cNvSpPr/>
            <p:nvPr/>
          </p:nvSpPr>
          <p:spPr>
            <a:xfrm>
              <a:off x="5796000" y="4076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000" y="3645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6360" y="4148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332000" y="40766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36432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005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3573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588000" y="4149720"/>
            <a:ext cx="1512720" cy="1074240"/>
            <a:chOff x="6588000" y="4149720"/>
            <a:chExt cx="1512720" cy="1074240"/>
          </a:xfrm>
        </p:grpSpPr>
        <p:sp>
          <p:nvSpPr>
            <p:cNvPr id="162" name=""/>
            <p:cNvSpPr/>
            <p:nvPr/>
          </p:nvSpPr>
          <p:spPr>
            <a:xfrm>
              <a:off x="6588000" y="4581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8000" y="41497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8360" y="4653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93080" y="4724280"/>
            <a:ext cx="1512720" cy="1074240"/>
            <a:chOff x="7093080" y="4724280"/>
            <a:chExt cx="1512720" cy="1074240"/>
          </a:xfrm>
        </p:grpSpPr>
        <p:sp>
          <p:nvSpPr>
            <p:cNvPr id="166" name=""/>
            <p:cNvSpPr/>
            <p:nvPr/>
          </p:nvSpPr>
          <p:spPr>
            <a:xfrm>
              <a:off x="7093080" y="51559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3080" y="47242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3440" y="52275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31280" y="5373720"/>
            <a:ext cx="1512720" cy="1074240"/>
            <a:chOff x="7631280" y="5373720"/>
            <a:chExt cx="1512720" cy="1074240"/>
          </a:xfrm>
        </p:grpSpPr>
        <p:sp>
          <p:nvSpPr>
            <p:cNvPr id="170" name=""/>
            <p:cNvSpPr/>
            <p:nvPr/>
          </p:nvSpPr>
          <p:spPr>
            <a:xfrm>
              <a:off x="7631280" y="5805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1280" y="53737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91640" y="5877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32720" y="45086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40752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15772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724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04000" y="580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93080" y="5373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628640"/>
            <a:ext cx="8964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，其中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是 （      ）米；把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， 其中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是（         ）米；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平均分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，其中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份是（        ）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小数和分数有怎样的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数有哪些性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用小数的性质和规律可以解决哪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12536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6028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填上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16286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2708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32860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.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624720" cy="1460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63640" y="3068640"/>
            <a:ext cx="6121440" cy="148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51280" y="1125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112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306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378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789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4724280"/>
            <a:ext cx="8713800" cy="7923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539640" y="1557360"/>
            <a:ext cx="1512720" cy="1074240"/>
            <a:chOff x="539640" y="1557360"/>
            <a:chExt cx="1512720" cy="1074240"/>
          </a:xfrm>
        </p:grpSpPr>
        <p:sp>
          <p:nvSpPr>
            <p:cNvPr id="195" name=""/>
            <p:cNvSpPr/>
            <p:nvPr/>
          </p:nvSpPr>
          <p:spPr>
            <a:xfrm>
              <a:off x="539640" y="19890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40" y="155736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0000" y="2060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92360" y="1484280"/>
            <a:ext cx="1512720" cy="1074240"/>
            <a:chOff x="1692360" y="1484280"/>
            <a:chExt cx="1512720" cy="1074240"/>
          </a:xfrm>
        </p:grpSpPr>
        <p:sp>
          <p:nvSpPr>
            <p:cNvPr id="200" name=""/>
            <p:cNvSpPr/>
            <p:nvPr/>
          </p:nvSpPr>
          <p:spPr>
            <a:xfrm>
              <a:off x="1692360" y="19159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92360" y="14842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52720" y="19875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91636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76720" y="1484280"/>
            <a:ext cx="1512720" cy="1074240"/>
            <a:chOff x="3276720" y="1484280"/>
            <a:chExt cx="1512720" cy="1074240"/>
          </a:xfrm>
        </p:grpSpPr>
        <p:sp>
          <p:nvSpPr>
            <p:cNvPr id="205" name=""/>
            <p:cNvSpPr/>
            <p:nvPr/>
          </p:nvSpPr>
          <p:spPr>
            <a:xfrm>
              <a:off x="3276720" y="191592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6720" y="14842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7080" y="19875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971640" y="357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3573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3645000"/>
            <a:ext cx="503280" cy="57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3645000"/>
            <a:ext cx="503280" cy="57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528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3645000"/>
            <a:ext cx="502920" cy="57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3645000"/>
            <a:ext cx="503280" cy="57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6000" y="3645000"/>
            <a:ext cx="503280" cy="57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1484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48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645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3645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3645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3645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3645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737080" cy="826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8964720" cy="590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8713800" cy="2219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443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45086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4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.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651640" y="2637000"/>
            <a:ext cx="457200" cy="1038240"/>
            <a:chOff x="5651640" y="2637000"/>
            <a:chExt cx="457200" cy="1038240"/>
          </a:xfrm>
        </p:grpSpPr>
        <p:sp>
          <p:nvSpPr>
            <p:cNvPr id="232" name=""/>
            <p:cNvSpPr/>
            <p:nvPr/>
          </p:nvSpPr>
          <p:spPr>
            <a:xfrm>
              <a:off x="5651640" y="3170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51640" y="30938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51640" y="26370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372360" y="2637000"/>
            <a:ext cx="457200" cy="1038240"/>
            <a:chOff x="6372360" y="2637000"/>
            <a:chExt cx="457200" cy="1038240"/>
          </a:xfrm>
        </p:grpSpPr>
        <p:sp>
          <p:nvSpPr>
            <p:cNvPr id="236" name=""/>
            <p:cNvSpPr/>
            <p:nvPr/>
          </p:nvSpPr>
          <p:spPr>
            <a:xfrm>
              <a:off x="6372360" y="3170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2360" y="30938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360" y="26370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64360" y="2637000"/>
            <a:ext cx="457200" cy="1038240"/>
            <a:chOff x="7164360" y="2637000"/>
            <a:chExt cx="457200" cy="1038240"/>
          </a:xfrm>
        </p:grpSpPr>
        <p:sp>
          <p:nvSpPr>
            <p:cNvPr id="240" name=""/>
            <p:cNvSpPr/>
            <p:nvPr/>
          </p:nvSpPr>
          <p:spPr>
            <a:xfrm>
              <a:off x="7164360" y="3170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64360" y="30938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4360" y="26370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885080" y="2637000"/>
            <a:ext cx="457200" cy="1038240"/>
            <a:chOff x="7885080" y="2637000"/>
            <a:chExt cx="457200" cy="1038240"/>
          </a:xfrm>
        </p:grpSpPr>
        <p:sp>
          <p:nvSpPr>
            <p:cNvPr id="244" name=""/>
            <p:cNvSpPr/>
            <p:nvPr/>
          </p:nvSpPr>
          <p:spPr>
            <a:xfrm>
              <a:off x="7885080" y="3170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85080" y="309384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5080" y="26370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795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4321440" cy="2797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572000" y="2421000"/>
            <a:ext cx="432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1015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班数学期中测试的合格率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5%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校六年级人数约占全校人数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教师拥有大专学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件毛衣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羊毛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5%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纤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常看短信的人智商会下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中氧气体积约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领土面积约占全世界陆地面积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1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前我国城市人口占总人口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是世界上最大的节能灯生产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产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小学里，我们都认识了哪些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、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举例说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样的数是整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整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的数又叫什么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472000" cy="163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89400" cy="160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472000" cy="249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3379680" cy="244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630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630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负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630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623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百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292640"/>
            <a:ext cx="849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数、整数、负数、小数、分数、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对这些数以及它们之间的联系有哪些认识？在小组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1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数都是整数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数就是自然数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数都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数都是整数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8400" y="1844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17600" y="25653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0760" y="3213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1800" y="37893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1806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从各位起，把整数的数位有顺序地排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级包括哪几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级包括哪几位？亿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数位上的计数单位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邻计数单位间的进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331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3284640"/>
            <a:ext cx="903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级包括哪几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级包括哪几位？亿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数位上的计数单位分别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相邻计数单位间的进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数的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哪几个分数可以改用百分数表示？哪几个不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堆粮食，第一次运走        吨，第二次运走         吨，第一次运走的是第二次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星光小学的操场占地        公顷，大约相当于整个校园面积的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03640" y="1341360"/>
            <a:ext cx="1152360" cy="1145880"/>
            <a:chOff x="5003640" y="1341360"/>
            <a:chExt cx="1152360" cy="1145880"/>
          </a:xfrm>
        </p:grpSpPr>
        <p:sp>
          <p:nvSpPr>
            <p:cNvPr id="67" name=""/>
            <p:cNvSpPr/>
            <p:nvPr/>
          </p:nvSpPr>
          <p:spPr>
            <a:xfrm>
              <a:off x="5003640" y="184464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76720" y="191772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8000" y="13413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00000" y="1989000"/>
            <a:ext cx="1152360" cy="1145880"/>
            <a:chOff x="900000" y="1989000"/>
            <a:chExt cx="1152360" cy="1145880"/>
          </a:xfrm>
        </p:grpSpPr>
        <p:sp>
          <p:nvSpPr>
            <p:cNvPr id="71" name=""/>
            <p:cNvSpPr/>
            <p:nvPr/>
          </p:nvSpPr>
          <p:spPr>
            <a:xfrm>
              <a:off x="900000" y="24922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73080" y="256536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4360" y="198900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991640" y="1916280"/>
            <a:ext cx="1152360" cy="1145880"/>
            <a:chOff x="7991640" y="1916280"/>
            <a:chExt cx="1152360" cy="1145880"/>
          </a:xfrm>
        </p:grpSpPr>
        <p:sp>
          <p:nvSpPr>
            <p:cNvPr id="75" name=""/>
            <p:cNvSpPr/>
            <p:nvPr/>
          </p:nvSpPr>
          <p:spPr>
            <a:xfrm>
              <a:off x="7991640" y="24195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64720" y="249264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36000" y="191628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00720" y="2492280"/>
            <a:ext cx="1152360" cy="1145880"/>
            <a:chOff x="4500720" y="2492280"/>
            <a:chExt cx="1152360" cy="1145880"/>
          </a:xfrm>
        </p:grpSpPr>
        <p:sp>
          <p:nvSpPr>
            <p:cNvPr id="79" name=""/>
            <p:cNvSpPr/>
            <p:nvPr/>
          </p:nvSpPr>
          <p:spPr>
            <a:xfrm>
              <a:off x="4500720" y="29955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3800" y="306864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5080" y="249228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95640" y="3213000"/>
            <a:ext cx="1152360" cy="1145880"/>
            <a:chOff x="3995640" y="3213000"/>
            <a:chExt cx="1152360" cy="1145880"/>
          </a:xfrm>
        </p:grpSpPr>
        <p:sp>
          <p:nvSpPr>
            <p:cNvPr id="83" name=""/>
            <p:cNvSpPr/>
            <p:nvPr/>
          </p:nvSpPr>
          <p:spPr>
            <a:xfrm>
              <a:off x="3995640" y="37162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68720" y="378936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40000" y="321300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68360" y="4437000"/>
            <a:ext cx="1152360" cy="1145880"/>
            <a:chOff x="468360" y="4437000"/>
            <a:chExt cx="1152360" cy="1145880"/>
          </a:xfrm>
        </p:grpSpPr>
        <p:sp>
          <p:nvSpPr>
            <p:cNvPr id="87" name=""/>
            <p:cNvSpPr/>
            <p:nvPr/>
          </p:nvSpPr>
          <p:spPr>
            <a:xfrm>
              <a:off x="468360" y="49402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440" y="501336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2720" y="443700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19280" y="4653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=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51280" y="4508640"/>
            <a:ext cx="1152360" cy="1145880"/>
            <a:chOff x="3851280" y="4508640"/>
            <a:chExt cx="1152360" cy="1145880"/>
          </a:xfrm>
        </p:grpSpPr>
        <p:sp>
          <p:nvSpPr>
            <p:cNvPr id="92" name=""/>
            <p:cNvSpPr/>
            <p:nvPr/>
          </p:nvSpPr>
          <p:spPr>
            <a:xfrm>
              <a:off x="3851280" y="50119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360" y="508500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5640" y="4508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4724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=4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0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百分数与分数有什么练习和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92898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它们的联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数、百分数都可表示两个数量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倍数关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都可表示一个数是另一个数的几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之几或百分之几。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的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人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它们的区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数不仅可以表示两个数的倍数关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还可表示一个实际数值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吨、  小时和     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表示的实际数值分别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千克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钟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数后面可以带上计量单位名称。然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百分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却只能表示一个数是另一个数的百分之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一般不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示一个实际数值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不带计量单位名称。所以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生活中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般没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吨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米等写法。正因为如此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们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常把百分数又称之为百分比或百分率。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859280" y="2492280"/>
            <a:ext cx="457200" cy="1038600"/>
            <a:chOff x="4859280" y="2492280"/>
            <a:chExt cx="457200" cy="1038600"/>
          </a:xfrm>
        </p:grpSpPr>
        <p:sp>
          <p:nvSpPr>
            <p:cNvPr id="99" name=""/>
            <p:cNvSpPr/>
            <p:nvPr/>
          </p:nvSpPr>
          <p:spPr>
            <a:xfrm>
              <a:off x="4859280" y="3025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9280" y="29494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59280" y="24922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27640" y="907920"/>
            <a:ext cx="457200" cy="1038600"/>
            <a:chOff x="6227640" y="907920"/>
            <a:chExt cx="457200" cy="1038600"/>
          </a:xfrm>
        </p:grpSpPr>
        <p:sp>
          <p:nvSpPr>
            <p:cNvPr id="103" name=""/>
            <p:cNvSpPr/>
            <p:nvPr/>
          </p:nvSpPr>
          <p:spPr>
            <a:xfrm>
              <a:off x="6227640" y="1441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7640" y="13651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7640" y="90792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6000" y="2492280"/>
            <a:ext cx="457200" cy="1038600"/>
            <a:chOff x="5796000" y="2492280"/>
            <a:chExt cx="457200" cy="1038600"/>
          </a:xfrm>
        </p:grpSpPr>
        <p:sp>
          <p:nvSpPr>
            <p:cNvPr id="107" name=""/>
            <p:cNvSpPr/>
            <p:nvPr/>
          </p:nvSpPr>
          <p:spPr>
            <a:xfrm>
              <a:off x="5796000" y="3025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6000" y="29494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6000" y="24922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164360" y="2421000"/>
            <a:ext cx="1142640" cy="1276560"/>
            <a:chOff x="7164360" y="2421000"/>
            <a:chExt cx="1142640" cy="1276560"/>
          </a:xfrm>
        </p:grpSpPr>
        <p:sp>
          <p:nvSpPr>
            <p:cNvPr id="111" name=""/>
            <p:cNvSpPr/>
            <p:nvPr/>
          </p:nvSpPr>
          <p:spPr>
            <a:xfrm>
              <a:off x="7314840" y="2421000"/>
              <a:ext cx="99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4360" y="2994120"/>
              <a:ext cx="110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34640" y="3040560"/>
              <a:ext cx="66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8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78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28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4:50:14Z</dcterms:created>
  <dc:creator> </dc:creator>
  <dc:description/>
  <dc:language>en-US</dc:language>
  <cp:lastModifiedBy>微软用户</cp:lastModifiedBy>
  <dcterms:modified xsi:type="dcterms:W3CDTF">2013-05-06T00:30:33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