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12A-BE11-4690-8000-0D4DCED4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852E-34BC-4565-A271-7B993778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6703-B276-435E-AB68-149F81E1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5B20-47BA-4D36-A9D4-21082377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D33B-146B-401D-96B4-5BA2D6F7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1B03-516B-40CE-BD7E-D1009EAA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FB7C-EADC-402B-8DEF-288F6B71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4314-D560-4995-B2DB-47004B8B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B05-031A-4648-BBFC-58B85353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8728-4285-4923-9985-56EBE892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8628-BDA4-4DEB-9998-E79AC1AB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8336-A91B-4C0D-AE93-91BF670B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1FD8-3650-4A06-ADB3-80D4F627F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907920"/>
            <a:ext cx="660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苏教版六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1219320" y="2590920"/>
            <a:ext cx="6172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统计图的比较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169920" y="236520"/>
            <a:ext cx="2124000" cy="623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974160" y="10526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面是李大伯家收入情况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324000" y="1557360"/>
            <a:ext cx="2952360" cy="2448000"/>
            <a:chOff x="324000" y="1557360"/>
            <a:chExt cx="2952360" cy="2448000"/>
          </a:xfrm>
        </p:grpSpPr>
        <p:pic>
          <p:nvPicPr>
            <p:cNvPr id="101" name="Picture 6" descr=""/>
            <p:cNvPicPr/>
            <p:nvPr/>
          </p:nvPicPr>
          <p:blipFill>
            <a:blip r:embed="rId3"/>
            <a:stretch/>
          </p:blipFill>
          <p:spPr>
            <a:xfrm>
              <a:off x="324000" y="1557360"/>
              <a:ext cx="2949480" cy="24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7" descr=""/>
            <p:cNvPicPr/>
            <p:nvPr/>
          </p:nvPicPr>
          <p:blipFill>
            <a:blip r:embed="rId4"/>
            <a:stretch/>
          </p:blipFill>
          <p:spPr>
            <a:xfrm>
              <a:off x="2903760" y="1595880"/>
              <a:ext cx="372600" cy="19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Group 11"/>
          <p:cNvGrpSpPr/>
          <p:nvPr/>
        </p:nvGrpSpPr>
        <p:grpSpPr>
          <a:xfrm>
            <a:off x="3708360" y="1557360"/>
            <a:ext cx="2952360" cy="2448000"/>
            <a:chOff x="3708360" y="1557360"/>
            <a:chExt cx="2952360" cy="2448000"/>
          </a:xfrm>
        </p:grpSpPr>
        <p:pic>
          <p:nvPicPr>
            <p:cNvPr id="104" name="Picture 9" descr=""/>
            <p:cNvPicPr/>
            <p:nvPr/>
          </p:nvPicPr>
          <p:blipFill>
            <a:blip r:embed="rId5"/>
            <a:stretch/>
          </p:blipFill>
          <p:spPr>
            <a:xfrm>
              <a:off x="3709080" y="1557360"/>
              <a:ext cx="2951640" cy="24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0" descr=""/>
            <p:cNvPicPr/>
            <p:nvPr/>
          </p:nvPicPr>
          <p:blipFill>
            <a:blip r:embed="rId6"/>
            <a:stretch/>
          </p:blipFill>
          <p:spPr>
            <a:xfrm>
              <a:off x="3708360" y="2310840"/>
              <a:ext cx="304200" cy="1582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Picture 12" descr=""/>
          <p:cNvPicPr/>
          <p:nvPr/>
        </p:nvPicPr>
        <p:blipFill>
          <a:blip r:embed="rId7"/>
          <a:stretch/>
        </p:blipFill>
        <p:spPr>
          <a:xfrm>
            <a:off x="324000" y="4149720"/>
            <a:ext cx="4895640" cy="25509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3"/>
          <p:cNvSpPr/>
          <p:nvPr/>
        </p:nvSpPr>
        <p:spPr>
          <a:xfrm>
            <a:off x="5219640" y="4221000"/>
            <a:ext cx="39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1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年李大伯家的哪项收入最多，哪项收入最少？各占年收入的百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5227560" y="4224240"/>
            <a:ext cx="39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1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年李大伯家的各项收入分别是多少万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5237280" y="4229280"/>
            <a:ext cx="39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1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年，哪两年间李大伯家的收入增长最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218200" y="4248000"/>
            <a:ext cx="39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1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年李大伯家的年收入比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年增长了百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7" descr=""/>
          <p:cNvPicPr/>
          <p:nvPr/>
        </p:nvPicPr>
        <p:blipFill>
          <a:blip r:embed="rId8"/>
          <a:stretch/>
        </p:blipFill>
        <p:spPr>
          <a:xfrm>
            <a:off x="5292720" y="5734080"/>
            <a:ext cx="367200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2089080" cy="623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41120" y="112536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下面两组数据，分别可以用什么统计图表示？说一说，画一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324000" y="1773360"/>
            <a:ext cx="8065800" cy="1780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4"/>
          <a:stretch/>
        </p:blipFill>
        <p:spPr>
          <a:xfrm>
            <a:off x="324000" y="3789360"/>
            <a:ext cx="806436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649680" y="1197000"/>
            <a:ext cx="2074680" cy="703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统计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4711680" y="191772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908000" y="2565360"/>
            <a:ext cx="561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1909800" y="256536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7524720" y="256536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476360" y="3213000"/>
            <a:ext cx="863640" cy="2808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284720" y="3213000"/>
            <a:ext cx="863640" cy="2808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7093080" y="3213000"/>
            <a:ext cx="863640" cy="2808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25640" cy="7430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1071720" y="2808360"/>
            <a:ext cx="750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条形统计图、折线统计图、扇形统计图各有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179280" y="711360"/>
            <a:ext cx="8785440" cy="5903640"/>
          </a:xfrm>
          <a:prstGeom prst="rect">
            <a:avLst/>
          </a:prstGeom>
          <a:solidFill>
            <a:srgbClr val="ebf9e3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179280" y="1287360"/>
            <a:ext cx="874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79280" y="4095720"/>
            <a:ext cx="874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755640" y="1935000"/>
            <a:ext cx="518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755640" y="711360"/>
            <a:ext cx="0" cy="590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3205080" y="1935000"/>
            <a:ext cx="0" cy="468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5940360" y="711360"/>
            <a:ext cx="0" cy="590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65600" y="1342440"/>
            <a:ext cx="66780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特    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183240" y="4188960"/>
            <a:ext cx="66780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作    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382040" y="6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条形统计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3902760" y="6984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折线统计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6782760" y="6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扇形统计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 flipV="1">
            <a:off x="3205080" y="71136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2829600" y="132732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用一个单位长度表示一定的数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900000" y="2079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用直条的长短表示数量的多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3421080" y="2006640"/>
            <a:ext cx="287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用折线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伏表示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增减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5867280" y="1268280"/>
            <a:ext cx="367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用整个圆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表示总数，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圆内的扇形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积表示各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占总数的百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900000" y="4095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从图中能清楚地看出各数量的多少，便于相互比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3276720" y="408636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从图中能清楚地看出数量增减变化的情况，也能看出数量的多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2"/>
          <p:cNvSpPr/>
          <p:nvPr/>
        </p:nvSpPr>
        <p:spPr>
          <a:xfrm>
            <a:off x="5940360" y="40244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从图中能清楚地看出各部分与总数的百分比，以及部分与部分之间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2"/>
          <a:srcRect l="0" t="0" r="1406" b="0"/>
          <a:stretch/>
        </p:blipFill>
        <p:spPr>
          <a:xfrm>
            <a:off x="1692360" y="2517840"/>
            <a:ext cx="5040360" cy="371952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8"/>
          <p:cNvGrpSpPr/>
          <p:nvPr/>
        </p:nvGrpSpPr>
        <p:grpSpPr>
          <a:xfrm>
            <a:off x="250920" y="981000"/>
            <a:ext cx="8497800" cy="496440"/>
            <a:chOff x="250920" y="981000"/>
            <a:chExt cx="8497800" cy="496440"/>
          </a:xfrm>
        </p:grpSpPr>
        <p:sp>
          <p:nvSpPr>
            <p:cNvPr id="75" name="Text Box 5"/>
            <p:cNvSpPr/>
            <p:nvPr/>
          </p:nvSpPr>
          <p:spPr>
            <a:xfrm>
              <a:off x="250920" y="1017720"/>
              <a:ext cx="84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为了了解六年级一班同学课外阅读的兴趣和习惯，小宇收集了这个班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2011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年下半年阅读课外书的有关数据，分别制成了下面三幅统计图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7" descr=""/>
            <p:cNvPicPr/>
            <p:nvPr/>
          </p:nvPicPr>
          <p:blipFill>
            <a:blip r:embed="rId3"/>
            <a:stretch/>
          </p:blipFill>
          <p:spPr>
            <a:xfrm>
              <a:off x="395280" y="981000"/>
              <a:ext cx="504720" cy="465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6840720" cy="400680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7"/>
          <p:cNvGrpSpPr/>
          <p:nvPr/>
        </p:nvGrpSpPr>
        <p:grpSpPr>
          <a:xfrm>
            <a:off x="250920" y="981000"/>
            <a:ext cx="8497800" cy="496440"/>
            <a:chOff x="250920" y="981000"/>
            <a:chExt cx="8497800" cy="496440"/>
          </a:xfrm>
        </p:grpSpPr>
        <p:sp>
          <p:nvSpPr>
            <p:cNvPr id="79" name="Text Box 2"/>
            <p:cNvSpPr/>
            <p:nvPr/>
          </p:nvSpPr>
          <p:spPr>
            <a:xfrm>
              <a:off x="250920" y="1017720"/>
              <a:ext cx="84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为了了解六年级一班同学课外阅读的兴趣和习惯，小宇收集了这个班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2011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年下半年阅读课外书的有关数据，分别制成了下面三幅统计图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6" descr=""/>
            <p:cNvPicPr/>
            <p:nvPr/>
          </p:nvPicPr>
          <p:blipFill>
            <a:blip r:embed="rId3"/>
            <a:stretch/>
          </p:blipFill>
          <p:spPr>
            <a:xfrm>
              <a:off x="395280" y="981000"/>
              <a:ext cx="504720" cy="465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6"/>
          <p:cNvGrpSpPr/>
          <p:nvPr/>
        </p:nvGrpSpPr>
        <p:grpSpPr>
          <a:xfrm>
            <a:off x="250920" y="981000"/>
            <a:ext cx="8497800" cy="496440"/>
            <a:chOff x="250920" y="981000"/>
            <a:chExt cx="8497800" cy="496440"/>
          </a:xfrm>
        </p:grpSpPr>
        <p:sp>
          <p:nvSpPr>
            <p:cNvPr id="82" name="Text Box 2"/>
            <p:cNvSpPr/>
            <p:nvPr/>
          </p:nvSpPr>
          <p:spPr>
            <a:xfrm>
              <a:off x="250920" y="1017720"/>
              <a:ext cx="84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为了了解六年级一班同学课外阅读的兴趣和习惯，小宇收集了这个班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2011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年下半年阅读课外书的有关数据，分别制成了下面三幅统计图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"/>
            <p:cNvPicPr/>
            <p:nvPr/>
          </p:nvPicPr>
          <p:blipFill>
            <a:blip r:embed="rId2"/>
            <a:stretch/>
          </p:blipFill>
          <p:spPr>
            <a:xfrm>
              <a:off x="395280" y="981000"/>
              <a:ext cx="504720" cy="465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Picture 5" descr=""/>
          <p:cNvPicPr/>
          <p:nvPr/>
        </p:nvPicPr>
        <p:blipFill>
          <a:blip r:embed="rId3"/>
          <a:srcRect l="0" t="0" r="4387" b="0"/>
          <a:stretch/>
        </p:blipFill>
        <p:spPr>
          <a:xfrm>
            <a:off x="1185840" y="2195640"/>
            <a:ext cx="626580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4"/>
          <p:cNvGrpSpPr/>
          <p:nvPr/>
        </p:nvGrpSpPr>
        <p:grpSpPr>
          <a:xfrm>
            <a:off x="250920" y="260280"/>
            <a:ext cx="8497800" cy="496440"/>
            <a:chOff x="250920" y="260280"/>
            <a:chExt cx="8497800" cy="496440"/>
          </a:xfrm>
        </p:grpSpPr>
        <p:sp>
          <p:nvSpPr>
            <p:cNvPr id="86" name="Text Box 5"/>
            <p:cNvSpPr/>
            <p:nvPr/>
          </p:nvSpPr>
          <p:spPr>
            <a:xfrm>
              <a:off x="250920" y="297000"/>
              <a:ext cx="84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为了了解六年级一班同学课外阅读的兴趣和习惯，小宇收集了这个班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2011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年下半年阅读课外书的有关数据，分别制成了下面三幅统计图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6" descr="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504720" cy="465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" name="Picture 7" descr=""/>
          <p:cNvPicPr/>
          <p:nvPr/>
        </p:nvPicPr>
        <p:blipFill>
          <a:blip r:embed="rId3"/>
          <a:srcRect l="0" t="0" r="1406" b="0"/>
          <a:stretch/>
        </p:blipFill>
        <p:spPr>
          <a:xfrm>
            <a:off x="250920" y="1488960"/>
            <a:ext cx="2952720" cy="217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4"/>
          <a:srcRect l="2342" t="0" r="0" b="0"/>
          <a:stretch/>
        </p:blipFill>
        <p:spPr>
          <a:xfrm>
            <a:off x="108000" y="3789360"/>
            <a:ext cx="4500360" cy="2698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5"/>
          <a:srcRect l="0" t="0" r="5082" b="0"/>
          <a:stretch/>
        </p:blipFill>
        <p:spPr>
          <a:xfrm>
            <a:off x="4788000" y="3784680"/>
            <a:ext cx="4032000" cy="27129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0"/>
          <p:cNvSpPr/>
          <p:nvPr/>
        </p:nvSpPr>
        <p:spPr>
          <a:xfrm>
            <a:off x="3276720" y="168588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）上面三幅统计图分别表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3276720" y="1700280"/>
            <a:ext cx="56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）从哪幅统计图能看出六年级一班同学比较喜欢哪一种课外书？从哪幅统计图能看出下半年各月阅读本数的变化情况？从哪幅统计图能看出阅读课外书时间的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4261680" y="1685880"/>
            <a:ext cx="36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）你还能从统计图中获得哪些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rcRect l="1757" t="0" r="0" b="0"/>
          <a:stretch/>
        </p:blipFill>
        <p:spPr>
          <a:xfrm>
            <a:off x="611280" y="1106640"/>
            <a:ext cx="7186680" cy="1314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>
            <a:off x="179280" y="2781360"/>
            <a:ext cx="2664000" cy="23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4"/>
          <a:stretch/>
        </p:blipFill>
        <p:spPr>
          <a:xfrm>
            <a:off x="2987640" y="2805120"/>
            <a:ext cx="2770200" cy="2298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5"/>
          <a:stretch/>
        </p:blipFill>
        <p:spPr>
          <a:xfrm>
            <a:off x="5940360" y="2781360"/>
            <a:ext cx="252108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2T06:08:57Z</dcterms:created>
  <dc:creator/>
  <dc:description/>
  <cp:keywords/>
  <dc:language>en-US</dc:language>
  <cp:lastModifiedBy>dreamsummit</cp:lastModifiedBy>
  <dcterms:modified xsi:type="dcterms:W3CDTF">2015-07-01T09:05:35Z</dcterms:modified>
  <cp:revision>4</cp:revision>
  <dc:subject/>
  <dc:title>苏教版六年级数学下册</dc:title>
</cp:coreProperties>
</file>