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1EE-A6E4-4252-AEF0-7896A495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89B-3681-490B-8809-1271F26C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FE6-47B5-4E84-9508-A7ECFB74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E3A-CF28-414E-BED9-A53BFCD8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D4E6-550E-4386-A96E-CB85B67C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C4F-73BA-4E1D-A9E5-CDBDAB3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5D3B-1F44-4A4E-86B8-A33B1A7E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2D4A-4F28-4E89-9D7E-893F6B2C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E341-18E8-41EA-AB34-CCCAD0E7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96E5-1BB1-4C9F-B07C-ED56E4D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D284-193C-485F-A3C7-56B40036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E47-E629-4804-8DE8-28AD5701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DF38-80A6-44F8-8101-7C06148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C582-4BFF-4CA5-B7D0-6358266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DC25-50BE-4345-978A-65247469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108-4909-4F75-8AB8-0F493841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8C2F-DDE1-42B0-A679-76966A6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97B0-612D-4402-B381-DA82C7DF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73C7-E957-4790-B55F-E38D8B8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80E1-D356-4F57-9651-9985912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EE99-0F7B-4E21-9F7F-B7DF14E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BCBF-6431-4FA8-A0A6-7710B78D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BD0-9FE3-4D00-860B-2EB26278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C8F28-193D-4688-B9F2-A9E0F7B1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4448-6AD9-4F58-BFA8-4FE4350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FBB1-CD94-4489-9452-D9A3946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C449-3156-448A-9A36-5C5441D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386D-AF81-4F21-B7E3-FFE48708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0600-5EBC-4613-931E-7E038244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D753-A904-4C99-B7FF-20D61A22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00F4-F216-48AE-8BFB-01746992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CC6B-E6AD-494B-8861-74BD98C0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0D50-CB2C-4133-9EAD-2753B2C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BA9-03A6-4B03-91BC-B8CDA750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42D3D-952C-4057-97A2-922ED8A8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343B-9B76-46CF-A359-1C864264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ADB75-C5EC-47AE-855E-DA32135D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864C-CD77-4D90-A815-98C335D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9989-B149-4D91-8B13-6ABA638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F9A5-049F-4D68-AC4C-B62C910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3182D-9BF9-4C47-9266-795866C2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300F6-5F36-4EC1-94BC-46640DC5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FC52-3758-4C5A-9D63-E9CD5B2C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15C-0C04-4240-A31C-B73A549D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2BD-26E6-4D6B-A64B-B7EAB604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16C-5448-47F5-9AE1-A2205F8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25B-0982-4BDD-AB0F-8073079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049-12F1-4560-ADDD-F92A7CC1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3553-8A2E-473A-88FB-9698E2B7F3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DC13-11CC-4C12-A0F1-58C31AC4B8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8"/>
          </p:nvPr>
        </p:nvSpPr>
        <p:spPr>
          <a:xfrm>
            <a:off x="3029040" y="6442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EB7-524E-4D4A-966D-961B268BE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e8d9ca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8"/>
          <p:cNvSpPr/>
          <p:nvPr/>
        </p:nvSpPr>
        <p:spPr>
          <a:xfrm>
            <a:off x="0" y="549360"/>
            <a:ext cx="9144000" cy="575928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2514600" y="4786200"/>
            <a:ext cx="662940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0"/>
          <p:cNvGrpSpPr/>
          <p:nvPr/>
        </p:nvGrpSpPr>
        <p:grpSpPr>
          <a:xfrm>
            <a:off x="1009440" y="3343320"/>
            <a:ext cx="1414440" cy="1355760"/>
            <a:chOff x="1009440" y="3343320"/>
            <a:chExt cx="1414440" cy="1355760"/>
          </a:xfrm>
        </p:grpSpPr>
        <p:sp>
          <p:nvSpPr>
            <p:cNvPr id="196" name="泪滴形 11"/>
            <p:cNvSpPr/>
            <p:nvPr/>
          </p:nvSpPr>
          <p:spPr>
            <a:xfrm rot="5400000">
              <a:off x="1038600" y="3313800"/>
              <a:ext cx="1355760" cy="1414440"/>
            </a:xfrm>
            <a:custGeom>
              <a:avLst/>
              <a:gdLst/>
              <a:ahLst/>
              <a:rect l="l" t="t" r="r" b="b"/>
              <a:pathLst>
                <a:path w="1517334" h="1584176">
                  <a:moveTo>
                    <a:pt x="0" y="792088"/>
                  </a:moveTo>
                  <a:cubicBezTo>
                    <a:pt x="0" y="354630"/>
                    <a:pt x="339667" y="0"/>
                    <a:pt x="758667" y="0"/>
                  </a:cubicBezTo>
                  <a:lnTo>
                    <a:pt x="1517334" y="0"/>
                  </a:lnTo>
                  <a:lnTo>
                    <a:pt x="1517334" y="792088"/>
                  </a:lnTo>
                  <a:cubicBezTo>
                    <a:pt x="1517334" y="1229546"/>
                    <a:pt x="1177667" y="1584176"/>
                    <a:pt x="758667" y="1584176"/>
                  </a:cubicBezTo>
                  <a:cubicBezTo>
                    <a:pt x="339667" y="1584176"/>
                    <a:pt x="0" y="1229546"/>
                    <a:pt x="0" y="792088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泪滴形 12"/>
            <p:cNvSpPr/>
            <p:nvPr/>
          </p:nvSpPr>
          <p:spPr>
            <a:xfrm rot="5400000">
              <a:off x="1262160" y="3539160"/>
              <a:ext cx="1132560" cy="1181520"/>
            </a:xfrm>
            <a:custGeom>
              <a:avLst/>
              <a:gdLst/>
              <a:ahLst/>
              <a:rect l="l" t="t" r="r" b="b"/>
              <a:pathLst>
                <a:path w="1267254" h="1323079">
                  <a:moveTo>
                    <a:pt x="0" y="661540"/>
                  </a:moveTo>
                  <a:cubicBezTo>
                    <a:pt x="0" y="296182"/>
                    <a:pt x="283684" y="0"/>
                    <a:pt x="633627" y="0"/>
                  </a:cubicBezTo>
                  <a:lnTo>
                    <a:pt x="1267254" y="0"/>
                  </a:lnTo>
                  <a:lnTo>
                    <a:pt x="1267254" y="661540"/>
                  </a:lnTo>
                  <a:cubicBezTo>
                    <a:pt x="1267254" y="1026898"/>
                    <a:pt x="983570" y="1323080"/>
                    <a:pt x="633627" y="1323080"/>
                  </a:cubicBezTo>
                  <a:cubicBezTo>
                    <a:pt x="283684" y="1323080"/>
                    <a:pt x="0" y="1026898"/>
                    <a:pt x="0" y="661540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泪滴形 14"/>
            <p:cNvSpPr/>
            <p:nvPr/>
          </p:nvSpPr>
          <p:spPr>
            <a:xfrm rot="5400000">
              <a:off x="1564560" y="3841560"/>
              <a:ext cx="836640" cy="872640"/>
            </a:xfrm>
            <a:custGeom>
              <a:avLst/>
              <a:gdLst/>
              <a:ahLst/>
              <a:rect l="l" t="t" r="r" b="b"/>
              <a:pathLst>
                <a:path w="936248" h="977492">
                  <a:moveTo>
                    <a:pt x="0" y="488746"/>
                  </a:moveTo>
                  <a:cubicBezTo>
                    <a:pt x="0" y="218819"/>
                    <a:pt x="209586" y="0"/>
                    <a:pt x="468124" y="0"/>
                  </a:cubicBezTo>
                  <a:lnTo>
                    <a:pt x="936248" y="0"/>
                  </a:lnTo>
                  <a:lnTo>
                    <a:pt x="936248" y="488746"/>
                  </a:lnTo>
                  <a:cubicBezTo>
                    <a:pt x="936248" y="758673"/>
                    <a:pt x="726662" y="977492"/>
                    <a:pt x="468124" y="977492"/>
                  </a:cubicBezTo>
                  <a:cubicBezTo>
                    <a:pt x="209586" y="977492"/>
                    <a:pt x="0" y="758673"/>
                    <a:pt x="0" y="488746"/>
                  </a:cubicBez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45684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85a5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a5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85a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85a5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85a5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5B5-3C03-4EC0-9F51-FA6FFB059AD9}" type="slidenum">
              <a:rPr b="0" lang="en-US" sz="1200" spc="-1" strike="noStrike">
                <a:solidFill>
                  <a:srgbClr val="585a5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2514600" y="3730680"/>
            <a:ext cx="615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202200" y="26668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Comic Sans MS"/>
              </a:rPr>
              <a:t>统计图的应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0" y="1268280"/>
            <a:ext cx="8208720" cy="2984400"/>
            <a:chOff x="0" y="1268280"/>
            <a:chExt cx="8208720" cy="2984400"/>
          </a:xfrm>
        </p:grpSpPr>
        <p:sp>
          <p:nvSpPr>
            <p:cNvPr id="579" name=""/>
            <p:cNvSpPr/>
            <p:nvPr/>
          </p:nvSpPr>
          <p:spPr>
            <a:xfrm>
              <a:off x="581040" y="3889080"/>
              <a:ext cx="74433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81040" y="1268280"/>
              <a:ext cx="0" cy="26208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1040" y="3466080"/>
              <a:ext cx="72309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1040" y="3042720"/>
              <a:ext cx="72309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1040" y="2619720"/>
              <a:ext cx="72309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040" y="2196360"/>
              <a:ext cx="72309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1040" y="1775160"/>
              <a:ext cx="723096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06200" y="3805560"/>
              <a:ext cx="0" cy="8352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73560" y="3805560"/>
              <a:ext cx="0" cy="8352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4056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0792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7528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4120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0856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8960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4292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1028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9132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7240" y="3803400"/>
              <a:ext cx="0" cy="8388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9680" y="389088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8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47040" y="389088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857960" y="389088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23520" y="389088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47320" y="389088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30160" y="389088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83480" y="389088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22400" y="389088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59960" y="388152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85200" y="387216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80640" y="385596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18120" y="388152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27600" y="384804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(</a:t>
              </a:r>
              <a:r>
                <a:rPr b="1" lang="zh-CN" sz="1600" spc="-1" strike="noStrike">
                  <a:solidFill>
                    <a:srgbClr val="ba836a"/>
                  </a:solidFill>
                  <a:latin typeface="Arial"/>
                </a:rPr>
                <a:t>年</a:t>
              </a: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840" y="3915360"/>
              <a:ext cx="28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040" y="326268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6040" y="2839680"/>
              <a:ext cx="63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040" y="2416320"/>
              <a:ext cx="6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9720" y="1992960"/>
              <a:ext cx="60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1555200"/>
              <a:ext cx="6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a836a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964080" y="2399760"/>
              <a:ext cx="567360" cy="506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1503000" y="1942560"/>
              <a:ext cx="567360" cy="508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70360" y="1942920"/>
              <a:ext cx="565560" cy="84636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36280" y="2789280"/>
              <a:ext cx="639000" cy="838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275280" y="2112840"/>
              <a:ext cx="495360" cy="7603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43000" y="2028600"/>
              <a:ext cx="565560" cy="7603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408560" y="2365560"/>
              <a:ext cx="567360" cy="4230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975920" y="2365920"/>
              <a:ext cx="567000" cy="5929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472720" y="2451600"/>
              <a:ext cx="567360" cy="5072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40080" y="2451960"/>
              <a:ext cx="637200" cy="76032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677640" y="3126600"/>
              <a:ext cx="567000" cy="8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7920" y="2806200"/>
              <a:ext cx="14184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59440" y="2315880"/>
              <a:ext cx="14184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98720" y="1859040"/>
              <a:ext cx="14184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66080" y="2705400"/>
              <a:ext cx="14184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03640" y="2789280"/>
              <a:ext cx="14184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56600" y="1992960"/>
              <a:ext cx="14184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38000" y="2670120"/>
              <a:ext cx="14220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05360" y="2315880"/>
              <a:ext cx="14184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28800" y="2823120"/>
              <a:ext cx="14220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68080" y="2332440"/>
              <a:ext cx="14184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19680" y="3177360"/>
              <a:ext cx="141840" cy="169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01080" y="3076200"/>
              <a:ext cx="14184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258920" y="9079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不同年份降水量的年际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80000" y="260280"/>
            <a:ext cx="2448000" cy="649440"/>
          </a:xfrm>
          <a:prstGeom prst="wedgeRoundRectCallout">
            <a:avLst>
              <a:gd name="adj1" fmla="val -91504"/>
              <a:gd name="adj2" fmla="val 54402"/>
              <a:gd name="adj3" fmla="val 16667"/>
            </a:avLst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折线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-6120" y="10526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836a"/>
                </a:solidFill>
                <a:latin typeface="Comic Sans MS"/>
              </a:rPr>
              <a:t>（</a:t>
            </a:r>
            <a:r>
              <a:rPr b="1" lang="en-US" sz="1800" spc="-1" strike="noStrike">
                <a:solidFill>
                  <a:srgbClr val="ba836a"/>
                </a:solidFill>
                <a:latin typeface="Comic Sans MS"/>
              </a:rPr>
              <a:t>mm</a:t>
            </a:r>
            <a:r>
              <a:rPr b="1" lang="zh-CN" sz="1800" spc="-1" strike="noStrike">
                <a:solidFill>
                  <a:srgbClr val="ba836a"/>
                </a:solidFill>
                <a:latin typeface="Comic Sans MS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64760" y="4365720"/>
            <a:ext cx="89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、图中观察哪年的降水量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、图中还可以观察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52880" y="5805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降水量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KSO_BC1"/>
          <p:cNvGraphicFramePr/>
          <p:nvPr/>
        </p:nvGraphicFramePr>
        <p:xfrm>
          <a:off x="738360" y="1758960"/>
          <a:ext cx="715320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KSO_B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1758960"/>
                    <a:ext cx="71532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5435640" y="189000"/>
            <a:ext cx="2448000" cy="649080"/>
          </a:xfrm>
          <a:prstGeom prst="wedgeRoundRectCallout">
            <a:avLst>
              <a:gd name="adj1" fmla="val -76782"/>
              <a:gd name="adj2" fmla="val 105500"/>
              <a:gd name="adj3" fmla="val 16667"/>
            </a:avLst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折线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31960" y="1052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Comic Sans MS"/>
              </a:rPr>
              <a:t>世界人口变化统计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33320" y="54259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、图中观察世界人口如何变化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、预计</a:t>
            </a:r>
            <a:r>
              <a:rPr b="0" lang="en-US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2050</a:t>
            </a:r>
            <a:r>
              <a:rPr b="0" lang="zh-CN" sz="4400" spc="-1" strike="noStrike">
                <a:solidFill>
                  <a:srgbClr val="ba836a"/>
                </a:solidFill>
                <a:latin typeface="华文新魏"/>
                <a:ea typeface="华文新魏"/>
              </a:rPr>
              <a:t>年人口将达到多少亿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议一议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：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从折线图可以观察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    到什么？如何正确读取信息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</a:rPr>
              <a:t>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1" name=""/>
          <p:cNvSpPr/>
          <p:nvPr/>
        </p:nvSpPr>
        <p:spPr>
          <a:xfrm>
            <a:off x="1778040" y="1822320"/>
            <a:ext cx="542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从折线图中可以读取各个项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具体数据信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正确读取信息的方法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）识别折线图的横纵坐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）按要求读取所需要项目的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折线统计图——折线统计图能清楚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反映事物的变化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484360" y="0"/>
          <a:ext cx="36194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0"/>
                    <a:ext cx="3619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1773000" y="170028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条形统计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能清楚地表示出每个项目的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  <a:ea typeface="华文新魏"/>
              </a:rPr>
              <a:t>具体数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2124000" y="2133720"/>
          <a:ext cx="482940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133720"/>
                    <a:ext cx="482940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748160" y="342900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折线统计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能清楚地反映事物的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  <a:ea typeface="华文新魏"/>
              </a:rPr>
              <a:t>变化情况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68360" y="4005360"/>
          <a:ext cx="3673800" cy="18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005360"/>
                    <a:ext cx="36738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1863720" y="5791320"/>
            <a:ext cx="447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扇形统计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能清楚地表现出各部分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85a5c"/>
                </a:solidFill>
                <a:latin typeface="Times New Roman"/>
                <a:ea typeface="华文新魏"/>
              </a:rPr>
              <a:t>                   </a:t>
            </a:r>
            <a:r>
              <a:rPr b="1" lang="zh-CN" sz="3200" spc="-1" strike="noStrike">
                <a:solidFill>
                  <a:srgbClr val="66ff66"/>
                </a:solidFill>
                <a:latin typeface="Times New Roman"/>
                <a:ea typeface="华文新魏"/>
              </a:rPr>
              <a:t>总体中所占的百分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527040" y="1825560"/>
          <a:ext cx="8028000" cy="3098880"/>
        </p:xfrm>
        <a:graphic>
          <a:graphicData uri="http://schemas.openxmlformats.org/drawingml/2006/table">
            <a:tbl>
              <a:tblPr/>
              <a:tblGrid>
                <a:gridCol w="1606680"/>
                <a:gridCol w="1604880"/>
                <a:gridCol w="1606680"/>
                <a:gridCol w="1563480"/>
                <a:gridCol w="1646280"/>
              </a:tblGrid>
              <a:tr h="9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图形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三角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四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五角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观察记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ba836a"/>
                          </a:solidFill>
                          <a:latin typeface="仿宋"/>
                          <a:ea typeface="仿宋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"/>
          <p:cNvSpPr/>
          <p:nvPr/>
        </p:nvSpPr>
        <p:spPr>
          <a:xfrm>
            <a:off x="872820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1197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a836a"/>
                </a:solidFill>
                <a:latin typeface="Arial"/>
              </a:rPr>
              <a:t>请将获得的数据填入下面表格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47640" y="551664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绘制条形、折线统计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68360" y="260280"/>
            <a:ext cx="30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团结就是力量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6" name=""/>
          <p:cNvSpPr/>
          <p:nvPr/>
        </p:nvSpPr>
        <p:spPr>
          <a:xfrm>
            <a:off x="2681280" y="4162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96720" y="4149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97080" y="4149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26160" y="422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308720" y="3068640"/>
            <a:ext cx="1224000" cy="703440"/>
            <a:chOff x="7308720" y="3068640"/>
            <a:chExt cx="1224000" cy="703440"/>
          </a:xfrm>
        </p:grpSpPr>
        <p:sp>
          <p:nvSpPr>
            <p:cNvPr id="671" name=""/>
            <p:cNvSpPr/>
            <p:nvPr/>
          </p:nvSpPr>
          <p:spPr>
            <a:xfrm>
              <a:off x="8172360" y="3284640"/>
              <a:ext cx="360360" cy="0"/>
            </a:xfrm>
            <a:prstGeom prst="line">
              <a:avLst/>
            </a:prstGeom>
            <a:ln w="38160">
              <a:solidFill>
                <a:srgbClr val="ba83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08720" y="3068640"/>
              <a:ext cx="8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ba836a"/>
                  </a:solidFill>
                  <a:latin typeface="Arial"/>
                </a:rPr>
                <a:t>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16720" y="3284640"/>
              <a:ext cx="0" cy="4316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16720" y="3500280"/>
              <a:ext cx="144360" cy="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2360" y="3500280"/>
              <a:ext cx="0" cy="2160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64000" y="3068640"/>
            <a:ext cx="1728720" cy="720720"/>
            <a:chOff x="3564000" y="3068640"/>
            <a:chExt cx="1728720" cy="720720"/>
          </a:xfrm>
        </p:grpSpPr>
        <p:sp>
          <p:nvSpPr>
            <p:cNvPr id="677" name=""/>
            <p:cNvSpPr/>
            <p:nvPr/>
          </p:nvSpPr>
          <p:spPr>
            <a:xfrm>
              <a:off x="5148360" y="3357720"/>
              <a:ext cx="0" cy="431640"/>
            </a:xfrm>
            <a:prstGeom prst="line">
              <a:avLst/>
            </a:prstGeom>
            <a:ln w="38160">
              <a:solidFill>
                <a:srgbClr val="ba83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564000" y="3068640"/>
              <a:ext cx="1728720" cy="703440"/>
              <a:chOff x="3564000" y="3068640"/>
              <a:chExt cx="1728720" cy="703440"/>
            </a:xfrm>
          </p:grpSpPr>
          <p:sp>
            <p:nvSpPr>
              <p:cNvPr id="679" name=""/>
              <p:cNvSpPr/>
              <p:nvPr/>
            </p:nvSpPr>
            <p:spPr>
              <a:xfrm>
                <a:off x="4932360" y="3284640"/>
                <a:ext cx="360360" cy="0"/>
              </a:xfrm>
              <a:prstGeom prst="line">
                <a:avLst/>
              </a:prstGeom>
              <a:ln w="38160">
                <a:solidFill>
                  <a:srgbClr val="ba83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564000" y="3068640"/>
                <a:ext cx="812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ba836a"/>
                    </a:solidFill>
                    <a:latin typeface="Arial"/>
                  </a:rPr>
                  <a:t>正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40360" y="3068640"/>
                <a:ext cx="812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ba836a"/>
                    </a:solidFill>
                    <a:latin typeface="Arial"/>
                  </a:rPr>
                  <a:t>正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5364000" y="3068640"/>
            <a:ext cx="1584360" cy="703440"/>
            <a:chOff x="5364000" y="3068640"/>
            <a:chExt cx="1584360" cy="703440"/>
          </a:xfrm>
        </p:grpSpPr>
        <p:sp>
          <p:nvSpPr>
            <p:cNvPr id="683" name=""/>
            <p:cNvSpPr/>
            <p:nvPr/>
          </p:nvSpPr>
          <p:spPr>
            <a:xfrm>
              <a:off x="6732360" y="3284640"/>
              <a:ext cx="0" cy="360360"/>
            </a:xfrm>
            <a:prstGeom prst="line">
              <a:avLst/>
            </a:prstGeom>
            <a:ln w="38160">
              <a:solidFill>
                <a:srgbClr val="ba83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5364000" y="3068640"/>
              <a:ext cx="1584360" cy="703440"/>
              <a:chOff x="5364000" y="3068640"/>
              <a:chExt cx="1584360" cy="703440"/>
            </a:xfrm>
          </p:grpSpPr>
          <p:sp>
            <p:nvSpPr>
              <p:cNvPr id="685" name=""/>
              <p:cNvSpPr/>
              <p:nvPr/>
            </p:nvSpPr>
            <p:spPr>
              <a:xfrm>
                <a:off x="5364000" y="3068640"/>
                <a:ext cx="812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ba836a"/>
                    </a:solidFill>
                    <a:latin typeface="Arial"/>
                  </a:rPr>
                  <a:t>正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516360" y="3284640"/>
                <a:ext cx="432000" cy="0"/>
              </a:xfrm>
              <a:prstGeom prst="line">
                <a:avLst/>
              </a:prstGeom>
              <a:ln w="38160">
                <a:solidFill>
                  <a:srgbClr val="ba836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7280" y="3068640"/>
                <a:ext cx="812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ba836a"/>
                    </a:solidFill>
                    <a:latin typeface="Arial"/>
                  </a:rPr>
                  <a:t>正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8" name=""/>
          <p:cNvGrpSpPr/>
          <p:nvPr/>
        </p:nvGrpSpPr>
        <p:grpSpPr>
          <a:xfrm>
            <a:off x="2340000" y="3068640"/>
            <a:ext cx="1224000" cy="703440"/>
            <a:chOff x="2340000" y="3068640"/>
            <a:chExt cx="1224000" cy="703440"/>
          </a:xfrm>
        </p:grpSpPr>
        <p:sp>
          <p:nvSpPr>
            <p:cNvPr id="689" name=""/>
            <p:cNvSpPr/>
            <p:nvPr/>
          </p:nvSpPr>
          <p:spPr>
            <a:xfrm>
              <a:off x="2340000" y="3068640"/>
              <a:ext cx="812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ba836a"/>
                  </a:solidFill>
                  <a:latin typeface="Arial"/>
                </a:rPr>
                <a:t>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2000" y="3284640"/>
              <a:ext cx="432000" cy="0"/>
            </a:xfrm>
            <a:prstGeom prst="line">
              <a:avLst/>
            </a:prstGeom>
            <a:ln w="38160">
              <a:solidFill>
                <a:srgbClr val="ba83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48000" y="3284640"/>
              <a:ext cx="0" cy="360360"/>
            </a:xfrm>
            <a:prstGeom prst="line">
              <a:avLst/>
            </a:prstGeom>
            <a:ln w="38160">
              <a:solidFill>
                <a:srgbClr val="ba83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48000" y="3500280"/>
              <a:ext cx="144360" cy="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2318760" y="3357720"/>
            <a:ext cx="4958640" cy="2980800"/>
            <a:chOff x="2318760" y="3357720"/>
            <a:chExt cx="4958640" cy="2980800"/>
          </a:xfrm>
        </p:grpSpPr>
        <p:sp>
          <p:nvSpPr>
            <p:cNvPr id="694" name=""/>
            <p:cNvSpPr/>
            <p:nvPr/>
          </p:nvSpPr>
          <p:spPr>
            <a:xfrm>
              <a:off x="4140360" y="4437360"/>
              <a:ext cx="0" cy="140652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03640" y="4000680"/>
              <a:ext cx="0" cy="179244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43280" y="5780160"/>
              <a:ext cx="3889440" cy="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843280" y="3540240"/>
              <a:ext cx="0" cy="223992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3280" y="5332680"/>
              <a:ext cx="863640" cy="12852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3280" y="4819680"/>
              <a:ext cx="2448000" cy="1288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4308480"/>
              <a:ext cx="1297080" cy="1288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43280" y="3861000"/>
              <a:ext cx="360360" cy="1270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91280" y="4934160"/>
              <a:ext cx="0" cy="83196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06920" y="5461200"/>
              <a:ext cx="0" cy="255600"/>
            </a:xfrm>
            <a:prstGeom prst="line">
              <a:avLst/>
            </a:prstGeom>
            <a:ln w="2844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0760" y="3357720"/>
              <a:ext cx="446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类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50440" y="3645000"/>
              <a:ext cx="446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建议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18760" y="4149720"/>
              <a:ext cx="446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投诉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18760" y="4724640"/>
              <a:ext cx="446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环境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8760" y="5158080"/>
              <a:ext cx="4460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交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89000" y="5670720"/>
              <a:ext cx="616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585a5c"/>
                  </a:solidFill>
                  <a:latin typeface="Tahoma"/>
                </a:rPr>
                <a:t>10%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65360" y="5662800"/>
              <a:ext cx="616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585a5c"/>
                  </a:solidFill>
                  <a:latin typeface="Tahoma"/>
                </a:rPr>
                <a:t>20%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41360" y="5662800"/>
              <a:ext cx="616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585a5c"/>
                  </a:solidFill>
                  <a:latin typeface="Tahoma"/>
                </a:rPr>
                <a:t>25%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49720" y="5662800"/>
              <a:ext cx="616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585a5c"/>
                  </a:solidFill>
                  <a:latin typeface="Tahoma"/>
                </a:rPr>
                <a:t>45%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8880" y="5724720"/>
              <a:ext cx="5785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585a5c"/>
                  </a:solidFill>
                  <a:latin typeface="Tahoma"/>
                </a:rPr>
                <a:t>百分比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748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500" spc="-1" strike="noStrike">
                <a:solidFill>
                  <a:srgbClr val="ffcc00"/>
                </a:solidFill>
                <a:latin typeface="方正黑体简体"/>
                <a:ea typeface="方正黑体简体"/>
              </a:rPr>
              <a:t>条形统计图的应用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  <a:p>
            <a:pPr marL="3542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如图是某报纸“百姓热线”一周接到热线电话统计图，其中有关环境问题的电话最多，共</a:t>
            </a: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90</a:t>
            </a: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个</a:t>
            </a: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.</a:t>
            </a:r>
            <a:endParaRPr b="1" lang="en-US" sz="3000" spc="-1" strike="noStrike">
              <a:solidFill>
                <a:srgbClr val="ffffff"/>
              </a:solidFill>
              <a:latin typeface="仿宋"/>
            </a:endParaRPr>
          </a:p>
          <a:p>
            <a:pPr marL="3542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   </a:t>
            </a: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（</a:t>
            </a: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1</a:t>
            </a: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）本周“百姓热线”共接热线电话多少个？</a:t>
            </a:r>
            <a:endParaRPr b="1" lang="en-US" sz="3000" spc="-1" strike="noStrike">
              <a:solidFill>
                <a:srgbClr val="ffffff"/>
              </a:solidFill>
              <a:latin typeface="仿宋"/>
            </a:endParaRPr>
          </a:p>
          <a:p>
            <a:pPr marL="35424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   </a:t>
            </a: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（</a:t>
            </a:r>
            <a:r>
              <a:rPr b="1" lang="en-US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2</a:t>
            </a:r>
            <a:r>
              <a:rPr b="1" lang="zh-CN" sz="3000" spc="-1" strike="noStrike">
                <a:solidFill>
                  <a:srgbClr val="ffcc00"/>
                </a:solidFill>
                <a:latin typeface="华文中宋"/>
                <a:ea typeface="华文中宋"/>
              </a:rPr>
              <a:t>）有关交通问题的电话多少个？</a:t>
            </a:r>
            <a:endParaRPr b="1" lang="en-US" sz="3000" spc="-1" strike="noStrike">
              <a:solidFill>
                <a:srgbClr val="ffffff"/>
              </a:solidFill>
              <a:latin typeface="仿宋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496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某班数学测验中，将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10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道选择题作对的人数绘制成条形统计图，根据图表：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  <a:p>
            <a:pPr marL="36180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   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　求：平均每个同学做对了几道题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.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90040" y="2451240"/>
            <a:ext cx="6264360" cy="5269320"/>
            <a:chOff x="1490040" y="2451240"/>
            <a:chExt cx="6264360" cy="5269320"/>
          </a:xfrm>
        </p:grpSpPr>
        <p:sp>
          <p:nvSpPr>
            <p:cNvPr id="717" name=""/>
            <p:cNvSpPr/>
            <p:nvPr/>
          </p:nvSpPr>
          <p:spPr>
            <a:xfrm flipH="1">
              <a:off x="2023920" y="5248440"/>
              <a:ext cx="4095000" cy="864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1958400" y="4902840"/>
              <a:ext cx="418932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1958400" y="4123440"/>
              <a:ext cx="418932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58760" y="5600160"/>
              <a:ext cx="57956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958760" y="2552760"/>
              <a:ext cx="0" cy="304668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5400000">
              <a:off x="2420640" y="5301000"/>
              <a:ext cx="371160" cy="206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93480" y="2451240"/>
              <a:ext cx="5785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学生数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10200" y="313740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3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17400" y="389448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宋体"/>
                </a:rPr>
                <a:t>2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10200" y="473688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98760" y="5547240"/>
              <a:ext cx="313200" cy="21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ba836a"/>
                  </a:solidFill>
                  <a:latin typeface="Tahoma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69080" y="5547240"/>
              <a:ext cx="313200" cy="21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ba836a"/>
                  </a:solidFill>
                  <a:latin typeface="Tahoma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970080" y="5547240"/>
              <a:ext cx="313200" cy="21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ba836a"/>
                  </a:solidFill>
                  <a:latin typeface="Tahoma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27600" y="5547240"/>
              <a:ext cx="433800" cy="21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ba836a"/>
                  </a:solidFill>
                  <a:latin typeface="Tahoma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10040" y="5533560"/>
              <a:ext cx="7110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 baseline="-25000">
                  <a:solidFill>
                    <a:srgbClr val="ba836a"/>
                  </a:solidFill>
                  <a:latin typeface="Tahoma"/>
                </a:rPr>
                <a:t>作对数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58760" y="4903920"/>
              <a:ext cx="1058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58760" y="4119480"/>
              <a:ext cx="1058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58760" y="3336480"/>
              <a:ext cx="1058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5400000">
              <a:off x="2814120" y="5051880"/>
              <a:ext cx="860760" cy="21528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1984680" y="4514400"/>
              <a:ext cx="41234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3231000" y="4610880"/>
              <a:ext cx="1742400" cy="215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5400000">
              <a:off x="4677120" y="5200200"/>
              <a:ext cx="567720" cy="2142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42320" y="3336480"/>
              <a:ext cx="0" cy="225468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58760" y="3336480"/>
              <a:ext cx="418356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927240" y="358956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2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47760" y="4761720"/>
              <a:ext cx="2858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69600" y="4922640"/>
              <a:ext cx="2858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90240" y="442476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1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4520" y="5250960"/>
              <a:ext cx="10548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61640" y="4514400"/>
              <a:ext cx="10584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64520" y="3721320"/>
              <a:ext cx="10548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609200" y="5183280"/>
              <a:ext cx="2858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10560" y="3570120"/>
              <a:ext cx="38484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Arial"/>
                </a:rPr>
                <a:t>2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0040" y="4353480"/>
              <a:ext cx="3909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baseline="-25000">
                  <a:solidFill>
                    <a:srgbClr val="ba836a"/>
                  </a:solidFill>
                  <a:latin typeface="Tahoma"/>
                </a:rPr>
                <a:t>1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936080" y="3711600"/>
              <a:ext cx="4210560" cy="0"/>
            </a:xfrm>
            <a:prstGeom prst="line">
              <a:avLst/>
            </a:prstGeom>
            <a:ln w="255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lnSpc>
                <a:spcPct val="150000"/>
              </a:lnSpc>
              <a:buClr>
                <a:srgbClr val="ffcc00"/>
              </a:buClr>
              <a:buFont typeface="华文中宋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甲、乙、丙、丁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4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名同学的身高分别为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1.4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米，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1.7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米，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1.6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米，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1.5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米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.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试 绘制条形统计图加以表示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.</a:t>
            </a:r>
            <a:endParaRPr b="1" lang="en-US" sz="3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3" name=""/>
          <p:cNvSpPr/>
          <p:nvPr/>
        </p:nvSpPr>
        <p:spPr>
          <a:xfrm>
            <a:off x="2941560" y="5877000"/>
            <a:ext cx="28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585a5c"/>
                </a:solidFill>
                <a:latin typeface="方正黑体简体"/>
                <a:ea typeface="方正黑体简体"/>
              </a:rPr>
              <a:t>绘制统计图应避免错觉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50920" y="3068640"/>
            <a:ext cx="4679640" cy="2376360"/>
            <a:chOff x="250920" y="3068640"/>
            <a:chExt cx="4679640" cy="2376360"/>
          </a:xfrm>
        </p:grpSpPr>
        <p:grpSp>
          <p:nvGrpSpPr>
            <p:cNvPr id="755" name=""/>
            <p:cNvGrpSpPr/>
            <p:nvPr/>
          </p:nvGrpSpPr>
          <p:grpSpPr>
            <a:xfrm>
              <a:off x="250920" y="3068640"/>
              <a:ext cx="4679640" cy="2376360"/>
              <a:chOff x="250920" y="3068640"/>
              <a:chExt cx="4679640" cy="2376360"/>
            </a:xfrm>
          </p:grpSpPr>
          <p:sp>
            <p:nvSpPr>
              <p:cNvPr id="756" name=""/>
              <p:cNvSpPr/>
              <p:nvPr/>
            </p:nvSpPr>
            <p:spPr>
              <a:xfrm flipV="1">
                <a:off x="569160" y="3114000"/>
                <a:ext cx="0" cy="184320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69160" y="4957560"/>
                <a:ext cx="4361400" cy="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044360" y="4358880"/>
                <a:ext cx="0" cy="59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160" y="4681080"/>
                <a:ext cx="78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9160" y="4358880"/>
                <a:ext cx="78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9160" y="4082760"/>
                <a:ext cx="78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9160" y="3805200"/>
                <a:ext cx="78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9160" y="3528720"/>
                <a:ext cx="78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519920" y="4358880"/>
                <a:ext cx="0" cy="59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44360" y="4358880"/>
                <a:ext cx="475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50920" y="4266360"/>
                <a:ext cx="3160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50920" y="4866120"/>
                <a:ext cx="3160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52360" y="4589640"/>
                <a:ext cx="316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50920" y="3990960"/>
                <a:ext cx="3160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0920" y="3712680"/>
                <a:ext cx="3160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50920" y="3436200"/>
                <a:ext cx="31608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baseline="-25000">
                    <a:solidFill>
                      <a:srgbClr val="585a5c"/>
                    </a:solidFill>
                    <a:latin typeface="Tahoma"/>
                  </a:rPr>
                  <a:t>1.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1838160" y="3528720"/>
                <a:ext cx="474480" cy="1428120"/>
                <a:chOff x="1838160" y="3528720"/>
                <a:chExt cx="474480" cy="1428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1838160" y="3528720"/>
                  <a:ext cx="0" cy="142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"/>
                <p:cNvGrpSpPr/>
                <p:nvPr/>
              </p:nvGrpSpPr>
              <p:grpSpPr>
                <a:xfrm>
                  <a:off x="1838160" y="3528720"/>
                  <a:ext cx="474480" cy="1427760"/>
                  <a:chOff x="1838160" y="3528720"/>
                  <a:chExt cx="474480" cy="142776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>
                    <a:off x="1838160" y="3528720"/>
                    <a:ext cx="47448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312640" y="3528720"/>
                    <a:ext cx="0" cy="14277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3345120" y="4128120"/>
                <a:ext cx="475200" cy="829080"/>
                <a:chOff x="3345120" y="4128120"/>
                <a:chExt cx="475200" cy="8290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345120" y="4128120"/>
                  <a:ext cx="0" cy="829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820320" y="4128120"/>
                  <a:ext cx="0" cy="829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630160" y="3805200"/>
                <a:ext cx="474840" cy="1152000"/>
                <a:chOff x="2630160" y="3805200"/>
                <a:chExt cx="474840" cy="11520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3105000" y="3805200"/>
                  <a:ext cx="0" cy="11520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2630160" y="3805200"/>
                  <a:ext cx="474480" cy="1151640"/>
                  <a:chOff x="2630160" y="3805200"/>
                  <a:chExt cx="474480" cy="115164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2630160" y="3805200"/>
                    <a:ext cx="0" cy="11516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630160" y="3805200"/>
                    <a:ext cx="47448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5" name=""/>
              <p:cNvSpPr/>
              <p:nvPr/>
            </p:nvSpPr>
            <p:spPr>
              <a:xfrm>
                <a:off x="3343320" y="4128120"/>
                <a:ext cx="475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7640" y="3528720"/>
                <a:ext cx="3251520" cy="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99160" y="3528720"/>
                <a:ext cx="0" cy="142848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03480" y="4957560"/>
                <a:ext cx="31608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 baseline="-25000">
                    <a:solidFill>
                      <a:srgbClr val="585a5c"/>
                    </a:solidFill>
                    <a:latin typeface="Tahoma"/>
                  </a:rPr>
                  <a:t>甲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995480" y="4959360"/>
                <a:ext cx="31608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 baseline="-25000">
                    <a:solidFill>
                      <a:srgbClr val="585a5c"/>
                    </a:solidFill>
                    <a:latin typeface="Tahoma"/>
                  </a:rPr>
                  <a:t>乙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90720" y="4959360"/>
                <a:ext cx="314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 baseline="-25000">
                    <a:solidFill>
                      <a:srgbClr val="585a5c"/>
                    </a:solidFill>
                    <a:latin typeface="Tahoma"/>
                  </a:rPr>
                  <a:t>丙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02440" y="4958640"/>
                <a:ext cx="31608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 baseline="-25000">
                    <a:solidFill>
                      <a:srgbClr val="585a5c"/>
                    </a:solidFill>
                    <a:latin typeface="Tahoma"/>
                  </a:rPr>
                  <a:t>丁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7640" y="3068640"/>
                <a:ext cx="632520" cy="83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 baseline="-25000">
                    <a:solidFill>
                      <a:srgbClr val="585a5c"/>
                    </a:solidFill>
                    <a:latin typeface="Tahoma"/>
                  </a:rPr>
                  <a:t>身高</a:t>
                </a:r>
                <a:r>
                  <a:rPr b="0" lang="en-US" sz="3000" spc="-1" strike="noStrike" baseline="-25000">
                    <a:solidFill>
                      <a:srgbClr val="585a5c"/>
                    </a:solidFill>
                    <a:latin typeface="Tahoma"/>
                  </a:rPr>
                  <a:t>/m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037880" y="4357440"/>
              <a:ext cx="492840" cy="600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26280" y="3529080"/>
              <a:ext cx="492840" cy="141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14680" y="3783240"/>
              <a:ext cx="492840" cy="1168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53040" y="4123440"/>
              <a:ext cx="492840" cy="82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716360" y="2204640"/>
            <a:ext cx="4788000" cy="3296160"/>
            <a:chOff x="4716360" y="2204640"/>
            <a:chExt cx="4788000" cy="3296160"/>
          </a:xfrm>
        </p:grpSpPr>
        <p:grpSp>
          <p:nvGrpSpPr>
            <p:cNvPr id="798" name=""/>
            <p:cNvGrpSpPr/>
            <p:nvPr/>
          </p:nvGrpSpPr>
          <p:grpSpPr>
            <a:xfrm>
              <a:off x="4716360" y="2204640"/>
              <a:ext cx="4788000" cy="3296160"/>
              <a:chOff x="4716360" y="2204640"/>
              <a:chExt cx="4788000" cy="3296160"/>
            </a:xfrm>
          </p:grpSpPr>
          <p:sp>
            <p:nvSpPr>
              <p:cNvPr id="799" name=""/>
              <p:cNvSpPr/>
              <p:nvPr/>
            </p:nvSpPr>
            <p:spPr>
              <a:xfrm flipH="1" flipV="1">
                <a:off x="5018040" y="2204640"/>
                <a:ext cx="23400" cy="287892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041800" y="5083920"/>
                <a:ext cx="4462560" cy="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041800" y="3497400"/>
                <a:ext cx="79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031720" y="3346920"/>
                <a:ext cx="79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031720" y="3196440"/>
                <a:ext cx="79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31720" y="3044880"/>
                <a:ext cx="79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31720" y="2894400"/>
                <a:ext cx="79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5522760" y="3222000"/>
                <a:ext cx="502920" cy="1861920"/>
                <a:chOff x="5522760" y="3222000"/>
                <a:chExt cx="502920" cy="18619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5522760" y="3222000"/>
                  <a:ext cx="5400" cy="1861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6014880" y="3222000"/>
                  <a:ext cx="10800" cy="18619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529240" y="3222000"/>
                  <a:ext cx="48672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"/>
              <p:cNvSpPr/>
              <p:nvPr/>
            </p:nvSpPr>
            <p:spPr>
              <a:xfrm>
                <a:off x="4716360" y="3113280"/>
                <a:ext cx="2520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66120" y="4946040"/>
                <a:ext cx="2221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866120" y="3598560"/>
                <a:ext cx="325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720680" y="2966400"/>
                <a:ext cx="325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16360" y="2676600"/>
                <a:ext cx="3229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6340320" y="2749680"/>
                <a:ext cx="485640" cy="2333520"/>
                <a:chOff x="6340320" y="2749680"/>
                <a:chExt cx="485640" cy="23335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340320" y="2749680"/>
                  <a:ext cx="0" cy="2333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6340320" y="2749680"/>
                  <a:ext cx="485640" cy="2332800"/>
                  <a:chOff x="6340320" y="2749680"/>
                  <a:chExt cx="485640" cy="233280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6340320" y="2749680"/>
                    <a:ext cx="48564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25960" y="2749680"/>
                    <a:ext cx="0" cy="233280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0" name=""/>
              <p:cNvGrpSpPr/>
              <p:nvPr/>
            </p:nvGrpSpPr>
            <p:grpSpPr>
              <a:xfrm>
                <a:off x="7882560" y="3076200"/>
                <a:ext cx="486000" cy="2007000"/>
                <a:chOff x="7882560" y="3076200"/>
                <a:chExt cx="486000" cy="20070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7882560" y="3076200"/>
                  <a:ext cx="0" cy="20070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368560" y="3076200"/>
                  <a:ext cx="0" cy="20070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150320" y="2895120"/>
                <a:ext cx="486000" cy="2188080"/>
                <a:chOff x="7150320" y="2895120"/>
                <a:chExt cx="486000" cy="21880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7636320" y="2895120"/>
                  <a:ext cx="0" cy="218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5" name=""/>
                <p:cNvGrpSpPr/>
                <p:nvPr/>
              </p:nvGrpSpPr>
              <p:grpSpPr>
                <a:xfrm>
                  <a:off x="7150320" y="2895120"/>
                  <a:ext cx="485640" cy="2187360"/>
                  <a:chOff x="7150320" y="2895120"/>
                  <a:chExt cx="485640" cy="21873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7150320" y="2895120"/>
                    <a:ext cx="0" cy="21873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7150320" y="2895120"/>
                    <a:ext cx="48564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8" name=""/>
              <p:cNvSpPr/>
              <p:nvPr/>
            </p:nvSpPr>
            <p:spPr>
              <a:xfrm>
                <a:off x="7880040" y="3076200"/>
                <a:ext cx="486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111640" y="2749680"/>
                <a:ext cx="3327120" cy="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444520" y="2749680"/>
                <a:ext cx="4320" cy="2334240"/>
              </a:xfrm>
              <a:prstGeom prst="line">
                <a:avLst/>
              </a:prstGeom>
              <a:ln w="2844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90520" y="5084640"/>
                <a:ext cx="3222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 baseline="-25000">
                    <a:solidFill>
                      <a:srgbClr val="585a5c"/>
                    </a:solidFill>
                    <a:latin typeface="Tahoma"/>
                    <a:ea typeface="华文中宋"/>
                  </a:rPr>
                  <a:t>甲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501240" y="5084640"/>
                <a:ext cx="3222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 baseline="-25000">
                    <a:solidFill>
                      <a:srgbClr val="585a5c"/>
                    </a:solidFill>
                    <a:latin typeface="Tahoma"/>
                    <a:ea typeface="华文中宋"/>
                  </a:rPr>
                  <a:t>乙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313400" y="5084640"/>
                <a:ext cx="32292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 baseline="-25000">
                    <a:solidFill>
                      <a:srgbClr val="585a5c"/>
                    </a:solidFill>
                    <a:latin typeface="Tahoma"/>
                    <a:ea typeface="华文中宋"/>
                  </a:rPr>
                  <a:t>丙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44560" y="5083920"/>
                <a:ext cx="32184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 baseline="-25000">
                    <a:solidFill>
                      <a:srgbClr val="585a5c"/>
                    </a:solidFill>
                    <a:latin typeface="Tahoma"/>
                    <a:ea typeface="华文中宋"/>
                  </a:rPr>
                  <a:t>丁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325120" y="2241720"/>
                <a:ext cx="80172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 baseline="-25000">
                    <a:solidFill>
                      <a:srgbClr val="585a5c"/>
                    </a:solidFill>
                    <a:latin typeface="Tahoma"/>
                  </a:rPr>
                  <a:t>身高</a:t>
                </a:r>
                <a:r>
                  <a:rPr b="0" lang="en-US" sz="3500" spc="-1" strike="noStrike" baseline="-25000">
                    <a:solidFill>
                      <a:srgbClr val="585a5c"/>
                    </a:solidFill>
                    <a:latin typeface="Tahoma"/>
                  </a:rPr>
                  <a:t>/m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38560" y="374904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034960" y="274392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034960" y="259344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24880" y="244260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66120" y="2205000"/>
                <a:ext cx="1022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716360" y="2822400"/>
                <a:ext cx="32292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585a5c"/>
                    </a:solidFill>
                    <a:latin typeface="Tahoma"/>
                  </a:rPr>
                  <a:t>1.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038560" y="362160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029560" y="2313720"/>
                <a:ext cx="79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5523840" y="3209760"/>
              <a:ext cx="502920" cy="1888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328080" y="2737440"/>
              <a:ext cx="502920" cy="2339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4840" y="2897640"/>
              <a:ext cx="528480" cy="2193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90120" y="3072240"/>
              <a:ext cx="478440" cy="2019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1900800" y="5373720"/>
            <a:ext cx="58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85a5c"/>
                </a:solidFill>
                <a:latin typeface="Comic Sans MS"/>
              </a:rPr>
              <a:t>从图中看出，给人以乙是甲的身高的</a:t>
            </a:r>
            <a:r>
              <a:rPr b="1" lang="en-US" sz="2800" spc="-1" strike="noStrike">
                <a:solidFill>
                  <a:srgbClr val="585a5c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585a5c"/>
                </a:solidFill>
                <a:latin typeface="Comic Sans MS"/>
              </a:rPr>
              <a:t>倍的错觉，应改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85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70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</a:t>
            </a:r>
            <a:r>
              <a:rPr b="1" lang="zh-CN" sz="3600" spc="-1" strike="noStrike">
                <a:solidFill>
                  <a:srgbClr val="ffcc00"/>
                </a:solidFill>
                <a:latin typeface="方正黑体简体"/>
                <a:ea typeface="方正黑体简体"/>
              </a:rPr>
              <a:t>百分比与数字</a:t>
            </a:r>
            <a:endParaRPr b="1" lang="en-US" sz="3600" spc="-1" strike="noStrike">
              <a:solidFill>
                <a:srgbClr val="ffffff"/>
              </a:solidFill>
              <a:latin typeface="仿宋"/>
            </a:endParaRPr>
          </a:p>
          <a:p>
            <a:pPr marL="3470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    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例  下图反映了我国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2005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年和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2006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年图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  <a:p>
            <a:pPr marL="3470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书、杂志、报纸的出版张数的比例状况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. 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  <a:p>
            <a:pPr marL="3470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    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小明说：“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2005</a:t>
            </a: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年图书出版张数比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2006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  <a:p>
            <a:pPr marL="347040" indent="0" algn="just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年多”，你认为小明的说法正确吗？</a:t>
            </a:r>
            <a:endParaRPr b="1" lang="en-US" sz="35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850" name=""/>
          <p:cNvSpPr/>
          <p:nvPr/>
        </p:nvSpPr>
        <p:spPr>
          <a:xfrm>
            <a:off x="684360" y="4292640"/>
            <a:ext cx="574560" cy="216000"/>
          </a:xfrm>
          <a:prstGeom prst="rect">
            <a:avLst/>
          </a:prstGeom>
          <a:solidFill>
            <a:srgbClr val="cc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19280" y="4292640"/>
            <a:ext cx="574560" cy="2160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4292640"/>
            <a:ext cx="574560" cy="21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86600" y="448956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ba836a"/>
                </a:solidFill>
                <a:latin typeface="Tahoma"/>
              </a:rPr>
              <a:t>图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670760" y="443700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ffcccc"/>
                </a:solidFill>
                <a:latin typeface="Tahoma"/>
              </a:rPr>
              <a:t>杂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78760" y="443700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585a5c"/>
                </a:solidFill>
                <a:latin typeface="Tahoma"/>
              </a:rPr>
              <a:t>报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25040" y="6165720"/>
            <a:ext cx="910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ba836a"/>
                </a:solidFill>
                <a:latin typeface="Tahoma"/>
              </a:rPr>
              <a:t>2005</a:t>
            </a:r>
            <a:r>
              <a:rPr b="0" lang="zh-CN" sz="3000" spc="-1" strike="noStrike" baseline="-25000">
                <a:solidFill>
                  <a:srgbClr val="ba836a"/>
                </a:solidFill>
                <a:latin typeface="Tahoma"/>
              </a:rPr>
              <a:t>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659640" y="6165720"/>
            <a:ext cx="1225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ba836a"/>
                </a:solidFill>
                <a:latin typeface="Tahoma"/>
              </a:rPr>
              <a:t>2006</a:t>
            </a:r>
            <a:r>
              <a:rPr b="0" lang="zh-CN" sz="3000" spc="-1" strike="noStrike" baseline="-25000">
                <a:solidFill>
                  <a:srgbClr val="ba836a"/>
                </a:solidFill>
                <a:latin typeface="Tahoma"/>
              </a:rPr>
              <a:t>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3348000" y="4005360"/>
            <a:ext cx="5364360" cy="23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endParaRPr b="1" lang="en-US" sz="3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620640"/>
            <a:ext cx="9396360" cy="51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判断：用扇形统计图描述数据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            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圆越大，数据越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用统计图描述数据时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　　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扇形统计图最好　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条形统计图最好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　　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折线统计图最好　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D</a:t>
            </a: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各有优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Comic Sans MS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01400" y="2527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直接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29720" y="3270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Arial"/>
              </a:rPr>
              <a:t>通过查阅文献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332000" y="1413000"/>
            <a:ext cx="511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cffff"/>
                  </a:solidFill>
                  <a:miter/>
                </a:ln>
                <a:solidFill>
                  <a:srgbClr val="ffcc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数据收集的方法：</a:t>
            </a:r>
            <a:endParaRPr b="0" lang="en-US" sz="1800" spc="1" strike="noStrike">
              <a:ln w="12600">
                <a:solidFill>
                  <a:srgbClr val="ccffff"/>
                </a:solidFill>
                <a:miter/>
              </a:ln>
              <a:solidFill>
                <a:srgbClr val="ffcc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3" name=""/>
          <p:cNvSpPr/>
          <p:nvPr/>
        </p:nvSpPr>
        <p:spPr>
          <a:xfrm>
            <a:off x="3348000" y="25272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</a:rPr>
              <a:t>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25272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</a:rPr>
              <a:t>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97640" y="32702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Arial"/>
              </a:rPr>
              <a:t>使用互联网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56360" y="25272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Arial"/>
              </a:rPr>
              <a:t>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2210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我们收集的数据如何表示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38200" y="260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Comic Sans MS"/>
                <a:ea typeface="华文新魏"/>
              </a:rPr>
              <a:t>想一想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1812960" y="417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02560" y="530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复合统计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38924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28600" y="2209680"/>
            <a:ext cx="8457840" cy="3200040"/>
            <a:chOff x="228600" y="2209680"/>
            <a:chExt cx="8457840" cy="3200040"/>
          </a:xfrm>
        </p:grpSpPr>
        <p:grpSp>
          <p:nvGrpSpPr>
            <p:cNvPr id="865" name=""/>
            <p:cNvGrpSpPr/>
            <p:nvPr/>
          </p:nvGrpSpPr>
          <p:grpSpPr>
            <a:xfrm>
              <a:off x="234720" y="2216160"/>
              <a:ext cx="8444880" cy="3184920"/>
              <a:chOff x="234720" y="2216160"/>
              <a:chExt cx="8444880" cy="318492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234720" y="2216160"/>
                <a:ext cx="1222920" cy="795960"/>
                <a:chOff x="234720" y="2216160"/>
                <a:chExt cx="1222920" cy="79596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25080" y="221616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66"/>
                      </a:solidFill>
                      <a:latin typeface="宋体"/>
                    </a:rPr>
                    <a:t>届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34720" y="221616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1458000" y="2216160"/>
                <a:ext cx="1222920" cy="795960"/>
                <a:chOff x="1458000" y="2216160"/>
                <a:chExt cx="1222920" cy="7959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1548360" y="221616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98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458000" y="221616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2681280" y="2216160"/>
                <a:ext cx="1225080" cy="795960"/>
                <a:chOff x="2681280" y="2216160"/>
                <a:chExt cx="1225080" cy="79596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2772000" y="221616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98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81280" y="2216160"/>
                  <a:ext cx="122508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3907080" y="2216160"/>
                <a:ext cx="1224720" cy="795960"/>
                <a:chOff x="3907080" y="2216160"/>
                <a:chExt cx="1224720" cy="7959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997440" y="221616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99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907080" y="221616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5132160" y="2216160"/>
                <a:ext cx="1224720" cy="795960"/>
                <a:chOff x="5132160" y="2216160"/>
                <a:chExt cx="1224720" cy="7959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5222520" y="221616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99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132160" y="221616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6357600" y="2216160"/>
                <a:ext cx="1096920" cy="795960"/>
                <a:chOff x="6357600" y="2216160"/>
                <a:chExt cx="1096920" cy="7959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6448320" y="2216160"/>
                  <a:ext cx="9158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2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357600" y="2216160"/>
                  <a:ext cx="1096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7454880" y="2216160"/>
                <a:ext cx="1224720" cy="795960"/>
                <a:chOff x="7454880" y="2216160"/>
                <a:chExt cx="1224720" cy="79596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545240" y="221616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200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454880" y="221616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"/>
              <p:cNvGrpSpPr/>
              <p:nvPr/>
            </p:nvGrpSpPr>
            <p:grpSpPr>
              <a:xfrm>
                <a:off x="234720" y="3012480"/>
                <a:ext cx="1222920" cy="795960"/>
                <a:chOff x="234720" y="3012480"/>
                <a:chExt cx="1222920" cy="79596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325080" y="301248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66"/>
                      </a:solidFill>
                      <a:latin typeface="宋体"/>
                    </a:rPr>
                    <a:t>金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34720" y="301248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1458000" y="3012480"/>
                <a:ext cx="1222920" cy="795960"/>
                <a:chOff x="1458000" y="3012480"/>
                <a:chExt cx="1222920" cy="7959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1548360" y="301248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458000" y="301248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2681280" y="3012480"/>
                <a:ext cx="1225080" cy="795960"/>
                <a:chOff x="2681280" y="3012480"/>
                <a:chExt cx="1225080" cy="7959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2772000" y="301248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681280" y="3012480"/>
                  <a:ext cx="122508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3907080" y="3012480"/>
                <a:ext cx="1224720" cy="795960"/>
                <a:chOff x="3907080" y="3012480"/>
                <a:chExt cx="1224720" cy="7959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997440" y="301248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907080" y="301248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5132160" y="3012480"/>
                <a:ext cx="1224720" cy="795960"/>
                <a:chOff x="5132160" y="3012480"/>
                <a:chExt cx="1224720" cy="79596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5222520" y="301248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132160" y="301248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357600" y="3012480"/>
                <a:ext cx="1096920" cy="795960"/>
                <a:chOff x="6357600" y="3012480"/>
                <a:chExt cx="1096920" cy="7959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6448320" y="3012480"/>
                  <a:ext cx="9158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2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57600" y="3012480"/>
                  <a:ext cx="1096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7454880" y="3012480"/>
                <a:ext cx="1224720" cy="795960"/>
                <a:chOff x="7454880" y="3012480"/>
                <a:chExt cx="1224720" cy="79596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7545240" y="301248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3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454880" y="301248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234720" y="3809160"/>
                <a:ext cx="1222920" cy="795600"/>
                <a:chOff x="234720" y="3809160"/>
                <a:chExt cx="1222920" cy="79560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325080" y="3809160"/>
                  <a:ext cx="104148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66"/>
                      </a:solidFill>
                      <a:latin typeface="宋体"/>
                    </a:rPr>
                    <a:t>银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34720" y="3809160"/>
                  <a:ext cx="12229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1458000" y="3809160"/>
                <a:ext cx="1222920" cy="795600"/>
                <a:chOff x="1458000" y="3809160"/>
                <a:chExt cx="1222920" cy="79560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1548360" y="3809160"/>
                  <a:ext cx="104148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458000" y="3809160"/>
                  <a:ext cx="12229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2681280" y="3809160"/>
                <a:ext cx="1225080" cy="795600"/>
                <a:chOff x="2681280" y="3809160"/>
                <a:chExt cx="1225080" cy="79560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2772000" y="3809160"/>
                  <a:ext cx="104400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681280" y="3809160"/>
                  <a:ext cx="122508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907080" y="3809160"/>
                <a:ext cx="1224720" cy="795600"/>
                <a:chOff x="3907080" y="3809160"/>
                <a:chExt cx="1224720" cy="7956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3997440" y="3809160"/>
                  <a:ext cx="104400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907080" y="3809160"/>
                  <a:ext cx="12247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5132160" y="3809160"/>
                <a:ext cx="1224720" cy="795600"/>
                <a:chOff x="5132160" y="3809160"/>
                <a:chExt cx="1224720" cy="79560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5222520" y="3809160"/>
                  <a:ext cx="104400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132160" y="3809160"/>
                  <a:ext cx="12247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6357600" y="3809160"/>
                <a:ext cx="1096920" cy="795600"/>
                <a:chOff x="6357600" y="3809160"/>
                <a:chExt cx="1096920" cy="79560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6448320" y="3809160"/>
                  <a:ext cx="91584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357600" y="3809160"/>
                  <a:ext cx="10969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7454880" y="3809160"/>
                <a:ext cx="1224720" cy="795600"/>
                <a:chOff x="7454880" y="3809160"/>
                <a:chExt cx="1224720" cy="79560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7545240" y="3809160"/>
                  <a:ext cx="104400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7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54880" y="3809160"/>
                  <a:ext cx="1224720" cy="79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234720" y="4605120"/>
                <a:ext cx="1222920" cy="795960"/>
                <a:chOff x="234720" y="4605120"/>
                <a:chExt cx="1222920" cy="79596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325080" y="460512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66"/>
                      </a:solidFill>
                      <a:latin typeface="宋体"/>
                    </a:rPr>
                    <a:t>铜牌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34720" y="460512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1458000" y="4605120"/>
                <a:ext cx="1222920" cy="795960"/>
                <a:chOff x="1458000" y="4605120"/>
                <a:chExt cx="1222920" cy="7959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1548360" y="4605120"/>
                  <a:ext cx="104148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458000" y="4605120"/>
                  <a:ext cx="1222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2681280" y="4605120"/>
                <a:ext cx="1225080" cy="795960"/>
                <a:chOff x="2681280" y="4605120"/>
                <a:chExt cx="1225080" cy="79596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2772000" y="460512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681280" y="4605120"/>
                  <a:ext cx="122508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3907080" y="4605120"/>
                <a:ext cx="1224720" cy="795960"/>
                <a:chOff x="3907080" y="4605120"/>
                <a:chExt cx="1224720" cy="7959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997440" y="460512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907080" y="460512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5132160" y="4605120"/>
                <a:ext cx="1224720" cy="795960"/>
                <a:chOff x="5132160" y="4605120"/>
                <a:chExt cx="1224720" cy="795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222520" y="460512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132160" y="460512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6357600" y="4605120"/>
                <a:ext cx="1096920" cy="795960"/>
                <a:chOff x="6357600" y="4605120"/>
                <a:chExt cx="1096920" cy="7959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6448320" y="4605120"/>
                  <a:ext cx="9158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357600" y="4605120"/>
                  <a:ext cx="10969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7454880" y="4605120"/>
                <a:ext cx="1224720" cy="795960"/>
                <a:chOff x="7454880" y="4605120"/>
                <a:chExt cx="1224720" cy="7959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7545240" y="4605120"/>
                  <a:ext cx="104400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宋体"/>
                    </a:rPr>
                    <a:t>1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54880" y="4605120"/>
                  <a:ext cx="1224720" cy="79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0" name=""/>
            <p:cNvSpPr/>
            <p:nvPr/>
          </p:nvSpPr>
          <p:spPr>
            <a:xfrm>
              <a:off x="228600" y="2209680"/>
              <a:ext cx="8457840" cy="3200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2181240" y="1387440"/>
            <a:ext cx="39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984—200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金牌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宋体"/>
              </a:rPr>
              <a:t>请你依据下列表格信息画出条形统计图、折线图。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77668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990720" y="965160"/>
            <a:ext cx="7467480" cy="497376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670572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年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7" name=""/>
          <p:cNvSpPr/>
          <p:nvPr/>
        </p:nvSpPr>
        <p:spPr>
          <a:xfrm>
            <a:off x="609480" y="152388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mic Sans MS"/>
              </a:rPr>
              <a:t>（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ffcc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cc00"/>
                </a:solidFill>
                <a:latin typeface="黑体"/>
                <a:ea typeface="黑体"/>
              </a:rPr>
              <a:t>、复合条形统计图</a:t>
            </a:r>
            <a:br>
              <a:rPr sz="3500"/>
            </a:br>
            <a:r>
              <a:rPr b="1" lang="zh-CN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现对某班男女同学的数学成绩进行了统计，试用复合条形统计图绘制出来</a:t>
            </a:r>
            <a:r>
              <a:rPr b="1" lang="en-US" sz="3500" spc="-1" strike="noStrike">
                <a:solidFill>
                  <a:srgbClr val="ffcc00"/>
                </a:solidFill>
                <a:latin typeface="华文中宋"/>
                <a:ea typeface="华文中宋"/>
              </a:rPr>
              <a:t>.</a:t>
            </a:r>
            <a:endParaRPr b="1" lang="en-US" sz="3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9" name=""/>
          <p:cNvSpPr/>
          <p:nvPr/>
        </p:nvSpPr>
        <p:spPr>
          <a:xfrm>
            <a:off x="6202440" y="4743360"/>
            <a:ext cx="16984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00720" y="4743360"/>
            <a:ext cx="1701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803680" y="4743360"/>
            <a:ext cx="16970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100160" y="4743360"/>
            <a:ext cx="1703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585a5c"/>
                </a:solidFill>
                <a:latin typeface="Arial"/>
                <a:ea typeface="华文中宋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202440" y="4005360"/>
            <a:ext cx="16984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00720" y="4005360"/>
            <a:ext cx="1701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03680" y="4005360"/>
            <a:ext cx="16970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585a5c"/>
                </a:solidFill>
                <a:latin typeface="Arial"/>
                <a:ea typeface="仿宋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100160" y="4005360"/>
            <a:ext cx="17035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585a5c"/>
                </a:solidFill>
                <a:latin typeface="Arial"/>
                <a:ea typeface="华文中宋"/>
              </a:rPr>
              <a:t>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202440" y="3284640"/>
            <a:ext cx="169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585a5c"/>
                </a:solidFill>
                <a:latin typeface="Arial"/>
                <a:ea typeface="华文中宋"/>
              </a:rPr>
              <a:t>及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00720" y="3284640"/>
            <a:ext cx="1701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585a5c"/>
                </a:solidFill>
                <a:latin typeface="Arial"/>
                <a:ea typeface="华文中宋"/>
              </a:rPr>
              <a:t>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803680" y="3284640"/>
            <a:ext cx="1697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585a5c"/>
                </a:solidFill>
                <a:latin typeface="Arial"/>
                <a:ea typeface="华文中宋"/>
              </a:rPr>
              <a:t>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100160" y="3284640"/>
            <a:ext cx="1703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116000" y="3284640"/>
            <a:ext cx="1703520" cy="0"/>
          </a:xfrm>
          <a:prstGeom prst="line">
            <a:avLst/>
          </a:prstGeom>
          <a:ln w="5076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100160" y="4005360"/>
            <a:ext cx="6800760" cy="0"/>
          </a:xfrm>
          <a:prstGeom prst="line">
            <a:avLst/>
          </a:prstGeom>
          <a:ln w="1260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100160" y="4743360"/>
            <a:ext cx="6800760" cy="0"/>
          </a:xfrm>
          <a:prstGeom prst="line">
            <a:avLst/>
          </a:prstGeom>
          <a:ln w="1260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00160" y="5396040"/>
            <a:ext cx="6800760" cy="0"/>
          </a:xfrm>
          <a:prstGeom prst="line">
            <a:avLst/>
          </a:prstGeom>
          <a:ln cap="sq" w="5076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00160" y="3284640"/>
            <a:ext cx="0" cy="2111400"/>
          </a:xfrm>
          <a:prstGeom prst="line">
            <a:avLst/>
          </a:prstGeom>
          <a:ln cap="sq" w="5076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803680" y="3284640"/>
            <a:ext cx="0" cy="2111400"/>
          </a:xfrm>
          <a:prstGeom prst="line">
            <a:avLst/>
          </a:prstGeom>
          <a:ln w="1260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00720" y="3284640"/>
            <a:ext cx="0" cy="2111400"/>
          </a:xfrm>
          <a:prstGeom prst="line">
            <a:avLst/>
          </a:prstGeom>
          <a:ln w="1260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202440" y="3284640"/>
            <a:ext cx="0" cy="2111400"/>
          </a:xfrm>
          <a:prstGeom prst="line">
            <a:avLst/>
          </a:prstGeom>
          <a:ln w="1260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900920" y="3284640"/>
            <a:ext cx="0" cy="2111400"/>
          </a:xfrm>
          <a:prstGeom prst="line">
            <a:avLst/>
          </a:prstGeom>
          <a:ln cap="sq" w="5076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803680" y="3284640"/>
            <a:ext cx="5097240" cy="0"/>
          </a:xfrm>
          <a:prstGeom prst="line">
            <a:avLst/>
          </a:prstGeom>
          <a:ln cap="sq" w="5076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116000" y="3284640"/>
            <a:ext cx="1800360" cy="576000"/>
          </a:xfrm>
          <a:prstGeom prst="line">
            <a:avLst/>
          </a:prstGeom>
          <a:ln w="2844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116000" y="3357720"/>
            <a:ext cx="934920" cy="720720"/>
          </a:xfrm>
          <a:prstGeom prst="line">
            <a:avLst/>
          </a:prstGeom>
          <a:ln w="28440">
            <a:solidFill>
              <a:srgbClr val="ba8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239120" y="357336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585a5c"/>
                </a:solidFill>
                <a:latin typeface="Tahoma"/>
                <a:ea typeface="华文中宋"/>
              </a:rPr>
              <a:t>性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31120" y="357336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585a5c"/>
                </a:solidFill>
                <a:latin typeface="Tahoma"/>
                <a:ea typeface="华文中宋"/>
              </a:rPr>
              <a:t>人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247120" y="3284640"/>
            <a:ext cx="4460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585a5c"/>
                </a:solidFill>
                <a:latin typeface="Tahoma"/>
                <a:ea typeface="华文中宋"/>
              </a:rPr>
              <a:t>等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 flipV="1">
            <a:off x="1906560" y="945720"/>
            <a:ext cx="12600" cy="442116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06560" y="5367240"/>
            <a:ext cx="5549760" cy="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06560" y="3138480"/>
            <a:ext cx="147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95600" y="5148360"/>
            <a:ext cx="315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596960" y="479592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103480" y="4600440"/>
            <a:ext cx="4071960" cy="0"/>
          </a:xfrm>
          <a:prstGeom prst="line">
            <a:avLst/>
          </a:prstGeom>
          <a:ln w="12600">
            <a:solidFill>
              <a:srgbClr val="99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365200" y="5367240"/>
            <a:ext cx="3859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</a:rPr>
              <a:t>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60640" y="5369040"/>
            <a:ext cx="4636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</a:rPr>
              <a:t>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68880" y="5359320"/>
            <a:ext cx="7570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  <a:ea typeface="华文中宋"/>
              </a:rPr>
              <a:t>及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11320" y="907920"/>
            <a:ext cx="7398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  <a:ea typeface="华文中宋"/>
              </a:rPr>
              <a:t>人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900080" y="4964040"/>
            <a:ext cx="147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932120" y="2043000"/>
            <a:ext cx="14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84520" y="524664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16320" y="524664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6157800" y="1676160"/>
            <a:ext cx="17640" cy="3700440"/>
          </a:xfrm>
          <a:prstGeom prst="line">
            <a:avLst/>
          </a:prstGeom>
          <a:ln w="2844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19320" y="3868560"/>
            <a:ext cx="4056120" cy="0"/>
          </a:xfrm>
          <a:prstGeom prst="line">
            <a:avLst/>
          </a:prstGeom>
          <a:ln w="12600">
            <a:solidFill>
              <a:srgbClr val="99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2011320" y="3138480"/>
            <a:ext cx="4164120" cy="1440"/>
          </a:xfrm>
          <a:prstGeom prst="line">
            <a:avLst/>
          </a:prstGeom>
          <a:ln w="12600">
            <a:solidFill>
              <a:srgbClr val="99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548480" y="5238720"/>
            <a:ext cx="9111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  <a:ea typeface="华文中宋"/>
              </a:rPr>
              <a:t>等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919160" y="460044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19160" y="423396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19160" y="386856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19160" y="350532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919160" y="277488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32120" y="2408400"/>
            <a:ext cx="14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604880" y="441648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04880" y="405288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04880" y="368604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604880" y="332280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04880" y="295596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4880" y="259092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604880" y="222408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604880" y="1860480"/>
            <a:ext cx="2224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919160" y="1676520"/>
            <a:ext cx="146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47640" y="1495440"/>
            <a:ext cx="316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2011320" y="2408400"/>
            <a:ext cx="4164120" cy="1440"/>
          </a:xfrm>
          <a:prstGeom prst="line">
            <a:avLst/>
          </a:prstGeom>
          <a:ln w="12600">
            <a:solidFill>
              <a:srgbClr val="99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104920" y="1676520"/>
            <a:ext cx="4070520" cy="2880"/>
          </a:xfrm>
          <a:prstGeom prst="line">
            <a:avLst/>
          </a:prstGeom>
          <a:ln w="12600">
            <a:solidFill>
              <a:srgbClr val="99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232160" y="765000"/>
            <a:ext cx="647640" cy="273240"/>
          </a:xfrm>
          <a:prstGeom prst="rect">
            <a:avLst/>
          </a:prstGeom>
          <a:solidFill>
            <a:srgbClr val="ffcccc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065560" y="765000"/>
            <a:ext cx="646200" cy="273240"/>
          </a:xfrm>
          <a:prstGeom prst="rect">
            <a:avLst/>
          </a:prstGeom>
          <a:solidFill>
            <a:srgbClr val="ba836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416480" y="1038240"/>
            <a:ext cx="3715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</a:rPr>
              <a:t>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342040" y="990720"/>
            <a:ext cx="3715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baseline="-25000">
                <a:solidFill>
                  <a:srgbClr val="99ff66"/>
                </a:solidFill>
                <a:latin typeface="Tahoma"/>
              </a:rPr>
              <a:t>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89240" y="2408400"/>
            <a:ext cx="369720" cy="2946240"/>
          </a:xfrm>
          <a:prstGeom prst="rect">
            <a:avLst/>
          </a:prstGeom>
          <a:solidFill>
            <a:srgbClr val="ba836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658960" y="3138480"/>
            <a:ext cx="370080" cy="2192400"/>
          </a:xfrm>
          <a:prstGeom prst="rect">
            <a:avLst/>
          </a:prstGeom>
          <a:solidFill>
            <a:srgbClr val="ffcc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584520" y="3505320"/>
            <a:ext cx="370080" cy="1849320"/>
          </a:xfrm>
          <a:prstGeom prst="rect">
            <a:avLst/>
          </a:prstGeom>
          <a:solidFill>
            <a:srgbClr val="ba836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954600" y="1676520"/>
            <a:ext cx="369720" cy="3654360"/>
          </a:xfrm>
          <a:prstGeom prst="rect">
            <a:avLst/>
          </a:prstGeom>
          <a:solidFill>
            <a:srgbClr val="ffcc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065560" y="2774880"/>
            <a:ext cx="370080" cy="2579760"/>
          </a:xfrm>
          <a:prstGeom prst="rect">
            <a:avLst/>
          </a:prstGeom>
          <a:solidFill>
            <a:srgbClr val="ba836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435640" y="3868560"/>
            <a:ext cx="369720" cy="146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365200" y="2073240"/>
            <a:ext cx="385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792520" y="2774880"/>
            <a:ext cx="385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681360" y="3157560"/>
            <a:ext cx="3859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954600" y="1312920"/>
            <a:ext cx="385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234040" y="2408400"/>
            <a:ext cx="385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527800" y="3505320"/>
            <a:ext cx="385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99ff66"/>
                </a:solidFill>
                <a:latin typeface="Tahoma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1151" t="11912" r="0" b="10726"/>
          <a:stretch/>
        </p:blipFill>
        <p:spPr>
          <a:xfrm>
            <a:off x="34920" y="3429000"/>
            <a:ext cx="9039240" cy="2930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</a:rPr>
              <a:t>看一看北京地区的降水量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/>
          <p:nvPr/>
        </p:nvSpPr>
        <p:spPr>
          <a:xfrm>
            <a:off x="3082680" y="55180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雨是   最寻常的。。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0" y="1371600"/>
          <a:ext cx="9036000" cy="1631880"/>
        </p:xfrm>
        <a:graphic>
          <a:graphicData uri="http://schemas.openxmlformats.org/drawingml/2006/table">
            <a:tbl>
              <a:tblPr/>
              <a:tblGrid>
                <a:gridCol w="1440000"/>
                <a:gridCol w="431640"/>
                <a:gridCol w="432000"/>
                <a:gridCol w="647640"/>
                <a:gridCol w="649080"/>
                <a:gridCol w="647640"/>
                <a:gridCol w="648000"/>
                <a:gridCol w="792000"/>
                <a:gridCol w="792000"/>
                <a:gridCol w="648000"/>
                <a:gridCol w="649080"/>
                <a:gridCol w="647640"/>
                <a:gridCol w="611280"/>
              </a:tblGrid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月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（月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降水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（毫米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457200"/>
          <a:ext cx="9036000" cy="1252440"/>
        </p:xfrm>
        <a:graphic>
          <a:graphicData uri="http://schemas.openxmlformats.org/drawingml/2006/table">
            <a:tbl>
              <a:tblPr/>
              <a:tblGrid>
                <a:gridCol w="1440000"/>
                <a:gridCol w="431640"/>
                <a:gridCol w="432000"/>
                <a:gridCol w="647640"/>
                <a:gridCol w="649080"/>
                <a:gridCol w="647640"/>
                <a:gridCol w="648000"/>
                <a:gridCol w="792000"/>
                <a:gridCol w="792000"/>
                <a:gridCol w="648000"/>
                <a:gridCol w="649080"/>
                <a:gridCol w="647640"/>
                <a:gridCol w="61128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月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2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（月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降水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12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（毫米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132000" y="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北京地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降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4301640"/>
            <a:ext cx="8208720" cy="2557440"/>
            <a:chOff x="228600" y="4301640"/>
            <a:chExt cx="8208720" cy="2557440"/>
          </a:xfrm>
        </p:grpSpPr>
        <p:grpSp>
          <p:nvGrpSpPr>
            <p:cNvPr id="256" name=""/>
            <p:cNvGrpSpPr/>
            <p:nvPr/>
          </p:nvGrpSpPr>
          <p:grpSpPr>
            <a:xfrm>
              <a:off x="228600" y="4301640"/>
              <a:ext cx="8208720" cy="2557440"/>
              <a:chOff x="228600" y="4301640"/>
              <a:chExt cx="8208720" cy="2557440"/>
            </a:xfrm>
          </p:grpSpPr>
          <p:sp>
            <p:nvSpPr>
              <p:cNvPr id="257" name=""/>
              <p:cNvSpPr/>
              <p:nvPr/>
            </p:nvSpPr>
            <p:spPr>
              <a:xfrm>
                <a:off x="809640" y="6499800"/>
                <a:ext cx="74433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809640" y="4301640"/>
                <a:ext cx="0" cy="21978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9640" y="6144840"/>
                <a:ext cx="72309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9640" y="5789880"/>
                <a:ext cx="72309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9640" y="5435280"/>
                <a:ext cx="72309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9640" y="5080320"/>
                <a:ext cx="72309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9640" y="4726800"/>
                <a:ext cx="723096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34800" y="6429600"/>
                <a:ext cx="0" cy="698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02160" y="6429600"/>
                <a:ext cx="0" cy="698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36916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3652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0388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6980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3716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1820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7152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3888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1992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85840" y="6427800"/>
                <a:ext cx="0" cy="7020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08280" y="650124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75640" y="650124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86560" y="650124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52120" y="650124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75920" y="650124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58760" y="650124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12080" y="650124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1000" y="650124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88560" y="649332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13800" y="648576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09240" y="647172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46720" y="649332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56200" y="646524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Arial"/>
                  </a:rPr>
                  <a:t>年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7440" y="6521760"/>
                <a:ext cx="28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4640" y="597456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14640" y="5619600"/>
                <a:ext cx="63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4640" y="5264640"/>
                <a:ext cx="6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320" y="4909680"/>
                <a:ext cx="601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8600" y="4542480"/>
                <a:ext cx="68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92680" y="5250960"/>
                <a:ext cx="567360" cy="424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731600" y="4867200"/>
                <a:ext cx="567360" cy="4266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98960" y="4867560"/>
                <a:ext cx="565560" cy="7095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64880" y="5577480"/>
                <a:ext cx="639000" cy="702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503880" y="5009760"/>
                <a:ext cx="495360" cy="6375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71600" y="4939560"/>
                <a:ext cx="565560" cy="6375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637160" y="5222160"/>
                <a:ext cx="567360" cy="3546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4520" y="5222520"/>
                <a:ext cx="567000" cy="4971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5701320" y="5294160"/>
                <a:ext cx="567360" cy="4251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68680" y="5294520"/>
                <a:ext cx="637200" cy="63756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906240" y="5859720"/>
                <a:ext cx="567000" cy="7164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136520" y="5591520"/>
                <a:ext cx="14184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88040" y="5180400"/>
                <a:ext cx="141840" cy="142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27320" y="4797360"/>
                <a:ext cx="14184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794680" y="5507280"/>
                <a:ext cx="14184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32240" y="5577480"/>
                <a:ext cx="141840" cy="142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85200" y="4909680"/>
                <a:ext cx="141840" cy="142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66600" y="5477400"/>
                <a:ext cx="14220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33960" y="5180400"/>
                <a:ext cx="141840" cy="142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57400" y="5605560"/>
                <a:ext cx="14220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96680" y="5194440"/>
                <a:ext cx="14184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48280" y="5902920"/>
                <a:ext cx="141840" cy="141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29680" y="5817960"/>
                <a:ext cx="141840" cy="142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32240" y="43369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不同年份降水量的年际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788000" y="1668600"/>
            <a:ext cx="4356000" cy="3055320"/>
            <a:chOff x="4788000" y="1668600"/>
            <a:chExt cx="4356000" cy="3055320"/>
          </a:xfrm>
        </p:grpSpPr>
        <p:graphicFrame>
          <p:nvGraphicFramePr>
            <p:cNvPr id="320" name=""/>
            <p:cNvGraphicFramePr/>
            <p:nvPr/>
          </p:nvGraphicFramePr>
          <p:xfrm>
            <a:off x="4788000" y="1811160"/>
            <a:ext cx="4356000" cy="2912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88000" y="1811160"/>
                      <a:ext cx="4356000" cy="29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>
              <a:off x="5345640" y="1668600"/>
              <a:ext cx="27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</a:rPr>
                <a:t>各季度降雨量分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80880" y="1447920"/>
            <a:ext cx="5111280" cy="3053160"/>
            <a:chOff x="380880" y="1447920"/>
            <a:chExt cx="5111280" cy="3053160"/>
          </a:xfrm>
        </p:grpSpPr>
        <p:grpSp>
          <p:nvGrpSpPr>
            <p:cNvPr id="324" name=""/>
            <p:cNvGrpSpPr/>
            <p:nvPr/>
          </p:nvGrpSpPr>
          <p:grpSpPr>
            <a:xfrm>
              <a:off x="380880" y="1447920"/>
              <a:ext cx="5111280" cy="3053160"/>
              <a:chOff x="380880" y="1447920"/>
              <a:chExt cx="5111280" cy="3053160"/>
            </a:xfrm>
          </p:grpSpPr>
          <p:sp>
            <p:nvSpPr>
              <p:cNvPr id="325" name=""/>
              <p:cNvSpPr/>
              <p:nvPr/>
            </p:nvSpPr>
            <p:spPr>
              <a:xfrm>
                <a:off x="1114560" y="4147200"/>
                <a:ext cx="395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114560" y="1713600"/>
                <a:ext cx="21240" cy="2433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14560" y="2859840"/>
                <a:ext cx="3333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14560" y="2166480"/>
                <a:ext cx="3333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14560" y="3525480"/>
                <a:ext cx="3333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39860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23560" y="4103280"/>
                <a:ext cx="266400" cy="43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99680" y="4076640"/>
                <a:ext cx="266400" cy="644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75080" y="4031640"/>
                <a:ext cx="266400" cy="1105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34520" y="3970080"/>
                <a:ext cx="266400" cy="16848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18560" y="3614760"/>
                <a:ext cx="266400" cy="5324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84960" y="2903760"/>
                <a:ext cx="266400" cy="12434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70440" y="2770560"/>
                <a:ext cx="266400" cy="13766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54480" y="3747600"/>
                <a:ext cx="266400" cy="399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58400" y="4014000"/>
                <a:ext cx="266400" cy="1332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8520" y="3970080"/>
                <a:ext cx="266400" cy="1771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15000" y="4058280"/>
                <a:ext cx="266400" cy="88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1400" y="4103280"/>
                <a:ext cx="266400" cy="43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8880" y="397008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2480" y="3348360"/>
                <a:ext cx="59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2480" y="205884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480" y="2679480"/>
                <a:ext cx="577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114560" y="4103280"/>
                <a:ext cx="26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80960" y="4103280"/>
                <a:ext cx="26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91640" y="4103280"/>
                <a:ext cx="26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58400" y="4103280"/>
                <a:ext cx="26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6600" y="4103280"/>
                <a:ext cx="265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36200" y="4103280"/>
                <a:ext cx="266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2960" y="4103280"/>
                <a:ext cx="26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70440" y="4103280"/>
                <a:ext cx="26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363120" y="4103280"/>
                <a:ext cx="26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87760" y="4103280"/>
                <a:ext cx="44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68920" y="4103280"/>
                <a:ext cx="44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36040" y="4103280"/>
                <a:ext cx="40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37800" y="4102200"/>
                <a:ext cx="95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（月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0880" y="1447920"/>
                <a:ext cx="933480" cy="67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降水量</a:t>
                </a:r>
                <a:br>
                  <a:rPr sz="1400"/>
                </a:b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</a:rPr>
                  <a:t>（毫米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665000" y="216864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95408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222444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50452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2771280" y="216864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306036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333072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62448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3890880" y="216864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417996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450320" y="2158560"/>
                <a:ext cx="4680" cy="198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965240" y="1690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各月降雨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1676520"/>
            <a:ext cx="2448000" cy="718920"/>
          </a:xfrm>
          <a:prstGeom prst="wedgeRoundRectCallout">
            <a:avLst>
              <a:gd name="adj1" fmla="val 50259"/>
              <a:gd name="adj2" fmla="val 134328"/>
              <a:gd name="adj3" fmla="val 16667"/>
            </a:avLst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条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6000" y="4724280"/>
            <a:ext cx="2448000" cy="649440"/>
          </a:xfrm>
          <a:prstGeom prst="wedgeRoundRectCallout">
            <a:avLst>
              <a:gd name="adj1" fmla="val -39754"/>
              <a:gd name="adj2" fmla="val 113569"/>
              <a:gd name="adj3" fmla="val 16667"/>
            </a:avLst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折线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59640" y="3933720"/>
            <a:ext cx="2484360" cy="647640"/>
          </a:xfrm>
          <a:prstGeom prst="wedgeRoundRectCallout">
            <a:avLst>
              <a:gd name="adj1" fmla="val -55046"/>
              <a:gd name="adj2" fmla="val -178675"/>
              <a:gd name="adj3" fmla="val 16667"/>
            </a:avLst>
          </a:prstGeom>
          <a:solidFill>
            <a:srgbClr val="ffff00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扇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2577960"/>
            <a:ext cx="7740000" cy="4308120"/>
            <a:chOff x="0" y="2577960"/>
            <a:chExt cx="7740000" cy="4308120"/>
          </a:xfrm>
        </p:grpSpPr>
        <p:sp>
          <p:nvSpPr>
            <p:cNvPr id="377" name=""/>
            <p:cNvSpPr/>
            <p:nvPr/>
          </p:nvSpPr>
          <p:spPr>
            <a:xfrm>
              <a:off x="0" y="2577960"/>
              <a:ext cx="144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降水量</a:t>
              </a:r>
              <a:br>
                <a:rPr sz="2000"/>
              </a:b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（毫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37880" y="2737080"/>
              <a:ext cx="7602120" cy="4149000"/>
              <a:chOff x="137880" y="2737080"/>
              <a:chExt cx="7602120" cy="4149000"/>
            </a:xfrm>
          </p:grpSpPr>
          <p:sp>
            <p:nvSpPr>
              <p:cNvPr id="379" name=""/>
              <p:cNvSpPr/>
              <p:nvPr/>
            </p:nvSpPr>
            <p:spPr>
              <a:xfrm>
                <a:off x="963000" y="6432120"/>
                <a:ext cx="6123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963000" y="2737080"/>
                <a:ext cx="33120" cy="3695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63000" y="447660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963000" y="342396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963000" y="548784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40256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76680" y="6365520"/>
                <a:ext cx="412200" cy="6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04360" y="6325200"/>
                <a:ext cx="412560" cy="97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30240" y="6256800"/>
                <a:ext cx="412560" cy="16776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96400" y="6163200"/>
                <a:ext cx="412560" cy="255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22640" y="5623200"/>
                <a:ext cx="412560" cy="808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48880" y="4543920"/>
                <a:ext cx="412560" cy="18882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90600" y="4341600"/>
                <a:ext cx="412200" cy="20905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16840" y="5825520"/>
                <a:ext cx="412200" cy="60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69080" y="6229800"/>
                <a:ext cx="412200" cy="2023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6760" y="6163200"/>
                <a:ext cx="412200" cy="268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284080" y="6297120"/>
                <a:ext cx="412560" cy="1350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10320" y="6365520"/>
                <a:ext cx="412560" cy="6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2200" y="616320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7880" y="5218920"/>
                <a:ext cx="92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7880" y="3261960"/>
                <a:ext cx="826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880" y="4203000"/>
                <a:ext cx="89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6300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7520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57960" y="6365520"/>
                <a:ext cx="41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7016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83080" y="6365520"/>
                <a:ext cx="41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6368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7768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9060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43840" y="63655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88360" y="6365520"/>
                <a:ext cx="68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28280" y="6365520"/>
                <a:ext cx="68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0480" y="6365520"/>
                <a:ext cx="62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261120" y="6362280"/>
                <a:ext cx="147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</a:rPr>
                  <a:t>（月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1814760" y="342684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26224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68092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11472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527640" y="342684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97512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39380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84884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261040" y="342684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70852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127200" y="3412080"/>
                <a:ext cx="7560" cy="302004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25" name=""/>
          <p:cNvGraphicFramePr/>
          <p:nvPr/>
        </p:nvGraphicFramePr>
        <p:xfrm>
          <a:off x="173160" y="836640"/>
          <a:ext cx="8893080" cy="1528200"/>
        </p:xfrm>
        <a:graphic>
          <a:graphicData uri="http://schemas.openxmlformats.org/drawingml/2006/table">
            <a:tbl>
              <a:tblPr/>
              <a:tblGrid>
                <a:gridCol w="1297080"/>
                <a:gridCol w="431640"/>
                <a:gridCol w="432000"/>
                <a:gridCol w="647640"/>
                <a:gridCol w="649080"/>
                <a:gridCol w="648000"/>
                <a:gridCol w="647640"/>
                <a:gridCol w="792000"/>
                <a:gridCol w="792360"/>
                <a:gridCol w="647640"/>
                <a:gridCol w="649080"/>
                <a:gridCol w="648000"/>
                <a:gridCol w="610920"/>
              </a:tblGrid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月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（月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降水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（毫米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585a5c"/>
                          </a:solidFill>
                          <a:latin typeface="仿宋"/>
                          <a:ea typeface="仿宋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36360" y="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认一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76360" y="4428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仔细观察数据表，结合条形统计图回答下列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2492280"/>
            <a:ext cx="4679640" cy="3241800"/>
          </a:xfrm>
          <a:prstGeom prst="wedgeRoundRectCallout">
            <a:avLst>
              <a:gd name="adj1" fmla="val -71064"/>
              <a:gd name="adj2" fmla="val -5205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______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 为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32360" y="3068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毫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16720" y="40734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毫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04000" y="501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毫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2492280"/>
            <a:ext cx="4679640" cy="3241800"/>
          </a:xfrm>
          <a:prstGeom prst="wedgeRoundRectCallout">
            <a:avLst>
              <a:gd name="adj1" fmla="val -75884"/>
              <a:gd name="adj2" fmla="val -37513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2.  ____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最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最多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月份该地区降水量超过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毫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472000" y="25891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16720" y="3529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29080" y="4537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00720" y="2492280"/>
            <a:ext cx="4679640" cy="3241800"/>
          </a:xfrm>
          <a:prstGeom prst="wedgeRoundRectCallout">
            <a:avLst>
              <a:gd name="adj1" fmla="val -75407"/>
              <a:gd name="adj2" fmla="val -32861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3. 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借助条形统计图表示数据信息的优势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13440" y="4076640"/>
            <a:ext cx="40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借助条形统计图表示数据的优势是直观表示各项的具体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4720" y="59500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405080" y="5877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5440" y="58514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233440" y="5805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639880" y="57564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56040" y="51246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384720" y="4124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48040" y="38768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1316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76840" y="5773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321160" y="58928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26160" y="59961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152360" y="2744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北京</a:t>
            </a:r>
            <a:r>
              <a:rPr b="1" lang="en-US" sz="3200" spc="-1" strike="noStrike">
                <a:solidFill>
                  <a:srgbClr val="ba836a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年降水量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2544840"/>
            <a:ext cx="7740000" cy="4307760"/>
            <a:chOff x="0" y="2544840"/>
            <a:chExt cx="7740000" cy="4307760"/>
          </a:xfrm>
        </p:grpSpPr>
        <p:sp>
          <p:nvSpPr>
            <p:cNvPr id="452" name=""/>
            <p:cNvSpPr/>
            <p:nvPr/>
          </p:nvSpPr>
          <p:spPr>
            <a:xfrm>
              <a:off x="0" y="2544840"/>
              <a:ext cx="144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ba836a"/>
                  </a:solidFill>
                  <a:latin typeface="Arial"/>
                </a:rPr>
                <a:t>降水量</a:t>
              </a:r>
              <a:br>
                <a:rPr sz="2000"/>
              </a:br>
              <a:r>
                <a:rPr b="1" lang="zh-CN" sz="2000" spc="-1" strike="noStrike">
                  <a:solidFill>
                    <a:srgbClr val="ba836a"/>
                  </a:solidFill>
                  <a:latin typeface="Arial"/>
                </a:rPr>
                <a:t>（毫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37880" y="2703600"/>
              <a:ext cx="7602120" cy="4149000"/>
              <a:chOff x="137880" y="2703600"/>
              <a:chExt cx="7602120" cy="4149000"/>
            </a:xfrm>
          </p:grpSpPr>
          <p:sp>
            <p:nvSpPr>
              <p:cNvPr id="454" name=""/>
              <p:cNvSpPr/>
              <p:nvPr/>
            </p:nvSpPr>
            <p:spPr>
              <a:xfrm>
                <a:off x="963000" y="6398640"/>
                <a:ext cx="6123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963000" y="2703600"/>
                <a:ext cx="33120" cy="3694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63000" y="444348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63000" y="339048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63000" y="5454720"/>
                <a:ext cx="5160240" cy="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40256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76680" y="6332040"/>
                <a:ext cx="412200" cy="6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4360" y="6292080"/>
                <a:ext cx="412560" cy="97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830240" y="6223320"/>
                <a:ext cx="412560" cy="16776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96400" y="6129720"/>
                <a:ext cx="412560" cy="25524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22640" y="5589720"/>
                <a:ext cx="412560" cy="808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548880" y="4510440"/>
                <a:ext cx="412560" cy="18882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990600" y="4308120"/>
                <a:ext cx="412200" cy="20905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16840" y="5792040"/>
                <a:ext cx="412200" cy="60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69080" y="6196320"/>
                <a:ext cx="412200" cy="2023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56760" y="6129720"/>
                <a:ext cx="412200" cy="26892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284080" y="6263640"/>
                <a:ext cx="412560" cy="1350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710320" y="6332040"/>
                <a:ext cx="412560" cy="66600"/>
              </a:xfrm>
              <a:prstGeom prst="rect">
                <a:avLst/>
              </a:prstGeom>
              <a:gradFill rotWithShape="0">
                <a:gsLst>
                  <a:gs pos="0">
                    <a:srgbClr val="0099ff"/>
                  </a:gs>
                  <a:gs pos="50000">
                    <a:srgbClr val="585a5c"/>
                  </a:gs>
                  <a:gs pos="100000">
                    <a:srgbClr val="0099ff"/>
                  </a:gs>
                </a:gsLst>
                <a:lin ang="10800000"/>
              </a:gradFill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12200" y="612972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880" y="5185440"/>
                <a:ext cx="92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a836a"/>
                    </a:solidFill>
                    <a:latin typeface="Arial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880" y="3228840"/>
                <a:ext cx="826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a836a"/>
                    </a:solidFill>
                    <a:latin typeface="Arial"/>
                  </a:rPr>
                  <a:t>3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880" y="4169880"/>
                <a:ext cx="89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ba836a"/>
                    </a:solidFill>
                    <a:latin typeface="Arial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6300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520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57960" y="6332040"/>
                <a:ext cx="41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7016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83080" y="6332040"/>
                <a:ext cx="41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6368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7768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9060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443840" y="6332040"/>
                <a:ext cx="41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88360" y="6332040"/>
                <a:ext cx="68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28280" y="6332040"/>
                <a:ext cx="68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640480" y="6332040"/>
                <a:ext cx="620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a836a"/>
                    </a:solidFill>
                    <a:latin typeface="Arial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61120" y="6329160"/>
                <a:ext cx="147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ba836a"/>
                    </a:solidFill>
                    <a:latin typeface="Arial"/>
                  </a:rPr>
                  <a:t>（月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814760" y="339372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26224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68092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311472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527640" y="339372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397512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439380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484884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5261040" y="339372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70852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6127200" y="3378960"/>
                <a:ext cx="7560" cy="3019680"/>
              </a:xfrm>
              <a:prstGeom prst="line">
                <a:avLst/>
              </a:prstGeom>
              <a:ln w="9360">
                <a:solidFill>
                  <a:srgbClr val="585a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5a5c"/>
                </a:solidFill>
                <a:latin typeface="Arial"/>
              </a:rPr>
              <a:t>想一想（</a:t>
            </a:r>
            <a:r>
              <a:rPr b="1" lang="en-US" sz="3200" spc="-1" strike="noStrike">
                <a:solidFill>
                  <a:srgbClr val="585a5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85a5c"/>
                </a:solidFill>
                <a:latin typeface="Arial"/>
              </a:rPr>
              <a:t>）要正确从条形统计图中读取信息，需要明确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36720" y="6419880"/>
            <a:ext cx="6119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936720" y="2747880"/>
            <a:ext cx="71280" cy="36720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56360" y="4572000"/>
            <a:ext cx="2987640" cy="1152360"/>
          </a:xfrm>
          <a:prstGeom prst="wedgeRoundRectCallout">
            <a:avLst>
              <a:gd name="adj1" fmla="val -45750"/>
              <a:gd name="adj2" fmla="val 103995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横轴表示什么？单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84360" y="1666800"/>
            <a:ext cx="5832360" cy="647640"/>
          </a:xfrm>
          <a:prstGeom prst="wedgeRoundRectCallout">
            <a:avLst>
              <a:gd name="adj1" fmla="val -60152"/>
              <a:gd name="adj2" fmla="val 135050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纵轴表示什么？单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52360" y="274464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北京</a:t>
            </a:r>
            <a:r>
              <a:rPr b="1" lang="en-US" sz="3200" spc="-1" strike="noStrike">
                <a:solidFill>
                  <a:srgbClr val="ba836a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年降水量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2544840"/>
            <a:ext cx="14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ba836a"/>
                </a:solidFill>
                <a:latin typeface="Arial"/>
              </a:rPr>
              <a:t>降水量</a:t>
            </a:r>
            <a:br>
              <a:rPr sz="2000"/>
            </a:br>
            <a:r>
              <a:rPr b="1" lang="zh-CN" sz="2000" spc="-1" strike="noStrike">
                <a:solidFill>
                  <a:srgbClr val="ba836a"/>
                </a:solidFill>
                <a:latin typeface="Arial"/>
              </a:rPr>
              <a:t>（毫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38240" y="2703240"/>
            <a:ext cx="7602120" cy="4149720"/>
            <a:chOff x="138240" y="2703240"/>
            <a:chExt cx="7602120" cy="4149720"/>
          </a:xfrm>
        </p:grpSpPr>
        <p:sp>
          <p:nvSpPr>
            <p:cNvPr id="508" name=""/>
            <p:cNvSpPr/>
            <p:nvPr/>
          </p:nvSpPr>
          <p:spPr>
            <a:xfrm>
              <a:off x="963360" y="6399000"/>
              <a:ext cx="612324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963360" y="2703240"/>
              <a:ext cx="33120" cy="3695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63360" y="4443480"/>
              <a:ext cx="516024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63360" y="3390480"/>
              <a:ext cx="516024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63360" y="5454720"/>
              <a:ext cx="5160240" cy="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40292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77040" y="6332400"/>
              <a:ext cx="412200" cy="666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04720" y="6292080"/>
              <a:ext cx="412560" cy="979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30600" y="6223680"/>
              <a:ext cx="412560" cy="16776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96760" y="6130080"/>
              <a:ext cx="412560" cy="2556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3000" y="5590080"/>
              <a:ext cx="412560" cy="8089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49240" y="4510440"/>
              <a:ext cx="412560" cy="188856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90960" y="4308120"/>
              <a:ext cx="412200" cy="20908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7200" y="5792400"/>
              <a:ext cx="412200" cy="6066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69440" y="6196680"/>
              <a:ext cx="412200" cy="2023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57120" y="6130080"/>
              <a:ext cx="412200" cy="2689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84440" y="6264000"/>
              <a:ext cx="412560" cy="135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0680" y="6332400"/>
              <a:ext cx="412560" cy="666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585a5c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560" y="613008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a836a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8240" y="5185800"/>
              <a:ext cx="9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a836a"/>
                  </a:solidFill>
                  <a:latin typeface="Arial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240" y="3228480"/>
              <a:ext cx="8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a836a"/>
                  </a:solidFill>
                  <a:latin typeface="Arial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8240" y="4169880"/>
              <a:ext cx="89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a836a"/>
                  </a:solidFill>
                  <a:latin typeface="Arial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6336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556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58320" y="6332400"/>
              <a:ext cx="41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7052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83440" y="6332400"/>
              <a:ext cx="41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6404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7804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9096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44200" y="633240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88720" y="633240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28640" y="633240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40840" y="6332400"/>
              <a:ext cx="6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ba836a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61480" y="6329160"/>
              <a:ext cx="14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a836a"/>
                  </a:solidFill>
                  <a:latin typeface="Arial"/>
                </a:rPr>
                <a:t>（月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815120" y="339336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26260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268128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11508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3528000" y="339336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97548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439416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84920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261400" y="339336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70888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127560" y="3378600"/>
              <a:ext cx="7560" cy="3020400"/>
            </a:xfrm>
            <a:prstGeom prst="line">
              <a:avLst/>
            </a:prstGeom>
            <a:ln w="9360">
              <a:solidFill>
                <a:srgbClr val="58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7280" y="5158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想一想：（</a:t>
            </a:r>
            <a:r>
              <a:rPr b="1" lang="en-US" sz="3200" spc="-1" strike="noStrike">
                <a:solidFill>
                  <a:srgbClr val="ba836a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ba836a"/>
                </a:solidFill>
                <a:latin typeface="Arial"/>
              </a:rPr>
              <a:t>）以降水量统计图为例，从条形统计图中除了可以直观读出各项具体数据，还可以读取哪些信息？如何读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36720" y="6419880"/>
            <a:ext cx="6119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936720" y="2747880"/>
            <a:ext cx="71280" cy="367200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92720" y="3900600"/>
            <a:ext cx="2987640" cy="2376360"/>
          </a:xfrm>
          <a:prstGeom prst="wedgeRoundRectCallout">
            <a:avLst>
              <a:gd name="adj1" fmla="val -101592"/>
              <a:gd name="adj2" fmla="val 5509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降水量在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0~10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毫米的月份；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0~20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毫米的月份；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00~30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毫米的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72360" y="2387520"/>
            <a:ext cx="2808000" cy="1152720"/>
          </a:xfrm>
          <a:prstGeom prst="wedgeRoundRectCallout">
            <a:avLst>
              <a:gd name="adj1" fmla="val -130439"/>
              <a:gd name="adj2" fmla="val 111018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降水量最多和最少的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44720" y="59166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05080" y="58435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65440" y="5818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3440" y="57722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39880" y="5722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56040" y="5091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84720" y="40910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48040" y="384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13160" y="54118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76840" y="5740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21160" y="58593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26160" y="59626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a5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203640" y="5445000"/>
            <a:ext cx="5256000" cy="1152720"/>
          </a:xfrm>
          <a:prstGeom prst="wedgeRoundRectCallout">
            <a:avLst>
              <a:gd name="adj1" fmla="val -43083"/>
              <a:gd name="adj2" fmla="val -109916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图中看出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05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年哪洲人口最多？大概多少亿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4865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ba836a"/>
                </a:solidFill>
                <a:latin typeface="黑体"/>
              </a:rPr>
              <a:t>2050</a:t>
            </a:r>
            <a:r>
              <a:rPr b="1" lang="zh-CN" sz="3200" spc="-1" strike="noStrike">
                <a:solidFill>
                  <a:srgbClr val="ba836a"/>
                </a:solidFill>
                <a:latin typeface="黑体"/>
              </a:rPr>
              <a:t>年世界人口分布预测图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573" name="KSO_BC1"/>
          <p:cNvGraphicFramePr/>
          <p:nvPr/>
        </p:nvGraphicFramePr>
        <p:xfrm>
          <a:off x="878040" y="1620720"/>
          <a:ext cx="7224480" cy="32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KSO_B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620720"/>
                    <a:ext cx="7224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3276720" y="5589720"/>
            <a:ext cx="5327640" cy="1008000"/>
          </a:xfrm>
          <a:prstGeom prst="wedgeRoundRectCallout">
            <a:avLst>
              <a:gd name="adj1" fmla="val -34296"/>
              <a:gd name="adj2" fmla="val -183541"/>
              <a:gd name="adj3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58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哪洲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205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年人口不到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5a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891080" y="2060640"/>
            <a:ext cx="506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从条形统计图中可以读取各个项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具体数据信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正确读取信息的方法步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）识别条形统计图的横纵坐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ba836a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ba836a"/>
                </a:solidFill>
                <a:latin typeface="Arial"/>
              </a:rPr>
              <a:t>）按要求读取所需要项目的数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79280" y="260280"/>
            <a:ext cx="83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议一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：从条形统计图可以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到什么？如何正确读取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8:36:05Z</dcterms:created>
  <dc:creator/>
  <dc:description/>
  <dc:language>en-US</dc:language>
  <cp:lastModifiedBy/>
  <dcterms:modified xsi:type="dcterms:W3CDTF">2015-09-07T03:02:27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