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7AE-0EB5-4661-B339-723ACF29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EBF6-BCBC-4197-9929-DA15EF24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A92-453D-4031-AE30-25BBC4F9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365A-36C4-4CE4-AF54-B9DFFFA6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F774-E321-44E2-A9A6-118496B4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2A1-17C5-4E96-A3D2-D50A9B40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DF8-1920-451B-A0AD-04B31C72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E30-5DBF-4F42-A8F0-99E057BA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4FEB-11FA-4A70-AA9D-98015165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BF2-5AF2-47A8-B7D1-759E13BD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B516-1F79-44A6-B2AF-56CFECDA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AC86-DCB7-4AF2-816B-87AB8C23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B2DA-5486-48C1-9E7B-D86FCA86A2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-360" y="980640"/>
            <a:ext cx="86425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3399"/>
                </a:solidFill>
                <a:latin typeface="Arial"/>
                <a:ea typeface="华文新魏"/>
              </a:rPr>
              <a:t>用字母表示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3399"/>
                </a:solidFill>
                <a:latin typeface="Arial"/>
                <a:ea typeface="华文新魏"/>
              </a:rPr>
              <a:t>和简易方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综 合 练 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图中的平行四边形的面积是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角形的面积是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梯形的面积是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484360" y="3573360"/>
            <a:ext cx="3816360" cy="1655640"/>
            <a:chOff x="2484360" y="3573360"/>
            <a:chExt cx="3816360" cy="1655640"/>
          </a:xfrm>
        </p:grpSpPr>
        <p:sp>
          <p:nvSpPr>
            <p:cNvPr id="73" name=""/>
            <p:cNvSpPr/>
            <p:nvPr/>
          </p:nvSpPr>
          <p:spPr>
            <a:xfrm>
              <a:off x="2484360" y="3573360"/>
              <a:ext cx="3816360" cy="1440000"/>
            </a:xfrm>
            <a:prstGeom prst="parallelogram">
              <a:avLst>
                <a:gd name="adj" fmla="val 66256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0720" y="3573360"/>
              <a:ext cx="0" cy="144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84360" y="501336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20720" y="501336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28760" y="5157720"/>
              <a:ext cx="291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84360" y="5157720"/>
              <a:ext cx="28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754000" y="486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30360" y="3933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25640" y="3068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40720" y="9079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00720" y="1700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44560" y="2282760"/>
            <a:ext cx="43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a-b)·c÷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893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自然数中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一个奇数是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n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前面的一个奇数是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个奇数是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9079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n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84720" y="1484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n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44280"/>
            <a:ext cx="25909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选择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数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乙数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少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求乙数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式子是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   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(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)÷1.5      B.(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)÷1.5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a÷ 1.5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1" lang="el-GR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盐放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水中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么盐和盐水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是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   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 </a:t>
            </a:r>
            <a:r>
              <a:rPr b="1" lang="el-GR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           B.  y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l-GR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 </a:t>
            </a:r>
            <a:r>
              <a:rPr b="1" lang="el-GR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l-GR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 )   D. y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l-GR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1557360"/>
            <a:ext cx="7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221000"/>
            <a:ext cx="7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6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、解方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7÷(4</a:t>
            </a:r>
            <a:r>
              <a:rPr b="1" lang="el-GR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⑵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9(</a:t>
            </a:r>
            <a:r>
              <a:rPr b="1" lang="el-GR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</a:t>
            </a:r>
            <a:r>
              <a:rPr b="1" lang="el-GR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l-GR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3.2÷0.4=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和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l-GR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m÷0.1=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解相同，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五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el-GR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于多少时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l-GR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el-GR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相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※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用字母表示数可以简明地表达数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关系、运算定律和计算公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乘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4.5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可以写成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还可以写成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s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乘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h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可以写成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还可以写成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用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s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表示路程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v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表示速度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t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表示时间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那么，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s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＝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03640" y="1628640"/>
            <a:ext cx="172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·4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2278080"/>
            <a:ext cx="172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4.5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56000" y="2924280"/>
            <a:ext cx="1009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s·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956720" y="2924280"/>
            <a:ext cx="1009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64000" y="4508640"/>
            <a:ext cx="93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v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例：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个商店原来有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80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千克桔子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又运来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筐桔子，每筐重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千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用式子表示出这个商店里桔子重量的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80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＋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根据这个式子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求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＝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时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商店一共有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少千克桔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＝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商店一共有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60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千克桔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82800" y="48038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80+12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81560" y="4869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=80+12×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90680" y="4875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=2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⒈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去年植树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，今年植树的棵数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年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少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年植树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=3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年植树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长方形的长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这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方形面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=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=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=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这个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形的面积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765000"/>
            <a:ext cx="87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63640" y="1484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a-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28400" y="2133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2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86840" y="342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5120" y="4156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食堂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西红柿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千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黄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千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下面各式表示什么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⑴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⑵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a+3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⑶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a-3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258480"/>
            <a:ext cx="878544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本书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。我每天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式子表示还没有看的页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=60,b=5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上面的式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还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看的页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⑶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本书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每天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还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。”你怎样用等式表示这样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量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“60-8x=20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等式可以叫做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叫做方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4680" y="4221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-8X=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※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有未知数的等式叫做方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式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些是方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些不是方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-0.5x=0    2x-16    7×0.3+0.4=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+0.75&gt;6      5x-4x=2  7×0.3+x=2.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3240" y="2708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41960" y="33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29600" y="33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-8x=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8x=60-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x=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=40÷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=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面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=5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什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叫方程的解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方程的解的过程叫做什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程的解和解方程有什么区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35800" y="977760"/>
            <a:ext cx="34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减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减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66720" y="2273400"/>
            <a:ext cx="258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因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另一个因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68360" y="981000"/>
            <a:ext cx="2159280" cy="2521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下列方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说一说各是怎样想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3.2-2x=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×4-2x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6x-1.5x=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x+1.5x=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出方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求出方程的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上什么数得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3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数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比它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3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1557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x+4.5=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+4.5=8×1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4T12:19:27Z</dcterms:created>
  <dc:creator> </dc:creator>
  <dc:description/>
  <dc:language>en-US</dc:language>
  <cp:lastModifiedBy>微软用户</cp:lastModifiedBy>
  <dcterms:modified xsi:type="dcterms:W3CDTF">2014-06-24T00:28:17Z</dcterms:modified>
  <cp:revision>0</cp:revision>
  <dc:subject/>
  <dc:title> </dc:title>
</cp:coreProperties>
</file>