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AA743-CFB1-45B0-8FD1-43E38D985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F5B7D-E509-484D-BA0E-83E8A17201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4F99-EFCC-45E0-A55A-0758405896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29B7-86A1-42BA-A768-2797F7FD0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FBFCA-23DC-4F76-BBE0-AC874652E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BFFBB-4A52-403E-8825-981DF24B4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259E-999A-4877-A781-88E77A68B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D7D5-03B2-4ADD-951A-DCD32314D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D2C7-84D9-4656-9F7E-F96EDBFB1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0B45A-BB00-40B9-A388-699AC7853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429F-BF55-4276-B1AB-573573A6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4E8FA-949F-4C8B-A557-5FEBCBE19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463C-D524-4EFA-8B01-3AED2334DCE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74920" y="2422440"/>
            <a:ext cx="6984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黑体"/>
              </a:rPr>
              <a:t>圆柱的表面积练习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84360" y="333360"/>
            <a:ext cx="17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口答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84360" y="197316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=2cm      d=?           c=?           s=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4360" y="334152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=8m      r=?           c=?           s=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4360" y="4638600"/>
            <a:ext cx="72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=25.12dm      d=?           r=?           s=?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187280" y="47628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柱的侧面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底面周长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×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187280" y="1557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圆柱的表面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=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侧面积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+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底面积</a:t>
            </a:r>
            <a:r>
              <a:rPr b="1" lang="zh-CN" sz="3600" spc="-1" strike="noStrike">
                <a:solidFill>
                  <a:srgbClr val="ff3300"/>
                </a:solidFill>
                <a:latin typeface="黑体"/>
                <a:ea typeface="黑体"/>
              </a:rPr>
              <a:t>×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44360" y="2781360"/>
            <a:ext cx="8999640" cy="26636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700360" y="386064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500364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40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30072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6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667640" y="386064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72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4724280"/>
            <a:ext cx="7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59280" y="4724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00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300720" y="472428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25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846920" y="4724280"/>
            <a:ext cx="129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150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684360" y="333360"/>
            <a:ext cx="40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解决问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00000" y="1413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547640" y="2205000"/>
            <a:ext cx="468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0.15π×2=0.3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平方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826920" y="2924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26920" y="3573360"/>
            <a:ext cx="684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侧面积：   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24π×30=720π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826920" y="414972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半径：   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24÷2=1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00000" y="4724280"/>
            <a:ext cx="741708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底面积： 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π×12</a:t>
            </a:r>
            <a:r>
              <a:rPr b="1" lang="zh-CN" sz="2800" spc="-1" strike="noStrike" baseline="85000">
                <a:solidFill>
                  <a:srgbClr val="ff33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=144π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26920" y="537372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彩纸面积：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720π+144π=864π</a:t>
            </a:r>
            <a:r>
              <a:rPr b="1" lang="zh-CN" sz="2800" spc="-1" strike="noStrike">
                <a:solidFill>
                  <a:srgbClr val="ff3300"/>
                </a:solidFill>
                <a:latin typeface="宋体"/>
              </a:rPr>
              <a:t>（平方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755640" y="620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26920" y="119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侧面积：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.8×2×π×6=21.6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826920" y="1773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底面积：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π×1.8</a:t>
            </a:r>
            <a:r>
              <a:rPr b="1" lang="zh-CN" sz="24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3.24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26920" y="227664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表面积：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1.6π+3.24π=24.84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55640" y="350028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407664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侧面积：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0.5×2×π×3.5=3.5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900000" y="465300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底面积：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π×0.5</a:t>
            </a:r>
            <a:r>
              <a:rPr b="1" lang="zh-CN" sz="2400" spc="-1" strike="noStrike" baseline="30000">
                <a:solidFill>
                  <a:srgbClr val="0000cc"/>
                </a:solidFill>
                <a:latin typeface="Arial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0.25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900000" y="515772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插花面积：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3.5π+0.25π=3.75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00000" y="57340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朵数：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3.75π×40=150π=47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8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8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55640" y="620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539640" y="1773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侧面积：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π×1.6×1=1.6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95280" y="2349360"/>
            <a:ext cx="648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正方形面积：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3×3=9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2997360"/>
            <a:ext cx="691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顶：    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.6π+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611280" y="371628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顶：       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0×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.6π+9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）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32π+180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分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303640" y="1197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3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米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6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1.6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米 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厘米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=1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分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755640" y="62064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826920" y="119700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侧面积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3.14×3=9.42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1844640"/>
            <a:ext cx="813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油漆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9.42×5×0.5=23.5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千克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2421000"/>
            <a:ext cx="424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数学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P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页思考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324000" y="3429000"/>
            <a:ext cx="68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底面积：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π×10²=100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平方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7880" y="4200480"/>
            <a:ext cx="2809440" cy="101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(3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)×2=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00π×4=400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55520" y="4200480"/>
            <a:ext cx="2809440" cy="101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(4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)×2=6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00π×6=600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855160" y="5568840"/>
            <a:ext cx="2809440" cy="101592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(5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－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)×2=8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100π×8=800π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平方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772560" y="2924280"/>
            <a:ext cx="2853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半径：   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20÷2=10</a:t>
            </a:r>
            <a:r>
              <a:rPr b="1" lang="zh-CN" sz="2400" spc="-1" strike="noStrike">
                <a:solidFill>
                  <a:srgbClr val="0000cc"/>
                </a:solidFill>
                <a:latin typeface="Arial"/>
              </a:rPr>
              <a:t>（米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7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7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3-11T10:42:30Z</dcterms:created>
  <dc:creator>微软用户</dc:creator>
  <dc:description/>
  <dc:language>en-US</dc:language>
  <cp:lastModifiedBy>yuyh</cp:lastModifiedBy>
  <dcterms:modified xsi:type="dcterms:W3CDTF">2016-02-25T04:58:27Z</dcterms:modified>
  <cp:revision>19</cp:revision>
  <dc:subject/>
  <dc:title>幻灯片 1</dc:title>
</cp:coreProperties>
</file>