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3D3-87A4-415F-B1A6-CB2E3B9D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777-CBFA-40C7-98A7-A569499F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266-A6F0-4580-8A84-B6EE961D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A46-DE86-401F-961A-AD34A481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0D4-B45A-4ECC-9826-4C65D2BF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7ED-DA97-4B96-9FB0-91645526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BAF-4BF4-4930-A3C7-1A6A8EBC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7AA-52A8-4A95-AB8D-E268BDC5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D1F-A6DD-48C4-8F4C-87B104AC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039-C178-46BE-98D2-F729225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2CD-E7AD-41B3-A5BA-A77D5AF6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C31-4437-469F-A18C-4CE99459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3EE1-1993-4775-8EE0-4DD1706E6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slide13.xm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00" y="870120"/>
            <a:ext cx="69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义 务 教 育 课 程 标 准 实 验 教 科书 数 学 六 年 级 （下 册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0080" y="176544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229"/>
                </a:solidFill>
                <a:latin typeface="隶书"/>
                <a:ea typeface="隶书"/>
              </a:rPr>
              <a:t>圆 柱 的 体 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905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92000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3080" y="0"/>
            <a:ext cx="219528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95560" y="282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20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1513080" cy="43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843280" y="907920"/>
            <a:ext cx="4465440" cy="373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6240"/>
            <a:ext cx="1871640" cy="57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 action="ppaction://hlinksldjump"/>
              </a:rPr>
              <a:t>课堂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700360" y="1285920"/>
            <a:ext cx="2305080" cy="1855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22320" y="884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213000"/>
            <a:ext cx="7777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一个圆柱形水瓶，从里面量得底面半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分米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高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1.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分米。这个水瓶大约能装多少升水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</a:rPr>
              <a:t>（得数保留整数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4640" y="4508640"/>
            <a:ext cx="516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瓶的容积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08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升，那水瓶的体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.4.08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方分米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08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方分米多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08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方分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92600" y="4556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19564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9640" y="696960"/>
            <a:ext cx="8209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905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6200" y="0"/>
            <a:ext cx="208944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03280" y="1666800"/>
            <a:ext cx="5845320" cy="313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340360" y="9651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你知道哪杯橙汁最多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64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951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905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200" y="0"/>
            <a:ext cx="2089440" cy="64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03280" y="1197000"/>
            <a:ext cx="58453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809640" cy="771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2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6481800" cy="5079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369800" y="3664080"/>
            <a:ext cx="7089840" cy="520560"/>
            <a:chOff x="1369800" y="3664080"/>
            <a:chExt cx="7089840" cy="520560"/>
          </a:xfrm>
        </p:grpSpPr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1979640" y="3789360"/>
              <a:ext cx="64800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369800" y="3664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246560" y="434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猜一猜，圆柱的体积可以怎样计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8026560" y="6310440"/>
            <a:ext cx="433080" cy="287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6227640" y="6453360"/>
            <a:ext cx="28908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809640" cy="77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619280" y="1484280"/>
            <a:ext cx="5832360" cy="36734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rId5" action="ppaction://hlinksldjump"/>
          </p:cNvPr>
          <p:cNvSpPr/>
          <p:nvPr/>
        </p:nvSpPr>
        <p:spPr>
          <a:xfrm>
            <a:off x="6300720" y="6453360"/>
            <a:ext cx="35892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809640" cy="771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06560" y="1773360"/>
            <a:ext cx="6445080" cy="216216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5" action="ppaction://hlinksldjump"/>
          </p:cNvPr>
          <p:cNvSpPr/>
          <p:nvPr/>
        </p:nvSpPr>
        <p:spPr>
          <a:xfrm>
            <a:off x="8172360" y="6165720"/>
            <a:ext cx="287280" cy="216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09640" cy="77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979640" y="1052640"/>
            <a:ext cx="4824360" cy="1439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92000" y="3908520"/>
            <a:ext cx="85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圆柱的底面平均分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份，拼成一个近似的长方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000" y="4653000"/>
            <a:ext cx="85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圆柱的底面平均分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份，拼成一个近似的长方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0760" y="2565360"/>
            <a:ext cx="24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展开想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" y="3187800"/>
            <a:ext cx="85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圆柱的底面平均分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份，拼成一个近似的长方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81400" y="472428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260280"/>
            <a:ext cx="943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小组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柱通过切割、拼合后，转化为长方体，什么变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没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长方体的底面积和高与原来圆柱有什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柱的体积计算公式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3080" y="0"/>
            <a:ext cx="219528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260360" y="692280"/>
            <a:ext cx="6696360" cy="2600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588000" y="1882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229"/>
                </a:solidFill>
                <a:latin typeface="黑体"/>
                <a:ea typeface="黑体"/>
              </a:rPr>
              <a:t>0.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40560" y="24210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4:28:39Z</dcterms:created>
  <dc:creator> </dc:creator>
  <dc:description/>
  <dc:language>en-US</dc:language>
  <cp:lastModifiedBy>User</cp:lastModifiedBy>
  <dcterms:modified xsi:type="dcterms:W3CDTF">2014-11-19T04:43:12Z</dcterms:modified>
  <cp:revision>1</cp:revision>
  <dc:subject/>
  <dc:title> </dc:title>
</cp:coreProperties>
</file>