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64A-E4EF-479C-933D-F2D82547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6B2-6EDE-4DFC-8D02-221BE9A3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7C3-8692-4367-93E8-071C2EA4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B40-CCAF-452D-8A08-86925202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8FCF-5898-43CC-A0C9-125060A5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9DE5-58B6-4C88-AC0A-AE16E8DC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7983-CC1A-41BD-91F0-FFDDBAE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701-ADFC-48C6-B4E9-8F691439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48A-0C8F-4B1C-BDE0-5635748D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F2E1-6EFD-4479-B94B-C58D94C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3825-DE95-415B-9658-9C595FD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11C-19AD-4BFF-B034-934EE4F9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49D1-E7A3-4679-9B37-33042C7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BD08-23D2-4A47-A009-1A4D2D9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CB92-EC5D-4670-A0FC-5B9E6D8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D6EF-EDB9-4258-B192-B0124DC7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1CF2-4320-4D91-8263-F6A7FDAD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E22-9353-4707-B1CF-000DF77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7BD-1156-48A3-AD5A-8AE967C4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0E0-9A1D-41EC-B092-868BA69B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CB8-A736-4662-9038-173A359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DD5-8B23-42D7-877C-9F9C239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FF5-3A85-41EC-894E-7DB13D0A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8F6-F1DD-4652-A141-A6A0855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556-2D99-45E3-B69E-8527756DE16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C36D-2723-4F10-BF8D-FA7B16E712C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03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16000" y="20606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华文细黑"/>
              </a:rPr>
              <a:t>圆柱和圆锥的认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24720" cy="3608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692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细黑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56360" cy="3071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00000" y="83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细黑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26580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335640" cy="124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32000" y="2924280"/>
            <a:ext cx="66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圆柱是由几个面围成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长方体、正方体中有这样的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上、下两个面都是什么形状？大小相等吗？用什么方法可以验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、圆柱上下一样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708360" y="1773360"/>
            <a:ext cx="1800360" cy="2519280"/>
          </a:xfrm>
          <a:prstGeom prst="ca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3716280"/>
            <a:ext cx="1800360" cy="57636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20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2060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4005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3925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17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92520" y="20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710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底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162864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3570120"/>
            <a:ext cx="2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9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侧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26580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5975280" cy="1662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58920" y="3357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这些物体的形状都是圆锥体，简称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圆锥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56000" y="4149720"/>
            <a:ext cx="5184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457440" cy="2924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908000" y="4005360"/>
            <a:ext cx="5543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64360" cy="3122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55640" y="83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细黑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细黑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1484280"/>
            <a:ext cx="71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圆柱上下面是两个（     ）的圆形，圆锥的底面是一个（   ）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圆柱有（    ）个面是弯曲的，圆锥的侧面是一个（    ）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圆柱两个底面之间的距离叫圆柱的（    ），一个圆柱有（     ）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）从圆锥的（    ）到（         ）的距离是圆锥的高，一个圆锥有（    ）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1459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1819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256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29005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3645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36880" y="40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1080" y="4724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底面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51325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19:32Z</dcterms:created>
  <dc:creator/>
  <dc:description> </dc:description>
  <dc:language>en-US</dc:language>
  <cp:lastModifiedBy>User</cp:lastModifiedBy>
  <cp:lastPrinted>1899-12-30T00:00:00Z</cp:lastPrinted>
  <dcterms:modified xsi:type="dcterms:W3CDTF">2014-11-18T12:36:2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