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media/%E6%8C%895.WAV" ContentType="audio/x-wav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AC9-01D5-4FAB-A7F2-D4246972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AC9-4456-4969-AE3C-C6C861CA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0B5-20E0-4EE1-8F52-4FE6BB7D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A65-151E-461A-B565-6E0809E7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E217-E840-4199-9DC4-DDE9AB37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AD7B-BB29-4266-8F16-B90BD460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BEB5-9082-41B3-9442-6F3C5AC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CCA9-9672-419A-BC5A-50A30F91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2D50-263E-4D8B-865E-01B13D65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A0B-AF3C-4798-96B9-38673C9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ADF2-CF7B-41F2-BF2C-9417AE94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283-96AC-42D7-884A-FA3535C7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1F2-5264-4133-B6EA-B0AA3F1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7F88-8EAC-413A-B686-1B12EF3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FFA-7B85-4EEA-90A1-94C71C9F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890-ECBA-4FB2-9D69-F96C5B23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2766-61BA-413D-A784-C7B96D2C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9C00-4C24-4611-A25C-4404616A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8F24-B87E-4920-924A-EFF7AB6D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F1AA-A391-4A25-B322-031C76FF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DB7A-4704-4919-B4DC-ECC6B8B3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03D9-C0B6-486E-BC70-653C6913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FB6-73E3-4A23-84A0-C54F13A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A2A5-B380-4FB3-B7C1-1787890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265A-0C79-4AAC-A7C9-C34AC2C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0DCA-3184-440C-A517-08F88AE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D9C8-F089-4E2E-88AF-02813DF7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89CC-0156-4A87-827F-F59F26F6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B6473-B70F-4142-A2E1-E4929707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BB92-0899-4239-A7FF-75B58D83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C349-12CA-4900-A5EC-5E65FB54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1588-BFC7-40FC-A16D-A34F935F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0347-60C5-4C61-B2CD-4FA146E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AD3-5D1C-4076-84D2-F3D73489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3700-47DD-4497-A745-0233989F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61B5-EFB0-4DA8-B267-3A1ECE8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BD63-5B94-4429-9E3C-B20A4FA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AAA9-4893-47CB-B1E1-526B699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81DCB-5620-4090-A6CA-F51E8FD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89824-6FC8-43A2-A475-50A9768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8283-ABBE-4D78-ACEC-2CB4201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80AFF-38B2-40CD-A64A-87D408A7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EB42-B1C9-4385-9062-CD6DFF81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E98-0B56-48E9-982F-3EABFC6B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B7F-9213-4A7D-B216-642E690D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A32-BEB6-419B-B58D-105850F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23D-D035-4F49-9DD6-9B57356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50A-9287-47D9-948E-D14F7B3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6E7-DB34-4973-BAFC-7838BCA1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9664-6F35-44E0-BD60-C5B121863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86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grpSp>
          <p:nvGrpSpPr>
            <p:cNvPr id="87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88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89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90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91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8575-450C-4324-9906-1EFBE9DC346E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134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135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7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0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1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2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143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44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5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6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466-6FE6-4E42-9D8E-CDB4569DA23A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2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&#25353;5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76360" y="1962000"/>
            <a:ext cx="6408720" cy="23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圆锥的体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71600" y="533520"/>
            <a:ext cx="6284880" cy="49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苏教版六年级数学下册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 flipV="1">
            <a:off x="4948200" y="1752120"/>
            <a:ext cx="2900520" cy="281952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277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282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948200" y="1752120"/>
            <a:ext cx="2895480" cy="1067040"/>
          </a:xfrm>
          <a:prstGeom prst="ellipse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4948200" y="1752480"/>
            <a:ext cx="2900520" cy="2819520"/>
            <a:chOff x="4948200" y="1752480"/>
            <a:chExt cx="2900520" cy="2819520"/>
          </a:xfrm>
        </p:grpSpPr>
        <p:sp>
          <p:nvSpPr>
            <p:cNvPr id="288" name=""/>
            <p:cNvSpPr/>
            <p:nvPr/>
          </p:nvSpPr>
          <p:spPr>
            <a:xfrm flipV="1">
              <a:off x="4948200" y="175212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948200" y="175212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952880" y="1752480"/>
            <a:ext cx="2900520" cy="2819520"/>
            <a:chOff x="4952880" y="1752480"/>
            <a:chExt cx="2900520" cy="2819520"/>
          </a:xfrm>
        </p:grpSpPr>
        <p:sp>
          <p:nvSpPr>
            <p:cNvPr id="291" name=""/>
            <p:cNvSpPr/>
            <p:nvPr/>
          </p:nvSpPr>
          <p:spPr>
            <a:xfrm flipV="1">
              <a:off x="4952880" y="1752120"/>
              <a:ext cx="2895480" cy="106704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952880" y="175212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294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299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350840" y="1062720"/>
            <a:ext cx="1793160" cy="842040"/>
            <a:chOff x="7350840" y="1062720"/>
            <a:chExt cx="1793160" cy="842040"/>
          </a:xfrm>
        </p:grpSpPr>
        <p:grpSp>
          <p:nvGrpSpPr>
            <p:cNvPr id="303" name=""/>
            <p:cNvGrpSpPr/>
            <p:nvPr/>
          </p:nvGrpSpPr>
          <p:grpSpPr>
            <a:xfrm>
              <a:off x="7784640" y="1066680"/>
              <a:ext cx="1359360" cy="838080"/>
              <a:chOff x="7784640" y="1066680"/>
              <a:chExt cx="1359360" cy="83808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8803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8092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216640" y="1638000"/>
                <a:ext cx="927000" cy="38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86572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52588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784280" y="1257120"/>
                <a:ext cx="463320" cy="457200"/>
              </a:xfrm>
              <a:custGeom>
                <a:avLst/>
                <a:gdLst/>
                <a:ahLst/>
                <a:rect l="l" t="t" r="r" b="b"/>
                <a:pathLst>
                  <a:path w="960" h="624">
                    <a:moveTo>
                      <a:pt x="0" y="528"/>
                    </a:moveTo>
                    <a:lnTo>
                      <a:pt x="0" y="0"/>
                    </a:lnTo>
                    <a:lnTo>
                      <a:pt x="480" y="0"/>
                    </a:lnTo>
                    <a:lnTo>
                      <a:pt x="576" y="288"/>
                    </a:lnTo>
                    <a:lnTo>
                      <a:pt x="960" y="288"/>
                    </a:lnTo>
                    <a:lnTo>
                      <a:pt x="960" y="624"/>
                    </a:lnTo>
                    <a:lnTo>
                      <a:pt x="240" y="624"/>
                    </a:lnTo>
                    <a:lnTo>
                      <a:pt x="192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8011080" y="1295280"/>
                <a:ext cx="205920" cy="177840"/>
              </a:xfrm>
              <a:custGeom>
                <a:avLst/>
                <a:gdLst/>
                <a:ahLst/>
                <a:rect l="l" t="t" r="r" b="b"/>
                <a:pathLst>
                  <a:path w="320" h="224">
                    <a:moveTo>
                      <a:pt x="0" y="32"/>
                    </a:moveTo>
                    <a:cubicBezTo>
                      <a:pt x="72" y="16"/>
                      <a:pt x="144" y="0"/>
                      <a:pt x="192" y="32"/>
                    </a:cubicBezTo>
                    <a:cubicBezTo>
                      <a:pt x="240" y="64"/>
                      <a:pt x="320" y="192"/>
                      <a:pt x="288" y="224"/>
                    </a:cubicBezTo>
                    <a:lnTo>
                      <a:pt x="0" y="22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8309880" y="1257120"/>
                <a:ext cx="772560" cy="304920"/>
              </a:xfrm>
              <a:custGeom>
                <a:avLst/>
                <a:gdLst/>
                <a:ahLst/>
                <a:rect l="l" t="t" r="r" b="b"/>
                <a:pathLst>
                  <a:path w="1200" h="384">
                    <a:moveTo>
                      <a:pt x="0" y="384"/>
                    </a:moveTo>
                    <a:lnTo>
                      <a:pt x="1152" y="384"/>
                    </a:lnTo>
                    <a:lnTo>
                      <a:pt x="1200" y="336"/>
                    </a:lnTo>
                    <a:lnTo>
                      <a:pt x="1200" y="48"/>
                    </a:lnTo>
                    <a:lnTo>
                      <a:pt x="1152" y="0"/>
                    </a:lnTo>
                    <a:lnTo>
                      <a:pt x="1056" y="0"/>
                    </a:lnTo>
                    <a:lnTo>
                      <a:pt x="48" y="0"/>
                    </a:lnTo>
                    <a:lnTo>
                      <a:pt x="0" y="48"/>
                    </a:lnTo>
                    <a:lnTo>
                      <a:pt x="0" y="14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8433000" y="1218960"/>
                <a:ext cx="92520" cy="378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9082440" y="1447560"/>
                <a:ext cx="30600" cy="759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8371080" y="1066680"/>
                <a:ext cx="123480" cy="15228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48" stAng="10800000" swAng="5400000"/>
                    <a:lnTo>
                      <a:pt x="15126" y="2912"/>
                    </a:lnTo>
                    <a:lnTo>
                      <a:pt x="15126" y="0"/>
                    </a:lnTo>
                    <a:lnTo>
                      <a:pt x="21600" y="6079"/>
                    </a:lnTo>
                    <a:lnTo>
                      <a:pt x="15126" y="12158"/>
                    </a:lnTo>
                    <a:lnTo>
                      <a:pt x="15126" y="9246"/>
                    </a:lnTo>
                    <a:lnTo>
                      <a:pt x="12427" y="9246"/>
                    </a:lnTo>
                    <a:arcTo wR="6093" hR="2914" stAng="16200000" swAng="-5400000"/>
                    <a:lnTo>
                      <a:pt x="6334" y="216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H="1">
              <a:off x="7569360" y="1066680"/>
              <a:ext cx="858600" cy="76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16123200">
              <a:off x="7342920" y="1078200"/>
              <a:ext cx="380880" cy="35748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80" stAng="10800000" swAng="5400000"/>
                  <a:lnTo>
                    <a:pt x="15930" y="3780"/>
                  </a:lnTo>
                  <a:lnTo>
                    <a:pt x="15930" y="0"/>
                  </a:lnTo>
                  <a:lnTo>
                    <a:pt x="21600" y="6079"/>
                  </a:lnTo>
                  <a:lnTo>
                    <a:pt x="15930" y="12158"/>
                  </a:lnTo>
                  <a:lnTo>
                    <a:pt x="15930" y="8378"/>
                  </a:lnTo>
                  <a:lnTo>
                    <a:pt x="12427" y="8378"/>
                  </a:lnTo>
                  <a:arcTo wR="7829" hR="3782" stAng="16200000" swAng="-5400000"/>
                  <a:lnTo>
                    <a:pt x="4598" y="2160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821640" y="1676520"/>
            <a:ext cx="847080" cy="837720"/>
            <a:chOff x="6821640" y="1676520"/>
            <a:chExt cx="847080" cy="837720"/>
          </a:xfrm>
        </p:grpSpPr>
        <p:sp>
          <p:nvSpPr>
            <p:cNvPr id="318" name=""/>
            <p:cNvSpPr/>
            <p:nvPr/>
          </p:nvSpPr>
          <p:spPr>
            <a:xfrm>
              <a:off x="7386480" y="1676520"/>
              <a:ext cx="28224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2160" y="1816200"/>
              <a:ext cx="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821640" y="1676520"/>
              <a:ext cx="376560" cy="83772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323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251160" y="-249480"/>
            <a:ext cx="3326400" cy="3390120"/>
            <a:chOff x="3251160" y="-249480"/>
            <a:chExt cx="3326400" cy="3390120"/>
          </a:xfrm>
        </p:grpSpPr>
        <p:sp>
          <p:nvSpPr>
            <p:cNvPr id="328" name=""/>
            <p:cNvSpPr/>
            <p:nvPr/>
          </p:nvSpPr>
          <p:spPr>
            <a:xfrm flipV="1" rot="16868400">
              <a:off x="2607120" y="745200"/>
              <a:ext cx="289512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16868400">
              <a:off x="3464280" y="35640"/>
              <a:ext cx="2900160" cy="281916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331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336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52320" y="-148320"/>
            <a:ext cx="3124440" cy="3196440"/>
            <a:chOff x="3352320" y="-148320"/>
            <a:chExt cx="3124440" cy="3196440"/>
          </a:xfrm>
        </p:grpSpPr>
        <p:sp>
          <p:nvSpPr>
            <p:cNvPr id="341" name=""/>
            <p:cNvSpPr/>
            <p:nvPr/>
          </p:nvSpPr>
          <p:spPr>
            <a:xfrm flipV="1" rot="15816600">
              <a:off x="2596320" y="10162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 rot="15816600">
              <a:off x="3463920" y="39960"/>
              <a:ext cx="2900520" cy="281916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344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7920" y="685800"/>
            <a:ext cx="4846680" cy="4957920"/>
            <a:chOff x="1447920" y="685800"/>
            <a:chExt cx="4846680" cy="4957920"/>
          </a:xfrm>
        </p:grpSpPr>
        <p:sp>
          <p:nvSpPr>
            <p:cNvPr id="348" name=""/>
            <p:cNvSpPr/>
            <p:nvPr/>
          </p:nvSpPr>
          <p:spPr>
            <a:xfrm>
              <a:off x="1447920" y="685800"/>
              <a:ext cx="4846680" cy="4957920"/>
            </a:xfrm>
            <a:custGeom>
              <a:avLst/>
              <a:gdLst/>
              <a:ahLst/>
              <a:rect l="l" t="t" r="r" b="b"/>
              <a:pathLst>
                <a:path w="3053" h="3123">
                  <a:moveTo>
                    <a:pt x="441" y="2275"/>
                  </a:moveTo>
                  <a:lnTo>
                    <a:pt x="192" y="2643"/>
                  </a:lnTo>
                  <a:lnTo>
                    <a:pt x="0" y="2870"/>
                  </a:lnTo>
                  <a:lnTo>
                    <a:pt x="173" y="2806"/>
                  </a:lnTo>
                  <a:lnTo>
                    <a:pt x="58" y="2921"/>
                  </a:lnTo>
                  <a:lnTo>
                    <a:pt x="240" y="3123"/>
                  </a:lnTo>
                  <a:lnTo>
                    <a:pt x="413" y="3085"/>
                  </a:lnTo>
                  <a:lnTo>
                    <a:pt x="509" y="2950"/>
                  </a:lnTo>
                  <a:lnTo>
                    <a:pt x="442" y="2777"/>
                  </a:lnTo>
                  <a:lnTo>
                    <a:pt x="567" y="2854"/>
                  </a:lnTo>
                  <a:lnTo>
                    <a:pt x="739" y="2854"/>
                  </a:lnTo>
                  <a:lnTo>
                    <a:pt x="768" y="2691"/>
                  </a:lnTo>
                  <a:lnTo>
                    <a:pt x="682" y="2528"/>
                  </a:lnTo>
                  <a:lnTo>
                    <a:pt x="1661" y="1443"/>
                  </a:lnTo>
                  <a:lnTo>
                    <a:pt x="1805" y="1443"/>
                  </a:lnTo>
                  <a:lnTo>
                    <a:pt x="3053" y="387"/>
                  </a:lnTo>
                  <a:lnTo>
                    <a:pt x="2381" y="51"/>
                  </a:lnTo>
                  <a:lnTo>
                    <a:pt x="2250" y="6"/>
                  </a:lnTo>
                  <a:lnTo>
                    <a:pt x="2160" y="0"/>
                  </a:lnTo>
                  <a:lnTo>
                    <a:pt x="2051" y="19"/>
                  </a:lnTo>
                  <a:lnTo>
                    <a:pt x="1917" y="57"/>
                  </a:lnTo>
                  <a:lnTo>
                    <a:pt x="1738" y="121"/>
                  </a:lnTo>
                  <a:lnTo>
                    <a:pt x="1527" y="233"/>
                  </a:lnTo>
                  <a:lnTo>
                    <a:pt x="1335" y="358"/>
                  </a:lnTo>
                  <a:lnTo>
                    <a:pt x="1152" y="569"/>
                  </a:lnTo>
                  <a:lnTo>
                    <a:pt x="1027" y="761"/>
                  </a:lnTo>
                  <a:lnTo>
                    <a:pt x="960" y="953"/>
                  </a:lnTo>
                  <a:lnTo>
                    <a:pt x="864" y="1174"/>
                  </a:lnTo>
                  <a:lnTo>
                    <a:pt x="739" y="1501"/>
                  </a:lnTo>
                  <a:lnTo>
                    <a:pt x="614" y="1757"/>
                  </a:lnTo>
                  <a:lnTo>
                    <a:pt x="653" y="1834"/>
                  </a:lnTo>
                  <a:lnTo>
                    <a:pt x="547" y="2074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05120" y="1371600"/>
              <a:ext cx="1523880" cy="4064040"/>
            </a:xfrm>
            <a:custGeom>
              <a:avLst/>
              <a:gdLst/>
              <a:ahLst/>
              <a:rect l="l" t="t" r="r" b="b"/>
              <a:pathLst>
                <a:path w="960" h="2560">
                  <a:moveTo>
                    <a:pt x="960" y="0"/>
                  </a:moveTo>
                  <a:cubicBezTo>
                    <a:pt x="892" y="88"/>
                    <a:pt x="824" y="176"/>
                    <a:pt x="768" y="336"/>
                  </a:cubicBezTo>
                  <a:cubicBezTo>
                    <a:pt x="712" y="496"/>
                    <a:pt x="624" y="864"/>
                    <a:pt x="624" y="960"/>
                  </a:cubicBezTo>
                  <a:cubicBezTo>
                    <a:pt x="624" y="1056"/>
                    <a:pt x="800" y="816"/>
                    <a:pt x="768" y="912"/>
                  </a:cubicBezTo>
                  <a:cubicBezTo>
                    <a:pt x="736" y="1008"/>
                    <a:pt x="472" y="1432"/>
                    <a:pt x="432" y="1536"/>
                  </a:cubicBezTo>
                  <a:cubicBezTo>
                    <a:pt x="392" y="1640"/>
                    <a:pt x="568" y="1384"/>
                    <a:pt x="528" y="1536"/>
                  </a:cubicBezTo>
                  <a:cubicBezTo>
                    <a:pt x="488" y="1688"/>
                    <a:pt x="280" y="2336"/>
                    <a:pt x="192" y="2448"/>
                  </a:cubicBezTo>
                  <a:cubicBezTo>
                    <a:pt x="104" y="2560"/>
                    <a:pt x="52" y="2384"/>
                    <a:pt x="0" y="2208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1800" y="914400"/>
              <a:ext cx="1447920" cy="3200400"/>
            </a:xfrm>
            <a:custGeom>
              <a:avLst/>
              <a:gdLst/>
              <a:ahLst/>
              <a:rect l="l" t="t" r="r" b="b"/>
              <a:pathLst>
                <a:path w="912" h="2016">
                  <a:moveTo>
                    <a:pt x="912" y="0"/>
                  </a:moveTo>
                  <a:cubicBezTo>
                    <a:pt x="660" y="316"/>
                    <a:pt x="408" y="632"/>
                    <a:pt x="336" y="768"/>
                  </a:cubicBezTo>
                  <a:cubicBezTo>
                    <a:pt x="264" y="904"/>
                    <a:pt x="512" y="696"/>
                    <a:pt x="480" y="816"/>
                  </a:cubicBezTo>
                  <a:cubicBezTo>
                    <a:pt x="448" y="936"/>
                    <a:pt x="184" y="1376"/>
                    <a:pt x="144" y="1488"/>
                  </a:cubicBezTo>
                  <a:cubicBezTo>
                    <a:pt x="104" y="1600"/>
                    <a:pt x="264" y="1400"/>
                    <a:pt x="240" y="1488"/>
                  </a:cubicBezTo>
                  <a:cubicBezTo>
                    <a:pt x="216" y="1576"/>
                    <a:pt x="108" y="1796"/>
                    <a:pt x="0" y="2016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352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357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362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366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370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72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4952880" y="1600200"/>
            <a:ext cx="2900520" cy="2819520"/>
            <a:chOff x="4952880" y="1600200"/>
            <a:chExt cx="2900520" cy="2819520"/>
          </a:xfrm>
        </p:grpSpPr>
        <p:sp>
          <p:nvSpPr>
            <p:cNvPr id="374" name=""/>
            <p:cNvSpPr/>
            <p:nvPr/>
          </p:nvSpPr>
          <p:spPr>
            <a:xfrm flipV="1">
              <a:off x="4952880" y="159984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952880" y="15998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52880" y="1600200"/>
            <a:ext cx="2900520" cy="2819520"/>
            <a:chOff x="4952880" y="1600200"/>
            <a:chExt cx="2900520" cy="2819520"/>
          </a:xfrm>
        </p:grpSpPr>
        <p:sp>
          <p:nvSpPr>
            <p:cNvPr id="377" name=""/>
            <p:cNvSpPr/>
            <p:nvPr/>
          </p:nvSpPr>
          <p:spPr>
            <a:xfrm flipV="1">
              <a:off x="4952880" y="1599840"/>
              <a:ext cx="2895480" cy="106704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952880" y="15998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380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385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389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21640" y="1676520"/>
            <a:ext cx="847080" cy="837720"/>
            <a:chOff x="6821640" y="1676520"/>
            <a:chExt cx="847080" cy="837720"/>
          </a:xfrm>
        </p:grpSpPr>
        <p:sp>
          <p:nvSpPr>
            <p:cNvPr id="393" name=""/>
            <p:cNvSpPr/>
            <p:nvPr/>
          </p:nvSpPr>
          <p:spPr>
            <a:xfrm>
              <a:off x="7386480" y="1676520"/>
              <a:ext cx="28224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92160" y="1816200"/>
              <a:ext cx="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821640" y="1676520"/>
              <a:ext cx="376560" cy="83772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350840" y="1062720"/>
            <a:ext cx="1793160" cy="842040"/>
            <a:chOff x="7350840" y="1062720"/>
            <a:chExt cx="1793160" cy="842040"/>
          </a:xfrm>
        </p:grpSpPr>
        <p:grpSp>
          <p:nvGrpSpPr>
            <p:cNvPr id="397" name=""/>
            <p:cNvGrpSpPr/>
            <p:nvPr/>
          </p:nvGrpSpPr>
          <p:grpSpPr>
            <a:xfrm>
              <a:off x="7784640" y="1066680"/>
              <a:ext cx="1359360" cy="838080"/>
              <a:chOff x="7784640" y="1066680"/>
              <a:chExt cx="1359360" cy="838080"/>
            </a:xfrm>
          </p:grpSpPr>
          <p:sp>
            <p:nvSpPr>
              <p:cNvPr id="398" name=""/>
              <p:cNvSpPr/>
              <p:nvPr/>
            </p:nvSpPr>
            <p:spPr>
              <a:xfrm flipH="1">
                <a:off x="8803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092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216640" y="1638000"/>
                <a:ext cx="927000" cy="38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86572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52588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784280" y="1257120"/>
                <a:ext cx="463320" cy="457200"/>
              </a:xfrm>
              <a:custGeom>
                <a:avLst/>
                <a:gdLst/>
                <a:ahLst/>
                <a:rect l="l" t="t" r="r" b="b"/>
                <a:pathLst>
                  <a:path w="960" h="624">
                    <a:moveTo>
                      <a:pt x="0" y="528"/>
                    </a:moveTo>
                    <a:lnTo>
                      <a:pt x="0" y="0"/>
                    </a:lnTo>
                    <a:lnTo>
                      <a:pt x="480" y="0"/>
                    </a:lnTo>
                    <a:lnTo>
                      <a:pt x="576" y="288"/>
                    </a:lnTo>
                    <a:lnTo>
                      <a:pt x="960" y="288"/>
                    </a:lnTo>
                    <a:lnTo>
                      <a:pt x="960" y="624"/>
                    </a:lnTo>
                    <a:lnTo>
                      <a:pt x="240" y="624"/>
                    </a:lnTo>
                    <a:lnTo>
                      <a:pt x="192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011080" y="1295280"/>
                <a:ext cx="205920" cy="177840"/>
              </a:xfrm>
              <a:custGeom>
                <a:avLst/>
                <a:gdLst/>
                <a:ahLst/>
                <a:rect l="l" t="t" r="r" b="b"/>
                <a:pathLst>
                  <a:path w="320" h="224">
                    <a:moveTo>
                      <a:pt x="0" y="32"/>
                    </a:moveTo>
                    <a:cubicBezTo>
                      <a:pt x="72" y="16"/>
                      <a:pt x="144" y="0"/>
                      <a:pt x="192" y="32"/>
                    </a:cubicBezTo>
                    <a:cubicBezTo>
                      <a:pt x="240" y="64"/>
                      <a:pt x="320" y="192"/>
                      <a:pt x="288" y="224"/>
                    </a:cubicBezTo>
                    <a:lnTo>
                      <a:pt x="0" y="22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309880" y="1257120"/>
                <a:ext cx="772560" cy="304920"/>
              </a:xfrm>
              <a:custGeom>
                <a:avLst/>
                <a:gdLst/>
                <a:ahLst/>
                <a:rect l="l" t="t" r="r" b="b"/>
                <a:pathLst>
                  <a:path w="1200" h="384">
                    <a:moveTo>
                      <a:pt x="0" y="384"/>
                    </a:moveTo>
                    <a:lnTo>
                      <a:pt x="1152" y="384"/>
                    </a:lnTo>
                    <a:lnTo>
                      <a:pt x="1200" y="336"/>
                    </a:lnTo>
                    <a:lnTo>
                      <a:pt x="1200" y="48"/>
                    </a:lnTo>
                    <a:lnTo>
                      <a:pt x="1152" y="0"/>
                    </a:lnTo>
                    <a:lnTo>
                      <a:pt x="1056" y="0"/>
                    </a:lnTo>
                    <a:lnTo>
                      <a:pt x="48" y="0"/>
                    </a:lnTo>
                    <a:lnTo>
                      <a:pt x="0" y="48"/>
                    </a:lnTo>
                    <a:lnTo>
                      <a:pt x="0" y="14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433000" y="1218960"/>
                <a:ext cx="92520" cy="378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9082440" y="1447560"/>
                <a:ext cx="30600" cy="759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371080" y="1066680"/>
                <a:ext cx="123480" cy="15228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48" stAng="10800000" swAng="5400000"/>
                    <a:lnTo>
                      <a:pt x="15126" y="2912"/>
                    </a:lnTo>
                    <a:lnTo>
                      <a:pt x="15126" y="0"/>
                    </a:lnTo>
                    <a:lnTo>
                      <a:pt x="21600" y="6079"/>
                    </a:lnTo>
                    <a:lnTo>
                      <a:pt x="15126" y="12158"/>
                    </a:lnTo>
                    <a:lnTo>
                      <a:pt x="15126" y="9246"/>
                    </a:lnTo>
                    <a:lnTo>
                      <a:pt x="12427" y="9246"/>
                    </a:lnTo>
                    <a:arcTo wR="6093" hR="2914" stAng="16200000" swAng="-5400000"/>
                    <a:lnTo>
                      <a:pt x="6334" y="216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7569360" y="1066680"/>
              <a:ext cx="858600" cy="76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rot="16123200">
              <a:off x="7342920" y="1078200"/>
              <a:ext cx="380880" cy="35748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80" stAng="10800000" swAng="5400000"/>
                  <a:lnTo>
                    <a:pt x="15930" y="3780"/>
                  </a:lnTo>
                  <a:lnTo>
                    <a:pt x="15930" y="0"/>
                  </a:lnTo>
                  <a:lnTo>
                    <a:pt x="21600" y="6079"/>
                  </a:lnTo>
                  <a:lnTo>
                    <a:pt x="15930" y="12158"/>
                  </a:lnTo>
                  <a:lnTo>
                    <a:pt x="15930" y="8378"/>
                  </a:lnTo>
                  <a:lnTo>
                    <a:pt x="12427" y="8378"/>
                  </a:lnTo>
                  <a:arcTo wR="7829" hR="3782" stAng="16200000" swAng="-5400000"/>
                  <a:lnTo>
                    <a:pt x="4598" y="2160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11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413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663720" y="214560"/>
            <a:ext cx="3802320" cy="3761640"/>
            <a:chOff x="3663720" y="214560"/>
            <a:chExt cx="3802320" cy="3761640"/>
          </a:xfrm>
        </p:grpSpPr>
        <p:sp>
          <p:nvSpPr>
            <p:cNvPr id="418" name=""/>
            <p:cNvSpPr/>
            <p:nvPr/>
          </p:nvSpPr>
          <p:spPr>
            <a:xfrm flipV="1" rot="20146200">
              <a:off x="3755160" y="763560"/>
              <a:ext cx="2895480" cy="106704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 rot="20146200">
              <a:off x="4114440" y="68508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421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425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28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430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93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93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352320" y="-148320"/>
            <a:ext cx="3124440" cy="3196440"/>
            <a:chOff x="3352320" y="-148320"/>
            <a:chExt cx="3124440" cy="3196440"/>
          </a:xfrm>
        </p:grpSpPr>
        <p:sp>
          <p:nvSpPr>
            <p:cNvPr id="435" name=""/>
            <p:cNvSpPr/>
            <p:nvPr/>
          </p:nvSpPr>
          <p:spPr>
            <a:xfrm flipV="1" rot="15816600">
              <a:off x="2596320" y="10162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15816600">
              <a:off x="3463920" y="39960"/>
              <a:ext cx="2900520" cy="281916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438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600200" y="762120"/>
            <a:ext cx="4648320" cy="4495680"/>
            <a:chOff x="1600200" y="762120"/>
            <a:chExt cx="4648320" cy="4495680"/>
          </a:xfrm>
        </p:grpSpPr>
        <p:sp>
          <p:nvSpPr>
            <p:cNvPr id="442" name=""/>
            <p:cNvSpPr/>
            <p:nvPr/>
          </p:nvSpPr>
          <p:spPr>
            <a:xfrm>
              <a:off x="1600200" y="762120"/>
              <a:ext cx="4648320" cy="4495680"/>
            </a:xfrm>
            <a:custGeom>
              <a:avLst/>
              <a:gdLst/>
              <a:ahLst/>
              <a:rect l="l" t="t" r="r" b="b"/>
              <a:pathLst>
                <a:path w="3053" h="3123">
                  <a:moveTo>
                    <a:pt x="441" y="2275"/>
                  </a:moveTo>
                  <a:lnTo>
                    <a:pt x="192" y="2643"/>
                  </a:lnTo>
                  <a:lnTo>
                    <a:pt x="0" y="2870"/>
                  </a:lnTo>
                  <a:lnTo>
                    <a:pt x="173" y="2806"/>
                  </a:lnTo>
                  <a:lnTo>
                    <a:pt x="58" y="2921"/>
                  </a:lnTo>
                  <a:lnTo>
                    <a:pt x="240" y="3123"/>
                  </a:lnTo>
                  <a:lnTo>
                    <a:pt x="413" y="3085"/>
                  </a:lnTo>
                  <a:lnTo>
                    <a:pt x="509" y="2950"/>
                  </a:lnTo>
                  <a:lnTo>
                    <a:pt x="442" y="2777"/>
                  </a:lnTo>
                  <a:lnTo>
                    <a:pt x="567" y="2854"/>
                  </a:lnTo>
                  <a:lnTo>
                    <a:pt x="739" y="2854"/>
                  </a:lnTo>
                  <a:lnTo>
                    <a:pt x="768" y="2691"/>
                  </a:lnTo>
                  <a:lnTo>
                    <a:pt x="682" y="2528"/>
                  </a:lnTo>
                  <a:lnTo>
                    <a:pt x="1661" y="1443"/>
                  </a:lnTo>
                  <a:lnTo>
                    <a:pt x="1805" y="1443"/>
                  </a:lnTo>
                  <a:lnTo>
                    <a:pt x="3053" y="387"/>
                  </a:lnTo>
                  <a:lnTo>
                    <a:pt x="2381" y="51"/>
                  </a:lnTo>
                  <a:lnTo>
                    <a:pt x="2250" y="6"/>
                  </a:lnTo>
                  <a:lnTo>
                    <a:pt x="2160" y="0"/>
                  </a:lnTo>
                  <a:lnTo>
                    <a:pt x="2051" y="19"/>
                  </a:lnTo>
                  <a:lnTo>
                    <a:pt x="1917" y="57"/>
                  </a:lnTo>
                  <a:lnTo>
                    <a:pt x="1738" y="121"/>
                  </a:lnTo>
                  <a:lnTo>
                    <a:pt x="1527" y="233"/>
                  </a:lnTo>
                  <a:lnTo>
                    <a:pt x="1335" y="358"/>
                  </a:lnTo>
                  <a:lnTo>
                    <a:pt x="1152" y="569"/>
                  </a:lnTo>
                  <a:lnTo>
                    <a:pt x="1027" y="761"/>
                  </a:lnTo>
                  <a:lnTo>
                    <a:pt x="960" y="953"/>
                  </a:lnTo>
                  <a:lnTo>
                    <a:pt x="864" y="1174"/>
                  </a:lnTo>
                  <a:lnTo>
                    <a:pt x="739" y="1501"/>
                  </a:lnTo>
                  <a:lnTo>
                    <a:pt x="614" y="1757"/>
                  </a:lnTo>
                  <a:lnTo>
                    <a:pt x="653" y="1834"/>
                  </a:lnTo>
                  <a:lnTo>
                    <a:pt x="547" y="2074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38680" y="1383840"/>
              <a:ext cx="1461240" cy="3684960"/>
            </a:xfrm>
            <a:custGeom>
              <a:avLst/>
              <a:gdLst/>
              <a:ahLst/>
              <a:rect l="l" t="t" r="r" b="b"/>
              <a:pathLst>
                <a:path w="960" h="2560">
                  <a:moveTo>
                    <a:pt x="960" y="0"/>
                  </a:moveTo>
                  <a:cubicBezTo>
                    <a:pt x="892" y="88"/>
                    <a:pt x="824" y="176"/>
                    <a:pt x="768" y="336"/>
                  </a:cubicBezTo>
                  <a:cubicBezTo>
                    <a:pt x="712" y="496"/>
                    <a:pt x="624" y="864"/>
                    <a:pt x="624" y="960"/>
                  </a:cubicBezTo>
                  <a:cubicBezTo>
                    <a:pt x="624" y="1056"/>
                    <a:pt x="800" y="816"/>
                    <a:pt x="768" y="912"/>
                  </a:cubicBezTo>
                  <a:cubicBezTo>
                    <a:pt x="736" y="1008"/>
                    <a:pt x="472" y="1432"/>
                    <a:pt x="432" y="1536"/>
                  </a:cubicBezTo>
                  <a:cubicBezTo>
                    <a:pt x="392" y="1640"/>
                    <a:pt x="568" y="1384"/>
                    <a:pt x="528" y="1536"/>
                  </a:cubicBezTo>
                  <a:cubicBezTo>
                    <a:pt x="488" y="1688"/>
                    <a:pt x="280" y="2336"/>
                    <a:pt x="192" y="2448"/>
                  </a:cubicBezTo>
                  <a:cubicBezTo>
                    <a:pt x="104" y="2560"/>
                    <a:pt x="52" y="2384"/>
                    <a:pt x="0" y="2208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61440" y="969120"/>
              <a:ext cx="1388520" cy="2901960"/>
            </a:xfrm>
            <a:custGeom>
              <a:avLst/>
              <a:gdLst/>
              <a:ahLst/>
              <a:rect l="l" t="t" r="r" b="b"/>
              <a:pathLst>
                <a:path w="912" h="2016">
                  <a:moveTo>
                    <a:pt x="912" y="0"/>
                  </a:moveTo>
                  <a:cubicBezTo>
                    <a:pt x="660" y="316"/>
                    <a:pt x="408" y="632"/>
                    <a:pt x="336" y="768"/>
                  </a:cubicBezTo>
                  <a:cubicBezTo>
                    <a:pt x="264" y="904"/>
                    <a:pt x="512" y="696"/>
                    <a:pt x="480" y="816"/>
                  </a:cubicBezTo>
                  <a:cubicBezTo>
                    <a:pt x="448" y="936"/>
                    <a:pt x="184" y="1376"/>
                    <a:pt x="144" y="1488"/>
                  </a:cubicBezTo>
                  <a:cubicBezTo>
                    <a:pt x="104" y="1600"/>
                    <a:pt x="264" y="1400"/>
                    <a:pt x="240" y="1488"/>
                  </a:cubicBezTo>
                  <a:cubicBezTo>
                    <a:pt x="216" y="1576"/>
                    <a:pt x="108" y="1796"/>
                    <a:pt x="0" y="2016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446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28440">
              <a:solidFill>
                <a:srgbClr val="eaf5f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28440">
              <a:solidFill>
                <a:srgbClr val="eaf5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28440">
              <a:solidFill>
                <a:srgbClr val="eaf5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450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 flipV="1">
            <a:off x="5029200" y="2514240"/>
            <a:ext cx="2900520" cy="281952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456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461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465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V="1">
            <a:off x="5029200" y="2513520"/>
            <a:ext cx="2895480" cy="1066680"/>
          </a:xfrm>
          <a:prstGeom prst="ellipse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470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73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475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478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ff330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481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486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490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494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497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080" y="4156560"/>
            <a:ext cx="81705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培养自主探索与合作交流的精神，渗透转化的数学思想和方法。</a:t>
            </a:r>
            <a:endParaRPr b="0" lang="en-US" sz="3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00560" y="1368360"/>
            <a:ext cx="774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通过实验，探索并掌握圆锥体积的计算方法。</a:t>
            </a:r>
            <a:endParaRPr b="0" lang="en-US" sz="3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87640" y="260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3440" y="2349360"/>
            <a:ext cx="7813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</a:rPr>
              <a:t>经历观察、猜想、实验等过程，发展动手操作能力、归纳推理能力。</a:t>
            </a:r>
            <a:endParaRPr b="0" lang="en-US" sz="3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1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499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502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66ccff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505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510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514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518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521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523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029200" y="2514600"/>
            <a:ext cx="2900520" cy="2819520"/>
            <a:chOff x="5029200" y="2514600"/>
            <a:chExt cx="2900520" cy="2819520"/>
          </a:xfrm>
        </p:grpSpPr>
        <p:sp>
          <p:nvSpPr>
            <p:cNvPr id="526" name=""/>
            <p:cNvSpPr/>
            <p:nvPr/>
          </p:nvSpPr>
          <p:spPr>
            <a:xfrm flipV="1">
              <a:off x="5029200" y="2514240"/>
              <a:ext cx="2895480" cy="106704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029200" y="251424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ffff0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529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534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371600" y="3276720"/>
            <a:ext cx="2895480" cy="1828800"/>
            <a:chOff x="1371600" y="3276720"/>
            <a:chExt cx="2895480" cy="1828800"/>
          </a:xfrm>
        </p:grpSpPr>
        <p:sp>
          <p:nvSpPr>
            <p:cNvPr id="538" name=""/>
            <p:cNvSpPr/>
            <p:nvPr/>
          </p:nvSpPr>
          <p:spPr>
            <a:xfrm>
              <a:off x="1371600" y="3810240"/>
              <a:ext cx="2895480" cy="8380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71600" y="4038840"/>
              <a:ext cx="2895480" cy="10666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9360">
              <a:solidFill>
                <a:srgbClr val="6a63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371600" y="2514600"/>
            <a:ext cx="2895480" cy="1828800"/>
            <a:chOff x="1371600" y="2514600"/>
            <a:chExt cx="2895480" cy="1828800"/>
          </a:xfrm>
        </p:grpSpPr>
        <p:sp>
          <p:nvSpPr>
            <p:cNvPr id="542" name=""/>
            <p:cNvSpPr/>
            <p:nvPr/>
          </p:nvSpPr>
          <p:spPr>
            <a:xfrm>
              <a:off x="1371600" y="3048120"/>
              <a:ext cx="289548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3d3f41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71600" y="3276720"/>
              <a:ext cx="2895480" cy="10666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545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95280" y="3933720"/>
            <a:ext cx="853272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要求：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圆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装满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倒进圆柱中，观察要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几次才能倒满，并作好实验记录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68360" y="260280"/>
            <a:ext cx="2303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验二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/>
          <p:nvPr/>
        </p:nvSpPr>
        <p:spPr>
          <a:xfrm>
            <a:off x="2804760" y="1916280"/>
            <a:ext cx="322812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准备：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1505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e71505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</a:rPr>
              <a:t>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是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</a:rPr>
              <a:t>等底等高的圆锥、圆柱体容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1505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</a:rPr>
              <a:t>器，水，实验记录表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2050920" y="1699920"/>
            <a:ext cx="1657440" cy="3744720"/>
            <a:chOff x="2050920" y="1699920"/>
            <a:chExt cx="1657440" cy="3744720"/>
          </a:xfrm>
        </p:grpSpPr>
        <p:sp>
          <p:nvSpPr>
            <p:cNvPr id="550" name=""/>
            <p:cNvSpPr/>
            <p:nvPr/>
          </p:nvSpPr>
          <p:spPr>
            <a:xfrm>
              <a:off x="2050920" y="4253400"/>
              <a:ext cx="1653840" cy="11912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50920" y="1700280"/>
              <a:ext cx="1653840" cy="11912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050920" y="1699560"/>
              <a:ext cx="1657440" cy="31489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50920" y="2296080"/>
              <a:ext cx="1657440" cy="31485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 flipV="1">
            <a:off x="4952880" y="1752120"/>
            <a:ext cx="2900520" cy="326088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1752120"/>
            <a:ext cx="2895840" cy="1067040"/>
          </a:xfrm>
          <a:prstGeom prst="ellipse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9640" y="33336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不是等底等高的情况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7" name="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3480 w 539640"/>
              <a:gd name="textAreaRight" fmla="*/ 506160 w 539640"/>
              <a:gd name="textAreaTop" fmla="*/ 33480 h 549360"/>
              <a:gd name="textAreaBottom" fmla="*/ 51588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50" y="20639"/>
                </a:lnTo>
                <a:lnTo>
                  <a:pt x="20250" y="135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350" y="20639"/>
                </a:lnTo>
                <a:lnTo>
                  <a:pt x="20250" y="2063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350" y="1350"/>
                </a:lnTo>
                <a:lnTo>
                  <a:pt x="1350" y="20639"/>
                </a:lnTo>
                <a:close/>
              </a:path>
              <a:path fill="darken" w="21600" h="21989">
                <a:moveTo>
                  <a:pt x="7283" y="10994"/>
                </a:moveTo>
                <a:lnTo>
                  <a:pt x="17844" y="3951"/>
                </a:lnTo>
                <a:lnTo>
                  <a:pt x="17844" y="18038"/>
                </a:lnTo>
                <a:close/>
              </a:path>
              <a:path fill="darken" w="21600" h="21989">
                <a:moveTo>
                  <a:pt x="3756" y="3951"/>
                </a:moveTo>
                <a:lnTo>
                  <a:pt x="5428" y="3951"/>
                </a:lnTo>
                <a:lnTo>
                  <a:pt x="5428" y="18038"/>
                </a:lnTo>
                <a:lnTo>
                  <a:pt x="3756" y="1803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65386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000" spc="-1" strike="noStrike">
                <a:solidFill>
                  <a:srgbClr val="e71505"/>
                </a:solidFill>
                <a:latin typeface="华文彩云"/>
                <a:ea typeface="华文彩云"/>
              </a:rPr>
              <a:t>你们发现了什么</a:t>
            </a:r>
            <a:r>
              <a:rPr b="1" lang="en-US" sz="5000" spc="-1" strike="noStrike">
                <a:solidFill>
                  <a:srgbClr val="e71505"/>
                </a:solidFill>
                <a:latin typeface="华文彩云"/>
                <a:ea typeface="华文彩云"/>
              </a:rPr>
              <a:t>?</a:t>
            </a:r>
            <a:endParaRPr b="1" lang="en-US" sz="50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59" name=""/>
          <p:cNvSpPr/>
          <p:nvPr/>
        </p:nvSpPr>
        <p:spPr>
          <a:xfrm>
            <a:off x="611280" y="2421000"/>
            <a:ext cx="8137440" cy="8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圆柱的体积是与它</a:t>
            </a:r>
            <a:r>
              <a:rPr b="1" lang="zh-CN" sz="41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等底等高</a:t>
            </a: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圆锥体积的</a:t>
            </a:r>
            <a:r>
              <a:rPr b="1" lang="en-US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100" spc="-1" strike="noStrike">
                <a:solidFill>
                  <a:srgbClr val="0000ff"/>
                </a:solidFill>
                <a:latin typeface="华文新魏"/>
                <a:ea typeface="华文新魏"/>
              </a:rPr>
              <a:t>倍</a:t>
            </a:r>
            <a:r>
              <a:rPr b="1" lang="zh-CN" sz="41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1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215080" y="4292640"/>
            <a:ext cx="4554720" cy="1871640"/>
            <a:chOff x="2215080" y="4292640"/>
            <a:chExt cx="4554720" cy="1871640"/>
          </a:xfrm>
        </p:grpSpPr>
        <p:sp>
          <p:nvSpPr>
            <p:cNvPr id="561" name=""/>
            <p:cNvSpPr/>
            <p:nvPr/>
          </p:nvSpPr>
          <p:spPr>
            <a:xfrm>
              <a:off x="2215080" y="4292640"/>
              <a:ext cx="4554720" cy="15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0000ff"/>
                  </a:solidFill>
                  <a:latin typeface="Times New Roman"/>
                </a:rPr>
                <a:t>圆锥的体积是与它</a:t>
              </a:r>
              <a:r>
                <a:rPr b="1" lang="zh-CN" sz="41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等底等高</a:t>
              </a:r>
              <a:r>
                <a:rPr b="1" lang="zh-CN" sz="4100" spc="-1" strike="noStrike">
                  <a:solidFill>
                    <a:srgbClr val="0000ff"/>
                  </a:solidFill>
                  <a:latin typeface="Times New Roman"/>
                </a:rPr>
                <a:t>圆柱</a:t>
              </a:r>
              <a:endParaRPr b="0" lang="en-US" sz="41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0000ff"/>
                  </a:solidFill>
                  <a:latin typeface="Times New Roman"/>
                </a:rPr>
                <a:t>体积的       。</a:t>
              </a:r>
              <a:endParaRPr b="0" lang="en-US" sz="4100" spc="-1" strike="noStrike">
                <a:solidFill>
                  <a:srgbClr val="545472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2" name="KSO_BC1"/>
                <p:cNvSpPr txBox="1"/>
                <p:nvPr/>
              </p:nvSpPr>
              <p:spPr>
                <a:xfrm>
                  <a:off x="2697120" y="5084640"/>
                  <a:ext cx="35100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563" name=""/>
          <p:cNvSpPr txBox="1"/>
          <p:nvPr/>
        </p:nvSpPr>
        <p:spPr>
          <a:xfrm>
            <a:off x="324000" y="0"/>
            <a:ext cx="30956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组讨论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4952880"/>
            <a:ext cx="8686800" cy="1295640"/>
          </a:xfrm>
          <a:prstGeom prst="rect">
            <a:avLst/>
          </a:prstGeom>
          <a:gradFill rotWithShape="0">
            <a:gsLst>
              <a:gs pos="0">
                <a:srgbClr val="e9f7fe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2280" y="3809880"/>
            <a:ext cx="8686800" cy="114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9f7fe"/>
              </a:gs>
            </a:gsLst>
            <a:lin ang="5400000"/>
          </a:gra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29200" y="2438280"/>
            <a:ext cx="2895480" cy="106704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9200" y="2438280"/>
            <a:ext cx="2895480" cy="1067040"/>
          </a:xfrm>
          <a:prstGeom prst="ellipse">
            <a:avLst/>
          </a:prstGeom>
          <a:solidFill>
            <a:srgbClr val="0070c0">
              <a:alpha val="50000"/>
            </a:srgbClr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514600"/>
            <a:ext cx="2895480" cy="10666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762120"/>
            <a:ext cx="0" cy="2209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447920" y="228600"/>
            <a:ext cx="2901960" cy="3352680"/>
            <a:chOff x="1447920" y="228600"/>
            <a:chExt cx="2901960" cy="3352680"/>
          </a:xfrm>
        </p:grpSpPr>
        <p:sp>
          <p:nvSpPr>
            <p:cNvPr id="571" name=""/>
            <p:cNvSpPr/>
            <p:nvPr/>
          </p:nvSpPr>
          <p:spPr>
            <a:xfrm>
              <a:off x="144792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47920" y="228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1447920" y="228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762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447920" y="1752480"/>
            <a:ext cx="2895480" cy="1828800"/>
            <a:chOff x="1447920" y="1752480"/>
            <a:chExt cx="2895480" cy="1828800"/>
          </a:xfrm>
        </p:grpSpPr>
        <p:sp>
          <p:nvSpPr>
            <p:cNvPr id="576" name=""/>
            <p:cNvSpPr/>
            <p:nvPr/>
          </p:nvSpPr>
          <p:spPr>
            <a:xfrm>
              <a:off x="1447920" y="2286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514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47920" y="1752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1260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52280" y="3733920"/>
            <a:ext cx="8991720" cy="916920"/>
            <a:chOff x="152280" y="3733920"/>
            <a:chExt cx="8991720" cy="916920"/>
          </a:xfrm>
        </p:grpSpPr>
        <p:sp>
          <p:nvSpPr>
            <p:cNvPr id="580" name=""/>
            <p:cNvSpPr/>
            <p:nvPr/>
          </p:nvSpPr>
          <p:spPr>
            <a:xfrm>
              <a:off x="152280" y="3733920"/>
              <a:ext cx="899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d3f41"/>
                  </a:solidFill>
                  <a:latin typeface="黑体"/>
                  <a:ea typeface="黑体"/>
                </a:rPr>
                <a:t>圆柱体积＝底面积   高</a:t>
              </a:r>
              <a:endParaRPr b="0" lang="en-US" sz="5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5943600" y="4114800"/>
              <a:ext cx="380880" cy="380880"/>
              <a:chOff x="5943600" y="4114800"/>
              <a:chExt cx="380880" cy="380880"/>
            </a:xfrm>
          </p:grpSpPr>
          <p:sp>
            <p:nvSpPr>
              <p:cNvPr id="582" name=""/>
              <p:cNvSpPr/>
              <p:nvPr/>
            </p:nvSpPr>
            <p:spPr>
              <a:xfrm flipH="1">
                <a:off x="5943600" y="4114800"/>
                <a:ext cx="380880" cy="380880"/>
              </a:xfrm>
              <a:prstGeom prst="line">
                <a:avLst/>
              </a:prstGeom>
              <a:ln w="381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43600" y="4114800"/>
                <a:ext cx="380880" cy="380880"/>
              </a:xfrm>
              <a:prstGeom prst="line">
                <a:avLst/>
              </a:prstGeom>
              <a:ln w="381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1447920" y="990720"/>
            <a:ext cx="2895480" cy="1828800"/>
            <a:chOff x="1447920" y="990720"/>
            <a:chExt cx="2895480" cy="1828800"/>
          </a:xfrm>
        </p:grpSpPr>
        <p:sp>
          <p:nvSpPr>
            <p:cNvPr id="585" name=""/>
            <p:cNvSpPr/>
            <p:nvPr/>
          </p:nvSpPr>
          <p:spPr>
            <a:xfrm>
              <a:off x="1447920" y="152424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47920" y="175284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47920" y="990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447920" y="228600"/>
            <a:ext cx="2895480" cy="1828800"/>
            <a:chOff x="1447920" y="228600"/>
            <a:chExt cx="2895480" cy="1828800"/>
          </a:xfrm>
        </p:grpSpPr>
        <p:sp>
          <p:nvSpPr>
            <p:cNvPr id="589" name=""/>
            <p:cNvSpPr/>
            <p:nvPr/>
          </p:nvSpPr>
          <p:spPr>
            <a:xfrm>
              <a:off x="1447920" y="76212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47920" y="99072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47920" y="228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6477120" y="685800"/>
            <a:ext cx="0" cy="22096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29200" y="685800"/>
            <a:ext cx="2900520" cy="281952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0070c0">
              <a:alpha val="50000"/>
            </a:srgbClr>
          </a:solidFill>
          <a:ln w="381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543800" y="4738680"/>
            <a:ext cx="1371600" cy="1434600"/>
            <a:chOff x="7543800" y="4738680"/>
            <a:chExt cx="1371600" cy="1434600"/>
          </a:xfrm>
        </p:grpSpPr>
        <p:grpSp>
          <p:nvGrpSpPr>
            <p:cNvPr id="595" name=""/>
            <p:cNvGrpSpPr/>
            <p:nvPr/>
          </p:nvGrpSpPr>
          <p:grpSpPr>
            <a:xfrm>
              <a:off x="7543800" y="5334120"/>
              <a:ext cx="380880" cy="380880"/>
              <a:chOff x="7543800" y="5334120"/>
              <a:chExt cx="380880" cy="380880"/>
            </a:xfrm>
          </p:grpSpPr>
          <p:sp>
            <p:nvSpPr>
              <p:cNvPr id="596" name=""/>
              <p:cNvSpPr/>
              <p:nvPr/>
            </p:nvSpPr>
            <p:spPr>
              <a:xfrm flipH="1">
                <a:off x="7543800" y="5334120"/>
                <a:ext cx="380880" cy="380880"/>
              </a:xfrm>
              <a:prstGeom prst="line">
                <a:avLst/>
              </a:prstGeom>
              <a:ln w="381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43800" y="5334120"/>
                <a:ext cx="380880" cy="380880"/>
              </a:xfrm>
              <a:prstGeom prst="line">
                <a:avLst/>
              </a:prstGeom>
              <a:ln w="381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8153280" y="4738680"/>
              <a:ext cx="762120" cy="1434600"/>
              <a:chOff x="8153280" y="4738680"/>
              <a:chExt cx="762120" cy="1434600"/>
            </a:xfrm>
          </p:grpSpPr>
          <p:sp>
            <p:nvSpPr>
              <p:cNvPr id="599" name=""/>
              <p:cNvSpPr/>
              <p:nvPr/>
            </p:nvSpPr>
            <p:spPr>
              <a:xfrm>
                <a:off x="8229600" y="4738680"/>
                <a:ext cx="685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8153280" y="5348160"/>
                <a:ext cx="609480" cy="825120"/>
                <a:chOff x="8153280" y="5348160"/>
                <a:chExt cx="609480" cy="8251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8153280" y="5486400"/>
                  <a:ext cx="609480" cy="0"/>
                </a:xfrm>
                <a:prstGeom prst="line">
                  <a:avLst/>
                </a:prstGeom>
                <a:ln w="76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229600" y="5348160"/>
                  <a:ext cx="5331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ff"/>
                      </a:solidFill>
                      <a:latin typeface="Times New Roman"/>
                    </a:rPr>
                    <a:t>3</a:t>
                  </a:r>
                  <a:endParaRPr b="0" lang="en-US" sz="48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3" name=""/>
          <p:cNvSpPr/>
          <p:nvPr/>
        </p:nvSpPr>
        <p:spPr>
          <a:xfrm>
            <a:off x="76320" y="50292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d3f41"/>
                </a:solidFill>
                <a:latin typeface="Times New Roman"/>
                <a:ea typeface="黑体"/>
              </a:rPr>
              <a:t>圆锥体积</a:t>
            </a:r>
            <a:r>
              <a:rPr b="1" lang="zh-CN" sz="5400" spc="-1" strike="noStrike">
                <a:solidFill>
                  <a:srgbClr val="3d3f41"/>
                </a:solidFill>
                <a:latin typeface="黑体"/>
                <a:ea typeface="黑体"/>
              </a:rPr>
              <a:t>＝</a:t>
            </a:r>
            <a:endParaRPr b="0" lang="en-US" sz="54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438560" y="202320"/>
            <a:ext cx="2922480" cy="1880280"/>
            <a:chOff x="1438560" y="202320"/>
            <a:chExt cx="2922480" cy="1880280"/>
          </a:xfrm>
        </p:grpSpPr>
        <p:sp>
          <p:nvSpPr>
            <p:cNvPr id="605" name=""/>
            <p:cNvSpPr/>
            <p:nvPr/>
          </p:nvSpPr>
          <p:spPr>
            <a:xfrm rot="21537000">
              <a:off x="1455840" y="988920"/>
              <a:ext cx="2895480" cy="10670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537000">
              <a:off x="1452240" y="835200"/>
              <a:ext cx="289404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38160">
              <a:solidFill>
                <a:srgbClr val="00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537000">
              <a:off x="1447920" y="228600"/>
              <a:ext cx="2895480" cy="106668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016160" y="4436640"/>
            <a:ext cx="3281400" cy="1526760"/>
            <a:chOff x="4016160" y="4436640"/>
            <a:chExt cx="3281400" cy="1526760"/>
          </a:xfrm>
        </p:grpSpPr>
        <p:grpSp>
          <p:nvGrpSpPr>
            <p:cNvPr id="609" name=""/>
            <p:cNvGrpSpPr/>
            <p:nvPr/>
          </p:nvGrpSpPr>
          <p:grpSpPr>
            <a:xfrm>
              <a:off x="4016160" y="5045760"/>
              <a:ext cx="3276720" cy="917640"/>
              <a:chOff x="4016160" y="5045760"/>
              <a:chExt cx="3276720" cy="917640"/>
            </a:xfrm>
          </p:grpSpPr>
          <p:sp>
            <p:nvSpPr>
              <p:cNvPr id="610" name=""/>
              <p:cNvSpPr/>
              <p:nvPr/>
            </p:nvSpPr>
            <p:spPr>
              <a:xfrm flipV="1" rot="5400000">
                <a:off x="5540040" y="3521160"/>
                <a:ext cx="228600" cy="327672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59400 h 3276720"/>
                  <a:gd name="textAreaBottom" fmla="*/ 321732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392"/>
                      <a:pt x="0" y="784"/>
                    </a:cubicBezTo>
                    <a:lnTo>
                      <a:pt x="0" y="20816"/>
                    </a:lnTo>
                    <a:cubicBezTo>
                      <a:pt x="0" y="21208"/>
                      <a:pt x="108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4093920" y="5046480"/>
                <a:ext cx="3061080" cy="916920"/>
                <a:chOff x="4093920" y="5046480"/>
                <a:chExt cx="3061080" cy="9169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4093920" y="5046480"/>
                  <a:ext cx="30610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5400" spc="-1" strike="noStrike">
                      <a:solidFill>
                        <a:srgbClr val="3d3f41"/>
                      </a:solidFill>
                      <a:latin typeface="黑体"/>
                      <a:ea typeface="黑体"/>
                    </a:rPr>
                    <a:t>底面积   高</a:t>
                  </a:r>
                  <a:endParaRPr b="0" lang="en-US" sz="5400" spc="-1" strike="noStrike">
                    <a:solidFill>
                      <a:srgbClr val="545472"/>
                    </a:solidFill>
                    <a:latin typeface="Arial"/>
                  </a:endParaRPr>
                </a:p>
              </p:txBody>
            </p:sp>
            <p:grpSp>
              <p:nvGrpSpPr>
                <p:cNvPr id="613" name=""/>
                <p:cNvGrpSpPr/>
                <p:nvPr/>
              </p:nvGrpSpPr>
              <p:grpSpPr>
                <a:xfrm>
                  <a:off x="6073560" y="5351400"/>
                  <a:ext cx="380880" cy="380880"/>
                  <a:chOff x="6073560" y="5351400"/>
                  <a:chExt cx="380880" cy="38088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>
                    <a:off x="6073560" y="5351400"/>
                    <a:ext cx="380880" cy="380880"/>
                  </a:xfrm>
                  <a:prstGeom prst="line">
                    <a:avLst/>
                  </a:prstGeom>
                  <a:ln w="38160">
                    <a:solidFill>
                      <a:srgbClr val="3d3f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45472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073560" y="5351400"/>
                    <a:ext cx="380880" cy="380880"/>
                  </a:xfrm>
                  <a:prstGeom prst="line">
                    <a:avLst/>
                  </a:prstGeom>
                  <a:ln w="38160">
                    <a:solidFill>
                      <a:srgbClr val="3d3f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545472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6" name=""/>
            <p:cNvGrpSpPr/>
            <p:nvPr/>
          </p:nvGrpSpPr>
          <p:grpSpPr>
            <a:xfrm>
              <a:off x="4021200" y="4436640"/>
              <a:ext cx="3276360" cy="686160"/>
              <a:chOff x="4021200" y="4436640"/>
              <a:chExt cx="3276360" cy="68616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5448960" y="4417920"/>
                <a:ext cx="495360" cy="9140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00b0f0"/>
                  </a:gs>
                  <a:gs pos="100000">
                    <a:srgbClr val="6a63cb"/>
                  </a:gs>
                </a:gsLst>
                <a:lin ang="5400000"/>
              </a:gra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200000">
                <a:off x="5583240" y="2874600"/>
                <a:ext cx="152280" cy="327636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47520 h 3276360"/>
                  <a:gd name="textAreaBottom" fmla="*/ 3228840 h 32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314"/>
                      <a:pt x="0" y="627"/>
                    </a:cubicBezTo>
                    <a:lnTo>
                      <a:pt x="0" y="20973"/>
                    </a:lnTo>
                    <a:cubicBezTo>
                      <a:pt x="0" y="21287"/>
                      <a:pt x="108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2201760" y="1989000"/>
            <a:ext cx="481356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一个圆柱的体积是</a:t>
            </a: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315</a:t>
            </a: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立方厘米，</a:t>
            </a:r>
            <a:endParaRPr b="0" lang="en-US" sz="3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与它等底等高的圆锥的体积是多少立</a:t>
            </a:r>
            <a:endParaRPr b="0" lang="en-US" sz="3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Times New Roman"/>
              </a:rPr>
              <a:t>方厘米？</a:t>
            </a:r>
            <a:endParaRPr b="0" lang="en-US" sz="3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24040" y="692280"/>
            <a:ext cx="189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随堂练习：</a:t>
            </a:r>
            <a:endParaRPr b="0" lang="en-US" sz="45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4508640" y="3301920"/>
          <a:ext cx="12672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3301920"/>
                    <a:ext cx="1267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4508640" y="3301920"/>
          <a:ext cx="12672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3301920"/>
                    <a:ext cx="1267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2629080" y="3068640"/>
            <a:ext cx="3958920" cy="254304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620640"/>
              <a:gd name="textAreaBottom" fmla="*/ 58248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50" y="20581"/>
                </a:lnTo>
                <a:lnTo>
                  <a:pt x="20250" y="135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350" y="20581"/>
                </a:lnTo>
                <a:lnTo>
                  <a:pt x="20250" y="2058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581"/>
                </a:lnTo>
                <a:close/>
              </a:path>
              <a:path fill="darken" w="21600" h="21931">
                <a:moveTo>
                  <a:pt x="7283" y="10965"/>
                </a:moveTo>
                <a:lnTo>
                  <a:pt x="17844" y="3922"/>
                </a:lnTo>
                <a:lnTo>
                  <a:pt x="17844" y="18009"/>
                </a:lnTo>
                <a:close/>
              </a:path>
              <a:path fill="darken" w="21600" h="21931">
                <a:moveTo>
                  <a:pt x="3756" y="3922"/>
                </a:moveTo>
                <a:lnTo>
                  <a:pt x="5428" y="3922"/>
                </a:lnTo>
                <a:lnTo>
                  <a:pt x="5428" y="18009"/>
                </a:lnTo>
                <a:lnTo>
                  <a:pt x="3756" y="1800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684360" y="105264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5280" y="119700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8360" y="333360"/>
            <a:ext cx="5602320" cy="936720"/>
          </a:xfrm>
          <a:prstGeom prst="flowChartTerminator">
            <a:avLst/>
          </a:prstGeom>
          <a:solidFill>
            <a:srgbClr val="99cc00"/>
          </a:solidFill>
          <a:ln w="255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4046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三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巩固发展，解决问题</a:t>
            </a:r>
            <a:r>
              <a:rPr b="0" lang="en-US" sz="4000" spc="-1" strike="noStrike">
                <a:solidFill>
                  <a:srgbClr val="3d3f41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9640" y="1700280"/>
            <a:ext cx="792504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0ce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1b0ce0"/>
                </a:solidFill>
                <a:latin typeface="Times New Roman"/>
              </a:rPr>
              <a:t>先“放”后“变”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一个圆锥形的零件，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底面积是</a:t>
            </a:r>
            <a:r>
              <a:rPr b="1" lang="en-US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19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平方厘米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，高是</a:t>
            </a:r>
            <a:r>
              <a:rPr b="1" lang="en-US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厘米。这个零件的体积是多少？</a:t>
            </a:r>
            <a:r>
              <a:rPr b="1" lang="en-US" sz="3200" spc="-1" strike="noStrike">
                <a:solidFill>
                  <a:srgbClr val="1b0ce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“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底面积是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19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平方厘米”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  <a:ea typeface="仿宋_GB2312"/>
              </a:rPr>
              <a:t>改为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半径是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3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分米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、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直径是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6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分米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、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周长是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12.56</a:t>
            </a:r>
            <a:r>
              <a:rPr b="1" lang="zh-CN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厘米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  <a:ea typeface="仿宋_GB2312"/>
              </a:rPr>
              <a:t>"</a:t>
            </a:r>
            <a:r>
              <a:rPr b="1" lang="en-US" sz="3200" spc="-1" strike="noStrike" u="sng">
                <a:solidFill>
                  <a:srgbClr val="3d3f41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68360" y="476280"/>
            <a:ext cx="5818320" cy="849240"/>
          </a:xfrm>
          <a:prstGeom prst="flowChartTerminator">
            <a:avLst/>
          </a:prstGeom>
          <a:solidFill>
            <a:srgbClr val="99cc00"/>
          </a:solidFill>
          <a:ln w="255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11280" y="6206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（三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巩固发展，解决问题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1280" y="1989000"/>
            <a:ext cx="79246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b0ce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1b0ce0"/>
                </a:solidFill>
                <a:latin typeface="Times New Roman"/>
              </a:rPr>
              <a:t>先“分”后“合”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在打谷场上，有一个近似圆锥的小麦堆，测得底面直径是</a:t>
            </a:r>
            <a:r>
              <a:rPr b="1" lang="en-US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米，高是</a:t>
            </a:r>
            <a:r>
              <a:rPr b="1" lang="en-US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1.2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米。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每立方米小麦约重</a:t>
            </a:r>
            <a:r>
              <a:rPr b="1" lang="en-US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735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仿宋_GB2312"/>
              </a:rPr>
              <a:t>千克，</a:t>
            </a:r>
            <a:r>
              <a:rPr b="1" lang="zh-CN" sz="3200" spc="-1" strike="noStrike">
                <a:solidFill>
                  <a:srgbClr val="e56607"/>
                </a:solidFill>
                <a:latin typeface="Times New Roman"/>
                <a:ea typeface="仿宋_GB2312"/>
              </a:rPr>
              <a:t>这堆小麦大约有多少千克？</a:t>
            </a:r>
            <a:r>
              <a:rPr b="1" lang="en-US" sz="3200" spc="-1" strike="noStrike">
                <a:solidFill>
                  <a:srgbClr val="1b0ce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925640" y="2205000"/>
            <a:ext cx="5248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工地上有一个近似于圆锥的沙堆。你能</a:t>
            </a:r>
            <a:endParaRPr b="0" lang="en-US" sz="35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想办法算出它的体积吗？说说测量和计算的</a:t>
            </a:r>
            <a:endParaRPr b="0" lang="en-US" sz="35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ff"/>
                </a:solidFill>
                <a:latin typeface="Times New Roman"/>
              </a:rPr>
              <a:t>方法。</a:t>
            </a:r>
            <a:r>
              <a:rPr b="1" lang="en-US" sz="2400" spc="-1" strike="noStrike">
                <a:solidFill>
                  <a:srgbClr val="3d3f4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35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84520" y="69048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思考题：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468360" y="692280"/>
            <a:ext cx="5832360" cy="863640"/>
            <a:chOff x="468360" y="692280"/>
            <a:chExt cx="5832360" cy="863640"/>
          </a:xfrm>
        </p:grpSpPr>
        <p:sp>
          <p:nvSpPr>
            <p:cNvPr id="198" name=""/>
            <p:cNvSpPr/>
            <p:nvPr/>
          </p:nvSpPr>
          <p:spPr>
            <a:xfrm>
              <a:off x="468360" y="692280"/>
              <a:ext cx="5832360" cy="863640"/>
            </a:xfrm>
            <a:prstGeom prst="ellipse">
              <a:avLst/>
            </a:prstGeom>
            <a:solidFill>
              <a:srgbClr val="0070c0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9080" y="825120"/>
              <a:ext cx="46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e71505"/>
                  </a:solidFill>
                  <a:latin typeface="Times New Roman"/>
                </a:rPr>
                <a:t>复习旧知，情景导入</a:t>
              </a:r>
              <a:endParaRPr b="0" lang="en-US" sz="36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733840" y="2347920"/>
            <a:ext cx="6337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怎样计算圆柱的体积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30520" y="3355920"/>
            <a:ext cx="164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71505"/>
                </a:solidFill>
                <a:latin typeface="Times New Roman"/>
              </a:rPr>
              <a:t>V=Sh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363920"/>
            <a:ext cx="77025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个圆柱的底面积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平方分米，高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米，它的体积是多少立方分米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2560" y="1916280"/>
            <a:ext cx="1524240" cy="236196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371600" y="4038480"/>
            <a:ext cx="601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f41"/>
                </a:solidFill>
                <a:latin typeface="Tahoma"/>
              </a:rPr>
              <a:t>     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4360" y="1268280"/>
            <a:ext cx="5545080" cy="790560"/>
          </a:xfrm>
          <a:prstGeom prst="flowChartTerminator">
            <a:avLst/>
          </a:prstGeom>
          <a:solidFill>
            <a:srgbClr val="ff99cc"/>
          </a:solidFill>
          <a:ln w="255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55640" y="1341360"/>
            <a:ext cx="576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71505"/>
                </a:solidFill>
                <a:latin typeface="Tahoma"/>
              </a:rPr>
              <a:t>（四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总结拓展，体验成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47640" y="3716280"/>
            <a:ext cx="670572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3f41"/>
                </a:solidFill>
                <a:latin typeface="Times New Roman"/>
              </a:rPr>
              <a:t>2. </a:t>
            </a:r>
            <a:r>
              <a:rPr b="1" lang="zh-CN" sz="3900" spc="-1" strike="noStrike">
                <a:solidFill>
                  <a:srgbClr val="3d3f41"/>
                </a:solidFill>
                <a:latin typeface="Times New Roman"/>
              </a:rPr>
              <a:t>实践应用，知识拓展</a:t>
            </a:r>
            <a:endParaRPr b="0" lang="en-US" sz="39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b0ce0"/>
                </a:solidFill>
                <a:latin typeface="宋体"/>
              </a:rPr>
              <a:t>    </a:t>
            </a:r>
            <a:r>
              <a:rPr b="1" lang="zh-CN" sz="3500" spc="-1" strike="noStrike">
                <a:solidFill>
                  <a:srgbClr val="1b0ce0"/>
                </a:solidFill>
                <a:latin typeface="隶书"/>
                <a:ea typeface="隶书"/>
              </a:rPr>
              <a:t>在课外选一个实物圆锥体，自己测量</a:t>
            </a:r>
            <a:r>
              <a:rPr b="1" lang="en-US" sz="3500" spc="-1" strike="noStrike">
                <a:solidFill>
                  <a:srgbClr val="1b0ce0"/>
                </a:solidFill>
                <a:latin typeface="隶书"/>
                <a:ea typeface="隶书"/>
              </a:rPr>
              <a:t>,</a:t>
            </a:r>
            <a:r>
              <a:rPr b="1" lang="zh-CN" sz="3500" spc="-1" strike="noStrike">
                <a:solidFill>
                  <a:srgbClr val="1b0ce0"/>
                </a:solidFill>
                <a:latin typeface="隶书"/>
                <a:ea typeface="隶书"/>
              </a:rPr>
              <a:t>算出它的体积。</a:t>
            </a:r>
            <a:r>
              <a:rPr b="1" lang="en-US" sz="3900" spc="-1" strike="noStrike">
                <a:solidFill>
                  <a:srgbClr val="1b0ce0"/>
                </a:solidFill>
                <a:latin typeface="隶书"/>
                <a:ea typeface="隶书"/>
              </a:rPr>
              <a:t> </a:t>
            </a:r>
            <a:endParaRPr b="0" lang="en-US" sz="39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381400" y="2565360"/>
            <a:ext cx="34696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d3f41"/>
                </a:solidFill>
                <a:latin typeface="Times New Roman"/>
              </a:rPr>
              <a:t>1. </a:t>
            </a:r>
            <a:r>
              <a:rPr b="1" lang="zh-CN" sz="3900" spc="-1" strike="noStrike">
                <a:solidFill>
                  <a:srgbClr val="3d3f41"/>
                </a:solidFill>
                <a:latin typeface="Times New Roman"/>
              </a:rPr>
              <a:t>师生小结，体验成功</a:t>
            </a:r>
            <a:endParaRPr b="0" lang="en-US" sz="39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2560" y="-98280"/>
            <a:ext cx="7346880" cy="442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7e33"/>
            </a:outerShdw>
          </a:effectLst>
        </p:spPr>
      </p:pic>
      <p:sp>
        <p:nvSpPr>
          <p:cNvPr id="206" name=""/>
          <p:cNvSpPr/>
          <p:nvPr/>
        </p:nvSpPr>
        <p:spPr>
          <a:xfrm>
            <a:off x="2268360" y="4724280"/>
            <a:ext cx="6875640" cy="2133720"/>
          </a:xfrm>
          <a:prstGeom prst="irregularSeal2">
            <a:avLst/>
          </a:prstGeom>
          <a:solidFill>
            <a:srgbClr val="0070c0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0000"/>
                </a:solidFill>
                <a:latin typeface="Times New Roman"/>
              </a:rPr>
              <a:t>它占了多大的空间呢？</a:t>
            </a:r>
            <a:endParaRPr b="0" lang="en-US" sz="41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%E6%8C%895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105264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119700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3f41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4000" y="727200"/>
            <a:ext cx="8457480" cy="829800"/>
            <a:chOff x="324000" y="727200"/>
            <a:chExt cx="8457480" cy="829800"/>
          </a:xfrm>
        </p:grpSpPr>
        <p:sp>
          <p:nvSpPr>
            <p:cNvPr id="210" name=""/>
            <p:cNvSpPr/>
            <p:nvPr/>
          </p:nvSpPr>
          <p:spPr>
            <a:xfrm>
              <a:off x="324000" y="727200"/>
              <a:ext cx="5649480" cy="829800"/>
            </a:xfrm>
            <a:prstGeom prst="flowChartTerminator">
              <a:avLst/>
            </a:prstGeom>
            <a:solidFill>
              <a:srgbClr val="0070c0"/>
            </a:solidFill>
            <a:ln w="255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440" y="886320"/>
              <a:ext cx="819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</a:rPr>
                <a:t>（二）实验操作，探索新知</a:t>
              </a:r>
              <a:r>
                <a:rPr b="0" lang="en-US" sz="1800" spc="-1" strike="noStrike">
                  <a:solidFill>
                    <a:srgbClr val="3d3f41"/>
                  </a:solidFill>
                  <a:latin typeface="Tahoma"/>
                </a:rPr>
                <a:t>     </a:t>
              </a: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371600" y="4038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2276640"/>
            <a:ext cx="73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1b0ce0"/>
                </a:solidFill>
                <a:latin typeface="Times New Roman"/>
              </a:rPr>
              <a:t>1.</a:t>
            </a:r>
            <a:r>
              <a:rPr b="1" lang="zh-CN" sz="4300" spc="-1" strike="noStrike">
                <a:solidFill>
                  <a:srgbClr val="1b0ce0"/>
                </a:solidFill>
                <a:latin typeface="Times New Roman"/>
              </a:rPr>
              <a:t>分组实验，合作交流</a:t>
            </a:r>
            <a:endParaRPr b="0" lang="en-US" sz="43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06000" y="3573360"/>
            <a:ext cx="36709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1b0ce0"/>
                </a:solidFill>
                <a:latin typeface="Times New Roman"/>
              </a:rPr>
              <a:t>2.</a:t>
            </a:r>
            <a:r>
              <a:rPr b="1" lang="zh-CN" sz="4300" spc="-1" strike="noStrike">
                <a:solidFill>
                  <a:srgbClr val="1b0ce0"/>
                </a:solidFill>
                <a:latin typeface="Times New Roman"/>
              </a:rPr>
              <a:t>汇报结果，整体评价</a:t>
            </a:r>
            <a:endParaRPr b="0" lang="en-US" sz="43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3716280"/>
            <a:ext cx="856944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实验要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把圆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装满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倒进圆柱中，观察要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几次才能倒满，并作好实验记录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9548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557360"/>
            <a:ext cx="864216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实验准备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e71505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</a:rPr>
              <a:t>套等底等高的圆锥、圆柱体容器，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1505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e71505"/>
                </a:solidFill>
                <a:latin typeface="Times New Roman"/>
              </a:rPr>
              <a:t>水，记录表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4000" y="189000"/>
            <a:ext cx="251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验一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4948200" y="1752480"/>
            <a:ext cx="2900520" cy="2819520"/>
            <a:chOff x="4948200" y="1752480"/>
            <a:chExt cx="2900520" cy="2819520"/>
          </a:xfrm>
        </p:grpSpPr>
        <p:sp>
          <p:nvSpPr>
            <p:cNvPr id="220" name=""/>
            <p:cNvSpPr/>
            <p:nvPr/>
          </p:nvSpPr>
          <p:spPr>
            <a:xfrm flipV="1">
              <a:off x="4948200" y="1752120"/>
              <a:ext cx="2895480" cy="1067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948200" y="175212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952880" y="1752480"/>
            <a:ext cx="2900520" cy="2819520"/>
            <a:chOff x="4952880" y="1752480"/>
            <a:chExt cx="2900520" cy="2819520"/>
          </a:xfrm>
        </p:grpSpPr>
        <p:sp>
          <p:nvSpPr>
            <p:cNvPr id="223" name=""/>
            <p:cNvSpPr/>
            <p:nvPr/>
          </p:nvSpPr>
          <p:spPr>
            <a:xfrm flipV="1">
              <a:off x="4952880" y="1752120"/>
              <a:ext cx="2895480" cy="106704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952880" y="175212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226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350840" y="1062720"/>
            <a:ext cx="1793160" cy="842040"/>
            <a:chOff x="7350840" y="1062720"/>
            <a:chExt cx="1793160" cy="842040"/>
          </a:xfrm>
        </p:grpSpPr>
        <p:grpSp>
          <p:nvGrpSpPr>
            <p:cNvPr id="231" name=""/>
            <p:cNvGrpSpPr/>
            <p:nvPr/>
          </p:nvGrpSpPr>
          <p:grpSpPr>
            <a:xfrm>
              <a:off x="7784640" y="1066680"/>
              <a:ext cx="1359360" cy="838080"/>
              <a:chOff x="7784640" y="1066680"/>
              <a:chExt cx="1359360" cy="83808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8803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8092800" y="1676160"/>
                <a:ext cx="185400" cy="2286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216640" y="1638000"/>
                <a:ext cx="927000" cy="38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86572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25880" y="1562040"/>
                <a:ext cx="61560" cy="759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784280" y="1257120"/>
                <a:ext cx="463320" cy="457200"/>
              </a:xfrm>
              <a:custGeom>
                <a:avLst/>
                <a:gdLst/>
                <a:ahLst/>
                <a:rect l="l" t="t" r="r" b="b"/>
                <a:pathLst>
                  <a:path w="960" h="624">
                    <a:moveTo>
                      <a:pt x="0" y="528"/>
                    </a:moveTo>
                    <a:lnTo>
                      <a:pt x="0" y="0"/>
                    </a:lnTo>
                    <a:lnTo>
                      <a:pt x="480" y="0"/>
                    </a:lnTo>
                    <a:lnTo>
                      <a:pt x="576" y="288"/>
                    </a:lnTo>
                    <a:lnTo>
                      <a:pt x="960" y="288"/>
                    </a:lnTo>
                    <a:lnTo>
                      <a:pt x="960" y="624"/>
                    </a:lnTo>
                    <a:lnTo>
                      <a:pt x="240" y="624"/>
                    </a:lnTo>
                    <a:lnTo>
                      <a:pt x="192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8011080" y="1295280"/>
                <a:ext cx="205920" cy="177840"/>
              </a:xfrm>
              <a:custGeom>
                <a:avLst/>
                <a:gdLst/>
                <a:ahLst/>
                <a:rect l="l" t="t" r="r" b="b"/>
                <a:pathLst>
                  <a:path w="320" h="224">
                    <a:moveTo>
                      <a:pt x="0" y="32"/>
                    </a:moveTo>
                    <a:cubicBezTo>
                      <a:pt x="72" y="16"/>
                      <a:pt x="144" y="0"/>
                      <a:pt x="192" y="32"/>
                    </a:cubicBezTo>
                    <a:cubicBezTo>
                      <a:pt x="240" y="64"/>
                      <a:pt x="320" y="192"/>
                      <a:pt x="288" y="224"/>
                    </a:cubicBezTo>
                    <a:lnTo>
                      <a:pt x="0" y="22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8309880" y="1257120"/>
                <a:ext cx="772560" cy="304920"/>
              </a:xfrm>
              <a:custGeom>
                <a:avLst/>
                <a:gdLst/>
                <a:ahLst/>
                <a:rect l="l" t="t" r="r" b="b"/>
                <a:pathLst>
                  <a:path w="1200" h="384">
                    <a:moveTo>
                      <a:pt x="0" y="384"/>
                    </a:moveTo>
                    <a:lnTo>
                      <a:pt x="1152" y="384"/>
                    </a:lnTo>
                    <a:lnTo>
                      <a:pt x="1200" y="336"/>
                    </a:lnTo>
                    <a:lnTo>
                      <a:pt x="1200" y="48"/>
                    </a:lnTo>
                    <a:lnTo>
                      <a:pt x="1152" y="0"/>
                    </a:lnTo>
                    <a:lnTo>
                      <a:pt x="1056" y="0"/>
                    </a:lnTo>
                    <a:lnTo>
                      <a:pt x="48" y="0"/>
                    </a:lnTo>
                    <a:lnTo>
                      <a:pt x="0" y="48"/>
                    </a:lnTo>
                    <a:lnTo>
                      <a:pt x="0" y="144"/>
                    </a:lnTo>
                    <a:lnTo>
                      <a:pt x="0" y="384"/>
                    </a:lnTo>
                    <a:close/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d3f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8433000" y="1218960"/>
                <a:ext cx="92520" cy="378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9082440" y="1447560"/>
                <a:ext cx="30600" cy="759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8371080" y="1066680"/>
                <a:ext cx="123480" cy="152280"/>
              </a:xfrm>
              <a:custGeom>
                <a:avLst/>
                <a:gdLst>
                  <a:gd name="textAreaLeft" fmla="*/ -360 w 123480"/>
                  <a:gd name="textAreaRight" fmla="*/ 123480 w 123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48" stAng="10800000" swAng="5400000"/>
                    <a:lnTo>
                      <a:pt x="15126" y="2912"/>
                    </a:lnTo>
                    <a:lnTo>
                      <a:pt x="15126" y="0"/>
                    </a:lnTo>
                    <a:lnTo>
                      <a:pt x="21600" y="6079"/>
                    </a:lnTo>
                    <a:lnTo>
                      <a:pt x="15126" y="12158"/>
                    </a:lnTo>
                    <a:lnTo>
                      <a:pt x="15126" y="9246"/>
                    </a:lnTo>
                    <a:lnTo>
                      <a:pt x="12427" y="9246"/>
                    </a:lnTo>
                    <a:arcTo wR="6093" hR="2914" stAng="16200000" swAng="-5400000"/>
                    <a:lnTo>
                      <a:pt x="6334" y="216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7569360" y="1066680"/>
              <a:ext cx="858600" cy="76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16123200">
              <a:off x="7342920" y="1078200"/>
              <a:ext cx="380880" cy="35748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380" stAng="10800000" swAng="5400000"/>
                  <a:lnTo>
                    <a:pt x="15930" y="3780"/>
                  </a:lnTo>
                  <a:lnTo>
                    <a:pt x="15930" y="0"/>
                  </a:lnTo>
                  <a:lnTo>
                    <a:pt x="21600" y="6079"/>
                  </a:lnTo>
                  <a:lnTo>
                    <a:pt x="15930" y="12158"/>
                  </a:lnTo>
                  <a:lnTo>
                    <a:pt x="15930" y="8378"/>
                  </a:lnTo>
                  <a:lnTo>
                    <a:pt x="12427" y="8378"/>
                  </a:lnTo>
                  <a:arcTo wR="7829" hR="3782" stAng="16200000" swAng="-5400000"/>
                  <a:lnTo>
                    <a:pt x="4598" y="2160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21640" y="1676520"/>
            <a:ext cx="847080" cy="837720"/>
            <a:chOff x="6821640" y="1676520"/>
            <a:chExt cx="847080" cy="837720"/>
          </a:xfrm>
        </p:grpSpPr>
        <p:sp>
          <p:nvSpPr>
            <p:cNvPr id="246" name=""/>
            <p:cNvSpPr/>
            <p:nvPr/>
          </p:nvSpPr>
          <p:spPr>
            <a:xfrm>
              <a:off x="7386480" y="1676520"/>
              <a:ext cx="28224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2160" y="1816200"/>
              <a:ext cx="0" cy="69768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821640" y="1676520"/>
              <a:ext cx="376560" cy="837720"/>
            </a:xfrm>
            <a:prstGeom prst="line">
              <a:avLst/>
            </a:prstGeom>
            <a:ln w="57240">
              <a:solidFill>
                <a:srgbClr val="3d3f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71600" y="1752480"/>
            <a:ext cx="2901960" cy="3352680"/>
            <a:chOff x="1371600" y="1752480"/>
            <a:chExt cx="2901960" cy="3352680"/>
          </a:xfrm>
        </p:grpSpPr>
        <p:sp>
          <p:nvSpPr>
            <p:cNvPr id="251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1600" y="175248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371600" y="175212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71600" y="228600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663720" y="214560"/>
            <a:ext cx="3802320" cy="3761640"/>
            <a:chOff x="3663720" y="214560"/>
            <a:chExt cx="3802320" cy="3761640"/>
          </a:xfrm>
        </p:grpSpPr>
        <p:sp>
          <p:nvSpPr>
            <p:cNvPr id="256" name=""/>
            <p:cNvSpPr/>
            <p:nvPr/>
          </p:nvSpPr>
          <p:spPr>
            <a:xfrm flipV="1" rot="20146200">
              <a:off x="3755160" y="763560"/>
              <a:ext cx="2895480" cy="106704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20146200">
              <a:off x="4114440" y="685080"/>
              <a:ext cx="2900520" cy="2819520"/>
            </a:xfrm>
            <a:custGeom>
              <a:avLst/>
              <a:gdLst/>
              <a:ahLst/>
              <a:rect l="l" t="t" r="r" b="b"/>
              <a:pathLst>
                <a:path w="1827" h="1776">
                  <a:moveTo>
                    <a:pt x="1" y="1442"/>
                  </a:moveTo>
                  <a:lnTo>
                    <a:pt x="0" y="1442"/>
                  </a:lnTo>
                  <a:lnTo>
                    <a:pt x="11" y="1382"/>
                  </a:lnTo>
                  <a:lnTo>
                    <a:pt x="913" y="0"/>
                  </a:lnTo>
                  <a:lnTo>
                    <a:pt x="1799" y="1366"/>
                  </a:lnTo>
                  <a:lnTo>
                    <a:pt x="1827" y="1438"/>
                  </a:lnTo>
                  <a:lnTo>
                    <a:pt x="1817" y="1493"/>
                  </a:lnTo>
                  <a:lnTo>
                    <a:pt x="1789" y="1535"/>
                  </a:lnTo>
                  <a:lnTo>
                    <a:pt x="1766" y="1561"/>
                  </a:lnTo>
                  <a:lnTo>
                    <a:pt x="1731" y="1592"/>
                  </a:lnTo>
                  <a:lnTo>
                    <a:pt x="1655" y="1637"/>
                  </a:lnTo>
                  <a:lnTo>
                    <a:pt x="1574" y="1673"/>
                  </a:lnTo>
                  <a:lnTo>
                    <a:pt x="1497" y="1700"/>
                  </a:lnTo>
                  <a:lnTo>
                    <a:pt x="1427" y="1718"/>
                  </a:lnTo>
                  <a:lnTo>
                    <a:pt x="1344" y="1738"/>
                  </a:lnTo>
                  <a:lnTo>
                    <a:pt x="1255" y="1753"/>
                  </a:lnTo>
                  <a:lnTo>
                    <a:pt x="1159" y="1763"/>
                  </a:lnTo>
                  <a:lnTo>
                    <a:pt x="1063" y="1774"/>
                  </a:lnTo>
                  <a:lnTo>
                    <a:pt x="989" y="1775"/>
                  </a:lnTo>
                  <a:lnTo>
                    <a:pt x="913" y="1776"/>
                  </a:lnTo>
                  <a:lnTo>
                    <a:pt x="810" y="1776"/>
                  </a:lnTo>
                  <a:lnTo>
                    <a:pt x="725" y="1769"/>
                  </a:lnTo>
                  <a:lnTo>
                    <a:pt x="627" y="1760"/>
                  </a:lnTo>
                  <a:lnTo>
                    <a:pt x="547" y="1747"/>
                  </a:lnTo>
                  <a:lnTo>
                    <a:pt x="456" y="1732"/>
                  </a:lnTo>
                  <a:lnTo>
                    <a:pt x="385" y="1715"/>
                  </a:lnTo>
                  <a:lnTo>
                    <a:pt x="312" y="1693"/>
                  </a:lnTo>
                  <a:lnTo>
                    <a:pt x="239" y="1669"/>
                  </a:lnTo>
                  <a:lnTo>
                    <a:pt x="175" y="1637"/>
                  </a:lnTo>
                  <a:lnTo>
                    <a:pt x="107" y="1600"/>
                  </a:lnTo>
                  <a:lnTo>
                    <a:pt x="61" y="1561"/>
                  </a:lnTo>
                  <a:lnTo>
                    <a:pt x="26" y="1520"/>
                  </a:lnTo>
                  <a:lnTo>
                    <a:pt x="8" y="1484"/>
                  </a:lnTo>
                  <a:lnTo>
                    <a:pt x="1" y="1443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3816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 flipV="1" rot="15816600">
            <a:off x="3463920" y="39960"/>
            <a:ext cx="2900520" cy="281916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371600" y="2514600"/>
            <a:ext cx="2901960" cy="3352680"/>
            <a:chOff x="1371600" y="2514600"/>
            <a:chExt cx="2901960" cy="3352680"/>
          </a:xfrm>
        </p:grpSpPr>
        <p:sp>
          <p:nvSpPr>
            <p:cNvPr id="261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2514600"/>
              <a:ext cx="2895480" cy="106668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371600" y="2514240"/>
              <a:ext cx="2901960" cy="28195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71600" y="3048120"/>
              <a:ext cx="2901960" cy="2819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28440">
              <a:solidFill>
                <a:srgbClr val="3d3f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 flipV="1" rot="15816600">
            <a:off x="2594880" y="1017000"/>
            <a:ext cx="2895480" cy="1066680"/>
          </a:xfrm>
          <a:prstGeom prst="ellipse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447920" y="685800"/>
            <a:ext cx="4846680" cy="4957920"/>
            <a:chOff x="1447920" y="685800"/>
            <a:chExt cx="4846680" cy="4957920"/>
          </a:xfrm>
        </p:grpSpPr>
        <p:sp>
          <p:nvSpPr>
            <p:cNvPr id="267" name=""/>
            <p:cNvSpPr/>
            <p:nvPr/>
          </p:nvSpPr>
          <p:spPr>
            <a:xfrm>
              <a:off x="1447920" y="685800"/>
              <a:ext cx="4846680" cy="4957920"/>
            </a:xfrm>
            <a:custGeom>
              <a:avLst/>
              <a:gdLst/>
              <a:ahLst/>
              <a:rect l="l" t="t" r="r" b="b"/>
              <a:pathLst>
                <a:path w="3053" h="3123">
                  <a:moveTo>
                    <a:pt x="441" y="2275"/>
                  </a:moveTo>
                  <a:lnTo>
                    <a:pt x="192" y="2643"/>
                  </a:lnTo>
                  <a:lnTo>
                    <a:pt x="0" y="2870"/>
                  </a:lnTo>
                  <a:lnTo>
                    <a:pt x="173" y="2806"/>
                  </a:lnTo>
                  <a:lnTo>
                    <a:pt x="58" y="2921"/>
                  </a:lnTo>
                  <a:lnTo>
                    <a:pt x="240" y="3123"/>
                  </a:lnTo>
                  <a:lnTo>
                    <a:pt x="413" y="3085"/>
                  </a:lnTo>
                  <a:lnTo>
                    <a:pt x="509" y="2950"/>
                  </a:lnTo>
                  <a:lnTo>
                    <a:pt x="442" y="2777"/>
                  </a:lnTo>
                  <a:lnTo>
                    <a:pt x="567" y="2854"/>
                  </a:lnTo>
                  <a:lnTo>
                    <a:pt x="739" y="2854"/>
                  </a:lnTo>
                  <a:lnTo>
                    <a:pt x="768" y="2691"/>
                  </a:lnTo>
                  <a:lnTo>
                    <a:pt x="682" y="2528"/>
                  </a:lnTo>
                  <a:lnTo>
                    <a:pt x="1661" y="1443"/>
                  </a:lnTo>
                  <a:lnTo>
                    <a:pt x="1805" y="1443"/>
                  </a:lnTo>
                  <a:lnTo>
                    <a:pt x="3053" y="387"/>
                  </a:lnTo>
                  <a:lnTo>
                    <a:pt x="2381" y="51"/>
                  </a:lnTo>
                  <a:lnTo>
                    <a:pt x="2250" y="6"/>
                  </a:lnTo>
                  <a:lnTo>
                    <a:pt x="2160" y="0"/>
                  </a:lnTo>
                  <a:lnTo>
                    <a:pt x="2051" y="19"/>
                  </a:lnTo>
                  <a:lnTo>
                    <a:pt x="1917" y="57"/>
                  </a:lnTo>
                  <a:lnTo>
                    <a:pt x="1738" y="121"/>
                  </a:lnTo>
                  <a:lnTo>
                    <a:pt x="1527" y="233"/>
                  </a:lnTo>
                  <a:lnTo>
                    <a:pt x="1335" y="358"/>
                  </a:lnTo>
                  <a:lnTo>
                    <a:pt x="1152" y="569"/>
                  </a:lnTo>
                  <a:lnTo>
                    <a:pt x="1027" y="761"/>
                  </a:lnTo>
                  <a:lnTo>
                    <a:pt x="960" y="953"/>
                  </a:lnTo>
                  <a:lnTo>
                    <a:pt x="864" y="1174"/>
                  </a:lnTo>
                  <a:lnTo>
                    <a:pt x="739" y="1501"/>
                  </a:lnTo>
                  <a:lnTo>
                    <a:pt x="614" y="1757"/>
                  </a:lnTo>
                  <a:lnTo>
                    <a:pt x="653" y="1834"/>
                  </a:lnTo>
                  <a:lnTo>
                    <a:pt x="547" y="2074"/>
                  </a:lnTo>
                </a:path>
              </a:pathLst>
            </a:custGeom>
            <a:solidFill>
              <a:srgbClr val="0070c0">
                <a:alpha val="50000"/>
              </a:srgbClr>
            </a:solidFill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1371600"/>
              <a:ext cx="1523880" cy="4064040"/>
            </a:xfrm>
            <a:custGeom>
              <a:avLst/>
              <a:gdLst/>
              <a:ahLst/>
              <a:rect l="l" t="t" r="r" b="b"/>
              <a:pathLst>
                <a:path w="960" h="2560">
                  <a:moveTo>
                    <a:pt x="960" y="0"/>
                  </a:moveTo>
                  <a:cubicBezTo>
                    <a:pt x="892" y="88"/>
                    <a:pt x="824" y="176"/>
                    <a:pt x="768" y="336"/>
                  </a:cubicBezTo>
                  <a:cubicBezTo>
                    <a:pt x="712" y="496"/>
                    <a:pt x="624" y="864"/>
                    <a:pt x="624" y="960"/>
                  </a:cubicBezTo>
                  <a:cubicBezTo>
                    <a:pt x="624" y="1056"/>
                    <a:pt x="800" y="816"/>
                    <a:pt x="768" y="912"/>
                  </a:cubicBezTo>
                  <a:cubicBezTo>
                    <a:pt x="736" y="1008"/>
                    <a:pt x="472" y="1432"/>
                    <a:pt x="432" y="1536"/>
                  </a:cubicBezTo>
                  <a:cubicBezTo>
                    <a:pt x="392" y="1640"/>
                    <a:pt x="568" y="1384"/>
                    <a:pt x="528" y="1536"/>
                  </a:cubicBezTo>
                  <a:cubicBezTo>
                    <a:pt x="488" y="1688"/>
                    <a:pt x="280" y="2336"/>
                    <a:pt x="192" y="2448"/>
                  </a:cubicBezTo>
                  <a:cubicBezTo>
                    <a:pt x="104" y="2560"/>
                    <a:pt x="52" y="2384"/>
                    <a:pt x="0" y="2208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1800" y="914400"/>
              <a:ext cx="1447920" cy="3200400"/>
            </a:xfrm>
            <a:custGeom>
              <a:avLst/>
              <a:gdLst/>
              <a:ahLst/>
              <a:rect l="l" t="t" r="r" b="b"/>
              <a:pathLst>
                <a:path w="912" h="2016">
                  <a:moveTo>
                    <a:pt x="912" y="0"/>
                  </a:moveTo>
                  <a:cubicBezTo>
                    <a:pt x="660" y="316"/>
                    <a:pt x="408" y="632"/>
                    <a:pt x="336" y="768"/>
                  </a:cubicBezTo>
                  <a:cubicBezTo>
                    <a:pt x="264" y="904"/>
                    <a:pt x="512" y="696"/>
                    <a:pt x="480" y="816"/>
                  </a:cubicBezTo>
                  <a:cubicBezTo>
                    <a:pt x="448" y="936"/>
                    <a:pt x="184" y="1376"/>
                    <a:pt x="144" y="1488"/>
                  </a:cubicBezTo>
                  <a:cubicBezTo>
                    <a:pt x="104" y="1600"/>
                    <a:pt x="264" y="1400"/>
                    <a:pt x="240" y="1488"/>
                  </a:cubicBezTo>
                  <a:cubicBezTo>
                    <a:pt x="216" y="1576"/>
                    <a:pt x="108" y="1796"/>
                    <a:pt x="0" y="2016"/>
                  </a:cubicBezTo>
                </a:path>
              </a:pathLst>
            </a:custGeom>
            <a:noFill/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371600" y="4038480"/>
            <a:ext cx="2895480" cy="1828800"/>
            <a:chOff x="1371600" y="4038480"/>
            <a:chExt cx="2895480" cy="1828800"/>
          </a:xfrm>
        </p:grpSpPr>
        <p:sp>
          <p:nvSpPr>
            <p:cNvPr id="271" name=""/>
            <p:cNvSpPr/>
            <p:nvPr/>
          </p:nvSpPr>
          <p:spPr>
            <a:xfrm>
              <a:off x="1371600" y="4572000"/>
              <a:ext cx="2895480" cy="83808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1600" y="480060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1600" y="4038480"/>
              <a:ext cx="2895480" cy="1066680"/>
            </a:xfrm>
            <a:prstGeom prst="ellipse">
              <a:avLst/>
            </a:prstGeom>
            <a:solidFill>
              <a:srgbClr val="0070c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39640" y="26028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等底等高的</a:t>
            </a:r>
            <a:r>
              <a:rPr b="1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3:44:27Z</dcterms:created>
  <dc:creator/>
  <dc:description/>
  <dc:language>en-US</dc:language>
  <cp:lastModifiedBy/>
  <dcterms:modified xsi:type="dcterms:W3CDTF">2015-09-07T02:40:03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