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9DA-9EAE-42F1-8E36-3F5765B4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DEF-AF16-48E4-AF2E-4B79CBB8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181-F8BE-4304-A3E4-30BCB05A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4DC-C9F9-4709-B182-9555D044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E0C3-BF69-44EE-8250-5B8A2F57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1EC4-C3EA-4A81-ABD4-B9CDB5D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00F9-2C61-4607-AC5B-225FACC9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14CB-A7F6-44AD-BE2C-D4264CC3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84EC-F95F-4760-A92D-164A68E9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AB1E-C3DA-4FD2-A00B-EC843A80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FE92-BCD3-44DD-A38A-8771668C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746-3E82-4B06-879B-C77D3400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9C40-A34A-46F0-8568-E47507F0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CB8-7079-4A94-8D3B-A9C3FC3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6B35-EAAF-4E8C-A05C-5A7EA2EC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DDE-2B5D-4B5D-BC8E-019FFBEE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D7F-2683-42E8-8CBD-8BA73C1A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83C-7B6D-42C6-A956-FBA519DF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DDC-3564-4395-9258-067A88E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538-2046-4380-BEB5-26F77613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C63-0CF8-47C0-8A23-E912DBA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139-A843-488D-9833-0E88BBB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368-3FD3-4917-8C7F-276EB5E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B5A-A40B-4585-8B9A-99F1B36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B8A7-46F4-4790-A1E3-4D143E98F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224-AF81-4039-B7F9-4E16653E060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380880" y="30492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国标第十二册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5638680" y="304920"/>
            <a:ext cx="335304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第一单元</a:t>
            </a: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*</a:t>
            </a: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第六课时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057400" y="266688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折扣问题的练习课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777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八折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%     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九五折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种衣服原价每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现在打九折出售，每件售价多少元？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572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种衣服现在打九折出售，现在售价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每件的原价是多少元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57200" y="3352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种衣服原价每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现在每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你知道商场正在打几折吗？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57200" y="4952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一种衣服原价每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元，现在打九折出售，现在每件的售价比原来便宜多少元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辆自行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在原价基础上打八折，小明有贵宾卡，还可以再打九折，小明买这辆车花了多少钱？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33520" y="3276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小红在书店买了两本打八折出售的书，共花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小红买这两本书便宜了多少钱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五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七成四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      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20908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联丰村去年早稻总产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千克，今年比去年增产二成，今年早稻比去年增产多少万千克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1:52:59Z</dcterms:created>
  <dc:creator/>
  <dc:description/>
  <dc:language>en-US</dc:language>
  <cp:lastModifiedBy/>
  <dcterms:modified xsi:type="dcterms:W3CDTF">2015-06-18T08:22:03Z</dcterms:modified>
  <cp:revision>13</cp:revision>
  <dc:subject/>
  <dc:title/>
</cp:coreProperties>
</file>