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039-573C-42D6-BE19-BA469FB0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3CD-556C-44EE-BD4A-8175EA7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070-2A37-4B78-AAEE-3FCE3033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08A-7F46-48DD-98D5-E4A09679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6C9-595E-4D01-B8D7-0479D94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FBC-2AA0-41CC-8645-7F4A165F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A66-5090-4886-9C9A-301D07F0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80C-58A6-4C66-8330-7E78399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771-1D61-419C-B8AE-259F3FE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AD7-28FE-47A7-B247-98B65CA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4CF-CC9A-4186-976B-A56B10C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992-7787-4943-9113-C2B8BCB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0FC-2AAE-4011-9432-146651E76BD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1760" y="17906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应用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.baidu.com/i?ct=503316480&amp;z=0&amp;tn=baiduimagedetail&amp;word=%BF%C2%C4%CF&#887;%CF%F1&amp;in=16147&amp;cl=2&amp;lm=-1&amp;pn=8&amp;rn=1&amp;di=18157472493&amp;ln=2000&amp;fr=&amp;fmq=&amp;ic=&amp;s=&amp;se=&amp;sme=0&amp;tab=&amp;width=&amp;height=&amp;face=&amp;is=&amp;istype=2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6605640" y="4629240"/>
            <a:ext cx="944640" cy="129996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932040" y="25574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月黑风高的夜晚，一家珠宝店失窃了。第二天早上，小侦探柯南经过仔细勘察，在案发现场发现了一枚犯罪嫌疑人留下的脚印，根据这枚脚印，柯南很快判断出了犯罪嫌疑人的身高，你们知道，他是怎样判断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595440" y="1333440"/>
            <a:ext cx="45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侦探柯南之神秘脚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5" descr="u=2162145624,51948995&amp;fm=9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03880" y="1033560"/>
            <a:ext cx="1368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835280" y="34592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罪犯的身高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517920" y="436392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959120" y="52452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罪犯的身高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5cm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714240" y="1143000"/>
            <a:ext cx="7817040" cy="1373760"/>
          </a:xfrm>
          <a:prstGeom prst="rect">
            <a:avLst/>
          </a:prstGeom>
          <a:solidFill>
            <a:srgbClr val="00b0f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学研究表明：人体身高与脚长的比大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柯南在案发现场测得犯罪嫌疑人的脚印长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请你帮忙算一算：这个犯罪嫌疑人的身高约是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"/>
          <p:cNvSpPr/>
          <p:nvPr/>
        </p:nvSpPr>
        <p:spPr>
          <a:xfrm>
            <a:off x="2602080" y="2935440"/>
            <a:ext cx="30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身高：脚长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101680" y="38876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3530520" y="48402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0.jpg"/>
          <p:cNvPicPr/>
          <p:nvPr/>
        </p:nvPicPr>
        <p:blipFill>
          <a:blip r:embed="rId1"/>
          <a:stretch/>
        </p:blipFill>
        <p:spPr>
          <a:xfrm>
            <a:off x="611280" y="1484280"/>
            <a:ext cx="7885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5"/>
          <p:cNvSpPr/>
          <p:nvPr/>
        </p:nvSpPr>
        <p:spPr>
          <a:xfrm>
            <a:off x="642960" y="9748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仓库里有短袖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件，是长袖衬衫件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短袖和长袖衬衫一共有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9"/>
          <p:cNvGrpSpPr/>
          <p:nvPr/>
        </p:nvGrpSpPr>
        <p:grpSpPr>
          <a:xfrm>
            <a:off x="2000160" y="2189160"/>
            <a:ext cx="1785960" cy="947160"/>
            <a:chOff x="2000160" y="2189160"/>
            <a:chExt cx="1785960" cy="947160"/>
          </a:xfrm>
        </p:grpSpPr>
        <p:sp>
          <p:nvSpPr>
            <p:cNvPr id="577" name="TextBox 7"/>
            <p:cNvSpPr/>
            <p:nvPr/>
          </p:nvSpPr>
          <p:spPr>
            <a:xfrm>
              <a:off x="2000160" y="239688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％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8"/>
            <p:cNvSpPr/>
            <p:nvPr/>
          </p:nvSpPr>
          <p:spPr>
            <a:xfrm>
              <a:off x="3143160" y="2189160"/>
              <a:ext cx="642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12"/>
            <p:cNvSpPr/>
            <p:nvPr/>
          </p:nvSpPr>
          <p:spPr>
            <a:xfrm flipV="1">
              <a:off x="3179160" y="2695680"/>
              <a:ext cx="323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"/>
          <p:cNvSpPr/>
          <p:nvPr/>
        </p:nvSpPr>
        <p:spPr>
          <a:xfrm>
            <a:off x="3929040" y="1928880"/>
            <a:ext cx="321480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短袖衬衫件数与短袖和长袖衬衫总数的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+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0"/>
          <p:cNvSpPr/>
          <p:nvPr/>
        </p:nvSpPr>
        <p:spPr>
          <a:xfrm>
            <a:off x="1643040" y="342900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短袖和长袖衬衫一共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16"/>
          <p:cNvGrpSpPr/>
          <p:nvPr/>
        </p:nvGrpSpPr>
        <p:grpSpPr>
          <a:xfrm>
            <a:off x="4357800" y="4498920"/>
            <a:ext cx="2500200" cy="947160"/>
            <a:chOff x="4357800" y="4498920"/>
            <a:chExt cx="2500200" cy="947160"/>
          </a:xfrm>
        </p:grpSpPr>
        <p:sp>
          <p:nvSpPr>
            <p:cNvPr id="583" name="TextBox 17"/>
            <p:cNvSpPr/>
            <p:nvPr/>
          </p:nvSpPr>
          <p:spPr>
            <a:xfrm>
              <a:off x="4357800" y="471528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组合 17"/>
            <p:cNvGrpSpPr/>
            <p:nvPr/>
          </p:nvGrpSpPr>
          <p:grpSpPr>
            <a:xfrm>
              <a:off x="5072040" y="4498920"/>
              <a:ext cx="1785960" cy="947160"/>
              <a:chOff x="5072040" y="4498920"/>
              <a:chExt cx="1785960" cy="947160"/>
            </a:xfrm>
          </p:grpSpPr>
          <p:sp>
            <p:nvSpPr>
              <p:cNvPr id="585" name="TextBox 11"/>
              <p:cNvSpPr/>
              <p:nvPr/>
            </p:nvSpPr>
            <p:spPr>
              <a:xfrm>
                <a:off x="5286240" y="4498920"/>
                <a:ext cx="1571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10×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20"/>
              <p:cNvSpPr/>
              <p:nvPr/>
            </p:nvSpPr>
            <p:spPr>
              <a:xfrm flipV="1">
                <a:off x="5072040" y="5000400"/>
                <a:ext cx="15717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TextBox 21"/>
          <p:cNvSpPr/>
          <p:nvPr/>
        </p:nvSpPr>
        <p:spPr>
          <a:xfrm>
            <a:off x="4357800" y="52624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1714680" y="571500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短袖和长袖衬衫一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3"/>
          <p:cNvGrpSpPr/>
          <p:nvPr/>
        </p:nvGrpSpPr>
        <p:grpSpPr>
          <a:xfrm>
            <a:off x="3785400" y="3784680"/>
            <a:ext cx="2286720" cy="997560"/>
            <a:chOff x="3785400" y="3784680"/>
            <a:chExt cx="2286720" cy="997560"/>
          </a:xfrm>
        </p:grpSpPr>
        <p:sp>
          <p:nvSpPr>
            <p:cNvPr id="590" name="TextBox 11"/>
            <p:cNvSpPr/>
            <p:nvPr/>
          </p:nvSpPr>
          <p:spPr>
            <a:xfrm>
              <a:off x="4500360" y="399888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14"/>
            <p:cNvSpPr/>
            <p:nvPr/>
          </p:nvSpPr>
          <p:spPr>
            <a:xfrm>
              <a:off x="5143320" y="3784680"/>
              <a:ext cx="9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+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15"/>
            <p:cNvSpPr/>
            <p:nvPr/>
          </p:nvSpPr>
          <p:spPr>
            <a:xfrm flipV="1">
              <a:off x="5143320" y="4262400"/>
              <a:ext cx="928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组合 23"/>
            <p:cNvGrpSpPr/>
            <p:nvPr/>
          </p:nvGrpSpPr>
          <p:grpSpPr>
            <a:xfrm>
              <a:off x="3785400" y="3809880"/>
              <a:ext cx="1143720" cy="972360"/>
              <a:chOff x="3785400" y="3809880"/>
              <a:chExt cx="1143720" cy="972360"/>
            </a:xfrm>
          </p:grpSpPr>
          <p:sp>
            <p:nvSpPr>
              <p:cNvPr id="594" name="TextBox 24"/>
              <p:cNvSpPr/>
              <p:nvPr/>
            </p:nvSpPr>
            <p:spPr>
              <a:xfrm>
                <a:off x="3786120" y="3809880"/>
                <a:ext cx="9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直接连接符 25"/>
              <p:cNvSpPr/>
              <p:nvPr/>
            </p:nvSpPr>
            <p:spPr>
              <a:xfrm flipV="1">
                <a:off x="3785400" y="4330800"/>
                <a:ext cx="75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Box 26"/>
              <p:cNvSpPr/>
              <p:nvPr/>
            </p:nvSpPr>
            <p:spPr>
              <a:xfrm>
                <a:off x="4000320" y="4261680"/>
                <a:ext cx="9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714240" y="10447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工程队修一条路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修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正好是全长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照这样计算，修完这条路要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3214800" y="1531800"/>
            <a:ext cx="2087280" cy="4683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2795760" y="2048040"/>
            <a:ext cx="320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效率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7"/>
          <p:cNvGrpSpPr/>
          <p:nvPr/>
        </p:nvGrpSpPr>
        <p:grpSpPr>
          <a:xfrm>
            <a:off x="795240" y="2643120"/>
            <a:ext cx="7777440" cy="1785960"/>
            <a:chOff x="795240" y="2643120"/>
            <a:chExt cx="7777440" cy="1785960"/>
          </a:xfrm>
        </p:grpSpPr>
        <p:sp>
          <p:nvSpPr>
            <p:cNvPr id="601" name="圆角矩形 6"/>
            <p:cNvSpPr/>
            <p:nvPr/>
          </p:nvSpPr>
          <p:spPr>
            <a:xfrm>
              <a:off x="1071360" y="2643120"/>
              <a:ext cx="7287120" cy="1785960"/>
            </a:xfrm>
            <a:prstGeom prst="roundRect">
              <a:avLst>
                <a:gd name="adj" fmla="val 16667"/>
              </a:avLst>
            </a:prstGeom>
            <a:solidFill>
              <a:srgbClr val="92d050">
                <a:alpha val="49000"/>
              </a:srgbClr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"/>
            <p:cNvSpPr/>
            <p:nvPr/>
          </p:nvSpPr>
          <p:spPr>
            <a:xfrm>
              <a:off x="1642680" y="2857320"/>
              <a:ext cx="69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    →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0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       →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"/>
            <p:cNvSpPr/>
            <p:nvPr/>
          </p:nvSpPr>
          <p:spPr>
            <a:xfrm>
              <a:off x="795240" y="3620160"/>
              <a:ext cx="69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天    → 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00÷40%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米 →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3"/>
          <p:cNvSpPr/>
          <p:nvPr/>
        </p:nvSpPr>
        <p:spPr>
          <a:xfrm>
            <a:off x="1643040" y="45007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修完这条路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9"/>
          <p:cNvSpPr/>
          <p:nvPr/>
        </p:nvSpPr>
        <p:spPr>
          <a:xfrm>
            <a:off x="1500120" y="2786040"/>
            <a:ext cx="478656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0"/>
          <p:cNvSpPr/>
          <p:nvPr/>
        </p:nvSpPr>
        <p:spPr>
          <a:xfrm>
            <a:off x="1500120" y="3571920"/>
            <a:ext cx="478656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Object 3"/>
          <p:cNvGraphicFramePr/>
          <p:nvPr/>
        </p:nvGraphicFramePr>
        <p:xfrm>
          <a:off x="2500200" y="5072040"/>
          <a:ext cx="30718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5072040"/>
                    <a:ext cx="3071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3"/>
          <p:cNvGraphicFramePr/>
          <p:nvPr/>
        </p:nvGraphicFramePr>
        <p:xfrm>
          <a:off x="5857920" y="5286240"/>
          <a:ext cx="109836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920" y="5286240"/>
                    <a:ext cx="109836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3"/>
          <p:cNvSpPr/>
          <p:nvPr/>
        </p:nvSpPr>
        <p:spPr>
          <a:xfrm>
            <a:off x="714240" y="10447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工程队修一条路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修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正好是全长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照这样计算，修完这条路要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3214800" y="1531800"/>
            <a:ext cx="2087280" cy="4683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3"/>
          <p:cNvSpPr/>
          <p:nvPr/>
        </p:nvSpPr>
        <p:spPr>
          <a:xfrm>
            <a:off x="2795760" y="2048040"/>
            <a:ext cx="320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效率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7"/>
          <p:cNvGrpSpPr/>
          <p:nvPr/>
        </p:nvGrpSpPr>
        <p:grpSpPr>
          <a:xfrm>
            <a:off x="795240" y="2643120"/>
            <a:ext cx="7777440" cy="1785960"/>
            <a:chOff x="795240" y="2643120"/>
            <a:chExt cx="7777440" cy="1785960"/>
          </a:xfrm>
        </p:grpSpPr>
        <p:sp>
          <p:nvSpPr>
            <p:cNvPr id="615" name="圆角矩形 6"/>
            <p:cNvSpPr/>
            <p:nvPr/>
          </p:nvSpPr>
          <p:spPr>
            <a:xfrm>
              <a:off x="1071360" y="2643120"/>
              <a:ext cx="7287120" cy="1785960"/>
            </a:xfrm>
            <a:prstGeom prst="roundRect">
              <a:avLst>
                <a:gd name="adj" fmla="val 16667"/>
              </a:avLst>
            </a:prstGeom>
            <a:solidFill>
              <a:srgbClr val="92d050">
                <a:alpha val="49000"/>
              </a:srgbClr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"/>
            <p:cNvSpPr/>
            <p:nvPr/>
          </p:nvSpPr>
          <p:spPr>
            <a:xfrm>
              <a:off x="1642680" y="2857320"/>
              <a:ext cx="69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    →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0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       →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"/>
            <p:cNvSpPr/>
            <p:nvPr/>
          </p:nvSpPr>
          <p:spPr>
            <a:xfrm>
              <a:off x="795240" y="3620160"/>
              <a:ext cx="69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）天    → 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00÷40%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米 →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3"/>
          <p:cNvSpPr/>
          <p:nvPr/>
        </p:nvSpPr>
        <p:spPr>
          <a:xfrm>
            <a:off x="1785960" y="45720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修完这条路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9"/>
          <p:cNvSpPr/>
          <p:nvPr/>
        </p:nvSpPr>
        <p:spPr>
          <a:xfrm>
            <a:off x="1500120" y="2786040"/>
            <a:ext cx="164304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0"/>
          <p:cNvSpPr/>
          <p:nvPr/>
        </p:nvSpPr>
        <p:spPr>
          <a:xfrm>
            <a:off x="6786720" y="2786040"/>
            <a:ext cx="121428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2957400" y="5143680"/>
          <a:ext cx="15843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7400" y="5143680"/>
                    <a:ext cx="1584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矩形 13"/>
          <p:cNvSpPr/>
          <p:nvPr/>
        </p:nvSpPr>
        <p:spPr>
          <a:xfrm>
            <a:off x="1500120" y="3571920"/>
            <a:ext cx="164304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4"/>
          <p:cNvSpPr/>
          <p:nvPr/>
        </p:nvSpPr>
        <p:spPr>
          <a:xfrm>
            <a:off x="6786720" y="3571920"/>
            <a:ext cx="1214280" cy="6429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Object 3"/>
          <p:cNvGraphicFramePr/>
          <p:nvPr/>
        </p:nvGraphicFramePr>
        <p:xfrm>
          <a:off x="5016600" y="5418000"/>
          <a:ext cx="109836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6600" y="5418000"/>
                    <a:ext cx="109836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5"/>
          <p:cNvSpPr/>
          <p:nvPr/>
        </p:nvSpPr>
        <p:spPr>
          <a:xfrm>
            <a:off x="714240" y="92880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服装厂原来每天生产衬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件，现在工作效率提高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现在每天生产衬衫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5"/>
          <p:cNvSpPr/>
          <p:nvPr/>
        </p:nvSpPr>
        <p:spPr>
          <a:xfrm>
            <a:off x="866880" y="21891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来工效：现在工效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4071960" y="28335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1643040" y="35481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设：现在每天生产衬衫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357280" y="40006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6"/>
          <p:cNvSpPr/>
          <p:nvPr/>
        </p:nvSpPr>
        <p:spPr>
          <a:xfrm>
            <a:off x="2571840" y="45007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"/>
          <p:cNvSpPr/>
          <p:nvPr/>
        </p:nvSpPr>
        <p:spPr>
          <a:xfrm>
            <a:off x="1428840" y="497664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现在每天生产衬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5"/>
          <p:cNvGrpSpPr/>
          <p:nvPr/>
        </p:nvGrpSpPr>
        <p:grpSpPr>
          <a:xfrm>
            <a:off x="571680" y="785880"/>
            <a:ext cx="8358120" cy="1452960"/>
            <a:chOff x="571680" y="785880"/>
            <a:chExt cx="8358120" cy="1452960"/>
          </a:xfrm>
        </p:grpSpPr>
        <p:sp>
          <p:nvSpPr>
            <p:cNvPr id="635" name="TextBox 3"/>
            <p:cNvSpPr/>
            <p:nvPr/>
          </p:nvSpPr>
          <p:spPr>
            <a:xfrm>
              <a:off x="571680" y="785880"/>
              <a:ext cx="8358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辆汽车从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驶往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时行驶了全程的    。照这样的速度计算，从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开往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要多少时间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4"/>
            <p:cNvSpPr/>
            <p:nvPr/>
          </p:nvSpPr>
          <p:spPr>
            <a:xfrm>
              <a:off x="1094040" y="1291680"/>
              <a:ext cx="746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直接连接符 6"/>
            <p:cNvSpPr/>
            <p:nvPr/>
          </p:nvSpPr>
          <p:spPr>
            <a:xfrm flipV="1">
              <a:off x="1163520" y="1768320"/>
              <a:ext cx="527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Box 5"/>
          <p:cNvSpPr/>
          <p:nvPr/>
        </p:nvSpPr>
        <p:spPr>
          <a:xfrm>
            <a:off x="1214280" y="300024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已经行驶路程：全部路程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1643040" y="4191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设：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地开往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地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2357280" y="47624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3143160" y="5334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1"/>
          <p:cNvSpPr/>
          <p:nvPr/>
        </p:nvSpPr>
        <p:spPr>
          <a:xfrm>
            <a:off x="1000080" y="35719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已经行驶时间：全部所需时间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7"/>
          <p:cNvSpPr/>
          <p:nvPr/>
        </p:nvSpPr>
        <p:spPr>
          <a:xfrm>
            <a:off x="500040" y="9288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实行生产自动化后，一种零件的生产成本比原来降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，减少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原来的成本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1500120" y="240516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原来的成本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2000160" y="290520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3786120" y="350028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4357800" y="40719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1571760" y="4643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原来的成本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3"/>
          <p:cNvSpPr/>
          <p:nvPr/>
        </p:nvSpPr>
        <p:spPr>
          <a:xfrm>
            <a:off x="785880" y="968400"/>
            <a:ext cx="742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菜市场运来黄瓜、西红柿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黄瓜的质量是西红柿的   。原来黄瓜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3929040" y="154620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6"/>
          <p:cNvSpPr/>
          <p:nvPr/>
        </p:nvSpPr>
        <p:spPr>
          <a:xfrm flipV="1">
            <a:off x="4139640" y="2023560"/>
            <a:ext cx="360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1500120" y="235728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原来的西红柿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2000160" y="5000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Object 5"/>
          <p:cNvGraphicFramePr/>
          <p:nvPr/>
        </p:nvGraphicFramePr>
        <p:xfrm>
          <a:off x="3286080" y="2881440"/>
          <a:ext cx="1928880" cy="9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881440"/>
                    <a:ext cx="1928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786120" y="3718080"/>
          <a:ext cx="14097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718080"/>
                    <a:ext cx="14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7"/>
          <p:cNvGraphicFramePr/>
          <p:nvPr/>
        </p:nvGraphicFramePr>
        <p:xfrm>
          <a:off x="4121280" y="4524480"/>
          <a:ext cx="1164960" cy="42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1280" y="4524480"/>
                    <a:ext cx="11649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TextBox 12"/>
          <p:cNvSpPr/>
          <p:nvPr/>
        </p:nvSpPr>
        <p:spPr>
          <a:xfrm>
            <a:off x="2000160" y="55483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原来的黄瓜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571680" y="10000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车队为灾区抢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救灾物资。原计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运完，实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就运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。照这样计算，可以提前几小时运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1571760" y="235728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实际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运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"/>
          <p:cNvSpPr/>
          <p:nvPr/>
        </p:nvSpPr>
        <p:spPr>
          <a:xfrm>
            <a:off x="2357280" y="290520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428920" y="5477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可以提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运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6"/>
          <p:cNvSpPr/>
          <p:nvPr/>
        </p:nvSpPr>
        <p:spPr>
          <a:xfrm>
            <a:off x="2857680" y="3429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1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7"/>
          <p:cNvSpPr/>
          <p:nvPr/>
        </p:nvSpPr>
        <p:spPr>
          <a:xfrm>
            <a:off x="3429000" y="397656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160÷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3429000" y="450072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3429000" y="500076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23:43Z</dcterms:created>
  <dc:creator/>
  <dc:description/>
  <cp:keywords/>
  <dc:language>en-US</dc:language>
  <cp:lastModifiedBy/>
  <dcterms:modified xsi:type="dcterms:W3CDTF">2017-12-21T14:05:03Z</dcterms:modified>
  <cp:revision>1</cp:revision>
  <dc:subject/>
  <dc:title/>
</cp:coreProperties>
</file>