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08C6-5405-4CE7-8C14-63E1A5142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608D-74E3-47FE-8955-949955061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CE44-1688-49EA-888B-AEE8AA4E2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D6C-2749-4E85-9A11-1758BDB2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AABA-AB92-4F14-89B2-190C769F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1C6B-3C0A-47C9-A545-D931337A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A236-5C6F-4CBB-A516-8B64C576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72C-E0F2-48B5-8A37-4C8F1B1D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AD30-AE15-47D8-8236-F1EAB8B2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42B-2FEC-4F84-A6B2-DF6DBAA3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964-E6F5-4629-AF30-901FB6AE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E12A-AAEA-45A6-BEF9-96AB35BC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1E51-2AE0-4AE6-9A59-930CDA8F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98E4-A11A-4E33-8564-F1F571E8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632B-D8C9-457C-9B1A-B10485C1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722C-0142-4B16-BA8F-D321BC7E5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066680" y="2286000"/>
            <a:ext cx="616284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正比例应用问题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5"/>
          <p:cNvSpPr/>
          <p:nvPr/>
        </p:nvSpPr>
        <p:spPr>
          <a:xfrm>
            <a:off x="1042920" y="206064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395280" y="1052640"/>
            <a:ext cx="8424720" cy="2361960"/>
            <a:chOff x="395280" y="1052640"/>
            <a:chExt cx="8424720" cy="2361960"/>
          </a:xfrm>
        </p:grpSpPr>
        <p:sp>
          <p:nvSpPr>
            <p:cNvPr id="135" name="Text Box 4"/>
            <p:cNvSpPr/>
            <p:nvPr/>
          </p:nvSpPr>
          <p:spPr>
            <a:xfrm>
              <a:off x="395280" y="1052640"/>
              <a:ext cx="8424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00000"/>
                  </a:solidFill>
                  <a:latin typeface="宋体"/>
                </a:rPr>
                <a:t>例</a:t>
              </a:r>
              <a:r>
                <a:rPr b="1" lang="en-US" sz="4000" spc="-1" strike="noStrike">
                  <a:solidFill>
                    <a:srgbClr val="c00000"/>
                  </a:solidFill>
                  <a:latin typeface="宋体"/>
                </a:rPr>
                <a:t>2</a:t>
              </a:r>
              <a:r>
                <a:rPr b="1" lang="zh-CN" sz="4000" spc="-1" strike="noStrike">
                  <a:solidFill>
                    <a:srgbClr val="c00000"/>
                  </a:solidFill>
                  <a:latin typeface="宋体"/>
                </a:rPr>
                <a:t>：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仓库里有短袖衬衫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件，是长袖衬衫件数的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75%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。短袖和长袖衬衫一共有多少件？（  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Object 6"/>
                <p:cNvSpPr txBox="1"/>
                <p:nvPr/>
              </p:nvSpPr>
              <p:spPr>
                <a:xfrm>
                  <a:off x="4495680" y="2352600"/>
                  <a:ext cx="1621080" cy="106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7" name="Group 18"/>
          <p:cNvGrpSpPr/>
          <p:nvPr/>
        </p:nvGrpSpPr>
        <p:grpSpPr>
          <a:xfrm>
            <a:off x="539640" y="3573360"/>
            <a:ext cx="8136000" cy="1212840"/>
            <a:chOff x="539640" y="3573360"/>
            <a:chExt cx="8136000" cy="1212840"/>
          </a:xfrm>
        </p:grpSpPr>
        <p:sp>
          <p:nvSpPr>
            <p:cNvPr id="138" name="Text Box 7"/>
            <p:cNvSpPr/>
            <p:nvPr/>
          </p:nvSpPr>
          <p:spPr>
            <a:xfrm>
              <a:off x="539640" y="3573360"/>
              <a:ext cx="81360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60093"/>
                  </a:solidFill>
                  <a:latin typeface="Arial"/>
                </a:rPr>
                <a:t>短袖衬衫件数与短袖和长袖衬衫总件数的比是            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Object 8"/>
                <p:cNvSpPr txBox="1"/>
                <p:nvPr/>
              </p:nvSpPr>
              <p:spPr>
                <a:xfrm>
                  <a:off x="992160" y="4254480"/>
                  <a:ext cx="165096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: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4175280" y="2624040"/>
                <a:ext cx="200952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×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5"/>
              <p:cNvSpPr txBox="1"/>
              <p:nvPr/>
            </p:nvSpPr>
            <p:spPr>
              <a:xfrm>
                <a:off x="3681360" y="1111320"/>
                <a:ext cx="206712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Text Box 6"/>
          <p:cNvSpPr/>
          <p:nvPr/>
        </p:nvSpPr>
        <p:spPr>
          <a:xfrm>
            <a:off x="1258920" y="476280"/>
            <a:ext cx="69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解：设短袖和长袖衬衫一共有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4859280" y="2781360"/>
            <a:ext cx="784440" cy="14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356000" y="2205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5292720" y="3357720"/>
            <a:ext cx="565200" cy="21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940360" y="3357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1"/>
              <p:cNvSpPr txBox="1"/>
              <p:nvPr/>
            </p:nvSpPr>
            <p:spPr>
              <a:xfrm>
                <a:off x="4197240" y="3860640"/>
                <a:ext cx="1395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Text Box 12"/>
          <p:cNvSpPr/>
          <p:nvPr/>
        </p:nvSpPr>
        <p:spPr>
          <a:xfrm>
            <a:off x="1619280" y="46594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：短袖和长袖衬衫一共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9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76320" y="0"/>
            <a:ext cx="50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ff"/>
                </a:solidFill>
                <a:uFillTx/>
                <a:latin typeface="Times New Roman"/>
              </a:rPr>
              <a:t>我能解决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（用比例解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0" y="620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天跳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钟跳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，照这样计算，还要跳多少分钟能完成计划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>
            <a:hlinkClick r:id="rId1" action="ppaction://hlinksldjump"/>
          </p:cNvPr>
          <p:cNvSpPr/>
          <p:nvPr/>
        </p:nvSpPr>
        <p:spPr>
          <a:xfrm>
            <a:off x="8172360" y="5300640"/>
            <a:ext cx="576360" cy="1008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1008000"/>
              <a:gd name="textAreaBottom" fmla="*/ 970920 h 1008000"/>
            </a:gdLst>
            <a:ahLst/>
            <a:rect l="textAreaLeft" t="textAreaTop" r="textAreaRight" b="textAreaBottom"/>
            <a:pathLst>
              <a:path w="21600" h="37766">
                <a:moveTo>
                  <a:pt x="0" y="0"/>
                </a:moveTo>
                <a:lnTo>
                  <a:pt x="21600" y="0"/>
                </a:lnTo>
                <a:lnTo>
                  <a:pt x="21600" y="37766"/>
                </a:lnTo>
                <a:lnTo>
                  <a:pt x="0" y="37766"/>
                </a:lnTo>
                <a:close/>
              </a:path>
              <a:path fill="lightenLess" w="21600" h="37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66">
                <a:moveTo>
                  <a:pt x="21600" y="0"/>
                </a:moveTo>
                <a:lnTo>
                  <a:pt x="21600" y="37766"/>
                </a:lnTo>
                <a:lnTo>
                  <a:pt x="20200" y="36366"/>
                </a:lnTo>
                <a:lnTo>
                  <a:pt x="20200" y="1400"/>
                </a:lnTo>
                <a:close/>
              </a:path>
              <a:path fill="darkenLess" w="21600" h="37766">
                <a:moveTo>
                  <a:pt x="21600" y="37766"/>
                </a:moveTo>
                <a:lnTo>
                  <a:pt x="0" y="37766"/>
                </a:lnTo>
                <a:lnTo>
                  <a:pt x="1400" y="36366"/>
                </a:lnTo>
                <a:lnTo>
                  <a:pt x="20200" y="36366"/>
                </a:lnTo>
                <a:close/>
              </a:path>
              <a:path fill="lighten" w="21600" h="37766">
                <a:moveTo>
                  <a:pt x="0" y="37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66"/>
                </a:lnTo>
                <a:close/>
              </a:path>
              <a:path fill="darken" w="21600" h="37766">
                <a:moveTo>
                  <a:pt x="3794" y="18883"/>
                </a:moveTo>
                <a:lnTo>
                  <a:pt x="17806" y="11877"/>
                </a:lnTo>
                <a:lnTo>
                  <a:pt x="17806" y="2589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0" y="191628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设还要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分钟能完成计划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1187280" y="2492280"/>
            <a:ext cx="3745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40:2=(600-240):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40X=360X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324000" y="4797360"/>
            <a:ext cx="633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=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1476360" y="6021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2=3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钟）  答：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0" y="42926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设一共需要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5"/>
          <p:cNvGrpSpPr/>
          <p:nvPr/>
        </p:nvGrpSpPr>
        <p:grpSpPr>
          <a:xfrm>
            <a:off x="-162360" y="404640"/>
            <a:ext cx="1681560" cy="5979960"/>
            <a:chOff x="-162360" y="404640"/>
            <a:chExt cx="1681560" cy="5979960"/>
          </a:xfrm>
        </p:grpSpPr>
        <p:sp>
          <p:nvSpPr>
            <p:cNvPr id="158" name="Freeform 6"/>
            <p:cNvSpPr/>
            <p:nvPr/>
          </p:nvSpPr>
          <p:spPr>
            <a:xfrm>
              <a:off x="484920" y="423000"/>
              <a:ext cx="460080" cy="5421960"/>
            </a:xfrm>
            <a:prstGeom prst="pie">
              <a:avLst/>
            </a:prstGeom>
            <a:noFill/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848880" y="2364480"/>
              <a:ext cx="627120" cy="1052640"/>
            </a:xfrm>
            <a:prstGeom prst="pie">
              <a:avLst/>
            </a:prstGeom>
            <a:noFill/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13680" y="404640"/>
              <a:ext cx="330120" cy="5125320"/>
            </a:xfrm>
            <a:prstGeom prst="pie">
              <a:avLst/>
            </a:prstGeom>
            <a:noFill/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9"/>
            <p:cNvGrpSpPr/>
            <p:nvPr/>
          </p:nvGrpSpPr>
          <p:grpSpPr>
            <a:xfrm>
              <a:off x="-162360" y="867960"/>
              <a:ext cx="1681560" cy="5516640"/>
              <a:chOff x="-162360" y="867960"/>
              <a:chExt cx="1681560" cy="5516640"/>
            </a:xfrm>
          </p:grpSpPr>
          <p:sp>
            <p:nvSpPr>
              <p:cNvPr id="162" name="Freeform 10"/>
              <p:cNvSpPr/>
              <p:nvPr/>
            </p:nvSpPr>
            <p:spPr>
              <a:xfrm>
                <a:off x="206640" y="2572560"/>
                <a:ext cx="181800" cy="2130480"/>
              </a:xfrm>
              <a:prstGeom prst="pie">
                <a:avLst/>
              </a:pr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11"/>
              <p:cNvSpPr/>
              <p:nvPr/>
            </p:nvSpPr>
            <p:spPr>
              <a:xfrm rot="19818600">
                <a:off x="1071000" y="2520720"/>
                <a:ext cx="236160" cy="91728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12"/>
              <p:cNvSpPr/>
              <p:nvPr/>
            </p:nvSpPr>
            <p:spPr>
              <a:xfrm rot="19818600">
                <a:off x="601920" y="3895560"/>
                <a:ext cx="147960" cy="91656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utoShape 13"/>
              <p:cNvSpPr/>
              <p:nvPr/>
            </p:nvSpPr>
            <p:spPr>
              <a:xfrm flipH="1" rot="663000">
                <a:off x="522720" y="1788840"/>
                <a:ext cx="102960" cy="91656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utoShape 14"/>
              <p:cNvSpPr/>
              <p:nvPr/>
            </p:nvSpPr>
            <p:spPr>
              <a:xfrm rot="20752200">
                <a:off x="819360" y="5463720"/>
                <a:ext cx="148320" cy="91656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utoShape 15"/>
              <p:cNvSpPr/>
              <p:nvPr/>
            </p:nvSpPr>
            <p:spPr>
              <a:xfrm rot="1330800">
                <a:off x="0" y="2559600"/>
                <a:ext cx="295920" cy="91728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16"/>
              <p:cNvSpPr/>
              <p:nvPr/>
            </p:nvSpPr>
            <p:spPr>
              <a:xfrm rot="379200">
                <a:off x="819360" y="2877120"/>
                <a:ext cx="117000" cy="91728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17"/>
              <p:cNvSpPr/>
              <p:nvPr/>
            </p:nvSpPr>
            <p:spPr>
              <a:xfrm rot="19691400">
                <a:off x="448560" y="5448960"/>
                <a:ext cx="74160" cy="91656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utoShape 18"/>
              <p:cNvSpPr/>
              <p:nvPr/>
            </p:nvSpPr>
            <p:spPr>
              <a:xfrm rot="20752200">
                <a:off x="4320" y="898920"/>
                <a:ext cx="370440" cy="91656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19"/>
              <p:cNvSpPr/>
              <p:nvPr/>
            </p:nvSpPr>
            <p:spPr>
              <a:xfrm rot="21171600">
                <a:off x="225000" y="4262400"/>
                <a:ext cx="149400" cy="91656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AutoShape 20"/>
          <p:cNvSpPr/>
          <p:nvPr/>
        </p:nvSpPr>
        <p:spPr>
          <a:xfrm>
            <a:off x="1047600" y="423720"/>
            <a:ext cx="1070280" cy="614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1937880" y="998640"/>
            <a:ext cx="566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辆汽车从甲地开往乙地，每小时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米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时到达．如果每小时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7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米，需要几小时到达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2"/>
          <p:cNvGrpSpPr/>
          <p:nvPr/>
        </p:nvGrpSpPr>
        <p:grpSpPr>
          <a:xfrm>
            <a:off x="2572920" y="2185920"/>
            <a:ext cx="2686320" cy="520560"/>
            <a:chOff x="2572920" y="2185920"/>
            <a:chExt cx="2686320" cy="520560"/>
          </a:xfrm>
        </p:grpSpPr>
        <p:sp>
          <p:nvSpPr>
            <p:cNvPr id="175" name="Text Box 23"/>
            <p:cNvSpPr/>
            <p:nvPr/>
          </p:nvSpPr>
          <p:spPr>
            <a:xfrm>
              <a:off x="2572920" y="2185920"/>
              <a:ext cx="268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解：设需要    小时到达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" name="Object 24"/>
                <p:cNvSpPr txBox="1"/>
                <p:nvPr/>
              </p:nvSpPr>
              <p:spPr>
                <a:xfrm>
                  <a:off x="3672000" y="2209680"/>
                  <a:ext cx="457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7" name="Group 25"/>
          <p:cNvGrpSpPr/>
          <p:nvPr/>
        </p:nvGrpSpPr>
        <p:grpSpPr>
          <a:xfrm>
            <a:off x="3204720" y="2743200"/>
            <a:ext cx="1005480" cy="520560"/>
            <a:chOff x="3204720" y="2743200"/>
            <a:chExt cx="1005480" cy="520560"/>
          </a:xfrm>
        </p:grpSpPr>
        <p:sp>
          <p:nvSpPr>
            <p:cNvPr id="178" name="Text Box 26"/>
            <p:cNvSpPr/>
            <p:nvPr/>
          </p:nvSpPr>
          <p:spPr>
            <a:xfrm>
              <a:off x="3204720" y="2743200"/>
              <a:ext cx="80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7.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Object 27"/>
                <p:cNvSpPr txBox="1"/>
                <p:nvPr/>
              </p:nvSpPr>
              <p:spPr>
                <a:xfrm>
                  <a:off x="3753000" y="2768760"/>
                  <a:ext cx="457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" name="Text Box 28"/>
          <p:cNvSpPr/>
          <p:nvPr/>
        </p:nvSpPr>
        <p:spPr>
          <a:xfrm>
            <a:off x="4245840" y="274968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/>
          <p:cNvSpPr/>
          <p:nvPr/>
        </p:nvSpPr>
        <p:spPr>
          <a:xfrm>
            <a:off x="4699080" y="2743200"/>
            <a:ext cx="9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×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0"/>
              <p:cNvSpPr txBox="1"/>
              <p:nvPr/>
            </p:nvSpPr>
            <p:spPr>
              <a:xfrm>
                <a:off x="3733920" y="4343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31"/>
          <p:cNvSpPr/>
          <p:nvPr/>
        </p:nvSpPr>
        <p:spPr>
          <a:xfrm>
            <a:off x="4264920" y="434340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4667760" y="4319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3"/>
          <p:cNvSpPr/>
          <p:nvPr/>
        </p:nvSpPr>
        <p:spPr>
          <a:xfrm>
            <a:off x="2637360" y="502920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：需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时到达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34"/>
              <p:cNvSpPr txBox="1"/>
              <p:nvPr/>
            </p:nvSpPr>
            <p:spPr>
              <a:xfrm>
                <a:off x="3733920" y="350532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Text Box 35"/>
          <p:cNvSpPr/>
          <p:nvPr/>
        </p:nvSpPr>
        <p:spPr>
          <a:xfrm>
            <a:off x="4236120" y="350532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36"/>
          <p:cNvGrpSpPr/>
          <p:nvPr/>
        </p:nvGrpSpPr>
        <p:grpSpPr>
          <a:xfrm>
            <a:off x="4648320" y="3352680"/>
            <a:ext cx="990360" cy="901800"/>
            <a:chOff x="4648320" y="3352680"/>
            <a:chExt cx="990360" cy="901800"/>
          </a:xfrm>
        </p:grpSpPr>
        <p:sp>
          <p:nvSpPr>
            <p:cNvPr id="189" name="Text Box 37"/>
            <p:cNvSpPr/>
            <p:nvPr/>
          </p:nvSpPr>
          <p:spPr>
            <a:xfrm>
              <a:off x="4716720" y="3352680"/>
              <a:ext cx="91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0×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8"/>
            <p:cNvSpPr/>
            <p:nvPr/>
          </p:nvSpPr>
          <p:spPr>
            <a:xfrm>
              <a:off x="4648320" y="37339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39"/>
            <p:cNvSpPr/>
            <p:nvPr/>
          </p:nvSpPr>
          <p:spPr>
            <a:xfrm>
              <a:off x="4776480" y="3733920"/>
              <a:ext cx="80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7.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正比例应用题的基本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判断两种量是否成正比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列出相对应的两组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列比例式解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1905120" y="2514600"/>
            <a:ext cx="52196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大家！</a:t>
            </a:r>
            <a:endParaRPr b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260280" y="136440"/>
            <a:ext cx="914400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课前复习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根据题意用等式表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１）汽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小时行驶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千米，照这样的速度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小时行驶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1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50920" y="3213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２）汽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小时行驶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千米，照这样的速度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小时行驶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千米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348000" y="2421000"/>
            <a:ext cx="1843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708360" y="2421000"/>
            <a:ext cx="5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2843280" y="2276640"/>
            <a:ext cx="86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14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3203640" y="2708280"/>
            <a:ext cx="5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4284720" y="2276640"/>
            <a:ext cx="12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2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4500720" y="2708280"/>
            <a:ext cx="3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2556000" y="4724280"/>
            <a:ext cx="21603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3492360" y="4870440"/>
            <a:ext cx="1843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3852720" y="4870440"/>
            <a:ext cx="5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2987640" y="4726080"/>
            <a:ext cx="86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14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3348000" y="5157720"/>
            <a:ext cx="5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4500720" y="4724280"/>
            <a:ext cx="129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 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X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4716360" y="5229360"/>
            <a:ext cx="3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574560" y="7128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例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同样的地砖铺地，地面面积与所用地砖数量的关系如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42960" y="1571760"/>
          <a:ext cx="8001000" cy="272880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14600"/>
                <a:gridCol w="1585800"/>
              </a:tblGrid>
              <a:tr h="1368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面面积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砖数量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6" name="Object 31"/>
              <p:cNvSpPr txBox="1"/>
              <p:nvPr/>
            </p:nvSpPr>
            <p:spPr>
              <a:xfrm>
                <a:off x="809640" y="4516560"/>
                <a:ext cx="762804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地面面积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地砖数量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每块地砖的面积（一定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Box 29"/>
          <p:cNvSpPr/>
          <p:nvPr/>
        </p:nvSpPr>
        <p:spPr>
          <a:xfrm>
            <a:off x="857160" y="585792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地面面积与地转数量成正比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4"/>
          <p:cNvSpPr/>
          <p:nvPr/>
        </p:nvSpPr>
        <p:spPr>
          <a:xfrm>
            <a:off x="250920" y="7128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如果地面面积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平方米，要用多少块地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85840" y="1341360"/>
          <a:ext cx="8605800" cy="1292400"/>
        </p:xfrm>
        <a:graphic>
          <a:graphicData uri="http://schemas.openxmlformats.org/drawingml/2006/table">
            <a:tbl>
              <a:tblPr/>
              <a:tblGrid>
                <a:gridCol w="2867040"/>
                <a:gridCol w="2871720"/>
                <a:gridCol w="2867040"/>
              </a:tblGrid>
              <a:tr h="65196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地面面积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砖块数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0" name="AutoShape 24"/>
          <p:cNvSpPr/>
          <p:nvPr/>
        </p:nvSpPr>
        <p:spPr>
          <a:xfrm>
            <a:off x="5364000" y="3213000"/>
            <a:ext cx="3672000" cy="1656000"/>
          </a:xfrm>
          <a:prstGeom prst="wedgeRectCallout">
            <a:avLst>
              <a:gd name="adj1" fmla="val -44986"/>
              <a:gd name="adj2" fmla="val 6562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从上表中找两种数量相对应的两个数，写成比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539640" y="2781360"/>
            <a:ext cx="46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解法一：设要用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块地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8"/>
              <p:cNvSpPr txBox="1"/>
              <p:nvPr/>
            </p:nvSpPr>
            <p:spPr>
              <a:xfrm>
                <a:off x="2409840" y="3343320"/>
                <a:ext cx="15447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31"/>
              <p:cNvSpPr txBox="1"/>
              <p:nvPr/>
            </p:nvSpPr>
            <p:spPr>
              <a:xfrm>
                <a:off x="2647800" y="6000840"/>
                <a:ext cx="14637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Text Box 32"/>
          <p:cNvSpPr/>
          <p:nvPr/>
        </p:nvSpPr>
        <p:spPr>
          <a:xfrm>
            <a:off x="4716360" y="59450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答：要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块地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29"/>
              <p:cNvSpPr txBox="1"/>
              <p:nvPr/>
            </p:nvSpPr>
            <p:spPr>
              <a:xfrm>
                <a:off x="2662200" y="4735440"/>
                <a:ext cx="209880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Line 33"/>
          <p:cNvSpPr/>
          <p:nvPr/>
        </p:nvSpPr>
        <p:spPr>
          <a:xfrm>
            <a:off x="3392640" y="4869000"/>
            <a:ext cx="50292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4"/>
          <p:cNvSpPr/>
          <p:nvPr/>
        </p:nvSpPr>
        <p:spPr>
          <a:xfrm>
            <a:off x="3751200" y="5516640"/>
            <a:ext cx="50472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"/>
          <p:cNvSpPr/>
          <p:nvPr/>
        </p:nvSpPr>
        <p:spPr>
          <a:xfrm>
            <a:off x="3143160" y="4292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4357080" y="54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6"/>
          <p:cNvSpPr/>
          <p:nvPr/>
        </p:nvSpPr>
        <p:spPr>
          <a:xfrm>
            <a:off x="5214960" y="785880"/>
            <a:ext cx="3929040" cy="2736720"/>
          </a:xfrm>
          <a:prstGeom prst="wedgeEllipseCallout">
            <a:avLst>
              <a:gd name="adj1" fmla="val -44421"/>
              <a:gd name="adj2" fmla="val 72851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两个铺地面积的数值比等于相对应的两个地砖数量的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684360" y="692280"/>
            <a:ext cx="46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法二：设要用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块地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627280" y="1773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:38 = 30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2"/>
              <p:cNvSpPr txBox="1"/>
              <p:nvPr/>
            </p:nvSpPr>
            <p:spPr>
              <a:xfrm>
                <a:off x="3138480" y="2647800"/>
                <a:ext cx="20988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Line 13"/>
          <p:cNvSpPr/>
          <p:nvPr/>
        </p:nvSpPr>
        <p:spPr>
          <a:xfrm>
            <a:off x="3868560" y="2781360"/>
            <a:ext cx="50328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4227480" y="3429000"/>
            <a:ext cx="504720" cy="28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3679920" y="2205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833360" y="33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7"/>
              <p:cNvSpPr txBox="1"/>
              <p:nvPr/>
            </p:nvSpPr>
            <p:spPr>
              <a:xfrm>
                <a:off x="3154320" y="4005360"/>
                <a:ext cx="14619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ext Box 18"/>
          <p:cNvSpPr/>
          <p:nvPr/>
        </p:nvSpPr>
        <p:spPr>
          <a:xfrm>
            <a:off x="1547640" y="522612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答：要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块地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2" descr=""/>
          <p:cNvPicPr/>
          <p:nvPr/>
        </p:nvPicPr>
        <p:blipFill>
          <a:blip r:embed="rId1"/>
          <a:stretch/>
        </p:blipFill>
        <p:spPr>
          <a:xfrm>
            <a:off x="3543480" y="4044960"/>
            <a:ext cx="2084040" cy="29401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" descr=""/>
          <p:cNvPicPr/>
          <p:nvPr/>
        </p:nvPicPr>
        <p:blipFill>
          <a:blip r:embed="rId2"/>
          <a:stretch/>
        </p:blipFill>
        <p:spPr>
          <a:xfrm>
            <a:off x="179280" y="4195800"/>
            <a:ext cx="2297160" cy="26398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"/>
          <p:cNvSpPr/>
          <p:nvPr/>
        </p:nvSpPr>
        <p:spPr>
          <a:xfrm>
            <a:off x="3240000" y="33336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看谁收集信息的能力最强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093080" y="4005360"/>
            <a:ext cx="1641240" cy="230004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6"/>
          <p:cNvSpPr/>
          <p:nvPr/>
        </p:nvSpPr>
        <p:spPr>
          <a:xfrm>
            <a:off x="179280" y="2205000"/>
            <a:ext cx="3240360" cy="1809720"/>
          </a:xfrm>
          <a:prstGeom prst="wedgeRoundRectCallout">
            <a:avLst>
              <a:gd name="adj1" fmla="val 11736"/>
              <a:gd name="adj2" fmla="val 7184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家上个月用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吨水，水费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.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72360" y="1989000"/>
            <a:ext cx="2449440" cy="1851120"/>
          </a:xfrm>
          <a:prstGeom prst="wedgeRoundRectCallout">
            <a:avLst>
              <a:gd name="adj1" fmla="val -19930"/>
              <a:gd name="adj2" fmla="val 7744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上个月的水费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.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017360" y="6093000"/>
            <a:ext cx="5922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张大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3780000" y="6093000"/>
            <a:ext cx="16110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李奶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7776360" y="6093000"/>
            <a:ext cx="5922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王大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3780000" y="2276640"/>
            <a:ext cx="2232000" cy="1401480"/>
          </a:xfrm>
          <a:prstGeom prst="wedgeRoundRectCallout">
            <a:avLst>
              <a:gd name="adj1" fmla="val -31648"/>
              <a:gd name="adj2" fmla="val 7661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4363560" y="2349360"/>
            <a:ext cx="13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家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吨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2745720" y="1341360"/>
            <a:ext cx="45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王大爷家上个月用了多少吨水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428840" y="90792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李奶奶家上个月的水费是多少钱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15"/>
          <p:cNvSpPr txBox="1"/>
          <p:nvPr/>
        </p:nvSpPr>
        <p:spPr>
          <a:xfrm>
            <a:off x="0" y="0"/>
            <a:ext cx="2089080" cy="155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试一试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mph" presetID="34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0" y="0"/>
            <a:ext cx="9144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50920" y="33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张大妈家上个月用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吨水，水费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。李奶奶家上个月用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吨水，李奶奶家上个月的水费是多少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24000" y="306864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想：因为每吨水的价钱一定，所以水费和用水的吨数成正比例。也就是说两家的水费和用水的吨数的比值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24000" y="476280"/>
            <a:ext cx="730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设李奶奶家上个月的水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835280" y="1341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1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124000" y="1773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843280" y="1484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564000" y="1341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3492360" y="17733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2340000" y="227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2.8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2484360" y="3284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419640" y="3141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12.8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067280" y="3645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2411280" y="4292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1476360" y="508464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李奶奶家上个月的水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324000" y="0"/>
            <a:ext cx="8064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张大妈家上个月用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吨水，水费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。王大爷家上个月的水费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.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们家上个月用了多少吨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116000" y="141300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Times New Roman"/>
              </a:rPr>
              <a:t>解</a:t>
            </a:r>
            <a:r>
              <a:rPr b="1" lang="en-US" sz="3200" spc="-1" strike="noStrike">
                <a:solidFill>
                  <a:srgbClr val="bbe0e3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bbe0e3"/>
                </a:solidFill>
                <a:latin typeface="Times New Roman"/>
              </a:rPr>
              <a:t>设王大爷家上个月用了</a:t>
            </a:r>
            <a:r>
              <a:rPr b="1" lang="en-US" sz="3200" spc="-1" strike="noStrike">
                <a:solidFill>
                  <a:srgbClr val="bbe0e3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bbe0e3"/>
                </a:solidFill>
                <a:latin typeface="Times New Roman"/>
              </a:rPr>
              <a:t>吨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835280" y="184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12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124000" y="22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419640" y="184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3635280" y="2349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2843280" y="3645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2771640" y="198900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1763640" y="2781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2.8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9.2×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2576520" y="3645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3419640" y="3429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19.2×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3635280" y="39337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2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2700360" y="4437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5219640" y="4797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Times New Roman"/>
              </a:rPr>
              <a:t>答</a:t>
            </a:r>
            <a:r>
              <a:rPr b="1" lang="en-US" sz="3200" spc="-1" strike="noStrike">
                <a:solidFill>
                  <a:srgbClr val="bbe0e3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bbe0e3"/>
                </a:solidFill>
                <a:latin typeface="Times New Roman"/>
              </a:rPr>
              <a:t>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4T08:13:53Z</dcterms:created>
  <dc:creator/>
  <dc:description/>
  <cp:keywords/>
  <dc:language>en-US</dc:language>
  <cp:lastModifiedBy/>
  <dcterms:modified xsi:type="dcterms:W3CDTF">2017-12-21T14:05:22Z</dcterms:modified>
  <cp:revision>1</cp:revision>
  <dc:subject/>
  <dc:title/>
</cp:coreProperties>
</file>