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153-F64A-4296-A92B-28BDCB00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D3B-0353-496C-8C1D-8210F2F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539-C541-4B0C-94B6-AD335055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C49-4C4E-4DA0-8453-97C30AF6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1D4-16F0-4EAF-8606-D2CC2FB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CC3-7B69-4B2F-B3A4-13500058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482-CDC2-4596-BA3F-F00EA81D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444-882B-4B76-92B1-81C1155A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A21-35FB-482A-8764-75D3459F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9E3-EB0A-4989-B171-69EF57B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586-A757-4E70-A7BB-41150D5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8B9-1730-4F46-8973-2F45094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7DC-CFBE-454B-8960-921F93AB535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42920" y="213372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应用问题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1"/>
          <p:cNvSpPr/>
          <p:nvPr/>
        </p:nvSpPr>
        <p:spPr>
          <a:xfrm>
            <a:off x="642960" y="1606680"/>
            <a:ext cx="514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笔慈善资金用作“母亲水窖”爱心工程，由于地貌和水源情况不同，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可以修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，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可以修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的修建成本每个要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资金一共有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2" descr="QQ截图20140317071910.jpg"/>
          <p:cNvPicPr/>
          <p:nvPr/>
        </p:nvPicPr>
        <p:blipFill>
          <a:blip r:embed="rId1"/>
          <a:stretch/>
        </p:blipFill>
        <p:spPr>
          <a:xfrm>
            <a:off x="5572080" y="1643040"/>
            <a:ext cx="3286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1"/>
          <p:cNvSpPr/>
          <p:nvPr/>
        </p:nvSpPr>
        <p:spPr>
          <a:xfrm>
            <a:off x="2143080" y="271476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地区每个造价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3429000" y="3214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643120" y="371484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3571920" y="42624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3786120" y="47624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3000240" y="51912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×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2286000" y="56437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笔资金一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"/>
          <p:cNvSpPr/>
          <p:nvPr/>
        </p:nvSpPr>
        <p:spPr>
          <a:xfrm>
            <a:off x="571680" y="9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笔慈善资金用作“母亲水窖”爱心工程，由于地貌和水源情况不同，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可以修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，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可以修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区的修建成本每个要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资金一共有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71680" y="92880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乙两车的速度分别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两车从同地出发，同向行驶，乙车先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甲车要行驶多少时间才能追上乙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22" descr="QQ截图2014031707191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87400" y="2643120"/>
            <a:ext cx="7184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7"/>
          <p:cNvSpPr/>
          <p:nvPr/>
        </p:nvSpPr>
        <p:spPr>
          <a:xfrm>
            <a:off x="2214720" y="250020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乙两车所行的路程一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时间与速度成反比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1785960" y="3429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车所行的路程＝乙车所行的路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214280" y="4719600"/>
            <a:ext cx="34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车时间  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2951280" y="4071960"/>
            <a:ext cx="358560" cy="574560"/>
          </a:xfrm>
          <a:prstGeom prst="downArrow">
            <a:avLst>
              <a:gd name="adj1" fmla="val 50000"/>
              <a:gd name="adj2" fmla="val 251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3"/>
          <p:cNvSpPr/>
          <p:nvPr/>
        </p:nvSpPr>
        <p:spPr>
          <a:xfrm>
            <a:off x="5545080" y="4140360"/>
            <a:ext cx="358920" cy="574560"/>
          </a:xfrm>
          <a:prstGeom prst="downArrow">
            <a:avLst>
              <a:gd name="adj1" fmla="val 50000"/>
              <a:gd name="adj2" fmla="val 250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0"/>
          <p:cNvSpPr/>
          <p:nvPr/>
        </p:nvSpPr>
        <p:spPr>
          <a:xfrm>
            <a:off x="4330800" y="4714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甲车行驶时间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8" descr="QQ截图2014031707191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928800"/>
            <a:ext cx="6621480" cy="151452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2438280" y="511956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6715080" y="51436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3143160" y="56196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857160" y="31910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甲车需要行驶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才能追上乙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"/>
          <p:cNvSpPr/>
          <p:nvPr/>
        </p:nvSpPr>
        <p:spPr>
          <a:xfrm>
            <a:off x="3857760" y="36910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2928960" y="419112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×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3929040" y="46911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4286160" y="52401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1571760" y="569124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甲车需要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才能追上乙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8" descr="QQ截图2014031707191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1000080"/>
            <a:ext cx="6621480" cy="15145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9"/>
          <p:cNvSpPr/>
          <p:nvPr/>
        </p:nvSpPr>
        <p:spPr>
          <a:xfrm>
            <a:off x="857160" y="2590920"/>
            <a:ext cx="34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车时间  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3973680" y="25858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甲车行驶路程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5"/>
          <p:cNvSpPr/>
          <p:nvPr/>
        </p:nvSpPr>
        <p:spPr>
          <a:xfrm>
            <a:off x="571680" y="905040"/>
            <a:ext cx="78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笔钱，可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钢笔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圆珠笔。每支钢笔比每支圆珠笔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每支钢笔和圆珠笔的价格各是多少元？这笔钱有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1405080" y="2357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钢笔单价 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4249800" y="2357280"/>
            <a:ext cx="30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珠笔单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052960" y="2357280"/>
            <a:ext cx="25192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钢笔单价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2714760" y="3000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214800" y="378612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5715000" y="3048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5"/>
          <p:cNvSpPr/>
          <p:nvPr/>
        </p:nvSpPr>
        <p:spPr>
          <a:xfrm>
            <a:off x="682560" y="928800"/>
            <a:ext cx="78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笔钱，可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支钢笔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支圆珠笔。每支钢笔比每支圆珠笔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。每支钢笔和圆珠笔的价格各是多少元？这笔钱有多少元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896760" y="2214720"/>
            <a:ext cx="73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设钢笔的单价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则圆珠笔的单价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000240" y="276228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571760" y="326232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3357720" y="37958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2786040" y="433404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1714680" y="490536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×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4357800" y="4867200"/>
            <a:ext cx="4214880" cy="530280"/>
            <a:chOff x="4357800" y="4867200"/>
            <a:chExt cx="4214880" cy="530280"/>
          </a:xfrm>
        </p:grpSpPr>
        <p:sp>
          <p:nvSpPr>
            <p:cNvPr id="570" name="TextBox 14"/>
            <p:cNvSpPr/>
            <p:nvPr/>
          </p:nvSpPr>
          <p:spPr>
            <a:xfrm>
              <a:off x="4357800" y="48672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或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3"/>
            <p:cNvSpPr/>
            <p:nvPr/>
          </p:nvSpPr>
          <p:spPr>
            <a:xfrm>
              <a:off x="4714920" y="487692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×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元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3"/>
          <p:cNvSpPr/>
          <p:nvPr/>
        </p:nvSpPr>
        <p:spPr>
          <a:xfrm>
            <a:off x="1214280" y="553896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：每支钢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每支圆珠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468360" y="4043520"/>
            <a:ext cx="79246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649440" y="347328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程一定，（    ）和（    ）成（  ）比例。两个（   ）数值的比等于相对应的（   ）数值比的反比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855960" y="34527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725560" y="388152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84360" y="2000160"/>
            <a:ext cx="774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价一定，（    ）和（    ）成（  ）比例。两个（    ）数值的比等于相对应的（    ）两个数值的比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714840" y="200016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2643120" y="235728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3"/>
          <p:cNvSpPr/>
          <p:nvPr/>
        </p:nvSpPr>
        <p:spPr>
          <a:xfrm>
            <a:off x="5816880" y="200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4"/>
          <p:cNvSpPr/>
          <p:nvPr/>
        </p:nvSpPr>
        <p:spPr>
          <a:xfrm>
            <a:off x="7531560" y="1976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5"/>
          <p:cNvSpPr/>
          <p:nvPr/>
        </p:nvSpPr>
        <p:spPr>
          <a:xfrm>
            <a:off x="1173600" y="285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6"/>
          <p:cNvSpPr/>
          <p:nvPr/>
        </p:nvSpPr>
        <p:spPr>
          <a:xfrm>
            <a:off x="5745600" y="345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7"/>
          <p:cNvSpPr/>
          <p:nvPr/>
        </p:nvSpPr>
        <p:spPr>
          <a:xfrm>
            <a:off x="743328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8"/>
          <p:cNvSpPr/>
          <p:nvPr/>
        </p:nvSpPr>
        <p:spPr>
          <a:xfrm>
            <a:off x="7674120" y="390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2"/>
          <p:cNvSpPr/>
          <p:nvPr/>
        </p:nvSpPr>
        <p:spPr>
          <a:xfrm>
            <a:off x="3809880" y="126216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1071720" y="12859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佳佳和强强形相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的两地同时同向而行，佳佳在前，强强在后，加急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强强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。几分钟后强强追上佳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4" descr="QQ截图2014031707191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3214800"/>
            <a:ext cx="70009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2071800" y="32623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后强强追上佳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"/>
          <p:cNvSpPr/>
          <p:nvPr/>
        </p:nvSpPr>
        <p:spPr>
          <a:xfrm>
            <a:off x="3643200" y="37623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3429000" y="426240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4357800" y="47624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4714920" y="53118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2286000" y="5762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后强强追上佳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071720" y="12859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佳佳和强强形相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的两地同时同向而行，佳佳在前，强强在后，加急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强强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。几分钟后强强追上佳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40:33Z</dcterms:created>
  <dc:creator/>
  <dc:description/>
  <dc:language>en-US</dc:language>
  <cp:lastModifiedBy/>
  <dcterms:modified xsi:type="dcterms:W3CDTF">2017-03-15T06:33:13Z</dcterms:modified>
  <cp:revision>1</cp:revision>
  <dc:subject/>
  <dc:title/>
</cp:coreProperties>
</file>