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2B4-B485-40FF-BF17-C0541467A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E10C-D851-4A1F-A189-1BC79AD018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08A-21BD-42D3-9247-A10092502D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D23-CF66-4A2B-93F4-E132E98F4F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441-B223-4E97-9E44-E5FCE9A3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6F1-58D6-40F4-8424-D31149CC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916-4126-4B62-AED7-E7EBFFDE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3C9-EBD4-4FC8-AFD0-C6076197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646-4C7F-44D4-9A22-6A27F19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85-C17E-4E1F-B753-611CA2E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194-EC88-4543-BD85-93A2F75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FD0-F2EB-4628-990B-24E18F9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9C4-7D2D-4EE6-977A-D9AE468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EFC-D030-4D36-9D27-D614B02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62D-C8B6-43EF-ABD2-04AE685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DE8-74E3-4F5C-92F8-A7EE5B2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6C8E-C73E-49AE-A096-0DC6FC259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反比例应用问题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9"/>
          <p:cNvSpPr/>
          <p:nvPr/>
        </p:nvSpPr>
        <p:spPr>
          <a:xfrm>
            <a:off x="357120" y="299880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中有哪两种量？它们是不是相关联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4" descr="C:\Users\phcui\Desktop\人教数学6B(2014.10.第1版)\正文(48).jpg"/>
          <p:cNvPicPr/>
          <p:nvPr/>
        </p:nvPicPr>
        <p:blipFill>
          <a:blip r:embed="rId1"/>
          <a:stretch/>
        </p:blipFill>
        <p:spPr>
          <a:xfrm>
            <a:off x="2700360" y="476280"/>
            <a:ext cx="3311640" cy="9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03280" y="1628640"/>
          <a:ext cx="7705800" cy="1181160"/>
        </p:xfrm>
        <a:graphic>
          <a:graphicData uri="http://schemas.openxmlformats.org/drawingml/2006/table">
            <a:tbl>
              <a:tblPr/>
              <a:tblGrid>
                <a:gridCol w="2757600"/>
                <a:gridCol w="988920"/>
                <a:gridCol w="919080"/>
                <a:gridCol w="919080"/>
                <a:gridCol w="636840"/>
                <a:gridCol w="847440"/>
                <a:gridCol w="636840"/>
              </a:tblGrid>
              <a:tr h="59076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每天运的吨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040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货的天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69"/>
          <p:cNvSpPr/>
          <p:nvPr/>
        </p:nvSpPr>
        <p:spPr>
          <a:xfrm>
            <a:off x="395280" y="355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几组这两种量中相对应的俩个数的积，并比较积的大小，说一说这个积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9"/>
          <p:cNvSpPr/>
          <p:nvPr/>
        </p:nvSpPr>
        <p:spPr>
          <a:xfrm>
            <a:off x="395280" y="4581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货天数与每天运的吨数成反比例关系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4920" y="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9"/>
          <p:cNvSpPr/>
          <p:nvPr/>
        </p:nvSpPr>
        <p:spPr>
          <a:xfrm>
            <a:off x="611280" y="1125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中有运货天数与每天运的吨数两种量，它们是相关联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9"/>
          <p:cNvSpPr/>
          <p:nvPr/>
        </p:nvSpPr>
        <p:spPr>
          <a:xfrm>
            <a:off x="530280" y="225900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×1=150×2=75×4=…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9"/>
          <p:cNvSpPr/>
          <p:nvPr/>
        </p:nvSpPr>
        <p:spPr>
          <a:xfrm>
            <a:off x="530280" y="377028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货天数与每天运的吨数乘积一定，运货天数与每天运的吨数成反比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9"/>
          <p:cNvSpPr/>
          <p:nvPr/>
        </p:nvSpPr>
        <p:spPr>
          <a:xfrm>
            <a:off x="826920" y="2862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积相等，总共运的吨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3"/>
          <p:cNvSpPr/>
          <p:nvPr/>
        </p:nvSpPr>
        <p:spPr>
          <a:xfrm>
            <a:off x="357120" y="1033560"/>
            <a:ext cx="6357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练习</a:t>
            </a:r>
            <a:r>
              <a:rPr b="1" lang="en-US" sz="2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lang="zh-CN" sz="2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下列说法是否正确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9"/>
          <p:cNvSpPr/>
          <p:nvPr/>
        </p:nvSpPr>
        <p:spPr>
          <a:xfrm>
            <a:off x="7643880" y="2428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9"/>
          <p:cNvSpPr/>
          <p:nvPr/>
        </p:nvSpPr>
        <p:spPr>
          <a:xfrm>
            <a:off x="500040" y="24289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9"/>
          <p:cNvSpPr/>
          <p:nvPr/>
        </p:nvSpPr>
        <p:spPr>
          <a:xfrm>
            <a:off x="500040" y="31892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行驶的路程一定，则车轮的周长与车轮需转动的圈数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9"/>
          <p:cNvSpPr/>
          <p:nvPr/>
        </p:nvSpPr>
        <p:spPr>
          <a:xfrm>
            <a:off x="500040" y="44766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人跑步速度与他跑的路程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9"/>
          <p:cNvSpPr/>
          <p:nvPr/>
        </p:nvSpPr>
        <p:spPr>
          <a:xfrm>
            <a:off x="7643880" y="3214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9"/>
          <p:cNvSpPr/>
          <p:nvPr/>
        </p:nvSpPr>
        <p:spPr>
          <a:xfrm>
            <a:off x="7643880" y="4429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反比例应用题的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判断题目中两种相关联的量是否成反比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列出比例式，并解比例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检查后写出答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特别注意所得答案是否符合实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3"/>
          <p:cNvSpPr/>
          <p:nvPr/>
        </p:nvSpPr>
        <p:spPr>
          <a:xfrm>
            <a:off x="357120" y="1033560"/>
            <a:ext cx="6357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一想，判断下列说法是否正确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9"/>
          <p:cNvSpPr/>
          <p:nvPr/>
        </p:nvSpPr>
        <p:spPr>
          <a:xfrm>
            <a:off x="7643880" y="2428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9"/>
          <p:cNvSpPr/>
          <p:nvPr/>
        </p:nvSpPr>
        <p:spPr>
          <a:xfrm>
            <a:off x="500040" y="24289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9"/>
          <p:cNvSpPr/>
          <p:nvPr/>
        </p:nvSpPr>
        <p:spPr>
          <a:xfrm>
            <a:off x="500040" y="31892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行驶的路程一定，则车轮的周长与车轮需转动的圈数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9"/>
          <p:cNvSpPr/>
          <p:nvPr/>
        </p:nvSpPr>
        <p:spPr>
          <a:xfrm>
            <a:off x="500040" y="44766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人跑步速度与他跑的路程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9"/>
          <p:cNvSpPr/>
          <p:nvPr/>
        </p:nvSpPr>
        <p:spPr>
          <a:xfrm>
            <a:off x="7643880" y="3214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9"/>
          <p:cNvSpPr/>
          <p:nvPr/>
        </p:nvSpPr>
        <p:spPr>
          <a:xfrm>
            <a:off x="7643880" y="4429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049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课前复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991800"/>
            <a:ext cx="842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笔钱，可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支钢笔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支圆珠笔。每支钢笔比每支圆珠笔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每支钢笔和圆珠笔的价格各是多少元？这笔钱有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580000" y="4786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笔的价格和笔的数量成反比例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321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钢笔单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0  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圆珠笔单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5731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设每支钢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13572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每支钢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则每支圆珠笔的价格为            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3728880" y="2000160"/>
                <a:ext cx="13431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3041640" y="2714760"/>
                <a:ext cx="2954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1928880" y="3357720"/>
                <a:ext cx="2894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1"/>
              <p:cNvSpPr txBox="1"/>
              <p:nvPr/>
            </p:nvSpPr>
            <p:spPr>
              <a:xfrm>
                <a:off x="3537000" y="3929040"/>
                <a:ext cx="10666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2"/>
              <p:cNvSpPr txBox="1"/>
              <p:nvPr/>
            </p:nvSpPr>
            <p:spPr>
              <a:xfrm>
                <a:off x="885960" y="4643280"/>
                <a:ext cx="2406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3"/>
              <p:cNvSpPr txBox="1"/>
              <p:nvPr/>
            </p:nvSpPr>
            <p:spPr>
              <a:xfrm>
                <a:off x="5129280" y="4643280"/>
                <a:ext cx="2801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Text Box 14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每支钢笔的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这笔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21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设每支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怎样列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4360" y="13572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每支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钢笔的价格为             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3159000" y="2000160"/>
                <a:ext cx="1341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2809800" y="2635200"/>
                <a:ext cx="3689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4386240" y="3278160"/>
                <a:ext cx="29005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4557600" y="3940200"/>
                <a:ext cx="1069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12"/>
          <p:cNvSpPr/>
          <p:nvPr/>
        </p:nvSpPr>
        <p:spPr>
          <a:xfrm>
            <a:off x="1690560" y="4359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5572080" y="4421160"/>
                <a:ext cx="2801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Text Box 14"/>
          <p:cNvSpPr/>
          <p:nvPr/>
        </p:nvSpPr>
        <p:spPr>
          <a:xfrm>
            <a:off x="395280" y="5214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每支钢笔的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，圆珠笔的价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这笔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214200" y="1089000"/>
            <a:ext cx="892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练习</a:t>
            </a: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篇文章，编辑设计了以下几种排版方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214200" y="350028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页字数与页数成反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00"/>
          <p:cNvGrpSpPr/>
          <p:nvPr/>
        </p:nvGrpSpPr>
        <p:grpSpPr>
          <a:xfrm>
            <a:off x="214200" y="4643280"/>
            <a:ext cx="8572680" cy="1238400"/>
            <a:chOff x="214200" y="4643280"/>
            <a:chExt cx="8572680" cy="1238400"/>
          </a:xfrm>
        </p:grpSpPr>
        <p:sp>
          <p:nvSpPr>
            <p:cNvPr id="81" name="TextBox 21"/>
            <p:cNvSpPr/>
            <p:nvPr/>
          </p:nvSpPr>
          <p:spPr>
            <a:xfrm>
              <a:off x="214200" y="4643280"/>
              <a:ext cx="857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答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每页字数与页数成反比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因为他们的积值相等，例如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×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×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×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68"/>
            <p:cNvGrpSpPr/>
            <p:nvPr/>
          </p:nvGrpSpPr>
          <p:grpSpPr>
            <a:xfrm>
              <a:off x="1919160" y="5143320"/>
              <a:ext cx="2347920" cy="738360"/>
              <a:chOff x="1919160" y="5143320"/>
              <a:chExt cx="2347920" cy="738360"/>
            </a:xfrm>
          </p:grpSpPr>
          <p:sp>
            <p:nvSpPr>
              <p:cNvPr id="83" name="矩形 89"/>
              <p:cNvSpPr/>
              <p:nvPr/>
            </p:nvSpPr>
            <p:spPr>
              <a:xfrm>
                <a:off x="1919160" y="5357880"/>
                <a:ext cx="72396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24"/>
              <p:cNvSpPr/>
              <p:nvPr/>
            </p:nvSpPr>
            <p:spPr>
              <a:xfrm>
                <a:off x="3695760" y="5143320"/>
                <a:ext cx="57132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5" name=""/>
          <p:cNvGraphicFramePr/>
          <p:nvPr/>
        </p:nvGraphicFramePr>
        <p:xfrm>
          <a:off x="304920" y="1828800"/>
          <a:ext cx="8685000" cy="1447920"/>
        </p:xfrm>
        <a:graphic>
          <a:graphicData uri="http://schemas.openxmlformats.org/drawingml/2006/table">
            <a:tbl>
              <a:tblPr/>
              <a:tblGrid>
                <a:gridCol w="1699920"/>
                <a:gridCol w="1397160"/>
                <a:gridCol w="1397160"/>
                <a:gridCol w="1396800"/>
                <a:gridCol w="1397160"/>
                <a:gridCol w="1396800"/>
              </a:tblGrid>
              <a:tr h="915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页字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页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4428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自行车商行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元采购一批自行车，只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的辆数是只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辆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便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。这笔钱可以采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型车多少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 rot="10800000">
            <a:off x="826920" y="4147920"/>
            <a:ext cx="5329440" cy="1657080"/>
          </a:xfrm>
          <a:prstGeom prst="wedgeRoundRectCallout">
            <a:avLst>
              <a:gd name="adj1" fmla="val -63615"/>
              <a:gd name="adj2" fmla="val -34962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价一定，数量比是单价比的反比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的单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单价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Users\lywang4\Desktop\截图后的图片1\3.png"/>
          <p:cNvPicPr/>
          <p:nvPr/>
        </p:nvPicPr>
        <p:blipFill>
          <a:blip r:embed="rId1"/>
          <a:stretch/>
        </p:blipFill>
        <p:spPr>
          <a:xfrm>
            <a:off x="6659640" y="4419720"/>
            <a:ext cx="24843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971640" y="1197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498760" y="2157480"/>
                <a:ext cx="4159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2514600" y="3568680"/>
                <a:ext cx="4273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4"/>
          <p:cNvSpPr/>
          <p:nvPr/>
        </p:nvSpPr>
        <p:spPr>
          <a:xfrm>
            <a:off x="1116000" y="494820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笔钱可采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型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00000" y="1347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771640" y="1413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车单价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3147840" y="2565360"/>
                <a:ext cx="259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3666960" y="3429000"/>
                <a:ext cx="1393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2514600" y="4233960"/>
                <a:ext cx="4273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1187280" y="522936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笔钱可采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型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6516720" y="1844640"/>
            <a:ext cx="2303280" cy="1150920"/>
          </a:xfrm>
          <a:prstGeom prst="wedgeRectCallout">
            <a:avLst>
              <a:gd name="adj1" fmla="val -43726"/>
              <a:gd name="adj2" fmla="val 9248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量与单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cp:keywords/>
  <dc:language>en-US</dc:language>
  <cp:lastModifiedBy/>
  <dcterms:modified xsi:type="dcterms:W3CDTF">2017-12-21T14:06:40Z</dcterms:modified>
  <cp:revision>1</cp:revision>
  <dc:subject/>
  <dc:title/>
</cp:coreProperties>
</file>