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E2AA-8A0F-4D2F-B3C9-20E86467B4C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7C8A-7E89-4989-91BA-D317A54AD73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B697-E54D-4597-AFCE-E2389C50426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87F8-6C83-4BDD-9B82-6A1E73F6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8BE8-FC9F-4372-B1DE-4681B049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7842-3D83-443D-8AB3-9B22A1CF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05F8-4840-4A84-8D18-45634514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30EF-1BD4-413C-951F-913689D9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E2E8-D5CD-4633-BCE3-F2608A9A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6971-62B2-4C63-884B-B2D622F3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40D3-E6A5-42F7-9957-3A8606A8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F783-937A-4146-B12A-4272BED1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9E59-4F67-4777-BA22-0F0262DF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43B4-13CC-4BA5-AD8F-DB171632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AD0E-B482-4596-B7E3-EE07A8AD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BEA0-EB32-4B7A-9E7F-B6C1A283956B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6"/>
          <p:cNvSpPr/>
          <p:nvPr/>
        </p:nvSpPr>
        <p:spPr>
          <a:xfrm>
            <a:off x="357120" y="566640"/>
            <a:ext cx="4032360" cy="647640"/>
          </a:xfrm>
          <a:custGeom>
            <a:avLst/>
            <a:gdLst/>
            <a:ahLst/>
            <a:rect l="l" t="t" r="r" b="b"/>
            <a:pathLst>
              <a:path w="4032250" h="647700">
                <a:moveTo>
                  <a:pt x="107952" y="0"/>
                </a:moveTo>
                <a:lnTo>
                  <a:pt x="3924298" y="0"/>
                </a:lnTo>
                <a:lnTo>
                  <a:pt x="4032250" y="107952"/>
                </a:lnTo>
                <a:lnTo>
                  <a:pt x="4032250" y="647700"/>
                </a:lnTo>
                <a:lnTo>
                  <a:pt x="0" y="647700"/>
                </a:lnTo>
                <a:lnTo>
                  <a:pt x="0" y="107952"/>
                </a:lnTo>
                <a:cubicBezTo>
                  <a:pt x="0" y="48332"/>
                  <a:pt x="48332" y="0"/>
                  <a:pt x="107952" y="0"/>
                </a:cubicBezTo>
                <a:close/>
              </a:path>
            </a:pathLst>
          </a:cu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3"/>
          <p:cNvSpPr/>
          <p:nvPr/>
        </p:nvSpPr>
        <p:spPr>
          <a:xfrm>
            <a:off x="1684440" y="180180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.11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方向与位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"/>
          <p:cNvSpPr/>
          <p:nvPr/>
        </p:nvSpPr>
        <p:spPr>
          <a:xfrm>
            <a:off x="666720" y="62064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图片 1" descr="11111.png"/>
          <p:cNvPicPr/>
          <p:nvPr/>
        </p:nvPicPr>
        <p:blipFill>
          <a:blip r:embed="rId1"/>
          <a:stretch/>
        </p:blipFill>
        <p:spPr>
          <a:xfrm>
            <a:off x="4429080" y="2506680"/>
            <a:ext cx="1441440" cy="2657520"/>
          </a:xfrm>
          <a:prstGeom prst="rect">
            <a:avLst/>
          </a:prstGeom>
          <a:ln w="0">
            <a:noFill/>
          </a:ln>
        </p:spPr>
      </p:pic>
      <p:pic>
        <p:nvPicPr>
          <p:cNvPr id="374" name="图片 11" descr="图片1.jpg"/>
          <p:cNvPicPr/>
          <p:nvPr/>
        </p:nvPicPr>
        <p:blipFill>
          <a:blip r:embed="rId2"/>
          <a:stretch/>
        </p:blipFill>
        <p:spPr>
          <a:xfrm>
            <a:off x="1144440" y="1650960"/>
            <a:ext cx="6850080" cy="4321080"/>
          </a:xfrm>
          <a:prstGeom prst="rect">
            <a:avLst/>
          </a:prstGeom>
          <a:ln w="0">
            <a:noFill/>
          </a:ln>
        </p:spPr>
      </p:pic>
      <p:sp>
        <p:nvSpPr>
          <p:cNvPr id="375" name="标题 10"/>
          <p:cNvSpPr/>
          <p:nvPr/>
        </p:nvSpPr>
        <p:spPr>
          <a:xfrm>
            <a:off x="1324080" y="812880"/>
            <a:ext cx="7683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试一试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红枫岛在黎明岛南偏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4"/>
          <p:cNvSpPr/>
          <p:nvPr/>
        </p:nvSpPr>
        <p:spPr>
          <a:xfrm flipV="1">
            <a:off x="4604760" y="3787920"/>
            <a:ext cx="1150920" cy="1985760"/>
          </a:xfrm>
          <a:prstGeom prst="line">
            <a:avLst/>
          </a:prstGeom>
          <a:ln w="316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3"/>
          <a:stretch/>
        </p:blipFill>
        <p:spPr>
          <a:xfrm rot="7200000">
            <a:off x="3627000" y="3777840"/>
            <a:ext cx="2497320" cy="1001880"/>
          </a:xfrm>
          <a:prstGeom prst="rect">
            <a:avLst/>
          </a:prstGeom>
          <a:ln w="0">
            <a:noFill/>
          </a:ln>
        </p:spPr>
      </p:pic>
      <p:sp>
        <p:nvSpPr>
          <p:cNvPr id="378" name="TextBox 6"/>
          <p:cNvSpPr/>
          <p:nvPr/>
        </p:nvSpPr>
        <p:spPr>
          <a:xfrm>
            <a:off x="887400" y="2459160"/>
            <a:ext cx="37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÷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直接连接符 7"/>
          <p:cNvSpPr/>
          <p:nvPr/>
        </p:nvSpPr>
        <p:spPr>
          <a:xfrm>
            <a:off x="4789440" y="5465880"/>
            <a:ext cx="123840" cy="93600"/>
          </a:xfrm>
          <a:prstGeom prst="line">
            <a:avLst/>
          </a:prstGeom>
          <a:ln w="190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8"/>
          <p:cNvSpPr/>
          <p:nvPr/>
        </p:nvSpPr>
        <p:spPr>
          <a:xfrm>
            <a:off x="4451400" y="5603760"/>
            <a:ext cx="161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红枫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同心圆 9"/>
          <p:cNvSpPr/>
          <p:nvPr/>
        </p:nvSpPr>
        <p:spPr>
          <a:xfrm>
            <a:off x="4683240" y="5378400"/>
            <a:ext cx="214200" cy="214200"/>
          </a:xfrm>
          <a:custGeom>
            <a:avLst/>
            <a:gdLst/>
            <a:ahLst/>
            <a:rect l="l" t="t" r="r" b="b"/>
            <a:pathLst>
              <a:path w="214313" h="214313">
                <a:moveTo>
                  <a:pt x="0" y="107157"/>
                </a:moveTo>
                <a:cubicBezTo>
                  <a:pt x="0" y="47976"/>
                  <a:pt x="47976" y="0"/>
                  <a:pt x="107157" y="0"/>
                </a:cubicBezTo>
                <a:cubicBezTo>
                  <a:pt x="166338" y="0"/>
                  <a:pt x="214314" y="47976"/>
                  <a:pt x="214314" y="107157"/>
                </a:cubicBezTo>
                <a:cubicBezTo>
                  <a:pt x="214314" y="166338"/>
                  <a:pt x="166338" y="214314"/>
                  <a:pt x="107157" y="214314"/>
                </a:cubicBezTo>
                <a:cubicBezTo>
                  <a:pt x="47976" y="214314"/>
                  <a:pt x="0" y="166338"/>
                  <a:pt x="0" y="107157"/>
                </a:cubicBezTo>
                <a:close/>
                <a:moveTo>
                  <a:pt x="93762" y="107157"/>
                </a:moveTo>
                <a:cubicBezTo>
                  <a:pt x="93762" y="114555"/>
                  <a:pt x="99759" y="120552"/>
                  <a:pt x="107157" y="120552"/>
                </a:cubicBezTo>
                <a:cubicBezTo>
                  <a:pt x="114555" y="120552"/>
                  <a:pt x="120552" y="114555"/>
                  <a:pt x="120552" y="107157"/>
                </a:cubicBezTo>
                <a:cubicBezTo>
                  <a:pt x="120552" y="99759"/>
                  <a:pt x="114555" y="93762"/>
                  <a:pt x="107157" y="93762"/>
                </a:cubicBezTo>
                <a:cubicBezTo>
                  <a:pt x="99759" y="93762"/>
                  <a:pt x="93762" y="99759"/>
                  <a:pt x="93762" y="107157"/>
                </a:cubicBezTo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组合 12"/>
          <p:cNvGrpSpPr/>
          <p:nvPr/>
        </p:nvGrpSpPr>
        <p:grpSpPr>
          <a:xfrm>
            <a:off x="5165640" y="3892680"/>
            <a:ext cx="1009800" cy="1119240"/>
            <a:chOff x="5165640" y="3892680"/>
            <a:chExt cx="1009800" cy="1119240"/>
          </a:xfrm>
        </p:grpSpPr>
        <p:sp>
          <p:nvSpPr>
            <p:cNvPr id="383" name="弧形 10"/>
            <p:cNvSpPr/>
            <p:nvPr/>
          </p:nvSpPr>
          <p:spPr>
            <a:xfrm rot="10552200">
              <a:off x="5617800" y="3901680"/>
              <a:ext cx="268200" cy="264960"/>
            </a:xfrm>
            <a:custGeom>
              <a:avLst/>
              <a:gdLst/>
              <a:ahLst/>
              <a:rect l="l" t="t" r="r" b="b"/>
              <a:pathLst>
                <a:path stroke="0" w="268287" h="265246">
                  <a:moveTo>
                    <a:pt x="134143" y="0"/>
                  </a:moveTo>
                  <a:cubicBezTo>
                    <a:pt x="208229" y="0"/>
                    <a:pt x="268287" y="59377"/>
                    <a:pt x="268287" y="132623"/>
                  </a:cubicBezTo>
                  <a:lnTo>
                    <a:pt x="134144" y="132623"/>
                  </a:lnTo>
                  <a:cubicBezTo>
                    <a:pt x="134144" y="88415"/>
                    <a:pt x="134143" y="44208"/>
                    <a:pt x="134143" y="0"/>
                  </a:cubicBezTo>
                  <a:close/>
                </a:path>
                <a:path fill="none" w="268287" h="265246">
                  <a:moveTo>
                    <a:pt x="134143" y="0"/>
                  </a:moveTo>
                  <a:cubicBezTo>
                    <a:pt x="208229" y="0"/>
                    <a:pt x="268287" y="59377"/>
                    <a:pt x="268287" y="13262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Box 40"/>
            <p:cNvSpPr/>
            <p:nvPr/>
          </p:nvSpPr>
          <p:spPr>
            <a:xfrm>
              <a:off x="5165640" y="4491360"/>
              <a:ext cx="100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0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08240" y="68400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交流：确定某一地点的基本步骤是什么？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934640" y="1581120"/>
            <a:ext cx="7209000" cy="32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确定方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被观测点和观测点之间的方向和夹角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确定距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比例尺，算出图上距离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表示位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圆点标出位置，写出被观测物体名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668160" y="1531800"/>
            <a:ext cx="4202280" cy="424980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"/>
          <p:cNvSpPr/>
          <p:nvPr/>
        </p:nvSpPr>
        <p:spPr>
          <a:xfrm>
            <a:off x="4819680" y="1638360"/>
            <a:ext cx="405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市政府广场为观测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市政府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方向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距离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622440" y="973080"/>
            <a:ext cx="41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4780080" y="3290760"/>
            <a:ext cx="40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电信大楼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方向上，距离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6815160" y="22096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正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5790240" y="2779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7189560" y="3303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4917600" y="3857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5292720" y="3859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1"/>
          <p:cNvSpPr/>
          <p:nvPr/>
        </p:nvSpPr>
        <p:spPr>
          <a:xfrm>
            <a:off x="4871160" y="4416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Group 60"/>
          <p:cNvGrpSpPr/>
          <p:nvPr/>
        </p:nvGrpSpPr>
        <p:grpSpPr>
          <a:xfrm>
            <a:off x="4359240" y="2917800"/>
            <a:ext cx="1452600" cy="1295280"/>
            <a:chOff x="4359240" y="2917800"/>
            <a:chExt cx="1452600" cy="1295280"/>
          </a:xfrm>
        </p:grpSpPr>
        <p:sp>
          <p:nvSpPr>
            <p:cNvPr id="398" name="Line 31"/>
            <p:cNvSpPr/>
            <p:nvPr/>
          </p:nvSpPr>
          <p:spPr>
            <a:xfrm flipV="1">
              <a:off x="4359240" y="3040200"/>
              <a:ext cx="1332000" cy="1109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32"/>
            <p:cNvSpPr/>
            <p:nvPr/>
          </p:nvSpPr>
          <p:spPr>
            <a:xfrm>
              <a:off x="4761000" y="36925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0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rc 33"/>
            <p:cNvSpPr/>
            <p:nvPr/>
          </p:nvSpPr>
          <p:spPr>
            <a:xfrm rot="2113800">
              <a:off x="4563720" y="3952440"/>
              <a:ext cx="179280" cy="1843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fill="none" w="21082" h="21600">
                  <a:moveTo>
                    <a:pt x="-1" y="0"/>
                  </a:moveTo>
                  <a:cubicBezTo>
                    <a:pt x="10116" y="0"/>
                    <a:pt x="18878" y="7022"/>
                    <a:pt x="21081" y="16896"/>
                  </a:cubicBezTo>
                </a:path>
                <a:path stroke="0" w="21082" h="21600">
                  <a:moveTo>
                    <a:pt x="-1" y="0"/>
                  </a:moveTo>
                  <a:cubicBezTo>
                    <a:pt x="10116" y="0"/>
                    <a:pt x="18878" y="7022"/>
                    <a:pt x="21081" y="16896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 flipH="1" flipV="1">
              <a:off x="4719240" y="3689640"/>
              <a:ext cx="79920" cy="96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50"/>
            <p:cNvSpPr/>
            <p:nvPr/>
          </p:nvSpPr>
          <p:spPr>
            <a:xfrm flipH="1" flipV="1">
              <a:off x="5152680" y="3327480"/>
              <a:ext cx="79920" cy="96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59"/>
            <p:cNvSpPr/>
            <p:nvPr/>
          </p:nvSpPr>
          <p:spPr>
            <a:xfrm>
              <a:off x="5556240" y="2917800"/>
              <a:ext cx="255600" cy="255600"/>
            </a:xfrm>
            <a:custGeom>
              <a:avLst/>
              <a:gdLst>
                <a:gd name="textAreaLeft" fmla="*/ 37800 w 255600"/>
                <a:gd name="textAreaRight" fmla="*/ 217800 w 255600"/>
                <a:gd name="textAreaTop" fmla="*/ 37800 h 255600"/>
                <a:gd name="textAreaBottom" fmla="*/ 217800 h 2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9529" y="10800"/>
                  </a:moveTo>
                  <a:cubicBezTo>
                    <a:pt x="9529" y="11502"/>
                    <a:pt x="10098" y="12071"/>
                    <a:pt x="10800" y="12071"/>
                  </a:cubicBezTo>
                  <a:cubicBezTo>
                    <a:pt x="11502" y="12071"/>
                    <a:pt x="12071" y="11502"/>
                    <a:pt x="12071" y="10800"/>
                  </a:cubicBezTo>
                  <a:cubicBezTo>
                    <a:pt x="12071" y="10098"/>
                    <a:pt x="11502" y="9529"/>
                    <a:pt x="10800" y="9529"/>
                  </a:cubicBezTo>
                  <a:cubicBezTo>
                    <a:pt x="10098" y="9529"/>
                    <a:pt x="9529" y="10098"/>
                    <a:pt x="9529" y="10800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Rectangle 2"/>
          <p:cNvSpPr/>
          <p:nvPr/>
        </p:nvSpPr>
        <p:spPr>
          <a:xfrm>
            <a:off x="457200" y="960480"/>
            <a:ext cx="83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石油勘探队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东偏北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º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向上，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处打出一口油井。请你在平面图上确定油井的位置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35"/>
          <p:cNvGrpSpPr/>
          <p:nvPr/>
        </p:nvGrpSpPr>
        <p:grpSpPr>
          <a:xfrm>
            <a:off x="2341800" y="2133720"/>
            <a:ext cx="4113720" cy="4017600"/>
            <a:chOff x="2341800" y="2133720"/>
            <a:chExt cx="4113720" cy="4017600"/>
          </a:xfrm>
        </p:grpSpPr>
        <p:sp>
          <p:nvSpPr>
            <p:cNvPr id="406" name="Rectangle 15"/>
            <p:cNvSpPr/>
            <p:nvPr/>
          </p:nvSpPr>
          <p:spPr>
            <a:xfrm>
              <a:off x="6061320" y="3851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6"/>
            <p:cNvSpPr/>
            <p:nvPr/>
          </p:nvSpPr>
          <p:spPr>
            <a:xfrm>
              <a:off x="2341800" y="3851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7"/>
            <p:cNvSpPr/>
            <p:nvPr/>
          </p:nvSpPr>
          <p:spPr>
            <a:xfrm>
              <a:off x="4175640" y="56307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8"/>
            <p:cNvSpPr/>
            <p:nvPr/>
          </p:nvSpPr>
          <p:spPr>
            <a:xfrm>
              <a:off x="4175640" y="2133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3"/>
            <p:cNvSpPr/>
            <p:nvPr/>
          </p:nvSpPr>
          <p:spPr>
            <a:xfrm>
              <a:off x="2741400" y="4148280"/>
              <a:ext cx="32544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4"/>
            <p:cNvSpPr/>
            <p:nvPr/>
          </p:nvSpPr>
          <p:spPr>
            <a:xfrm>
              <a:off x="4368600" y="2598120"/>
              <a:ext cx="0" cy="3097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19"/>
            <p:cNvSpPr/>
            <p:nvPr/>
          </p:nvSpPr>
          <p:spPr>
            <a:xfrm>
              <a:off x="4233960" y="4019400"/>
              <a:ext cx="255600" cy="255600"/>
            </a:xfrm>
            <a:custGeom>
              <a:avLst/>
              <a:gdLst>
                <a:gd name="textAreaLeft" fmla="*/ 37800 w 255600"/>
                <a:gd name="textAreaRight" fmla="*/ 217800 w 255600"/>
                <a:gd name="textAreaTop" fmla="*/ 37800 h 255600"/>
                <a:gd name="textAreaBottom" fmla="*/ 217800 h 2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9529" y="10800"/>
                  </a:moveTo>
                  <a:cubicBezTo>
                    <a:pt x="9529" y="11502"/>
                    <a:pt x="10098" y="12071"/>
                    <a:pt x="10800" y="12071"/>
                  </a:cubicBezTo>
                  <a:cubicBezTo>
                    <a:pt x="11502" y="12071"/>
                    <a:pt x="12071" y="11502"/>
                    <a:pt x="12071" y="10800"/>
                  </a:cubicBezTo>
                  <a:cubicBezTo>
                    <a:pt x="12071" y="10098"/>
                    <a:pt x="11502" y="9529"/>
                    <a:pt x="10800" y="9529"/>
                  </a:cubicBezTo>
                  <a:cubicBezTo>
                    <a:pt x="10098" y="9529"/>
                    <a:pt x="9529" y="10098"/>
                    <a:pt x="9529" y="10800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62"/>
          <p:cNvGrpSpPr/>
          <p:nvPr/>
        </p:nvGrpSpPr>
        <p:grpSpPr>
          <a:xfrm>
            <a:off x="2430720" y="5021280"/>
            <a:ext cx="1332720" cy="743040"/>
            <a:chOff x="2430720" y="5021280"/>
            <a:chExt cx="1332720" cy="743040"/>
          </a:xfrm>
        </p:grpSpPr>
        <p:grpSp>
          <p:nvGrpSpPr>
            <p:cNvPr id="414" name="Group 40"/>
            <p:cNvGrpSpPr/>
            <p:nvPr/>
          </p:nvGrpSpPr>
          <p:grpSpPr>
            <a:xfrm>
              <a:off x="2754360" y="5619600"/>
              <a:ext cx="577800" cy="144720"/>
              <a:chOff x="2754360" y="5619600"/>
              <a:chExt cx="577800" cy="144720"/>
            </a:xfrm>
          </p:grpSpPr>
          <p:sp>
            <p:nvSpPr>
              <p:cNvPr id="415" name="Line 41"/>
              <p:cNvSpPr/>
              <p:nvPr/>
            </p:nvSpPr>
            <p:spPr>
              <a:xfrm>
                <a:off x="2754360" y="5764320"/>
                <a:ext cx="5778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42"/>
              <p:cNvSpPr/>
              <p:nvPr/>
            </p:nvSpPr>
            <p:spPr>
              <a:xfrm flipV="1">
                <a:off x="2755800" y="5619600"/>
                <a:ext cx="0" cy="144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43"/>
              <p:cNvSpPr/>
              <p:nvPr/>
            </p:nvSpPr>
            <p:spPr>
              <a:xfrm flipV="1">
                <a:off x="3332160" y="5619600"/>
                <a:ext cx="0" cy="144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Rectangle 61"/>
            <p:cNvSpPr/>
            <p:nvPr/>
          </p:nvSpPr>
          <p:spPr>
            <a:xfrm>
              <a:off x="2430720" y="5021280"/>
              <a:ext cx="13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千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Rectangle 63"/>
          <p:cNvSpPr/>
          <p:nvPr/>
        </p:nvSpPr>
        <p:spPr>
          <a:xfrm>
            <a:off x="3851280" y="4149720"/>
            <a:ext cx="4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64"/>
          <p:cNvSpPr/>
          <p:nvPr/>
        </p:nvSpPr>
        <p:spPr>
          <a:xfrm>
            <a:off x="5843520" y="26370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油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796680"/>
            <a:ext cx="235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确定方向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cxnSp>
        <p:nvCxnSpPr>
          <p:cNvPr id="255" name="直接箭头连接符 5"/>
          <p:cNvCxnSpPr/>
          <p:nvPr/>
        </p:nvCxnSpPr>
        <p:spPr>
          <a:xfrm flipH="1" flipV="1">
            <a:off x="4560120" y="1989000"/>
            <a:ext cx="1080" cy="1440360"/>
          </a:xfrm>
          <a:prstGeom prst="straightConnector1">
            <a:avLst/>
          </a:prstGeom>
          <a:ln w="31680">
            <a:solidFill>
              <a:srgbClr val="0099cc"/>
            </a:solidFill>
            <a:miter/>
            <a:tailEnd len="med" type="arrow" w="med"/>
          </a:ln>
        </p:spPr>
      </p:cxnSp>
      <p:cxnSp>
        <p:nvCxnSpPr>
          <p:cNvPr id="256" name="直接箭头连接符 6"/>
          <p:cNvCxnSpPr/>
          <p:nvPr/>
        </p:nvCxnSpPr>
        <p:spPr>
          <a:xfrm flipH="1">
            <a:off x="4560120" y="3429000"/>
            <a:ext cx="1080" cy="1440360"/>
          </a:xfrm>
          <a:prstGeom prst="straightConnector1">
            <a:avLst/>
          </a:prstGeom>
          <a:ln w="31680">
            <a:solidFill>
              <a:srgbClr val="0099cc"/>
            </a:solidFill>
            <a:miter/>
            <a:tailEnd len="med" type="arrow" w="med"/>
          </a:ln>
        </p:spPr>
      </p:cxnSp>
      <p:cxnSp>
        <p:nvCxnSpPr>
          <p:cNvPr id="257" name="直接箭头连接符 7"/>
          <p:cNvCxnSpPr/>
          <p:nvPr/>
        </p:nvCxnSpPr>
        <p:spPr>
          <a:xfrm flipH="1">
            <a:off x="3119040" y="3427920"/>
            <a:ext cx="1442160" cy="1080"/>
          </a:xfrm>
          <a:prstGeom prst="straightConnector1">
            <a:avLst/>
          </a:prstGeom>
          <a:ln w="31680">
            <a:solidFill>
              <a:srgbClr val="0099cc"/>
            </a:solidFill>
            <a:miter/>
            <a:tailEnd len="med" type="arrow" w="med"/>
          </a:ln>
        </p:spPr>
      </p:cxnSp>
      <p:cxnSp>
        <p:nvCxnSpPr>
          <p:cNvPr id="258" name="直接箭头连接符 8"/>
          <p:cNvCxnSpPr/>
          <p:nvPr/>
        </p:nvCxnSpPr>
        <p:spPr>
          <a:xfrm>
            <a:off x="4566240" y="3427920"/>
            <a:ext cx="1440360" cy="1080"/>
          </a:xfrm>
          <a:prstGeom prst="straightConnector1">
            <a:avLst/>
          </a:prstGeom>
          <a:ln w="31680">
            <a:solidFill>
              <a:srgbClr val="0099cc"/>
            </a:solidFill>
            <a:miter/>
            <a:tailEnd len="med" type="arrow" w="med"/>
          </a:ln>
        </p:spPr>
      </p:cxnSp>
      <p:sp>
        <p:nvSpPr>
          <p:cNvPr id="259" name="同心圆 4"/>
          <p:cNvSpPr/>
          <p:nvPr/>
        </p:nvSpPr>
        <p:spPr>
          <a:xfrm>
            <a:off x="4452840" y="3309840"/>
            <a:ext cx="214560" cy="214560"/>
          </a:xfrm>
          <a:custGeom>
            <a:avLst/>
            <a:gdLst/>
            <a:ahLst/>
            <a:rect l="l" t="t" r="r" b="b"/>
            <a:pathLst>
              <a:path w="214312" h="214312">
                <a:moveTo>
                  <a:pt x="0" y="107156"/>
                </a:moveTo>
                <a:cubicBezTo>
                  <a:pt x="0" y="47975"/>
                  <a:pt x="47975" y="0"/>
                  <a:pt x="107156" y="0"/>
                </a:cubicBezTo>
                <a:cubicBezTo>
                  <a:pt x="166337" y="0"/>
                  <a:pt x="214312" y="47975"/>
                  <a:pt x="214312" y="107156"/>
                </a:cubicBezTo>
                <a:cubicBezTo>
                  <a:pt x="214312" y="166337"/>
                  <a:pt x="166337" y="214312"/>
                  <a:pt x="107156" y="214312"/>
                </a:cubicBezTo>
                <a:cubicBezTo>
                  <a:pt x="47975" y="214312"/>
                  <a:pt x="0" y="166337"/>
                  <a:pt x="0" y="107156"/>
                </a:cubicBezTo>
                <a:close/>
                <a:moveTo>
                  <a:pt x="93762" y="107156"/>
                </a:moveTo>
                <a:cubicBezTo>
                  <a:pt x="93762" y="114554"/>
                  <a:pt x="99759" y="120551"/>
                  <a:pt x="107157" y="120551"/>
                </a:cubicBezTo>
                <a:cubicBezTo>
                  <a:pt x="114555" y="120551"/>
                  <a:pt x="120552" y="114554"/>
                  <a:pt x="120552" y="107156"/>
                </a:cubicBezTo>
                <a:cubicBezTo>
                  <a:pt x="120552" y="99758"/>
                  <a:pt x="114555" y="93761"/>
                  <a:pt x="107157" y="93761"/>
                </a:cubicBezTo>
                <a:cubicBezTo>
                  <a:pt x="99759" y="93761"/>
                  <a:pt x="93762" y="99758"/>
                  <a:pt x="93762" y="107156"/>
                </a:cubicBezTo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9"/>
          <p:cNvSpPr/>
          <p:nvPr/>
        </p:nvSpPr>
        <p:spPr>
          <a:xfrm>
            <a:off x="4307040" y="1542960"/>
            <a:ext cx="534960" cy="4748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0"/>
          <p:cNvSpPr/>
          <p:nvPr/>
        </p:nvSpPr>
        <p:spPr>
          <a:xfrm>
            <a:off x="4303800" y="1054080"/>
            <a:ext cx="536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黑体"/>
                <a:ea typeface="黑体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11"/>
          <p:cNvSpPr/>
          <p:nvPr/>
        </p:nvSpPr>
        <p:spPr>
          <a:xfrm>
            <a:off x="4303800" y="4937040"/>
            <a:ext cx="536400" cy="4748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303800" y="5423040"/>
            <a:ext cx="5364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黑体"/>
                <a:ea typeface="黑体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3"/>
          <p:cNvSpPr/>
          <p:nvPr/>
        </p:nvSpPr>
        <p:spPr>
          <a:xfrm>
            <a:off x="2604960" y="3191040"/>
            <a:ext cx="534960" cy="475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4"/>
          <p:cNvSpPr/>
          <p:nvPr/>
        </p:nvSpPr>
        <p:spPr>
          <a:xfrm>
            <a:off x="2057400" y="3191040"/>
            <a:ext cx="5349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黑体"/>
                <a:ea typeface="黑体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5"/>
          <p:cNvSpPr/>
          <p:nvPr/>
        </p:nvSpPr>
        <p:spPr>
          <a:xfrm>
            <a:off x="5986440" y="3191040"/>
            <a:ext cx="534960" cy="475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6"/>
          <p:cNvSpPr/>
          <p:nvPr/>
        </p:nvSpPr>
        <p:spPr>
          <a:xfrm>
            <a:off x="6532560" y="3191040"/>
            <a:ext cx="5349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黑体"/>
                <a:ea typeface="黑体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7"/>
          <p:cNvSpPr/>
          <p:nvPr/>
        </p:nvSpPr>
        <p:spPr>
          <a:xfrm>
            <a:off x="4303800" y="4935600"/>
            <a:ext cx="5364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8"/>
          <p:cNvSpPr/>
          <p:nvPr/>
        </p:nvSpPr>
        <p:spPr>
          <a:xfrm>
            <a:off x="2592360" y="3191040"/>
            <a:ext cx="5349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9"/>
          <p:cNvSpPr/>
          <p:nvPr/>
        </p:nvSpPr>
        <p:spPr>
          <a:xfrm>
            <a:off x="5975280" y="3201840"/>
            <a:ext cx="534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21"/>
          <p:cNvSpPr/>
          <p:nvPr/>
        </p:nvSpPr>
        <p:spPr>
          <a:xfrm>
            <a:off x="5568840" y="1704960"/>
            <a:ext cx="92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东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22"/>
          <p:cNvSpPr/>
          <p:nvPr/>
        </p:nvSpPr>
        <p:spPr>
          <a:xfrm>
            <a:off x="5510160" y="1704960"/>
            <a:ext cx="1068480" cy="47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23"/>
          <p:cNvSpPr/>
          <p:nvPr/>
        </p:nvSpPr>
        <p:spPr>
          <a:xfrm>
            <a:off x="5543640" y="4564080"/>
            <a:ext cx="1068120" cy="47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4"/>
          <p:cNvSpPr/>
          <p:nvPr/>
        </p:nvSpPr>
        <p:spPr>
          <a:xfrm>
            <a:off x="2633760" y="1701720"/>
            <a:ext cx="1069920" cy="47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25"/>
          <p:cNvSpPr/>
          <p:nvPr/>
        </p:nvSpPr>
        <p:spPr>
          <a:xfrm>
            <a:off x="2666880" y="4562640"/>
            <a:ext cx="1069920" cy="475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26"/>
          <p:cNvSpPr/>
          <p:nvPr/>
        </p:nvSpPr>
        <p:spPr>
          <a:xfrm>
            <a:off x="2716200" y="1714680"/>
            <a:ext cx="9270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西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27"/>
          <p:cNvSpPr/>
          <p:nvPr/>
        </p:nvSpPr>
        <p:spPr>
          <a:xfrm>
            <a:off x="2738520" y="4562640"/>
            <a:ext cx="9270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西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28"/>
          <p:cNvSpPr/>
          <p:nvPr/>
        </p:nvSpPr>
        <p:spPr>
          <a:xfrm>
            <a:off x="5610240" y="4572000"/>
            <a:ext cx="92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东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组合 11"/>
          <p:cNvGrpSpPr/>
          <p:nvPr/>
        </p:nvGrpSpPr>
        <p:grpSpPr>
          <a:xfrm>
            <a:off x="936720" y="1363680"/>
            <a:ext cx="7200720" cy="4654440"/>
            <a:chOff x="936720" y="1363680"/>
            <a:chExt cx="7200720" cy="4654440"/>
          </a:xfrm>
        </p:grpSpPr>
        <p:pic>
          <p:nvPicPr>
            <p:cNvPr id="280" name="Picture 5" descr=""/>
            <p:cNvPicPr/>
            <p:nvPr/>
          </p:nvPicPr>
          <p:blipFill>
            <a:blip r:embed="rId1"/>
            <a:stretch/>
          </p:blipFill>
          <p:spPr>
            <a:xfrm>
              <a:off x="1860840" y="1789200"/>
              <a:ext cx="5193360" cy="42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矩形 6"/>
            <p:cNvSpPr/>
            <p:nvPr/>
          </p:nvSpPr>
          <p:spPr>
            <a:xfrm>
              <a:off x="5218200" y="1839600"/>
              <a:ext cx="534960" cy="475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7"/>
            <p:cNvSpPr/>
            <p:nvPr/>
          </p:nvSpPr>
          <p:spPr>
            <a:xfrm>
              <a:off x="5216400" y="1363680"/>
              <a:ext cx="5349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9"/>
            <p:cNvSpPr/>
            <p:nvPr/>
          </p:nvSpPr>
          <p:spPr>
            <a:xfrm>
              <a:off x="936720" y="2545920"/>
              <a:ext cx="122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灯塔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Box 10"/>
            <p:cNvSpPr/>
            <p:nvPr/>
          </p:nvSpPr>
          <p:spPr>
            <a:xfrm>
              <a:off x="6912360" y="2545920"/>
              <a:ext cx="122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灯塔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Box 9"/>
          <p:cNvSpPr/>
          <p:nvPr/>
        </p:nvSpPr>
        <p:spPr>
          <a:xfrm>
            <a:off x="696960" y="915840"/>
            <a:ext cx="78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灯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灯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各在轮船的什么方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9" descr=""/>
          <p:cNvPicPr/>
          <p:nvPr/>
        </p:nvPicPr>
        <p:blipFill>
          <a:blip r:embed="rId2"/>
          <a:stretch/>
        </p:blipFill>
        <p:spPr>
          <a:xfrm>
            <a:off x="1419120" y="5016600"/>
            <a:ext cx="330372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组合 12"/>
          <p:cNvGrpSpPr/>
          <p:nvPr/>
        </p:nvGrpSpPr>
        <p:grpSpPr>
          <a:xfrm>
            <a:off x="1052640" y="1771560"/>
            <a:ext cx="6448320" cy="3368880"/>
            <a:chOff x="1052640" y="1771560"/>
            <a:chExt cx="6448320" cy="3368880"/>
          </a:xfrm>
        </p:grpSpPr>
        <p:pic>
          <p:nvPicPr>
            <p:cNvPr id="288" name="Picture 5" descr=""/>
            <p:cNvPicPr/>
            <p:nvPr/>
          </p:nvPicPr>
          <p:blipFill>
            <a:blip r:embed="rId1"/>
            <a:stretch/>
          </p:blipFill>
          <p:spPr>
            <a:xfrm>
              <a:off x="1880280" y="2079720"/>
              <a:ext cx="465084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矩形 8"/>
            <p:cNvSpPr/>
            <p:nvPr/>
          </p:nvSpPr>
          <p:spPr>
            <a:xfrm>
              <a:off x="4886280" y="2116080"/>
              <a:ext cx="479160" cy="344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9"/>
            <p:cNvSpPr/>
            <p:nvPr/>
          </p:nvSpPr>
          <p:spPr>
            <a:xfrm>
              <a:off x="4884840" y="1771560"/>
              <a:ext cx="479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Box 16"/>
            <p:cNvSpPr/>
            <p:nvPr/>
          </p:nvSpPr>
          <p:spPr>
            <a:xfrm>
              <a:off x="1052640" y="262728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灯塔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17"/>
            <p:cNvSpPr/>
            <p:nvPr/>
          </p:nvSpPr>
          <p:spPr>
            <a:xfrm>
              <a:off x="6404040" y="262728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灯塔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文本占位符 4"/>
          <p:cNvSpPr/>
          <p:nvPr/>
        </p:nvSpPr>
        <p:spPr>
          <a:xfrm>
            <a:off x="595440" y="635040"/>
            <a:ext cx="795312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轮船为观察点，灯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轮船的什么方向？灯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占位符 4"/>
          <p:cNvSpPr/>
          <p:nvPr/>
        </p:nvSpPr>
        <p:spPr>
          <a:xfrm>
            <a:off x="6108840" y="3076560"/>
            <a:ext cx="1228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东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下箭头 15"/>
          <p:cNvSpPr/>
          <p:nvPr/>
        </p:nvSpPr>
        <p:spPr>
          <a:xfrm>
            <a:off x="6541920" y="3787920"/>
            <a:ext cx="297000" cy="7128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占位符 4"/>
          <p:cNvSpPr/>
          <p:nvPr/>
        </p:nvSpPr>
        <p:spPr>
          <a:xfrm>
            <a:off x="5924520" y="4478400"/>
            <a:ext cx="1531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北偏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占位符 4"/>
          <p:cNvSpPr/>
          <p:nvPr/>
        </p:nvSpPr>
        <p:spPr>
          <a:xfrm>
            <a:off x="1231920" y="3146400"/>
            <a:ext cx="1227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西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下箭头 18"/>
          <p:cNvSpPr/>
          <p:nvPr/>
        </p:nvSpPr>
        <p:spPr>
          <a:xfrm>
            <a:off x="1714680" y="3840120"/>
            <a:ext cx="296640" cy="71280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占位符 4"/>
          <p:cNvSpPr/>
          <p:nvPr/>
        </p:nvSpPr>
        <p:spPr>
          <a:xfrm>
            <a:off x="1046160" y="4554360"/>
            <a:ext cx="15318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北偏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0"/>
          <p:cNvSpPr/>
          <p:nvPr/>
        </p:nvSpPr>
        <p:spPr>
          <a:xfrm>
            <a:off x="1349280" y="5707080"/>
            <a:ext cx="53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如何更准确描述它们的位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23"/>
          <p:cNvSpPr/>
          <p:nvPr/>
        </p:nvSpPr>
        <p:spPr>
          <a:xfrm>
            <a:off x="4998960" y="4680000"/>
            <a:ext cx="190440" cy="1904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24"/>
          <p:cNvSpPr/>
          <p:nvPr/>
        </p:nvSpPr>
        <p:spPr>
          <a:xfrm>
            <a:off x="1919160" y="2662200"/>
            <a:ext cx="190800" cy="192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25"/>
          <p:cNvSpPr/>
          <p:nvPr/>
        </p:nvSpPr>
        <p:spPr>
          <a:xfrm>
            <a:off x="6249960" y="2741760"/>
            <a:ext cx="192240" cy="1904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标题 9"/>
          <p:cNvSpPr/>
          <p:nvPr/>
        </p:nvSpPr>
        <p:spPr>
          <a:xfrm>
            <a:off x="1122480" y="4941720"/>
            <a:ext cx="770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灯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轮船的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北偏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9" descr=""/>
          <p:cNvPicPr/>
          <p:nvPr/>
        </p:nvPicPr>
        <p:blipFill>
          <a:blip r:embed="rId2"/>
          <a:stretch/>
        </p:blipFill>
        <p:spPr>
          <a:xfrm>
            <a:off x="5484960" y="5111640"/>
            <a:ext cx="330336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44" descr="11111.png"/>
          <p:cNvPicPr/>
          <p:nvPr/>
        </p:nvPicPr>
        <p:blipFill>
          <a:blip r:embed="rId1"/>
          <a:stretch/>
        </p:blipFill>
        <p:spPr>
          <a:xfrm>
            <a:off x="5066640" y="3047400"/>
            <a:ext cx="1119240" cy="2414520"/>
          </a:xfrm>
          <a:prstGeom prst="rect">
            <a:avLst/>
          </a:prstGeom>
          <a:ln w="0">
            <a:noFill/>
          </a:ln>
        </p:spPr>
      </p:pic>
      <p:sp>
        <p:nvSpPr>
          <p:cNvPr id="307" name="文本占位符 4"/>
          <p:cNvSpPr/>
          <p:nvPr/>
        </p:nvSpPr>
        <p:spPr>
          <a:xfrm>
            <a:off x="938160" y="639720"/>
            <a:ext cx="744552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轮船为观察点，灯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轮船的什么方向？灯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呢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组合 39"/>
          <p:cNvGrpSpPr/>
          <p:nvPr/>
        </p:nvGrpSpPr>
        <p:grpSpPr>
          <a:xfrm>
            <a:off x="6019920" y="2624040"/>
            <a:ext cx="1531800" cy="1905120"/>
            <a:chOff x="6019920" y="2624040"/>
            <a:chExt cx="1531800" cy="1905120"/>
          </a:xfrm>
        </p:grpSpPr>
        <p:sp>
          <p:nvSpPr>
            <p:cNvPr id="309" name="文本占位符 4"/>
            <p:cNvSpPr/>
            <p:nvPr/>
          </p:nvSpPr>
          <p:spPr>
            <a:xfrm>
              <a:off x="6203880" y="2624040"/>
              <a:ext cx="12286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东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下箭头 15"/>
            <p:cNvSpPr/>
            <p:nvPr/>
          </p:nvSpPr>
          <p:spPr>
            <a:xfrm>
              <a:off x="6637320" y="3198600"/>
              <a:ext cx="296640" cy="712800"/>
            </a:xfrm>
            <a:prstGeom prst="downArrow">
              <a:avLst>
                <a:gd name="adj1" fmla="val 50000"/>
                <a:gd name="adj2" fmla="val 50038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文本占位符 4"/>
            <p:cNvSpPr/>
            <p:nvPr/>
          </p:nvSpPr>
          <p:spPr>
            <a:xfrm>
              <a:off x="6019920" y="3889440"/>
              <a:ext cx="1531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北偏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直接连接符 22"/>
          <p:cNvSpPr/>
          <p:nvPr/>
        </p:nvSpPr>
        <p:spPr>
          <a:xfrm>
            <a:off x="2124000" y="2297160"/>
            <a:ext cx="3017880" cy="1903320"/>
          </a:xfrm>
          <a:prstGeom prst="line">
            <a:avLst/>
          </a:prstGeom>
          <a:ln w="4752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31"/>
          <p:cNvSpPr/>
          <p:nvPr/>
        </p:nvSpPr>
        <p:spPr>
          <a:xfrm flipH="1">
            <a:off x="5137200" y="2419200"/>
            <a:ext cx="1006560" cy="1785960"/>
          </a:xfrm>
          <a:prstGeom prst="line">
            <a:avLst/>
          </a:prstGeom>
          <a:ln w="4752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33"/>
          <p:cNvSpPr/>
          <p:nvPr/>
        </p:nvSpPr>
        <p:spPr>
          <a:xfrm>
            <a:off x="5148360" y="1978200"/>
            <a:ext cx="0" cy="2253960"/>
          </a:xfrm>
          <a:prstGeom prst="line">
            <a:avLst/>
          </a:prstGeom>
          <a:ln w="4752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椭圆 23"/>
          <p:cNvSpPr/>
          <p:nvPr/>
        </p:nvSpPr>
        <p:spPr>
          <a:xfrm>
            <a:off x="5057640" y="4094280"/>
            <a:ext cx="190800" cy="1904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25"/>
          <p:cNvSpPr/>
          <p:nvPr/>
        </p:nvSpPr>
        <p:spPr>
          <a:xfrm>
            <a:off x="6094440" y="2255760"/>
            <a:ext cx="192240" cy="192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直接箭头连接符 36"/>
          <p:cNvCxnSpPr/>
          <p:nvPr/>
        </p:nvCxnSpPr>
        <p:spPr>
          <a:xfrm flipH="1" flipV="1">
            <a:off x="5147640" y="1755000"/>
            <a:ext cx="1080" cy="1934280"/>
          </a:xfrm>
          <a:prstGeom prst="straightConnector1">
            <a:avLst/>
          </a:prstGeom>
          <a:ln w="47520">
            <a:solidFill>
              <a:srgbClr val="5b9bd5"/>
            </a:solidFill>
            <a:miter/>
            <a:tailEnd len="med" type="triangle" w="med"/>
          </a:ln>
        </p:spPr>
      </p:cxnSp>
      <p:grpSp>
        <p:nvGrpSpPr>
          <p:cNvPr id="318" name="组合 43"/>
          <p:cNvGrpSpPr/>
          <p:nvPr/>
        </p:nvGrpSpPr>
        <p:grpSpPr>
          <a:xfrm>
            <a:off x="1619280" y="2197080"/>
            <a:ext cx="1531800" cy="2040120"/>
            <a:chOff x="1619280" y="2197080"/>
            <a:chExt cx="1531800" cy="2040120"/>
          </a:xfrm>
        </p:grpSpPr>
        <p:sp>
          <p:nvSpPr>
            <p:cNvPr id="319" name="椭圆 24"/>
            <p:cNvSpPr/>
            <p:nvPr/>
          </p:nvSpPr>
          <p:spPr>
            <a:xfrm>
              <a:off x="2055600" y="2197080"/>
              <a:ext cx="190440" cy="190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文本占位符 4"/>
            <p:cNvSpPr/>
            <p:nvPr/>
          </p:nvSpPr>
          <p:spPr>
            <a:xfrm>
              <a:off x="1695600" y="2448720"/>
              <a:ext cx="1227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西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下箭头 41"/>
            <p:cNvSpPr/>
            <p:nvPr/>
          </p:nvSpPr>
          <p:spPr>
            <a:xfrm>
              <a:off x="2178000" y="3019320"/>
              <a:ext cx="296640" cy="712800"/>
            </a:xfrm>
            <a:prstGeom prst="downArrow">
              <a:avLst>
                <a:gd name="adj1" fmla="val 50000"/>
                <a:gd name="adj2" fmla="val 50038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文本占位符 4"/>
            <p:cNvSpPr/>
            <p:nvPr/>
          </p:nvSpPr>
          <p:spPr>
            <a:xfrm>
              <a:off x="1619280" y="3597480"/>
              <a:ext cx="1531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北偏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弧形 46"/>
          <p:cNvSpPr/>
          <p:nvPr/>
        </p:nvSpPr>
        <p:spPr>
          <a:xfrm rot="20740200">
            <a:off x="4971600" y="3723840"/>
            <a:ext cx="398520" cy="258840"/>
          </a:xfrm>
          <a:custGeom>
            <a:avLst/>
            <a:gdLst/>
            <a:ahLst/>
            <a:rect l="l" t="t" r="r" b="b"/>
            <a:pathLst>
              <a:path stroke="0" w="398463" h="258763">
                <a:moveTo>
                  <a:pt x="199231" y="0"/>
                </a:moveTo>
                <a:cubicBezTo>
                  <a:pt x="309264" y="0"/>
                  <a:pt x="398463" y="57926"/>
                  <a:pt x="398463" y="129382"/>
                </a:cubicBezTo>
                <a:lnTo>
                  <a:pt x="199232" y="129382"/>
                </a:lnTo>
                <a:cubicBezTo>
                  <a:pt x="199232" y="86255"/>
                  <a:pt x="199231" y="43127"/>
                  <a:pt x="199231" y="0"/>
                </a:cubicBezTo>
                <a:close/>
              </a:path>
              <a:path fill="none" w="398463" h="258763">
                <a:moveTo>
                  <a:pt x="199231" y="0"/>
                </a:moveTo>
                <a:cubicBezTo>
                  <a:pt x="309264" y="0"/>
                  <a:pt x="398463" y="57926"/>
                  <a:pt x="398463" y="129382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占位符 4"/>
          <p:cNvSpPr/>
          <p:nvPr/>
        </p:nvSpPr>
        <p:spPr>
          <a:xfrm>
            <a:off x="4753080" y="3062160"/>
            <a:ext cx="1531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标题 9"/>
          <p:cNvSpPr/>
          <p:nvPr/>
        </p:nvSpPr>
        <p:spPr>
          <a:xfrm>
            <a:off x="1257480" y="4976640"/>
            <a:ext cx="77054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灯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轮船的北偏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9" descr=""/>
          <p:cNvPicPr/>
          <p:nvPr/>
        </p:nvPicPr>
        <p:blipFill>
          <a:blip r:embed="rId2"/>
          <a:stretch/>
        </p:blipFill>
        <p:spPr>
          <a:xfrm>
            <a:off x="1568520" y="4394160"/>
            <a:ext cx="3249720" cy="652680"/>
          </a:xfrm>
          <a:prstGeom prst="rect">
            <a:avLst/>
          </a:prstGeom>
          <a:ln w="0">
            <a:noFill/>
          </a:ln>
        </p:spPr>
      </p:pic>
      <p:sp>
        <p:nvSpPr>
          <p:cNvPr id="327" name="矩形 50"/>
          <p:cNvSpPr/>
          <p:nvPr/>
        </p:nvSpPr>
        <p:spPr>
          <a:xfrm>
            <a:off x="1392120" y="4346640"/>
            <a:ext cx="3479760" cy="7221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3"/>
          <a:stretch/>
        </p:blipFill>
        <p:spPr>
          <a:xfrm rot="17980200">
            <a:off x="4707360" y="3192840"/>
            <a:ext cx="2601720" cy="1003320"/>
          </a:xfrm>
          <a:prstGeom prst="rect">
            <a:avLst/>
          </a:prstGeom>
          <a:ln w="0">
            <a:noFill/>
          </a:ln>
        </p:spPr>
      </p:pic>
      <p:sp>
        <p:nvSpPr>
          <p:cNvPr id="329" name="标题 9"/>
          <p:cNvSpPr/>
          <p:nvPr/>
        </p:nvSpPr>
        <p:spPr>
          <a:xfrm>
            <a:off x="1189080" y="5365800"/>
            <a:ext cx="46292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×3.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标题 9"/>
          <p:cNvSpPr/>
          <p:nvPr/>
        </p:nvSpPr>
        <p:spPr>
          <a:xfrm>
            <a:off x="1131840" y="5332320"/>
            <a:ext cx="6772320" cy="82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灯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轮船的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北偏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°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向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千米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文本占位符 4"/>
          <p:cNvSpPr/>
          <p:nvPr/>
        </p:nvSpPr>
        <p:spPr>
          <a:xfrm>
            <a:off x="938160" y="639720"/>
            <a:ext cx="744552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独立完成：灯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轮船的什么方向呢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直接连接符 22"/>
          <p:cNvSpPr/>
          <p:nvPr/>
        </p:nvSpPr>
        <p:spPr>
          <a:xfrm>
            <a:off x="2144880" y="2459160"/>
            <a:ext cx="3017520" cy="1903320"/>
          </a:xfrm>
          <a:prstGeom prst="line">
            <a:avLst/>
          </a:prstGeom>
          <a:ln w="4752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31"/>
          <p:cNvSpPr/>
          <p:nvPr/>
        </p:nvSpPr>
        <p:spPr>
          <a:xfrm flipH="1">
            <a:off x="5121360" y="2560680"/>
            <a:ext cx="1006560" cy="1785960"/>
          </a:xfrm>
          <a:prstGeom prst="line">
            <a:avLst/>
          </a:prstGeom>
          <a:ln w="4752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33"/>
          <p:cNvSpPr/>
          <p:nvPr/>
        </p:nvSpPr>
        <p:spPr>
          <a:xfrm>
            <a:off x="5132520" y="2119320"/>
            <a:ext cx="0" cy="2254320"/>
          </a:xfrm>
          <a:prstGeom prst="line">
            <a:avLst/>
          </a:prstGeom>
          <a:ln w="4752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椭圆 23"/>
          <p:cNvSpPr/>
          <p:nvPr/>
        </p:nvSpPr>
        <p:spPr>
          <a:xfrm>
            <a:off x="5041800" y="4235400"/>
            <a:ext cx="190440" cy="192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椭圆 25"/>
          <p:cNvSpPr/>
          <p:nvPr/>
        </p:nvSpPr>
        <p:spPr>
          <a:xfrm>
            <a:off x="6078600" y="2398680"/>
            <a:ext cx="191880" cy="1904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" name="直接箭头连接符 36"/>
          <p:cNvCxnSpPr/>
          <p:nvPr/>
        </p:nvCxnSpPr>
        <p:spPr>
          <a:xfrm flipH="1" flipV="1">
            <a:off x="5131800" y="1896480"/>
            <a:ext cx="1080" cy="1935720"/>
          </a:xfrm>
          <a:prstGeom prst="straightConnector1">
            <a:avLst/>
          </a:prstGeom>
          <a:ln w="47520">
            <a:solidFill>
              <a:srgbClr val="5b9bd5"/>
            </a:solidFill>
            <a:miter/>
            <a:tailEnd len="med" type="triangle" w="med"/>
          </a:ln>
        </p:spPr>
      </p:cxnSp>
      <p:grpSp>
        <p:nvGrpSpPr>
          <p:cNvPr id="338" name="组合 43"/>
          <p:cNvGrpSpPr/>
          <p:nvPr/>
        </p:nvGrpSpPr>
        <p:grpSpPr>
          <a:xfrm>
            <a:off x="1603440" y="2406600"/>
            <a:ext cx="1531800" cy="1971720"/>
            <a:chOff x="1603440" y="2406600"/>
            <a:chExt cx="1531800" cy="1971720"/>
          </a:xfrm>
        </p:grpSpPr>
        <p:sp>
          <p:nvSpPr>
            <p:cNvPr id="339" name="椭圆 24"/>
            <p:cNvSpPr/>
            <p:nvPr/>
          </p:nvSpPr>
          <p:spPr>
            <a:xfrm>
              <a:off x="2114640" y="2406600"/>
              <a:ext cx="190440" cy="190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文本占位符 4"/>
            <p:cNvSpPr/>
            <p:nvPr/>
          </p:nvSpPr>
          <p:spPr>
            <a:xfrm>
              <a:off x="1679760" y="2589480"/>
              <a:ext cx="1227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西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下箭头 41"/>
            <p:cNvSpPr/>
            <p:nvPr/>
          </p:nvSpPr>
          <p:spPr>
            <a:xfrm>
              <a:off x="2162160" y="3160800"/>
              <a:ext cx="296640" cy="712800"/>
            </a:xfrm>
            <a:prstGeom prst="downArrow">
              <a:avLst>
                <a:gd name="adj1" fmla="val 50000"/>
                <a:gd name="adj2" fmla="val 5005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文本占位符 4"/>
            <p:cNvSpPr/>
            <p:nvPr/>
          </p:nvSpPr>
          <p:spPr>
            <a:xfrm>
              <a:off x="1603440" y="3738600"/>
              <a:ext cx="1531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北偏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3" name="Picture 9" descr=""/>
          <p:cNvPicPr/>
          <p:nvPr/>
        </p:nvPicPr>
        <p:blipFill>
          <a:blip r:embed="rId1"/>
          <a:stretch/>
        </p:blipFill>
        <p:spPr>
          <a:xfrm>
            <a:off x="1552680" y="4537080"/>
            <a:ext cx="3249360" cy="650880"/>
          </a:xfrm>
          <a:prstGeom prst="rect">
            <a:avLst/>
          </a:prstGeom>
          <a:ln w="0">
            <a:noFill/>
          </a:ln>
        </p:spPr>
      </p:pic>
      <p:sp>
        <p:nvSpPr>
          <p:cNvPr id="344" name="标题 9"/>
          <p:cNvSpPr/>
          <p:nvPr/>
        </p:nvSpPr>
        <p:spPr>
          <a:xfrm>
            <a:off x="1338120" y="5354640"/>
            <a:ext cx="6994800" cy="830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灯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轮船的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北偏西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°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向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千米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弧形 28"/>
          <p:cNvSpPr/>
          <p:nvPr/>
        </p:nvSpPr>
        <p:spPr>
          <a:xfrm rot="16833000">
            <a:off x="4858560" y="4061520"/>
            <a:ext cx="468360" cy="323640"/>
          </a:xfrm>
          <a:custGeom>
            <a:avLst/>
            <a:gdLst/>
            <a:ahLst/>
            <a:rect l="l" t="t" r="r" b="b"/>
            <a:pathLst>
              <a:path stroke="0" w="468312" h="323850">
                <a:moveTo>
                  <a:pt x="234156" y="0"/>
                </a:moveTo>
                <a:cubicBezTo>
                  <a:pt x="363477" y="0"/>
                  <a:pt x="468312" y="72496"/>
                  <a:pt x="468312" y="161925"/>
                </a:cubicBezTo>
                <a:lnTo>
                  <a:pt x="234156" y="161925"/>
                </a:lnTo>
                <a:lnTo>
                  <a:pt x="234156" y="0"/>
                </a:lnTo>
                <a:close/>
              </a:path>
              <a:path fill="none" w="468312" h="323850">
                <a:moveTo>
                  <a:pt x="234156" y="0"/>
                </a:moveTo>
                <a:cubicBezTo>
                  <a:pt x="363477" y="0"/>
                  <a:pt x="468312" y="72496"/>
                  <a:pt x="468312" y="161925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占位符 4"/>
          <p:cNvSpPr/>
          <p:nvPr/>
        </p:nvSpPr>
        <p:spPr>
          <a:xfrm>
            <a:off x="4078440" y="3355920"/>
            <a:ext cx="1531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1" descr=""/>
          <p:cNvPicPr/>
          <p:nvPr/>
        </p:nvPicPr>
        <p:blipFill>
          <a:blip r:embed="rId2"/>
          <a:stretch/>
        </p:blipFill>
        <p:spPr>
          <a:xfrm rot="1922400">
            <a:off x="1409400" y="3262320"/>
            <a:ext cx="373536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图片 12" descr="图片1.jpg"/>
          <p:cNvPicPr/>
          <p:nvPr/>
        </p:nvPicPr>
        <p:blipFill>
          <a:blip r:embed="rId1"/>
          <a:stretch/>
        </p:blipFill>
        <p:spPr>
          <a:xfrm>
            <a:off x="1327320" y="1866960"/>
            <a:ext cx="6849720" cy="4319640"/>
          </a:xfrm>
          <a:prstGeom prst="rect">
            <a:avLst/>
          </a:prstGeom>
          <a:ln w="0">
            <a:noFill/>
          </a:ln>
        </p:spPr>
      </p:pic>
      <p:sp>
        <p:nvSpPr>
          <p:cNvPr id="349" name="标题 5"/>
          <p:cNvSpPr/>
          <p:nvPr/>
        </p:nvSpPr>
        <p:spPr>
          <a:xfrm>
            <a:off x="789120" y="876240"/>
            <a:ext cx="774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黎明岛北偏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处是清凉岛。你能画出清凉岛的位置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标题 5"/>
          <p:cNvSpPr/>
          <p:nvPr/>
        </p:nvSpPr>
        <p:spPr>
          <a:xfrm>
            <a:off x="777960" y="1943280"/>
            <a:ext cx="459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思考：已知哪些条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图片 32" descr="11111.png"/>
          <p:cNvPicPr/>
          <p:nvPr/>
        </p:nvPicPr>
        <p:blipFill>
          <a:blip r:embed="rId1"/>
          <a:stretch/>
        </p:blipFill>
        <p:spPr>
          <a:xfrm>
            <a:off x="4794120" y="2797200"/>
            <a:ext cx="1440000" cy="265572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12" descr="图片1.jpg"/>
          <p:cNvPicPr/>
          <p:nvPr/>
        </p:nvPicPr>
        <p:blipFill>
          <a:blip r:embed="rId2"/>
          <a:stretch/>
        </p:blipFill>
        <p:spPr>
          <a:xfrm>
            <a:off x="289080" y="1976400"/>
            <a:ext cx="6850080" cy="431964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03280" y="101088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黎明岛北偏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处是清凉岛。你能画出清凉岛的位置吗？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354" name="组合 31"/>
          <p:cNvGrpSpPr/>
          <p:nvPr/>
        </p:nvGrpSpPr>
        <p:grpSpPr>
          <a:xfrm>
            <a:off x="2671920" y="1508040"/>
            <a:ext cx="1439640" cy="58680"/>
            <a:chOff x="2671920" y="1508040"/>
            <a:chExt cx="1439640" cy="58680"/>
          </a:xfrm>
        </p:grpSpPr>
        <p:sp>
          <p:nvSpPr>
            <p:cNvPr id="355" name="直接连接符 28"/>
            <p:cNvSpPr/>
            <p:nvPr/>
          </p:nvSpPr>
          <p:spPr>
            <a:xfrm flipV="1">
              <a:off x="2673360" y="1508040"/>
              <a:ext cx="143820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直接连接符 30"/>
            <p:cNvSpPr/>
            <p:nvPr/>
          </p:nvSpPr>
          <p:spPr>
            <a:xfrm flipV="1">
              <a:off x="2671920" y="1565280"/>
              <a:ext cx="143820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直接连接符 36"/>
          <p:cNvSpPr/>
          <p:nvPr/>
        </p:nvSpPr>
        <p:spPr>
          <a:xfrm flipV="1">
            <a:off x="4919040" y="2351160"/>
            <a:ext cx="1508040" cy="1760400"/>
          </a:xfrm>
          <a:prstGeom prst="line">
            <a:avLst/>
          </a:prstGeom>
          <a:ln w="316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弧形 39"/>
          <p:cNvSpPr/>
          <p:nvPr/>
        </p:nvSpPr>
        <p:spPr>
          <a:xfrm rot="20622000">
            <a:off x="4854240" y="3796920"/>
            <a:ext cx="228600" cy="257040"/>
          </a:xfrm>
          <a:custGeom>
            <a:avLst/>
            <a:gdLst/>
            <a:ahLst/>
            <a:rect l="l" t="t" r="r" b="b"/>
            <a:pathLst>
              <a:path stroke="0" w="228600" h="257175">
                <a:moveTo>
                  <a:pt x="114300" y="0"/>
                </a:moveTo>
                <a:cubicBezTo>
                  <a:pt x="177426" y="0"/>
                  <a:pt x="228600" y="57571"/>
                  <a:pt x="228600" y="128588"/>
                </a:cubicBezTo>
                <a:lnTo>
                  <a:pt x="114300" y="128588"/>
                </a:lnTo>
                <a:lnTo>
                  <a:pt x="114300" y="0"/>
                </a:lnTo>
                <a:close/>
              </a:path>
              <a:path fill="none" w="228600" h="257175">
                <a:moveTo>
                  <a:pt x="114300" y="0"/>
                </a:moveTo>
                <a:cubicBezTo>
                  <a:pt x="177426" y="0"/>
                  <a:pt x="228600" y="57571"/>
                  <a:pt x="228600" y="128588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40"/>
          <p:cNvSpPr/>
          <p:nvPr/>
        </p:nvSpPr>
        <p:spPr>
          <a:xfrm>
            <a:off x="4824360" y="327672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16" descr="图片1.jpg"/>
          <p:cNvPicPr/>
          <p:nvPr/>
        </p:nvPicPr>
        <p:blipFill>
          <a:blip r:embed="rId1"/>
          <a:stretch/>
        </p:blipFill>
        <p:spPr>
          <a:xfrm>
            <a:off x="235080" y="1897200"/>
            <a:ext cx="6850080" cy="4319280"/>
          </a:xfrm>
          <a:prstGeom prst="rect">
            <a:avLst/>
          </a:prstGeom>
          <a:ln w="0">
            <a:noFill/>
          </a:ln>
        </p:spPr>
      </p:pic>
      <p:sp>
        <p:nvSpPr>
          <p:cNvPr id="361" name="直接连接符 27"/>
          <p:cNvSpPr/>
          <p:nvPr/>
        </p:nvSpPr>
        <p:spPr>
          <a:xfrm flipV="1">
            <a:off x="4865040" y="2282400"/>
            <a:ext cx="1508040" cy="1760760"/>
          </a:xfrm>
          <a:prstGeom prst="line">
            <a:avLst/>
          </a:prstGeom>
          <a:ln w="316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组合 31"/>
          <p:cNvGrpSpPr/>
          <p:nvPr/>
        </p:nvGrpSpPr>
        <p:grpSpPr>
          <a:xfrm>
            <a:off x="5035680" y="1424160"/>
            <a:ext cx="1008000" cy="58680"/>
            <a:chOff x="5035680" y="1424160"/>
            <a:chExt cx="1008000" cy="58680"/>
          </a:xfrm>
        </p:grpSpPr>
        <p:sp>
          <p:nvSpPr>
            <p:cNvPr id="363" name="直接连接符 28"/>
            <p:cNvSpPr/>
            <p:nvPr/>
          </p:nvSpPr>
          <p:spPr>
            <a:xfrm flipV="1">
              <a:off x="5037120" y="1424160"/>
              <a:ext cx="10065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直接连接符 30"/>
            <p:cNvSpPr/>
            <p:nvPr/>
          </p:nvSpPr>
          <p:spPr>
            <a:xfrm flipV="1">
              <a:off x="5035680" y="1481400"/>
              <a:ext cx="10065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弧形 39"/>
          <p:cNvSpPr/>
          <p:nvPr/>
        </p:nvSpPr>
        <p:spPr>
          <a:xfrm rot="20622000">
            <a:off x="4773600" y="3738240"/>
            <a:ext cx="268200" cy="264960"/>
          </a:xfrm>
          <a:custGeom>
            <a:avLst/>
            <a:gdLst/>
            <a:ahLst/>
            <a:rect l="l" t="t" r="r" b="b"/>
            <a:pathLst>
              <a:path stroke="0" w="268287" h="265112">
                <a:moveTo>
                  <a:pt x="134143" y="0"/>
                </a:moveTo>
                <a:cubicBezTo>
                  <a:pt x="208229" y="0"/>
                  <a:pt x="268287" y="59347"/>
                  <a:pt x="268287" y="132556"/>
                </a:cubicBezTo>
                <a:lnTo>
                  <a:pt x="134144" y="132556"/>
                </a:lnTo>
                <a:cubicBezTo>
                  <a:pt x="134144" y="88371"/>
                  <a:pt x="134143" y="44185"/>
                  <a:pt x="134143" y="0"/>
                </a:cubicBezTo>
                <a:close/>
              </a:path>
              <a:path fill="none" w="268287" h="265112">
                <a:moveTo>
                  <a:pt x="134143" y="0"/>
                </a:moveTo>
                <a:cubicBezTo>
                  <a:pt x="208229" y="0"/>
                  <a:pt x="268287" y="59347"/>
                  <a:pt x="268287" y="132556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0"/>
          <p:cNvSpPr/>
          <p:nvPr/>
        </p:nvSpPr>
        <p:spPr>
          <a:xfrm>
            <a:off x="4759200" y="318600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3"/>
          <p:cNvSpPr/>
          <p:nvPr/>
        </p:nvSpPr>
        <p:spPr>
          <a:xfrm>
            <a:off x="601560" y="2554200"/>
            <a:ext cx="37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÷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17"/>
          <p:cNvSpPr/>
          <p:nvPr/>
        </p:nvSpPr>
        <p:spPr>
          <a:xfrm flipH="1" flipV="1">
            <a:off x="5628600" y="2956320"/>
            <a:ext cx="99000" cy="69120"/>
          </a:xfrm>
          <a:prstGeom prst="line">
            <a:avLst/>
          </a:prstGeom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24"/>
          <p:cNvSpPr/>
          <p:nvPr/>
        </p:nvSpPr>
        <p:spPr>
          <a:xfrm>
            <a:off x="5776920" y="269568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清凉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2"/>
          <a:stretch/>
        </p:blipFill>
        <p:spPr>
          <a:xfrm rot="18660000">
            <a:off x="4553640" y="3202920"/>
            <a:ext cx="2602080" cy="1003320"/>
          </a:xfrm>
          <a:prstGeom prst="rect">
            <a:avLst/>
          </a:prstGeom>
          <a:ln w="0">
            <a:noFill/>
          </a:ln>
        </p:spPr>
      </p:pic>
      <p:sp>
        <p:nvSpPr>
          <p:cNvPr id="371" name="同心圆 35"/>
          <p:cNvSpPr/>
          <p:nvPr/>
        </p:nvSpPr>
        <p:spPr>
          <a:xfrm>
            <a:off x="5629320" y="2922480"/>
            <a:ext cx="214200" cy="212760"/>
          </a:xfrm>
          <a:custGeom>
            <a:avLst/>
            <a:gdLst/>
            <a:ahLst/>
            <a:rect l="l" t="t" r="r" b="b"/>
            <a:pathLst>
              <a:path w="214313" h="212725">
                <a:moveTo>
                  <a:pt x="0" y="106363"/>
                </a:moveTo>
                <a:cubicBezTo>
                  <a:pt x="0" y="47620"/>
                  <a:pt x="47976" y="0"/>
                  <a:pt x="107157" y="0"/>
                </a:cubicBezTo>
                <a:cubicBezTo>
                  <a:pt x="166338" y="0"/>
                  <a:pt x="214314" y="47620"/>
                  <a:pt x="214314" y="106363"/>
                </a:cubicBezTo>
                <a:cubicBezTo>
                  <a:pt x="214314" y="165106"/>
                  <a:pt x="166338" y="212726"/>
                  <a:pt x="107157" y="212726"/>
                </a:cubicBezTo>
                <a:cubicBezTo>
                  <a:pt x="47976" y="212726"/>
                  <a:pt x="0" y="165106"/>
                  <a:pt x="0" y="106363"/>
                </a:cubicBezTo>
                <a:close/>
                <a:moveTo>
                  <a:pt x="93067" y="106363"/>
                </a:moveTo>
                <a:cubicBezTo>
                  <a:pt x="93067" y="113706"/>
                  <a:pt x="99375" y="119658"/>
                  <a:pt x="107156" y="119658"/>
                </a:cubicBezTo>
                <a:cubicBezTo>
                  <a:pt x="114937" y="119658"/>
                  <a:pt x="121245" y="113706"/>
                  <a:pt x="121245" y="106363"/>
                </a:cubicBezTo>
                <a:cubicBezTo>
                  <a:pt x="121245" y="99020"/>
                  <a:pt x="114937" y="93068"/>
                  <a:pt x="107156" y="93068"/>
                </a:cubicBezTo>
                <a:cubicBezTo>
                  <a:pt x="99375" y="93068"/>
                  <a:pt x="93067" y="99020"/>
                  <a:pt x="93067" y="106363"/>
                </a:cubicBezTo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标题 5"/>
          <p:cNvSpPr/>
          <p:nvPr/>
        </p:nvSpPr>
        <p:spPr>
          <a:xfrm>
            <a:off x="789120" y="903240"/>
            <a:ext cx="774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黎明岛北偏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处是清凉岛。你能画出清凉岛的位置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6:08:11Z</dcterms:created>
  <dc:creator/>
  <dc:description/>
  <dc:language>en-US</dc:language>
  <cp:lastModifiedBy/>
  <dcterms:modified xsi:type="dcterms:W3CDTF">2017-03-15T06:40:05Z</dcterms:modified>
  <cp:revision>1</cp:revision>
  <dc:subject/>
  <dc:title/>
</cp:coreProperties>
</file>