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click.wav" ContentType="audio/x-wav"/>
  <Override PartName="/ppt/media/image6.wmf" ContentType="image/x-wmf"/>
  <Override PartName="/ppt/media/image7.png" ContentType="image/pn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0.png" ContentType="image/png"/>
  <Override PartName="/ppt/media/image5.wmf" ContentType="image/x-wmf"/>
  <Override PartName="/ppt/media/image13.png" ContentType="image/png"/>
  <Override PartName="/ppt/media/image12.jpeg" ContentType="image/jpeg"/>
  <Override PartName="/ppt/media/cashreg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C21-9401-4899-80FD-16E231FF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DD9-E391-42DA-8712-993A9916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C7E-BB6B-463D-8F27-ACC43653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8E1-B94F-44F7-9832-0D1F83D8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A13C-0631-4C1E-990B-7E3DA3E2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1B09-CBC5-4D65-82AC-E3836FC5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C586-7F89-4930-97D1-3684F23C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8716-86C9-496E-B89F-CA164A03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AC14-6268-4BBF-9653-FC0B74A5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F1E7-50F0-4985-8089-5427D627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6173-33D6-4119-AA2D-BA182DB9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FD1-A05B-4AE8-98B7-F5671783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9AA6-C733-4926-A40C-DEC65B7F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AF7C-C3ED-4A91-B027-63133A5E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FF3D-5A41-4A37-AFDF-EB958725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3E32-625C-4178-B8D8-C27C90B1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99EA-7A56-49C2-BDE0-50EF3E4D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B9D-D8AA-49C7-8BB2-E1B57E40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E52-23DD-4C08-8834-1A225661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E88-3E95-4CEF-A769-8EE6AC81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2BA-9592-4B47-BE7A-81E12356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048-2B7D-4937-8D91-99FED94C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686-8863-410B-8024-B91C6BA7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E49-E65F-4737-B7F1-61F37CF0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26C9-994E-4364-B556-5067117C9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94EE-0F5B-42BB-B870-06149FA2D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四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圆柱的表面积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50920" y="18900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制作一根底面直径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厘米、长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厘米的圆柱形通风管，至少要用多少平方厘米铁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24000" y="2133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风管是两端都不封口的，所以只需求侧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79280" y="278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116000" y="2925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侧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3.14×12×20=753.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1116000" y="3718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需要铁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753.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5651640" y="3716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5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611280" y="4437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注意：实际使用的铁皮要比计算的结果多一些。省略尾数后，要像前位进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这种取近似值的方法叫做进一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1116000" y="6021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至少要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5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平方厘米铁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矩形 3" descr=""/>
          <p:cNvPicPr/>
          <p:nvPr/>
        </p:nvPicPr>
        <p:blipFill>
          <a:blip r:embed="rId1"/>
          <a:stretch/>
        </p:blipFill>
        <p:spPr>
          <a:xfrm>
            <a:off x="2541600" y="2378160"/>
            <a:ext cx="3664080" cy="113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82440" y="208080"/>
            <a:ext cx="912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台压路机的前轮是圆柱形，轮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m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直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2m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前轮转动一周，压路的面积是多少平方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52360" y="21956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压路的面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前轮的侧面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前轮转动的圈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3964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619280" y="299736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轮的侧面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2268360" y="386064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4×1.2×2=7.536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619280" y="4581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压路的面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268360" y="537372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536×1=7.536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1114560" y="609300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压路的面积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53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平方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011760" y="1219320"/>
            <a:ext cx="3466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下面罐头盒商标纸的面积。（接缝处忽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计）（单位：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6095880" y="3016080"/>
            <a:ext cx="1752840" cy="901800"/>
          </a:xfrm>
          <a:prstGeom prst="can">
            <a:avLst>
              <a:gd name="adj" fmla="val 39472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7924680" y="3403440"/>
            <a:ext cx="152640" cy="152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7848720" y="302904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7848720" y="39304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6248520" y="2757600"/>
            <a:ext cx="1447560" cy="523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8"/>
          <p:cNvSpPr/>
          <p:nvPr/>
        </p:nvSpPr>
        <p:spPr>
          <a:xfrm>
            <a:off x="6705720" y="2747880"/>
            <a:ext cx="533160" cy="523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009ac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8001000" y="3594240"/>
            <a:ext cx="0" cy="330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8001000" y="30348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7848720" y="3924360"/>
            <a:ext cx="0" cy="41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6095880" y="3905280"/>
            <a:ext cx="0" cy="41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 flipH="1">
            <a:off x="6095520" y="42670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7162920" y="42609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15"/>
          <p:cNvSpPr txBox="1"/>
          <p:nvPr/>
        </p:nvSpPr>
        <p:spPr>
          <a:xfrm>
            <a:off x="6877080" y="4221000"/>
            <a:ext cx="152280" cy="152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242" name="Group 16"/>
          <p:cNvGrpSpPr/>
          <p:nvPr/>
        </p:nvGrpSpPr>
        <p:grpSpPr>
          <a:xfrm>
            <a:off x="6854760" y="3418200"/>
            <a:ext cx="838440" cy="768960"/>
            <a:chOff x="6854760" y="3418200"/>
            <a:chExt cx="838440" cy="768960"/>
          </a:xfrm>
        </p:grpSpPr>
        <p:sp>
          <p:nvSpPr>
            <p:cNvPr id="243" name="Oval 17"/>
            <p:cNvSpPr/>
            <p:nvPr/>
          </p:nvSpPr>
          <p:spPr>
            <a:xfrm rot="20408400">
              <a:off x="7010640" y="3591000"/>
              <a:ext cx="111600" cy="16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18" descr=""/>
            <p:cNvPicPr/>
            <p:nvPr/>
          </p:nvPicPr>
          <p:blipFill>
            <a:blip r:embed="rId3"/>
            <a:stretch/>
          </p:blipFill>
          <p:spPr>
            <a:xfrm rot="20408400">
              <a:off x="6931080" y="3517560"/>
              <a:ext cx="685800" cy="56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WordArt 19"/>
          <p:cNvSpPr txBox="1"/>
          <p:nvPr/>
        </p:nvSpPr>
        <p:spPr>
          <a:xfrm>
            <a:off x="6248520" y="342900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罐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609480" y="2666880"/>
            <a:ext cx="6110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侧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×3.14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6.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商标纸的面积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6.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方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900000" y="679320"/>
            <a:ext cx="73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讨论：如果一段圆柱形的木头，截                                     成两截，它的表面积会有什么变化呢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4211640" y="3284640"/>
            <a:ext cx="3096720" cy="1290240"/>
            <a:chOff x="4211640" y="3284640"/>
            <a:chExt cx="3096720" cy="1290240"/>
          </a:xfrm>
        </p:grpSpPr>
        <p:sp>
          <p:nvSpPr>
            <p:cNvPr id="249" name="AutoShape 4"/>
            <p:cNvSpPr/>
            <p:nvPr/>
          </p:nvSpPr>
          <p:spPr>
            <a:xfrm rot="16200000">
              <a:off x="5120280" y="2386080"/>
              <a:ext cx="1289520" cy="3086640"/>
            </a:xfrm>
            <a:prstGeom prst="can">
              <a:avLst>
                <a:gd name="adj" fmla="val 1311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5"/>
            <p:cNvSpPr/>
            <p:nvPr/>
          </p:nvSpPr>
          <p:spPr>
            <a:xfrm>
              <a:off x="4211640" y="3285360"/>
              <a:ext cx="463320" cy="1289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6"/>
          <p:cNvSpPr/>
          <p:nvPr/>
        </p:nvSpPr>
        <p:spPr>
          <a:xfrm rot="16200000">
            <a:off x="2502720" y="2329560"/>
            <a:ext cx="1288800" cy="3198960"/>
          </a:xfrm>
          <a:prstGeom prst="can">
            <a:avLst>
              <a:gd name="adj" fmla="val 13111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07864 -7.40741E-007 E">
                                      <p:cBhvr>
                                        <p:cTn id="43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40741E-007 L -0.05503 -7.40741E-007 E">
                                      <p:cBhvr>
                                        <p:cTn id="438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矩形 4" descr=""/>
          <p:cNvPicPr/>
          <p:nvPr/>
        </p:nvPicPr>
        <p:blipFill>
          <a:blip r:embed="rId1"/>
          <a:stretch/>
        </p:blipFill>
        <p:spPr>
          <a:xfrm>
            <a:off x="3067200" y="2457360"/>
            <a:ext cx="2973240" cy="113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  <a:ea typeface="宋体"/>
              </a:rPr>
              <a:t>引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638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、圆的面积计算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=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r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、圆的周长计算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= 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= 2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858000" y="251460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2"/>
          <p:cNvGrpSpPr/>
          <p:nvPr/>
        </p:nvGrpSpPr>
        <p:grpSpPr>
          <a:xfrm>
            <a:off x="5410080" y="1371600"/>
            <a:ext cx="1676520" cy="1676160"/>
            <a:chOff x="5410080" y="1371600"/>
            <a:chExt cx="1676520" cy="1676160"/>
          </a:xfrm>
        </p:grpSpPr>
        <p:sp>
          <p:nvSpPr>
            <p:cNvPr id="88" name="Oval 8"/>
            <p:cNvSpPr/>
            <p:nvPr/>
          </p:nvSpPr>
          <p:spPr>
            <a:xfrm>
              <a:off x="5410080" y="1371600"/>
              <a:ext cx="1676520" cy="1676160"/>
            </a:xfrm>
            <a:prstGeom prst="ellipse">
              <a:avLst/>
            </a:prstGeom>
            <a:solidFill>
              <a:srgbClr val="333399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"/>
            <p:cNvSpPr/>
            <p:nvPr/>
          </p:nvSpPr>
          <p:spPr>
            <a:xfrm>
              <a:off x="6248160" y="2209680"/>
              <a:ext cx="8384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47676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9"/>
          <p:cNvSpPr/>
          <p:nvPr/>
        </p:nvSpPr>
        <p:spPr>
          <a:xfrm>
            <a:off x="571680" y="47242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0" y="40384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、长方形面积计算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4724280" y="3505320"/>
            <a:ext cx="2608200" cy="1815480"/>
            <a:chOff x="4724280" y="3505320"/>
            <a:chExt cx="2608200" cy="1815480"/>
          </a:xfrm>
        </p:grpSpPr>
        <p:sp>
          <p:nvSpPr>
            <p:cNvPr id="94" name="Rectangle 13"/>
            <p:cNvSpPr/>
            <p:nvPr/>
          </p:nvSpPr>
          <p:spPr>
            <a:xfrm>
              <a:off x="5181480" y="3505320"/>
              <a:ext cx="2151000" cy="1363320"/>
            </a:xfrm>
            <a:prstGeom prst="rect">
              <a:avLst/>
            </a:prstGeom>
            <a:solidFill>
              <a:srgbClr val="333399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23"/>
            <p:cNvGrpSpPr/>
            <p:nvPr/>
          </p:nvGrpSpPr>
          <p:grpSpPr>
            <a:xfrm>
              <a:off x="4724280" y="3886200"/>
              <a:ext cx="1904760" cy="1434600"/>
              <a:chOff x="4724280" y="3886200"/>
              <a:chExt cx="1904760" cy="1434600"/>
            </a:xfrm>
          </p:grpSpPr>
          <p:sp>
            <p:nvSpPr>
              <p:cNvPr id="96" name="Text Box 17"/>
              <p:cNvSpPr/>
              <p:nvPr/>
            </p:nvSpPr>
            <p:spPr>
              <a:xfrm>
                <a:off x="5562360" y="480024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21"/>
              <p:cNvSpPr/>
              <p:nvPr/>
            </p:nvSpPr>
            <p:spPr>
              <a:xfrm>
                <a:off x="4724280" y="388620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组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怎样求圆柱的侧面积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4076640"/>
            <a:ext cx="65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柱的侧面展开后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724280" y="4038480"/>
            <a:ext cx="12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长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1282680" y="2666880"/>
          <a:ext cx="62244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666880"/>
                    <a:ext cx="6224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"/>
          <p:cNvGraphicFramePr/>
          <p:nvPr/>
        </p:nvGraphicFramePr>
        <p:xfrm>
          <a:off x="1295280" y="3124080"/>
          <a:ext cx="62244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124080"/>
                    <a:ext cx="6224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4"/>
          <p:cNvGraphicFramePr/>
          <p:nvPr/>
        </p:nvGraphicFramePr>
        <p:xfrm>
          <a:off x="1295280" y="3657600"/>
          <a:ext cx="6224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657600"/>
                    <a:ext cx="622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Oval 5"/>
          <p:cNvSpPr/>
          <p:nvPr/>
        </p:nvSpPr>
        <p:spPr>
          <a:xfrm>
            <a:off x="380880" y="2687760"/>
            <a:ext cx="12193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380880" y="3733920"/>
            <a:ext cx="12193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38088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619280" y="28526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3352680" y="2514600"/>
          <a:ext cx="2210040" cy="160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2514600"/>
                    <a:ext cx="22100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10"/>
          <p:cNvGrpSpPr/>
          <p:nvPr/>
        </p:nvGrpSpPr>
        <p:grpSpPr>
          <a:xfrm>
            <a:off x="3733920" y="2209680"/>
            <a:ext cx="1447200" cy="1905120"/>
            <a:chOff x="3733920" y="2209680"/>
            <a:chExt cx="1447200" cy="1905120"/>
          </a:xfrm>
        </p:grpSpPr>
        <p:sp>
          <p:nvSpPr>
            <p:cNvPr id="115" name="Oval 11"/>
            <p:cNvSpPr/>
            <p:nvPr/>
          </p:nvSpPr>
          <p:spPr>
            <a:xfrm>
              <a:off x="3809880" y="3733560"/>
              <a:ext cx="13712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2"/>
            <p:cNvSpPr/>
            <p:nvPr/>
          </p:nvSpPr>
          <p:spPr>
            <a:xfrm>
              <a:off x="3733920" y="2209680"/>
              <a:ext cx="137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WordArt 13"/>
            <p:cNvSpPr txBox="1"/>
            <p:nvPr/>
          </p:nvSpPr>
          <p:spPr>
            <a:xfrm>
              <a:off x="4114440" y="228600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底面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" name="WordArt 14"/>
            <p:cNvSpPr txBox="1"/>
            <p:nvPr/>
          </p:nvSpPr>
          <p:spPr>
            <a:xfrm>
              <a:off x="4190760" y="3809880"/>
              <a:ext cx="609120" cy="2286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底面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19" name="WordArt 15"/>
          <p:cNvSpPr txBox="1"/>
          <p:nvPr/>
        </p:nvSpPr>
        <p:spPr>
          <a:xfrm>
            <a:off x="3657600" y="3581280"/>
            <a:ext cx="1600200" cy="30492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的周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2057400" y="342900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4876920" y="4267080"/>
            <a:ext cx="3657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6095880" y="3276720"/>
            <a:ext cx="990720" cy="3124080"/>
            <a:chOff x="6095880" y="3276720"/>
            <a:chExt cx="990720" cy="3124080"/>
          </a:xfrm>
        </p:grpSpPr>
        <p:sp>
          <p:nvSpPr>
            <p:cNvPr id="123" name="Oval 19"/>
            <p:cNvSpPr/>
            <p:nvPr/>
          </p:nvSpPr>
          <p:spPr>
            <a:xfrm>
              <a:off x="6095880" y="3276720"/>
              <a:ext cx="99072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0"/>
            <p:cNvSpPr/>
            <p:nvPr/>
          </p:nvSpPr>
          <p:spPr>
            <a:xfrm>
              <a:off x="6095880" y="5410440"/>
              <a:ext cx="990720" cy="9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WordArt 21"/>
            <p:cNvSpPr txBox="1"/>
            <p:nvPr/>
          </p:nvSpPr>
          <p:spPr>
            <a:xfrm>
              <a:off x="6324480" y="373392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底面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6" name="WordArt 22"/>
            <p:cNvSpPr txBox="1"/>
            <p:nvPr/>
          </p:nvSpPr>
          <p:spPr>
            <a:xfrm>
              <a:off x="6324480" y="586764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底面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27" name="WordArt 23"/>
          <p:cNvSpPr txBox="1"/>
          <p:nvPr/>
        </p:nvSpPr>
        <p:spPr>
          <a:xfrm>
            <a:off x="5867280" y="5029200"/>
            <a:ext cx="1524240" cy="22860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的周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" name="WordArt 24"/>
          <p:cNvSpPr txBox="1"/>
          <p:nvPr/>
        </p:nvSpPr>
        <p:spPr>
          <a:xfrm>
            <a:off x="5562720" y="3200400"/>
            <a:ext cx="304560" cy="30492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8610480" y="472428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30" name="Group 26"/>
          <p:cNvGrpSpPr/>
          <p:nvPr/>
        </p:nvGrpSpPr>
        <p:grpSpPr>
          <a:xfrm>
            <a:off x="4952880" y="5105520"/>
            <a:ext cx="3505320" cy="0"/>
            <a:chOff x="4952880" y="5105520"/>
            <a:chExt cx="3505320" cy="0"/>
          </a:xfrm>
        </p:grpSpPr>
        <p:sp>
          <p:nvSpPr>
            <p:cNvPr id="131" name="Line 27"/>
            <p:cNvSpPr/>
            <p:nvPr/>
          </p:nvSpPr>
          <p:spPr>
            <a:xfrm>
              <a:off x="7467480" y="5105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8"/>
            <p:cNvSpPr/>
            <p:nvPr/>
          </p:nvSpPr>
          <p:spPr>
            <a:xfrm flipH="1">
              <a:off x="4952880" y="5105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9"/>
          <p:cNvGrpSpPr/>
          <p:nvPr/>
        </p:nvGrpSpPr>
        <p:grpSpPr>
          <a:xfrm>
            <a:off x="4114800" y="4495680"/>
            <a:ext cx="533520" cy="762120"/>
            <a:chOff x="4114800" y="4495680"/>
            <a:chExt cx="533520" cy="762120"/>
          </a:xfrm>
        </p:grpSpPr>
        <p:sp>
          <p:nvSpPr>
            <p:cNvPr id="134" name="Line 30"/>
            <p:cNvSpPr/>
            <p:nvPr/>
          </p:nvSpPr>
          <p:spPr>
            <a:xfrm>
              <a:off x="4114800" y="449568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1"/>
            <p:cNvSpPr/>
            <p:nvPr/>
          </p:nvSpPr>
          <p:spPr>
            <a:xfrm>
              <a:off x="4114800" y="5257800"/>
              <a:ext cx="533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9" name="cashreg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124000" y="1096920"/>
            <a:ext cx="4753080" cy="126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3851280" y="0"/>
            <a:ext cx="1368360" cy="109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833640" y="2362320"/>
            <a:ext cx="1386000" cy="109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4211640" y="404640"/>
            <a:ext cx="674640" cy="25272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4211640" y="2708280"/>
            <a:ext cx="674640" cy="25236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1" name="WordArt 7"/>
          <p:cNvSpPr txBox="1"/>
          <p:nvPr/>
        </p:nvSpPr>
        <p:spPr>
          <a:xfrm>
            <a:off x="3564000" y="1844640"/>
            <a:ext cx="1687320" cy="25416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的周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2" name="WordArt 8"/>
          <p:cNvSpPr txBox="1"/>
          <p:nvPr/>
        </p:nvSpPr>
        <p:spPr>
          <a:xfrm>
            <a:off x="6948360" y="1628640"/>
            <a:ext cx="338400" cy="33660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2195640" y="2133720"/>
            <a:ext cx="4607640" cy="0"/>
            <a:chOff x="2195640" y="2133720"/>
            <a:chExt cx="4607640" cy="0"/>
          </a:xfrm>
        </p:grpSpPr>
        <p:sp>
          <p:nvSpPr>
            <p:cNvPr id="144" name="Line 10"/>
            <p:cNvSpPr/>
            <p:nvPr/>
          </p:nvSpPr>
          <p:spPr>
            <a:xfrm>
              <a:off x="5501160" y="2133720"/>
              <a:ext cx="13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 flipH="1">
              <a:off x="2195640" y="2133720"/>
              <a:ext cx="11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2"/>
          <p:cNvSpPr/>
          <p:nvPr/>
        </p:nvSpPr>
        <p:spPr>
          <a:xfrm>
            <a:off x="324000" y="3573360"/>
            <a:ext cx="93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长方形的长＝圆柱的底面周长，长方形的宽＝圆柱的高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374560" y="4292640"/>
            <a:ext cx="39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圆柱的侧面积＝底面周长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04920" y="5181480"/>
            <a:ext cx="280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</a:t>
            </a:r>
            <a:r>
              <a:rPr b="1" lang="zh-CN" sz="32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侧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676520" y="5105520"/>
            <a:ext cx="374328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</a:t>
            </a:r>
            <a:r>
              <a:rPr b="1" lang="zh-CN" sz="32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底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＝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2"/>
          <p:cNvSpPr/>
          <p:nvPr/>
        </p:nvSpPr>
        <p:spPr>
          <a:xfrm>
            <a:off x="3203640" y="0"/>
            <a:ext cx="1665360" cy="1312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336680" y="1317600"/>
            <a:ext cx="5327640" cy="163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3097080" y="2949480"/>
            <a:ext cx="1665360" cy="1312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" y="42670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圆柱的表面由上、下两个底面和一个侧面组成</a:t>
            </a:r>
            <a:r>
              <a:rPr b="1" lang="zh-CN" sz="32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-457200" y="4952880"/>
            <a:ext cx="88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的表面积＝侧面积＋两个底面的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187280" y="5445000"/>
            <a:ext cx="604872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zh-CN" sz="32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表面积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＝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zh-CN" sz="32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侧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zh-CN" sz="32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π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h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π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179280" y="44280"/>
            <a:ext cx="926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计算下面圆柱的表面积。（单位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V="1">
            <a:off x="2411280" y="9381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2411280" y="273852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1835280" y="122724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 flipH="1">
            <a:off x="2195280" y="122724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 flipH="1">
            <a:off x="2268000" y="3170160"/>
            <a:ext cx="14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1835280" y="3170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1260360" y="836640"/>
            <a:ext cx="1798920" cy="2624040"/>
            <a:chOff x="1260360" y="836640"/>
            <a:chExt cx="1798920" cy="2624040"/>
          </a:xfrm>
        </p:grpSpPr>
        <p:sp>
          <p:nvSpPr>
            <p:cNvPr id="164" name="Line 12"/>
            <p:cNvSpPr/>
            <p:nvPr/>
          </p:nvSpPr>
          <p:spPr>
            <a:xfrm>
              <a:off x="1836720" y="1427040"/>
              <a:ext cx="863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835280" y="2724120"/>
              <a:ext cx="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56"/>
            <p:cNvGrpSpPr/>
            <p:nvPr/>
          </p:nvGrpSpPr>
          <p:grpSpPr>
            <a:xfrm>
              <a:off x="1835280" y="836640"/>
              <a:ext cx="575640" cy="590400"/>
              <a:chOff x="1835280" y="836640"/>
              <a:chExt cx="575640" cy="590400"/>
            </a:xfrm>
          </p:grpSpPr>
          <p:sp>
            <p:nvSpPr>
              <p:cNvPr id="167" name="Line 11"/>
              <p:cNvSpPr/>
              <p:nvPr/>
            </p:nvSpPr>
            <p:spPr>
              <a:xfrm>
                <a:off x="1835280" y="923760"/>
                <a:ext cx="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20"/>
              <p:cNvSpPr/>
              <p:nvPr/>
            </p:nvSpPr>
            <p:spPr>
              <a:xfrm>
                <a:off x="1908000" y="836640"/>
                <a:ext cx="50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4"/>
            <p:cNvSpPr/>
            <p:nvPr/>
          </p:nvSpPr>
          <p:spPr>
            <a:xfrm>
              <a:off x="2556000" y="1427040"/>
              <a:ext cx="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71"/>
            <p:cNvGrpSpPr/>
            <p:nvPr/>
          </p:nvGrpSpPr>
          <p:grpSpPr>
            <a:xfrm>
              <a:off x="1260360" y="1282680"/>
              <a:ext cx="1150920" cy="1657440"/>
              <a:chOff x="1260360" y="1282680"/>
              <a:chExt cx="1150920" cy="1657440"/>
            </a:xfrm>
          </p:grpSpPr>
          <p:sp>
            <p:nvSpPr>
              <p:cNvPr id="171" name="Line 10"/>
              <p:cNvSpPr/>
              <p:nvPr/>
            </p:nvSpPr>
            <p:spPr>
              <a:xfrm>
                <a:off x="2411280" y="1498680"/>
                <a:ext cx="0" cy="1225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5"/>
              <p:cNvSpPr/>
              <p:nvPr/>
            </p:nvSpPr>
            <p:spPr>
              <a:xfrm>
                <a:off x="1260360" y="1282680"/>
                <a:ext cx="1150920" cy="4334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6"/>
              <p:cNvSpPr/>
              <p:nvPr/>
            </p:nvSpPr>
            <p:spPr>
              <a:xfrm>
                <a:off x="1260360" y="2506680"/>
                <a:ext cx="1150920" cy="4334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9"/>
              <p:cNvSpPr/>
              <p:nvPr/>
            </p:nvSpPr>
            <p:spPr>
              <a:xfrm>
                <a:off x="1260360" y="1498680"/>
                <a:ext cx="0" cy="1225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14"/>
            <p:cNvSpPr/>
            <p:nvPr/>
          </p:nvSpPr>
          <p:spPr>
            <a:xfrm>
              <a:off x="1835280" y="2724120"/>
              <a:ext cx="86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3"/>
            <p:cNvSpPr/>
            <p:nvPr/>
          </p:nvSpPr>
          <p:spPr>
            <a:xfrm>
              <a:off x="1979640" y="29401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 flipV="1">
              <a:off x="2556000" y="229068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6"/>
            <p:cNvSpPr/>
            <p:nvPr/>
          </p:nvSpPr>
          <p:spPr>
            <a:xfrm>
              <a:off x="2340000" y="178740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42"/>
          <p:cNvSpPr/>
          <p:nvPr/>
        </p:nvSpPr>
        <p:spPr>
          <a:xfrm>
            <a:off x="5940360" y="11541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3"/>
          <p:cNvSpPr/>
          <p:nvPr/>
        </p:nvSpPr>
        <p:spPr>
          <a:xfrm>
            <a:off x="5940360" y="33861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69"/>
          <p:cNvGrpSpPr/>
          <p:nvPr/>
        </p:nvGrpSpPr>
        <p:grpSpPr>
          <a:xfrm>
            <a:off x="3995640" y="692280"/>
            <a:ext cx="4464000" cy="3038400"/>
            <a:chOff x="3995640" y="692280"/>
            <a:chExt cx="4464000" cy="3038400"/>
          </a:xfrm>
        </p:grpSpPr>
        <p:sp>
          <p:nvSpPr>
            <p:cNvPr id="182" name="Oval 32"/>
            <p:cNvSpPr/>
            <p:nvPr/>
          </p:nvSpPr>
          <p:spPr>
            <a:xfrm>
              <a:off x="5508720" y="779400"/>
              <a:ext cx="863640" cy="790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68"/>
            <p:cNvGrpSpPr/>
            <p:nvPr/>
          </p:nvGrpSpPr>
          <p:grpSpPr>
            <a:xfrm>
              <a:off x="3995640" y="1570320"/>
              <a:ext cx="4464000" cy="2160360"/>
              <a:chOff x="3995640" y="1570320"/>
              <a:chExt cx="4464000" cy="2160360"/>
            </a:xfrm>
          </p:grpSpPr>
          <p:sp>
            <p:nvSpPr>
              <p:cNvPr id="184" name="Oval 33"/>
              <p:cNvSpPr/>
              <p:nvPr/>
            </p:nvSpPr>
            <p:spPr>
              <a:xfrm>
                <a:off x="5508720" y="2940120"/>
                <a:ext cx="863640" cy="790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67"/>
              <p:cNvGrpSpPr/>
              <p:nvPr/>
            </p:nvGrpSpPr>
            <p:grpSpPr>
              <a:xfrm>
                <a:off x="3995640" y="1570320"/>
                <a:ext cx="4464000" cy="1368360"/>
                <a:chOff x="3995640" y="1570320"/>
                <a:chExt cx="4464000" cy="1368360"/>
              </a:xfrm>
            </p:grpSpPr>
            <p:sp>
              <p:nvSpPr>
                <p:cNvPr id="186" name="Rectangle 31"/>
                <p:cNvSpPr/>
                <p:nvPr/>
              </p:nvSpPr>
              <p:spPr>
                <a:xfrm>
                  <a:off x="3995640" y="1570320"/>
                  <a:ext cx="3745080" cy="13683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4"/>
                <p:cNvSpPr/>
                <p:nvPr/>
              </p:nvSpPr>
              <p:spPr>
                <a:xfrm>
                  <a:off x="7740720" y="157032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5"/>
                <p:cNvSpPr/>
                <p:nvPr/>
              </p:nvSpPr>
              <p:spPr>
                <a:xfrm>
                  <a:off x="7740720" y="2938680"/>
                  <a:ext cx="2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6"/>
                <p:cNvSpPr/>
                <p:nvPr/>
              </p:nvSpPr>
              <p:spPr>
                <a:xfrm>
                  <a:off x="7885080" y="1570320"/>
                  <a:ext cx="0" cy="50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37"/>
                <p:cNvSpPr/>
                <p:nvPr/>
              </p:nvSpPr>
              <p:spPr>
                <a:xfrm flipV="1">
                  <a:off x="7885080" y="2577960"/>
                  <a:ext cx="0" cy="360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Text Box 38"/>
                <p:cNvSpPr/>
                <p:nvPr/>
              </p:nvSpPr>
              <p:spPr>
                <a:xfrm>
                  <a:off x="7740720" y="2059200"/>
                  <a:ext cx="71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39"/>
                <p:cNvSpPr/>
                <p:nvPr/>
              </p:nvSpPr>
              <p:spPr>
                <a:xfrm>
                  <a:off x="3995640" y="2219400"/>
                  <a:ext cx="720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40"/>
                <p:cNvSpPr/>
                <p:nvPr/>
              </p:nvSpPr>
              <p:spPr>
                <a:xfrm flipH="1">
                  <a:off x="7092720" y="2219400"/>
                  <a:ext cx="64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Text Box 41"/>
                <p:cNvSpPr/>
                <p:nvPr/>
              </p:nvSpPr>
              <p:spPr>
                <a:xfrm>
                  <a:off x="5003640" y="1930680"/>
                  <a:ext cx="2305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×3.14×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Text Box 44"/>
              <p:cNvSpPr/>
              <p:nvPr/>
            </p:nvSpPr>
            <p:spPr>
              <a:xfrm>
                <a:off x="5867280" y="292428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45"/>
            <p:cNvSpPr/>
            <p:nvPr/>
          </p:nvSpPr>
          <p:spPr>
            <a:xfrm>
              <a:off x="5869080" y="6922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7"/>
          <p:cNvSpPr/>
          <p:nvPr/>
        </p:nvSpPr>
        <p:spPr>
          <a:xfrm>
            <a:off x="179280" y="4221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8"/>
          <p:cNvSpPr/>
          <p:nvPr/>
        </p:nvSpPr>
        <p:spPr>
          <a:xfrm>
            <a:off x="1044720" y="371304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圆柱的表面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个底面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侧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3"/>
          <p:cNvSpPr/>
          <p:nvPr/>
        </p:nvSpPr>
        <p:spPr>
          <a:xfrm>
            <a:off x="971640" y="429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侧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2×3.14×5×15=47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4"/>
          <p:cNvSpPr/>
          <p:nvPr/>
        </p:nvSpPr>
        <p:spPr>
          <a:xfrm>
            <a:off x="971640" y="4869000"/>
            <a:ext cx="86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3.14×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3.14×25=78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5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471+78.5×2=62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6"/>
          <p:cNvSpPr/>
          <p:nvPr/>
        </p:nvSpPr>
        <p:spPr>
          <a:xfrm>
            <a:off x="1042920" y="6093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圆柱的表面积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2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平方厘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矩形 3" descr=""/>
          <p:cNvPicPr/>
          <p:nvPr/>
        </p:nvPicPr>
        <p:blipFill>
          <a:blip r:embed="rId1"/>
          <a:stretch/>
        </p:blipFill>
        <p:spPr>
          <a:xfrm>
            <a:off x="2693880" y="2682720"/>
            <a:ext cx="3664080" cy="114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、上下两个底面是圆形的物体都是圆柱。                                                           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、圆柱的表面积是圆柱的底面积加上侧面积。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、圆柱底面半径不变，高扩大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倍，侧面积也扩大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倍。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2"/>
          <p:cNvGraphicFramePr/>
          <p:nvPr/>
        </p:nvGraphicFramePr>
        <p:xfrm>
          <a:off x="1600200" y="1600200"/>
          <a:ext cx="330120" cy="3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3301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3"/>
          <p:cNvGraphicFramePr/>
          <p:nvPr/>
        </p:nvGraphicFramePr>
        <p:xfrm>
          <a:off x="2514600" y="2743200"/>
          <a:ext cx="33012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743200"/>
                    <a:ext cx="3301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4"/>
          <p:cNvGraphicFramePr/>
          <p:nvPr/>
        </p:nvGraphicFramePr>
        <p:xfrm>
          <a:off x="4191120" y="3733920"/>
          <a:ext cx="50940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733920"/>
                    <a:ext cx="509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09:36:42Z</dcterms:created>
  <dc:creator/>
  <dc:description/>
  <cp:keywords/>
  <dc:language>en-US</dc:language>
  <cp:lastModifiedBy/>
  <dcterms:modified xsi:type="dcterms:W3CDTF">2017-12-21T14:12:35Z</dcterms:modified>
  <cp:revision>1</cp:revision>
  <dc:subject/>
  <dc:title/>
</cp:coreProperties>
</file>