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cashreg.wav" ContentType="audio/x-wav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4B0-648F-4834-AADE-6C1D461B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6CB-A1C9-49A9-8027-7F154357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2E4B-6393-442E-AD33-5DE41E03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4C8-4066-400A-A8EC-4C7F7FE9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7F3-0709-476F-A7EC-F9924CD8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4BD-D3B0-4B08-8074-5B74E15E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824-E30F-44D6-8321-4F712771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17E-E9A0-4060-A02F-271F4B4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F1B-AD26-436D-BDBD-E20D7D3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3E7-579F-44E6-A56A-2831598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6E1-87CC-489A-BC8A-58FDCC31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09B-3E87-41CF-AEF0-9B962B62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7913-B0CD-45B2-8A56-429D8182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圆柱的体积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25092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圆柱形橙汁罐的底面直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，高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。体积是多少？如图，一只箱子刚好能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罐橙汁，这只箱子的长、宽、高各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148360" y="3429000"/>
            <a:ext cx="31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2"/>
          <p:cNvGrpSpPr/>
          <p:nvPr/>
        </p:nvGrpSpPr>
        <p:grpSpPr>
          <a:xfrm>
            <a:off x="5219640" y="3429000"/>
            <a:ext cx="3025800" cy="216000"/>
            <a:chOff x="5219640" y="3429000"/>
            <a:chExt cx="3025800" cy="216000"/>
          </a:xfrm>
        </p:grpSpPr>
        <p:sp>
          <p:nvSpPr>
            <p:cNvPr id="136" name="Oval 11"/>
            <p:cNvSpPr/>
            <p:nvPr/>
          </p:nvSpPr>
          <p:spPr>
            <a:xfrm>
              <a:off x="5219640" y="342900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5722920" y="342900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6227640" y="342900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6730920" y="342900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5"/>
            <p:cNvSpPr/>
            <p:nvPr/>
          </p:nvSpPr>
          <p:spPr>
            <a:xfrm>
              <a:off x="7236000" y="342900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6"/>
            <p:cNvSpPr/>
            <p:nvPr/>
          </p:nvSpPr>
          <p:spPr>
            <a:xfrm>
              <a:off x="7740720" y="342900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9"/>
          <p:cNvSpPr/>
          <p:nvPr/>
        </p:nvSpPr>
        <p:spPr>
          <a:xfrm>
            <a:off x="8317080" y="3429000"/>
            <a:ext cx="3585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508720" y="4365720"/>
            <a:ext cx="3168720" cy="50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148360" y="3429000"/>
            <a:ext cx="360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5148360" y="3933720"/>
            <a:ext cx="360360" cy="9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5148360" y="3429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5292720" y="3645000"/>
            <a:ext cx="3025800" cy="215640"/>
            <a:chOff x="5292720" y="3645000"/>
            <a:chExt cx="3025800" cy="215640"/>
          </a:xfrm>
        </p:grpSpPr>
        <p:sp>
          <p:nvSpPr>
            <p:cNvPr id="148" name="Oval 24"/>
            <p:cNvSpPr/>
            <p:nvPr/>
          </p:nvSpPr>
          <p:spPr>
            <a:xfrm>
              <a:off x="5292720" y="364500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5"/>
            <p:cNvSpPr/>
            <p:nvPr/>
          </p:nvSpPr>
          <p:spPr>
            <a:xfrm>
              <a:off x="5796000" y="364500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6"/>
            <p:cNvSpPr/>
            <p:nvPr/>
          </p:nvSpPr>
          <p:spPr>
            <a:xfrm>
              <a:off x="6300720" y="3645000"/>
              <a:ext cx="50508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7"/>
            <p:cNvSpPr/>
            <p:nvPr/>
          </p:nvSpPr>
          <p:spPr>
            <a:xfrm>
              <a:off x="6804000" y="3645000"/>
              <a:ext cx="50508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>
              <a:off x="7309080" y="364500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>
              <a:off x="7813800" y="3645000"/>
              <a:ext cx="504720" cy="215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5364000" y="3860640"/>
            <a:ext cx="3025800" cy="216000"/>
            <a:chOff x="5364000" y="3860640"/>
            <a:chExt cx="3025800" cy="216000"/>
          </a:xfrm>
        </p:grpSpPr>
        <p:sp>
          <p:nvSpPr>
            <p:cNvPr id="155" name="Oval 31"/>
            <p:cNvSpPr/>
            <p:nvPr/>
          </p:nvSpPr>
          <p:spPr>
            <a:xfrm>
              <a:off x="5364000" y="3860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5867280" y="3860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3"/>
            <p:cNvSpPr/>
            <p:nvPr/>
          </p:nvSpPr>
          <p:spPr>
            <a:xfrm>
              <a:off x="6372000" y="386064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4"/>
            <p:cNvSpPr/>
            <p:nvPr/>
          </p:nvSpPr>
          <p:spPr>
            <a:xfrm>
              <a:off x="6875280" y="386064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5"/>
            <p:cNvSpPr/>
            <p:nvPr/>
          </p:nvSpPr>
          <p:spPr>
            <a:xfrm>
              <a:off x="7380360" y="3860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36"/>
            <p:cNvSpPr/>
            <p:nvPr/>
          </p:nvSpPr>
          <p:spPr>
            <a:xfrm>
              <a:off x="7885080" y="3860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7"/>
          <p:cNvGrpSpPr/>
          <p:nvPr/>
        </p:nvGrpSpPr>
        <p:grpSpPr>
          <a:xfrm>
            <a:off x="5435640" y="4076640"/>
            <a:ext cx="3025800" cy="216000"/>
            <a:chOff x="5435640" y="4076640"/>
            <a:chExt cx="3025800" cy="216000"/>
          </a:xfrm>
        </p:grpSpPr>
        <p:sp>
          <p:nvSpPr>
            <p:cNvPr id="162" name="Oval 38"/>
            <p:cNvSpPr/>
            <p:nvPr/>
          </p:nvSpPr>
          <p:spPr>
            <a:xfrm>
              <a:off x="5435640" y="4076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9"/>
            <p:cNvSpPr/>
            <p:nvPr/>
          </p:nvSpPr>
          <p:spPr>
            <a:xfrm>
              <a:off x="5938920" y="4076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0"/>
            <p:cNvSpPr/>
            <p:nvPr/>
          </p:nvSpPr>
          <p:spPr>
            <a:xfrm>
              <a:off x="6443640" y="407664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1"/>
            <p:cNvSpPr/>
            <p:nvPr/>
          </p:nvSpPr>
          <p:spPr>
            <a:xfrm>
              <a:off x="6946920" y="4076640"/>
              <a:ext cx="50508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2"/>
            <p:cNvSpPr/>
            <p:nvPr/>
          </p:nvSpPr>
          <p:spPr>
            <a:xfrm>
              <a:off x="7452000" y="4076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3"/>
            <p:cNvSpPr/>
            <p:nvPr/>
          </p:nvSpPr>
          <p:spPr>
            <a:xfrm>
              <a:off x="7956720" y="4076640"/>
              <a:ext cx="504720" cy="216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4"/>
          <p:cNvSpPr/>
          <p:nvPr/>
        </p:nvSpPr>
        <p:spPr>
          <a:xfrm>
            <a:off x="6156360" y="4365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橙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6"/>
              <p:cNvSpPr txBox="1"/>
              <p:nvPr/>
            </p:nvSpPr>
            <p:spPr>
              <a:xfrm>
                <a:off x="1692360" y="3040200"/>
                <a:ext cx="2104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圆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0" name="Picture 47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1481040" cy="762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0"/>
          <p:cNvSpPr/>
          <p:nvPr/>
        </p:nvSpPr>
        <p:spPr>
          <a:xfrm>
            <a:off x="324000" y="465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半径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÷2=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1"/>
          <p:cNvSpPr/>
          <p:nvPr/>
        </p:nvSpPr>
        <p:spPr>
          <a:xfrm>
            <a:off x="324000" y="53737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4×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28.2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2"/>
          <p:cNvSpPr/>
          <p:nvPr/>
        </p:nvSpPr>
        <p:spPr>
          <a:xfrm>
            <a:off x="324000" y="602784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体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8.26×11=310.8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9"/>
          <p:cNvSpPr/>
          <p:nvPr/>
        </p:nvSpPr>
        <p:spPr>
          <a:xfrm>
            <a:off x="971640" y="155736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箱子的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971640" y="593640"/>
            <a:ext cx="68245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因为箱子刚好能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罐橙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663480" y="24922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箱子的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6×6=3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24360" y="1557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橙汁罐的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1000080" y="335772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箱子的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6×4=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79280" y="4365720"/>
            <a:ext cx="843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橙汁罐的体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10.8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箱子的长、宽、高各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矩形 3" descr=""/>
          <p:cNvPicPr/>
          <p:nvPr/>
        </p:nvPicPr>
        <p:blipFill>
          <a:blip r:embed="rId1"/>
          <a:stretch/>
        </p:blipFill>
        <p:spPr>
          <a:xfrm>
            <a:off x="2541600" y="2378160"/>
            <a:ext cx="3664080" cy="11397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250920" y="189000"/>
            <a:ext cx="86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个圆柱的侧面沿高展开后是一个边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.2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厘米的正方形。这个圆柱的体积是多少立方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33360" y="22906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方形的边长是圆柱底面周长，宽是圆柱的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4000" y="2997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332000" y="3213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半径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28÷3.14÷2=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333440" y="400536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底面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4×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3.1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357200" y="478296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体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14×6.28=19.719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900000" y="57340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个圆柱的体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719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272880" y="8161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有一个圆柱形状的储水箱，它的侧面由一块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的正方形铁皮围成。这个储水箱最多能储水多少升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接缝处略去不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7184880" y="2590920"/>
            <a:ext cx="1739880" cy="2384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646200" y="3314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6.28÷3.14÷2=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（分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7"/>
          <p:cNvGrpSpPr/>
          <p:nvPr/>
        </p:nvGrpSpPr>
        <p:grpSpPr>
          <a:xfrm>
            <a:off x="646200" y="3819600"/>
            <a:ext cx="6122880" cy="520560"/>
            <a:chOff x="646200" y="3819600"/>
            <a:chExt cx="6122880" cy="520560"/>
          </a:xfrm>
        </p:grpSpPr>
        <p:sp>
          <p:nvSpPr>
            <p:cNvPr id="192" name="Text Box 8"/>
            <p:cNvSpPr/>
            <p:nvPr/>
          </p:nvSpPr>
          <p:spPr>
            <a:xfrm>
              <a:off x="646200" y="3819600"/>
              <a:ext cx="612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 ×3.14 ×6.28=19.7192(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立方分米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828360" y="38638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0"/>
          <p:cNvSpPr/>
          <p:nvPr/>
        </p:nvSpPr>
        <p:spPr>
          <a:xfrm>
            <a:off x="717480" y="43941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9.719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立方分米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=19.719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1258920" y="5300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这个储水箱最多能储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719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矩形 4" descr=""/>
          <p:cNvPicPr/>
          <p:nvPr/>
        </p:nvPicPr>
        <p:blipFill>
          <a:blip r:embed="rId1"/>
          <a:stretch/>
        </p:blipFill>
        <p:spPr>
          <a:xfrm>
            <a:off x="3067200" y="2457360"/>
            <a:ext cx="297324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1"/>
          <p:cNvGrpSpPr/>
          <p:nvPr/>
        </p:nvGrpSpPr>
        <p:grpSpPr>
          <a:xfrm>
            <a:off x="1042920" y="1262160"/>
            <a:ext cx="5478120" cy="720360"/>
            <a:chOff x="1042920" y="1262160"/>
            <a:chExt cx="5478120" cy="720360"/>
          </a:xfrm>
        </p:grpSpPr>
        <p:pic>
          <p:nvPicPr>
            <p:cNvPr id="44" name="Picture 22" descr="气泡-13"/>
            <p:cNvPicPr/>
            <p:nvPr/>
          </p:nvPicPr>
          <p:blipFill>
            <a:blip r:embed="rId1"/>
            <a:stretch/>
          </p:blipFill>
          <p:spPr>
            <a:xfrm>
              <a:off x="1082520" y="1280880"/>
              <a:ext cx="543852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3"/>
            <p:cNvSpPr/>
            <p:nvPr/>
          </p:nvSpPr>
          <p:spPr>
            <a:xfrm>
              <a:off x="1042920" y="1262160"/>
              <a:ext cx="540540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 Box 2"/>
          <p:cNvSpPr/>
          <p:nvPr/>
        </p:nvSpPr>
        <p:spPr>
          <a:xfrm>
            <a:off x="1047600" y="1333440"/>
            <a:ext cx="849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的面积是怎样推导出来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"/>
          <p:cNvGraphicFramePr/>
          <p:nvPr/>
        </p:nvGraphicFramePr>
        <p:xfrm>
          <a:off x="298440" y="2448000"/>
          <a:ext cx="2543040" cy="24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440" y="2448000"/>
                    <a:ext cx="25430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4259160" y="3024360"/>
          <a:ext cx="3676680" cy="136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59160" y="3024360"/>
                    <a:ext cx="36766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AutoShape 5"/>
          <p:cNvSpPr/>
          <p:nvPr/>
        </p:nvSpPr>
        <p:spPr>
          <a:xfrm>
            <a:off x="3033720" y="3527280"/>
            <a:ext cx="1152360" cy="358920"/>
          </a:xfrm>
          <a:prstGeom prst="rightArrow">
            <a:avLst>
              <a:gd name="adj1" fmla="val 50000"/>
              <a:gd name="adj2" fmla="val 802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8002440" y="3168720"/>
            <a:ext cx="1141200" cy="1104840"/>
            <a:chOff x="8002440" y="3168720"/>
            <a:chExt cx="1141200" cy="1104840"/>
          </a:xfrm>
        </p:grpSpPr>
        <p:sp>
          <p:nvSpPr>
            <p:cNvPr id="53" name="Line 7"/>
            <p:cNvSpPr/>
            <p:nvPr/>
          </p:nvSpPr>
          <p:spPr>
            <a:xfrm>
              <a:off x="8113320" y="316872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"/>
            <p:cNvSpPr/>
            <p:nvPr/>
          </p:nvSpPr>
          <p:spPr>
            <a:xfrm>
              <a:off x="8021160" y="4273560"/>
              <a:ext cx="82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>
              <a:off x="8480160" y="3841200"/>
              <a:ext cx="0" cy="4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V="1">
              <a:off x="8480160" y="3168720"/>
              <a:ext cx="0" cy="3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/>
            <p:cNvSpPr/>
            <p:nvPr/>
          </p:nvSpPr>
          <p:spPr>
            <a:xfrm>
              <a:off x="8002440" y="3429000"/>
              <a:ext cx="114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宽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= 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2"/>
          <p:cNvGrpSpPr/>
          <p:nvPr/>
        </p:nvGrpSpPr>
        <p:grpSpPr>
          <a:xfrm>
            <a:off x="4330800" y="4319640"/>
            <a:ext cx="3529080" cy="457200"/>
            <a:chOff x="4330800" y="4319640"/>
            <a:chExt cx="3529080" cy="457200"/>
          </a:xfrm>
        </p:grpSpPr>
        <p:sp>
          <p:nvSpPr>
            <p:cNvPr id="59" name="Line 13"/>
            <p:cNvSpPr/>
            <p:nvPr/>
          </p:nvSpPr>
          <p:spPr>
            <a:xfrm>
              <a:off x="4330800" y="4319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4"/>
            <p:cNvSpPr/>
            <p:nvPr/>
          </p:nvSpPr>
          <p:spPr>
            <a:xfrm>
              <a:off x="7859880" y="4319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6476760" y="4548240"/>
              <a:ext cx="138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6"/>
            <p:cNvSpPr/>
            <p:nvPr/>
          </p:nvSpPr>
          <p:spPr>
            <a:xfrm flipH="1">
              <a:off x="4330800" y="454824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5562720" y="4343400"/>
              <a:ext cx="1296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长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= </a:t>
              </a:r>
              <a:r>
                <a:rPr b="1" lang="en-US" sz="28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8"/>
          <p:cNvSpPr/>
          <p:nvPr/>
        </p:nvSpPr>
        <p:spPr>
          <a:xfrm>
            <a:off x="5290920" y="4791240"/>
            <a:ext cx="177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3033720" y="5111640"/>
            <a:ext cx="1224000" cy="257400"/>
          </a:xfrm>
          <a:prstGeom prst="leftArrow">
            <a:avLst>
              <a:gd name="adj1" fmla="val 50000"/>
              <a:gd name="adj2" fmla="val 118881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1179000" y="4791240"/>
            <a:ext cx="140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4" descr="p-16-03"/>
          <p:cNvPicPr/>
          <p:nvPr/>
        </p:nvPicPr>
        <p:blipFill>
          <a:blip r:embed="rId6"/>
          <a:stretch/>
        </p:blipFill>
        <p:spPr>
          <a:xfrm>
            <a:off x="6684840" y="976320"/>
            <a:ext cx="1131840" cy="1498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412740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方体的体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宽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14480" y="5219640"/>
            <a:ext cx="91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方体的体积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棱长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棱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6"/>
          <p:cNvGrpSpPr/>
          <p:nvPr/>
        </p:nvGrpSpPr>
        <p:grpSpPr>
          <a:xfrm>
            <a:off x="5872320" y="1785960"/>
            <a:ext cx="1667880" cy="1754640"/>
            <a:chOff x="5872320" y="1785960"/>
            <a:chExt cx="1667880" cy="1754640"/>
          </a:xfrm>
        </p:grpSpPr>
        <p:grpSp>
          <p:nvGrpSpPr>
            <p:cNvPr id="71" name="Group 47"/>
            <p:cNvGrpSpPr/>
            <p:nvPr/>
          </p:nvGrpSpPr>
          <p:grpSpPr>
            <a:xfrm>
              <a:off x="5872320" y="1785960"/>
              <a:ext cx="1325160" cy="1325520"/>
              <a:chOff x="5872320" y="1785960"/>
              <a:chExt cx="1325160" cy="1325520"/>
            </a:xfrm>
          </p:grpSpPr>
          <p:sp>
            <p:nvSpPr>
              <p:cNvPr id="72" name="AutoShape 48"/>
              <p:cNvSpPr/>
              <p:nvPr/>
            </p:nvSpPr>
            <p:spPr>
              <a:xfrm>
                <a:off x="5872320" y="1785960"/>
                <a:ext cx="1325160" cy="1325520"/>
              </a:xfrm>
              <a:prstGeom prst="cube">
                <a:avLst>
                  <a:gd name="adj" fmla="val 19166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49"/>
              <p:cNvSpPr/>
              <p:nvPr/>
            </p:nvSpPr>
            <p:spPr>
              <a:xfrm>
                <a:off x="6130800" y="1785960"/>
                <a:ext cx="0" cy="105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50"/>
              <p:cNvSpPr/>
              <p:nvPr/>
            </p:nvSpPr>
            <p:spPr>
              <a:xfrm>
                <a:off x="6178320" y="2846160"/>
                <a:ext cx="1008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51"/>
              <p:cNvSpPr/>
              <p:nvPr/>
            </p:nvSpPr>
            <p:spPr>
              <a:xfrm flipH="1">
                <a:off x="5876640" y="2847960"/>
                <a:ext cx="250200" cy="25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Rectangle 52"/>
            <p:cNvSpPr/>
            <p:nvPr/>
          </p:nvSpPr>
          <p:spPr>
            <a:xfrm>
              <a:off x="6549840" y="22381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棱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53"/>
            <p:cNvSpPr/>
            <p:nvPr/>
          </p:nvSpPr>
          <p:spPr>
            <a:xfrm>
              <a:off x="6249600" y="3141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棱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54"/>
            <p:cNvSpPr/>
            <p:nvPr/>
          </p:nvSpPr>
          <p:spPr>
            <a:xfrm>
              <a:off x="7054560" y="29588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棱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8"/>
          <p:cNvGrpSpPr/>
          <p:nvPr/>
        </p:nvGrpSpPr>
        <p:grpSpPr>
          <a:xfrm>
            <a:off x="1562040" y="1657080"/>
            <a:ext cx="2184120" cy="1420920"/>
            <a:chOff x="1562040" y="1657080"/>
            <a:chExt cx="2184120" cy="1420920"/>
          </a:xfrm>
        </p:grpSpPr>
        <p:sp>
          <p:nvSpPr>
            <p:cNvPr id="80" name="AutoShape 59"/>
            <p:cNvSpPr/>
            <p:nvPr/>
          </p:nvSpPr>
          <p:spPr>
            <a:xfrm>
              <a:off x="1562040" y="1657440"/>
              <a:ext cx="2184120" cy="1420560"/>
            </a:xfrm>
            <a:prstGeom prst="cube">
              <a:avLst>
                <a:gd name="adj" fmla="val 2692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0"/>
            <p:cNvSpPr/>
            <p:nvPr/>
          </p:nvSpPr>
          <p:spPr>
            <a:xfrm flipV="1">
              <a:off x="1954080" y="1657080"/>
              <a:ext cx="0" cy="10299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1"/>
            <p:cNvSpPr/>
            <p:nvPr/>
          </p:nvSpPr>
          <p:spPr>
            <a:xfrm>
              <a:off x="1963440" y="2679480"/>
              <a:ext cx="1768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2"/>
            <p:cNvSpPr/>
            <p:nvPr/>
          </p:nvSpPr>
          <p:spPr>
            <a:xfrm flipV="1">
              <a:off x="1562040" y="2689200"/>
              <a:ext cx="390240" cy="388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63"/>
          <p:cNvSpPr/>
          <p:nvPr/>
        </p:nvSpPr>
        <p:spPr>
          <a:xfrm>
            <a:off x="2354400" y="30812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4"/>
          <p:cNvSpPr/>
          <p:nvPr/>
        </p:nvSpPr>
        <p:spPr>
          <a:xfrm>
            <a:off x="2857680" y="20890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5"/>
          <p:cNvSpPr/>
          <p:nvPr/>
        </p:nvSpPr>
        <p:spPr>
          <a:xfrm>
            <a:off x="3487680" y="27781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7"/>
          <p:cNvSpPr/>
          <p:nvPr/>
        </p:nvSpPr>
        <p:spPr>
          <a:xfrm>
            <a:off x="4071240" y="255600"/>
            <a:ext cx="416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长方体、正方体和圆柱的底面积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都相等，高也相等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8" descr=""/>
          <p:cNvPicPr/>
          <p:nvPr/>
        </p:nvPicPr>
        <p:blipFill>
          <a:blip r:embed="rId1"/>
          <a:stretch/>
        </p:blipFill>
        <p:spPr>
          <a:xfrm>
            <a:off x="647640" y="1584360"/>
            <a:ext cx="7747200" cy="1936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9"/>
          <p:cNvSpPr/>
          <p:nvPr/>
        </p:nvSpPr>
        <p:spPr>
          <a:xfrm>
            <a:off x="1213920" y="358308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和正方体的体积相等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0"/>
          <p:cNvSpPr/>
          <p:nvPr/>
        </p:nvSpPr>
        <p:spPr>
          <a:xfrm>
            <a:off x="1736640" y="4383000"/>
            <a:ext cx="49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猜一猜，圆柱的体积和长方体、正方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体积相等吗？用什么办法验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1"/>
          <p:cNvSpPr/>
          <p:nvPr/>
        </p:nvSpPr>
        <p:spPr>
          <a:xfrm>
            <a:off x="1170720" y="5602320"/>
            <a:ext cx="525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圆可以转化成长方形计算面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圆柱可以转化成长方体计算体积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746360" y="950760"/>
            <a:ext cx="5371920" cy="2086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880920" y="179280"/>
            <a:ext cx="74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圆柱的底面平均分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份，切开后照下图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252080" y="3254400"/>
            <a:ext cx="58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拼成的长方体与原来的圆柱有什么联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-1971000" y="4281480"/>
            <a:ext cx="1301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的底面积等于圆柱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高等于圆柱的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方体的体积与圆柱的体积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32448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386400" y="47894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400800" y="52578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1625760" y="1052640"/>
          <a:ext cx="1650960" cy="25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1052640"/>
                    <a:ext cx="165096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5634000" y="1125360"/>
          <a:ext cx="2368440" cy="24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0" y="1125360"/>
                    <a:ext cx="236844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5364000" y="1184400"/>
          <a:ext cx="2459160" cy="241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1184400"/>
                    <a:ext cx="2459160" cy="24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5364000" y="1125360"/>
          <a:ext cx="2638440" cy="2457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1125360"/>
                    <a:ext cx="2638440" cy="24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10"/>
          <p:cNvSpPr/>
          <p:nvPr/>
        </p:nvSpPr>
        <p:spPr>
          <a:xfrm>
            <a:off x="4033800" y="2071800"/>
            <a:ext cx="898560" cy="479160"/>
          </a:xfrm>
          <a:prstGeom prst="rightArrow">
            <a:avLst>
              <a:gd name="adj1" fmla="val 50000"/>
              <a:gd name="adj2" fmla="val 468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474920" y="371628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方体体积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447920" y="4572000"/>
            <a:ext cx="612144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圆柱体积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底面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1660680" y="1125360"/>
            <a:ext cx="1584000" cy="432000"/>
          </a:xfrm>
          <a:prstGeom prst="ellipse">
            <a:avLst/>
          </a:pr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4"/>
          <p:cNvSpPr/>
          <p:nvPr/>
        </p:nvSpPr>
        <p:spPr>
          <a:xfrm>
            <a:off x="5372280" y="1149480"/>
            <a:ext cx="2592360" cy="431640"/>
          </a:xfrm>
          <a:prstGeom prst="pie">
            <a:avLst/>
          </a:pr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7964640" y="1293840"/>
            <a:ext cx="0" cy="201600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804888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867840" y="692280"/>
            <a:ext cx="1003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</a:rPr>
              <a:t>底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5148000" y="1052280"/>
            <a:ext cx="64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219480" y="1341360"/>
            <a:ext cx="0" cy="2016360"/>
          </a:xfrm>
          <a:prstGeom prst="line">
            <a:avLst/>
          </a:prstGeom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3303720" y="1963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 flipV="1">
            <a:off x="2916360" y="1052280"/>
            <a:ext cx="64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3348000" y="5508720"/>
            <a:ext cx="2736720" cy="1008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  <a:ea typeface="Times New Roman"/>
              </a:rPr>
              <a:t>＝</a:t>
            </a:r>
            <a:r>
              <a:rPr b="1" i="1" lang="en-US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042920" y="21276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油桶，底面直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高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。这个油桶的体积是多少立方分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3475080" y="2319480"/>
                <a:ext cx="2104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圆柱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6"/>
          <p:cNvSpPr/>
          <p:nvPr/>
        </p:nvSpPr>
        <p:spPr>
          <a:xfrm>
            <a:off x="838080" y="3352680"/>
            <a:ext cx="16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981080" y="3429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底面半径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÷2=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050920" y="42274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底面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4×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.5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050920" y="50198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56×5=62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473120" y="5883120"/>
            <a:ext cx="77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油桶的体积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分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矩形 3" descr=""/>
          <p:cNvPicPr/>
          <p:nvPr/>
        </p:nvPicPr>
        <p:blipFill>
          <a:blip r:embed="rId1"/>
          <a:stretch/>
        </p:blipFill>
        <p:spPr>
          <a:xfrm>
            <a:off x="2693880" y="2682720"/>
            <a:ext cx="3664080" cy="1140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190512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的底面积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厘米，高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。它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358128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的底面半径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，高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。它的体积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      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676520" y="24066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0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立方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57200" y="304920"/>
            <a:ext cx="1835280" cy="581400"/>
          </a:xfrm>
          <a:prstGeom prst="rect">
            <a:avLst/>
          </a:prstGeom>
          <a:solidFill>
            <a:srgbClr val="ff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一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243080" y="40640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82.6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立方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44:25Z</dcterms:created>
  <dc:creator/>
  <dc:description/>
  <cp:keywords/>
  <dc:language>en-US</dc:language>
  <cp:lastModifiedBy/>
  <dcterms:modified xsi:type="dcterms:W3CDTF">2017-12-21T14:12:50Z</dcterms:modified>
  <cp:revision>1</cp:revision>
  <dc:subject/>
  <dc:title/>
</cp:coreProperties>
</file>