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whoosh.wav" ContentType="audio/x-wav"/>
  <Override PartName="/ppt/media/image9.jpeg" ContentType="image/jpeg"/>
  <Override PartName="/ppt/media/image6.png" ContentType="image/png"/>
  <Override PartName="/ppt/media/image7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7C6D-D4C6-4F2D-AE03-6F8FE0FF82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江西于都实验中学附属小学         华攸盛制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6E74-91A8-45F9-83F4-04F098567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A774-0C88-4E30-BB7E-097CE7BB0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5BA4-5A4C-4E24-AD3B-B119842B9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104-C725-4252-95B7-2D8C50382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69D7-5ED8-4E90-A2B3-BBB1A931E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交叉相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93D-F7EB-496B-832A-AA1B0D1E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E60-65D2-4DB8-9EE0-9C5623B7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27E-8F0B-4EE0-98F3-1E64AA1F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E7A-CC76-4A49-A7FA-DC615C85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1A4-44C3-4397-8960-865B1EE6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283-A8DD-48E6-AEFD-1CE1853A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E66-C127-4F4F-BE36-FD25202E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13B-82E4-4B7D-8774-C4A4DBC2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03C-66AF-4049-8525-DE6F1134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F8E-19A8-47F8-A755-BDBCA60A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A5C-DEA4-4D1F-A2D2-D29E959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41E-61B9-4126-85AA-8CD24F9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94B9-2630-42FB-96BD-A19C2A36F8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1290600" y="1484280"/>
            <a:ext cx="6018120" cy="29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比和比例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900000" y="40464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Calibri"/>
              </a:rPr>
              <a:t>求比例中的未知项，叫做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解比例</a:t>
            </a:r>
            <a:r>
              <a:rPr b="0" lang="zh-CN" sz="3200" spc="-1" strike="noStrike">
                <a:solidFill>
                  <a:srgbClr val="33cc33"/>
                </a:solidFill>
                <a:latin typeface="Calibri"/>
              </a:rPr>
              <a:t>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-171360" y="149868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比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481560" y="1160640"/>
            <a:ext cx="11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448080" y="18795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114880" y="12063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114880" y="18795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033000" y="2852640"/>
            <a:ext cx="34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2899440" y="407664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1332000" y="450864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5180040" y="5170320"/>
            <a:ext cx="425160" cy="1191240"/>
            <a:chOff x="5180040" y="5170320"/>
            <a:chExt cx="425160" cy="1191240"/>
          </a:xfrm>
        </p:grpSpPr>
        <p:sp>
          <p:nvSpPr>
            <p:cNvPr id="154" name="Text Box 16"/>
            <p:cNvSpPr/>
            <p:nvPr/>
          </p:nvSpPr>
          <p:spPr>
            <a:xfrm>
              <a:off x="5193000" y="5170320"/>
              <a:ext cx="412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5180040" y="5748120"/>
              <a:ext cx="392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8"/>
          <p:cNvGrpSpPr/>
          <p:nvPr/>
        </p:nvGrpSpPr>
        <p:grpSpPr>
          <a:xfrm>
            <a:off x="5932440" y="5195880"/>
            <a:ext cx="425160" cy="1191240"/>
            <a:chOff x="5932440" y="5195880"/>
            <a:chExt cx="425160" cy="1191240"/>
          </a:xfrm>
        </p:grpSpPr>
        <p:sp>
          <p:nvSpPr>
            <p:cNvPr id="157" name="Text Box 19"/>
            <p:cNvSpPr/>
            <p:nvPr/>
          </p:nvSpPr>
          <p:spPr>
            <a:xfrm>
              <a:off x="5945400" y="5195880"/>
              <a:ext cx="412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932440" y="5773680"/>
              <a:ext cx="392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870840" y="1285920"/>
            <a:ext cx="7616520" cy="4664520"/>
            <a:chOff x="870840" y="1285920"/>
            <a:chExt cx="7616520" cy="4664520"/>
          </a:xfrm>
        </p:grpSpPr>
        <p:sp>
          <p:nvSpPr>
            <p:cNvPr id="160" name="Text Box 3"/>
            <p:cNvSpPr/>
            <p:nvPr/>
          </p:nvSpPr>
          <p:spPr>
            <a:xfrm>
              <a:off x="870840" y="1285920"/>
              <a:ext cx="7616520" cy="46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4.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一题多变化，动脑解决它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1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）在比例里，两个内项的积是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18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其中一个外项是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2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，另一个外项是（ ）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2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）如果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5a=3b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，那么，  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=    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       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=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3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）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a</a:t>
              </a:r>
              <a:r>
                <a:rPr b="1" lang="en-US" sz="4000" spc="-1" strike="noStrike">
                  <a:solidFill>
                    <a:srgbClr val="663300"/>
                  </a:solidFill>
                  <a:latin typeface="Calibri"/>
                </a:rPr>
                <a:t>︰</a:t>
              </a:r>
              <a:r>
                <a:rPr b="1" lang="en-US" sz="4000" spc="-1" strike="noStrike">
                  <a:solidFill>
                    <a:srgbClr val="663300"/>
                  </a:solidFill>
                  <a:latin typeface="Calibri"/>
                </a:rPr>
                <a:t>8=9</a:t>
              </a:r>
              <a:r>
                <a:rPr b="1" lang="en-US" sz="4000" spc="-1" strike="noStrike">
                  <a:solidFill>
                    <a:srgbClr val="663300"/>
                  </a:solidFill>
                  <a:latin typeface="Calibri"/>
                </a:rPr>
                <a:t>︰</a:t>
              </a:r>
              <a:r>
                <a:rPr b="1" lang="en-US" sz="4000" spc="-1" strike="noStrike">
                  <a:solidFill>
                    <a:srgbClr val="663300"/>
                  </a:solidFill>
                  <a:latin typeface="Calibri"/>
                </a:rPr>
                <a:t>b,</a:t>
              </a:r>
              <a:r>
                <a:rPr b="1" lang="zh-CN" sz="4000" spc="-1" strike="noStrike">
                  <a:solidFill>
                    <a:srgbClr val="663300"/>
                  </a:solidFill>
                  <a:latin typeface="Calibri"/>
                </a:rPr>
                <a:t>那么，</a:t>
              </a:r>
              <a:r>
                <a:rPr b="1" lang="en-US" sz="4000" spc="-1" strike="noStrike">
                  <a:solidFill>
                    <a:srgbClr val="663300"/>
                  </a:solidFill>
                  <a:latin typeface="Calibri"/>
                </a:rPr>
                <a:t>a×b=(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4"/>
            <p:cNvGrpSpPr/>
            <p:nvPr/>
          </p:nvGrpSpPr>
          <p:grpSpPr>
            <a:xfrm>
              <a:off x="6673680" y="3398760"/>
              <a:ext cx="704880" cy="785160"/>
              <a:chOff x="6673680" y="3398760"/>
              <a:chExt cx="704880" cy="785160"/>
            </a:xfrm>
          </p:grpSpPr>
          <p:sp>
            <p:nvSpPr>
              <p:cNvPr id="162" name="Line 5"/>
              <p:cNvSpPr/>
              <p:nvPr/>
            </p:nvSpPr>
            <p:spPr>
              <a:xfrm>
                <a:off x="6703920" y="37796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6"/>
              <p:cNvSpPr/>
              <p:nvPr/>
            </p:nvSpPr>
            <p:spPr>
              <a:xfrm>
                <a:off x="6673680" y="339876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3300"/>
                    </a:solidFill>
                    <a:latin typeface="Times New Roman"/>
                  </a:rPr>
                  <a:t>（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7"/>
              <p:cNvSpPr/>
              <p:nvPr/>
            </p:nvSpPr>
            <p:spPr>
              <a:xfrm>
                <a:off x="6673680" y="372420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3300"/>
                    </a:solidFill>
                    <a:latin typeface="Times New Roman"/>
                  </a:rPr>
                  <a:t>（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8"/>
            <p:cNvGrpSpPr/>
            <p:nvPr/>
          </p:nvGrpSpPr>
          <p:grpSpPr>
            <a:xfrm>
              <a:off x="2354040" y="4324320"/>
              <a:ext cx="704880" cy="785160"/>
              <a:chOff x="2354040" y="4324320"/>
              <a:chExt cx="704880" cy="785160"/>
            </a:xfrm>
          </p:grpSpPr>
          <p:sp>
            <p:nvSpPr>
              <p:cNvPr id="166" name="Line 9"/>
              <p:cNvSpPr/>
              <p:nvPr/>
            </p:nvSpPr>
            <p:spPr>
              <a:xfrm>
                <a:off x="2384280" y="470520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0"/>
              <p:cNvSpPr/>
              <p:nvPr/>
            </p:nvSpPr>
            <p:spPr>
              <a:xfrm>
                <a:off x="2354040" y="432432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3300"/>
                    </a:solidFill>
                    <a:latin typeface="Times New Roman"/>
                  </a:rPr>
                  <a:t>（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1"/>
              <p:cNvSpPr/>
              <p:nvPr/>
            </p:nvSpPr>
            <p:spPr>
              <a:xfrm>
                <a:off x="2354040" y="464976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3300"/>
                    </a:solidFill>
                    <a:latin typeface="Times New Roman"/>
                  </a:rPr>
                  <a:t>（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12"/>
            <p:cNvGrpSpPr/>
            <p:nvPr/>
          </p:nvGrpSpPr>
          <p:grpSpPr>
            <a:xfrm>
              <a:off x="5616720" y="3297240"/>
              <a:ext cx="407880" cy="886320"/>
              <a:chOff x="5616720" y="3297240"/>
              <a:chExt cx="407880" cy="886320"/>
            </a:xfrm>
          </p:grpSpPr>
          <p:sp>
            <p:nvSpPr>
              <p:cNvPr id="170" name="Line 13"/>
              <p:cNvSpPr/>
              <p:nvPr/>
            </p:nvSpPr>
            <p:spPr>
              <a:xfrm>
                <a:off x="5616720" y="37767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14"/>
              <p:cNvSpPr/>
              <p:nvPr/>
            </p:nvSpPr>
            <p:spPr>
              <a:xfrm>
                <a:off x="5617800" y="32972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66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15"/>
              <p:cNvSpPr/>
              <p:nvPr/>
            </p:nvSpPr>
            <p:spPr>
              <a:xfrm>
                <a:off x="5618160" y="36021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66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6"/>
            <p:cNvGrpSpPr/>
            <p:nvPr/>
          </p:nvGrpSpPr>
          <p:grpSpPr>
            <a:xfrm>
              <a:off x="1317600" y="4181400"/>
              <a:ext cx="407880" cy="886320"/>
              <a:chOff x="1317600" y="4181400"/>
              <a:chExt cx="407880" cy="886320"/>
            </a:xfrm>
          </p:grpSpPr>
          <p:sp>
            <p:nvSpPr>
              <p:cNvPr id="174" name="Line 17"/>
              <p:cNvSpPr/>
              <p:nvPr/>
            </p:nvSpPr>
            <p:spPr>
              <a:xfrm>
                <a:off x="1317600" y="4660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18"/>
              <p:cNvSpPr/>
              <p:nvPr/>
            </p:nvSpPr>
            <p:spPr>
              <a:xfrm>
                <a:off x="1319040" y="41814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66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9"/>
              <p:cNvSpPr/>
              <p:nvPr/>
            </p:nvSpPr>
            <p:spPr>
              <a:xfrm>
                <a:off x="1318680" y="44863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66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20"/>
          <p:cNvSpPr/>
          <p:nvPr/>
        </p:nvSpPr>
        <p:spPr>
          <a:xfrm>
            <a:off x="7910640" y="256536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6831000" y="32148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6800760" y="37180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2509920" y="40971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2484360" y="46004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7093080" y="5300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619280" y="260280"/>
            <a:ext cx="58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libri"/>
                <a:ea typeface="方正卡通简体"/>
              </a:rPr>
              <a:t>比和比例的区别与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50920" y="981000"/>
          <a:ext cx="8642160" cy="5112000"/>
        </p:xfrm>
        <a:graphic>
          <a:graphicData uri="http://schemas.openxmlformats.org/drawingml/2006/table">
            <a:tbl>
              <a:tblPr/>
              <a:tblGrid>
                <a:gridCol w="1081080"/>
                <a:gridCol w="3240000"/>
                <a:gridCol w="4321080"/>
              </a:tblGrid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华康少女文字W5(P)"/>
                        </a:rPr>
                        <a:t>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华康少女文字W5(P)"/>
                        </a:rPr>
                        <a:t>比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华康少女文字W5(P)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华康少女文字W5(P)"/>
                        </a:rPr>
                        <a:t>构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华康少女文字W5(P)"/>
                        </a:rPr>
                        <a:t>基本性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25"/>
          <p:cNvSpPr/>
          <p:nvPr/>
        </p:nvSpPr>
        <p:spPr>
          <a:xfrm>
            <a:off x="1935000" y="1606680"/>
            <a:ext cx="196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数相除又叫做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的比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5529240" y="1606680"/>
            <a:ext cx="216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两个比相等的式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做比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981080" y="1638360"/>
            <a:ext cx="457200" cy="457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6215040" y="1657440"/>
            <a:ext cx="457200" cy="457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1677240" y="273672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0.9∶0.6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1752480" y="321300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2768760" y="321300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3924360" y="321300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1439640" y="352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前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2563560" y="3556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后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3801960" y="3556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比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5617440" y="270828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 ∶ 6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∶2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7"/>
          <p:cNvGrpSpPr/>
          <p:nvPr/>
        </p:nvGrpSpPr>
        <p:grpSpPr>
          <a:xfrm>
            <a:off x="6238800" y="3209760"/>
            <a:ext cx="264960" cy="341640"/>
            <a:chOff x="6238800" y="3209760"/>
            <a:chExt cx="264960" cy="341640"/>
          </a:xfrm>
        </p:grpSpPr>
        <p:sp>
          <p:nvSpPr>
            <p:cNvPr id="198" name="Line 38"/>
            <p:cNvSpPr/>
            <p:nvPr/>
          </p:nvSpPr>
          <p:spPr>
            <a:xfrm>
              <a:off x="6238800" y="3209760"/>
              <a:ext cx="0" cy="34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9"/>
            <p:cNvSpPr/>
            <p:nvPr/>
          </p:nvSpPr>
          <p:spPr>
            <a:xfrm>
              <a:off x="6238800" y="3551400"/>
              <a:ext cx="264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40"/>
          <p:cNvGrpSpPr/>
          <p:nvPr/>
        </p:nvGrpSpPr>
        <p:grpSpPr>
          <a:xfrm>
            <a:off x="7167600" y="3213000"/>
            <a:ext cx="264600" cy="341280"/>
            <a:chOff x="7167600" y="3213000"/>
            <a:chExt cx="264600" cy="341280"/>
          </a:xfrm>
        </p:grpSpPr>
        <p:sp>
          <p:nvSpPr>
            <p:cNvPr id="201" name="Line 41"/>
            <p:cNvSpPr/>
            <p:nvPr/>
          </p:nvSpPr>
          <p:spPr>
            <a:xfrm>
              <a:off x="7432200" y="3213000"/>
              <a:ext cx="0" cy="341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2"/>
            <p:cNvSpPr/>
            <p:nvPr/>
          </p:nvSpPr>
          <p:spPr>
            <a:xfrm>
              <a:off x="7167600" y="3554280"/>
              <a:ext cx="2646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43"/>
          <p:cNvSpPr/>
          <p:nvPr/>
        </p:nvSpPr>
        <p:spPr>
          <a:xfrm>
            <a:off x="6551280" y="3324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内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5305320" y="3166920"/>
            <a:ext cx="1067040" cy="766800"/>
            <a:chOff x="5305320" y="3166920"/>
            <a:chExt cx="1067040" cy="766800"/>
          </a:xfrm>
        </p:grpSpPr>
        <p:sp>
          <p:nvSpPr>
            <p:cNvPr id="205" name="Line 45"/>
            <p:cNvSpPr/>
            <p:nvPr/>
          </p:nvSpPr>
          <p:spPr>
            <a:xfrm>
              <a:off x="5305320" y="3166920"/>
              <a:ext cx="0" cy="766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6"/>
            <p:cNvSpPr/>
            <p:nvPr/>
          </p:nvSpPr>
          <p:spPr>
            <a:xfrm>
              <a:off x="5305320" y="3933720"/>
              <a:ext cx="1067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7"/>
          <p:cNvGrpSpPr/>
          <p:nvPr/>
        </p:nvGrpSpPr>
        <p:grpSpPr>
          <a:xfrm>
            <a:off x="7308720" y="3141720"/>
            <a:ext cx="900000" cy="792000"/>
            <a:chOff x="7308720" y="3141720"/>
            <a:chExt cx="900000" cy="792000"/>
          </a:xfrm>
        </p:grpSpPr>
        <p:sp>
          <p:nvSpPr>
            <p:cNvPr id="208" name="Line 48"/>
            <p:cNvSpPr/>
            <p:nvPr/>
          </p:nvSpPr>
          <p:spPr>
            <a:xfrm>
              <a:off x="8208720" y="3141720"/>
              <a:ext cx="0" cy="77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 flipV="1">
              <a:off x="7308720" y="3920760"/>
              <a:ext cx="900000" cy="12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50"/>
          <p:cNvSpPr/>
          <p:nvPr/>
        </p:nvSpPr>
        <p:spPr>
          <a:xfrm>
            <a:off x="6522840" y="370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外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1"/>
          <p:cNvSpPr/>
          <p:nvPr/>
        </p:nvSpPr>
        <p:spPr>
          <a:xfrm>
            <a:off x="1365120" y="4233960"/>
            <a:ext cx="29908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的前项和后项同时乘或除以相同的数（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外）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值不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4894200" y="4545000"/>
            <a:ext cx="378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比例里，两个内项的积等于两个外项的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2133720"/>
            <a:ext cx="762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种量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时扩大同时缩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623880" y="119700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种相关联的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3213000"/>
            <a:ext cx="338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商）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50920" y="4221000"/>
            <a:ext cx="815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种量就叫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成正比例的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们的关系叫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正比例关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907640" y="189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什么叫正比例关系（判断是不是正比例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3059280" y="2576520"/>
            <a:ext cx="5545080" cy="1609560"/>
            <a:chOff x="3059280" y="2576520"/>
            <a:chExt cx="5545080" cy="1609560"/>
          </a:xfrm>
        </p:grpSpPr>
        <p:sp>
          <p:nvSpPr>
            <p:cNvPr id="219" name="Text Box 13"/>
            <p:cNvSpPr/>
            <p:nvPr/>
          </p:nvSpPr>
          <p:spPr>
            <a:xfrm>
              <a:off x="3274920" y="2576520"/>
              <a:ext cx="719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3274920" y="3421800"/>
              <a:ext cx="6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5"/>
            <p:cNvSpPr/>
            <p:nvPr/>
          </p:nvSpPr>
          <p:spPr>
            <a:xfrm>
              <a:off x="4067280" y="3103200"/>
              <a:ext cx="453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= k</a:t>
              </a:r>
              <a:r>
                <a:rPr b="1" lang="zh-CN" sz="4400" spc="-1" strike="noStrike">
                  <a:solidFill>
                    <a:srgbClr val="ff0066"/>
                  </a:solidFill>
                  <a:latin typeface="Calibri"/>
                </a:rPr>
                <a:t>（一定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3059280" y="346572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8"/>
          <p:cNvSpPr/>
          <p:nvPr/>
        </p:nvSpPr>
        <p:spPr>
          <a:xfrm>
            <a:off x="324000" y="57340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=7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正比例。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0" y="2133720"/>
            <a:ext cx="762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种量扩大，另一种量缩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23880" y="119700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种相关联的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3213000"/>
            <a:ext cx="338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积）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50920" y="4292640"/>
            <a:ext cx="815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种量就叫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成反比例的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们的关系叫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反比例关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907640" y="189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什么叫反比例关系（判断是不是反比例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3257640" y="3068640"/>
            <a:ext cx="5418000" cy="1099440"/>
            <a:chOff x="3257640" y="3068640"/>
            <a:chExt cx="5418000" cy="1099440"/>
          </a:xfrm>
        </p:grpSpPr>
        <p:sp>
          <p:nvSpPr>
            <p:cNvPr id="230" name="Text Box 12"/>
            <p:cNvSpPr/>
            <p:nvPr/>
          </p:nvSpPr>
          <p:spPr>
            <a:xfrm>
              <a:off x="3257640" y="3068640"/>
              <a:ext cx="1314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1" lang="zh-CN" sz="6600" spc="-1" strike="noStrike" baseline="12000">
                  <a:solidFill>
                    <a:srgbClr val="ff0000"/>
                  </a:solidFill>
                  <a:latin typeface="Calibri"/>
                </a:rPr>
                <a:t>．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3780000" y="31417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4"/>
            <p:cNvSpPr/>
            <p:nvPr/>
          </p:nvSpPr>
          <p:spPr>
            <a:xfrm>
              <a:off x="4138560" y="3171960"/>
              <a:ext cx="453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= k</a:t>
              </a:r>
              <a:r>
                <a:rPr b="1" lang="zh-CN" sz="4400" spc="-1" strike="noStrike">
                  <a:solidFill>
                    <a:srgbClr val="ff0066"/>
                  </a:solidFill>
                  <a:latin typeface="Calibri"/>
                </a:rPr>
                <a:t>（一定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15"/>
          <p:cNvSpPr/>
          <p:nvPr/>
        </p:nvSpPr>
        <p:spPr>
          <a:xfrm>
            <a:off x="1935000" y="5734080"/>
            <a:ext cx="49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天运的吨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的天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货物总吨数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1045440" y="29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04544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704960" y="40464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下面每题中的两种量是不是成反比例，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0" y="1484280"/>
            <a:ext cx="92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种子的总量一定，每公顷的播种量和播种的公顷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2400120" y="24922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公顷的播种量和播种的公顷数是两种相关联的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430720" y="364500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公顷的播种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播种的公顷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子总量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2700000" y="5013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公顷的播种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播种的公顷数成反比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3271680" y="6135840"/>
            <a:ext cx="2575080" cy="6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971640" y="2205000"/>
            <a:ext cx="7129080" cy="3633120"/>
            <a:chOff x="971640" y="2205000"/>
            <a:chExt cx="7129080" cy="3633120"/>
          </a:xfrm>
        </p:grpSpPr>
        <p:sp>
          <p:nvSpPr>
            <p:cNvPr id="243" name="Rectangle 5"/>
            <p:cNvSpPr/>
            <p:nvPr/>
          </p:nvSpPr>
          <p:spPr>
            <a:xfrm>
              <a:off x="1126800" y="2205000"/>
              <a:ext cx="6741360" cy="363312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"/>
            <p:cNvSpPr/>
            <p:nvPr/>
          </p:nvSpPr>
          <p:spPr>
            <a:xfrm>
              <a:off x="971640" y="2205000"/>
              <a:ext cx="71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《</a:t>
              </a:r>
              <a:r>
                <a:rPr b="1" lang="zh-CN" sz="48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小学生作文</a:t>
              </a:r>
              <a:r>
                <a:rPr b="1" lang="en-US" sz="48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》</a:t>
              </a:r>
              <a:r>
                <a:rPr b="1" lang="zh-CN" sz="48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的单价一定，总价和订阅的数量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7"/>
          <p:cNvSpPr/>
          <p:nvPr/>
        </p:nvSpPr>
        <p:spPr>
          <a:xfrm>
            <a:off x="-250920" y="627120"/>
            <a:ext cx="9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Calibri"/>
                <a:ea typeface="楷体_GB2312"/>
              </a:rPr>
              <a:t>判断下面每题中的两种量成什么比例，并说明理由</a:t>
            </a:r>
            <a:r>
              <a:rPr b="1" lang="zh-CN" sz="3600" spc="-1" strike="noStrike">
                <a:solidFill>
                  <a:srgbClr val="993300"/>
                </a:solidFill>
                <a:latin typeface="Calibri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"/>
          <p:cNvGrpSpPr/>
          <p:nvPr/>
        </p:nvGrpSpPr>
        <p:grpSpPr>
          <a:xfrm>
            <a:off x="611280" y="2276640"/>
            <a:ext cx="8280000" cy="1512720"/>
            <a:chOff x="611280" y="2276640"/>
            <a:chExt cx="8280000" cy="1512720"/>
          </a:xfrm>
        </p:grpSpPr>
        <p:sp>
          <p:nvSpPr>
            <p:cNvPr id="247" name="Rectangle 5"/>
            <p:cNvSpPr/>
            <p:nvPr/>
          </p:nvSpPr>
          <p:spPr>
            <a:xfrm>
              <a:off x="791640" y="2276640"/>
              <a:ext cx="7829640" cy="151272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11280" y="2276640"/>
              <a:ext cx="828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生产电视机的总台数一定，每天生产的台数和所用的天数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val 4"/>
          <p:cNvSpPr/>
          <p:nvPr/>
        </p:nvSpPr>
        <p:spPr>
          <a:xfrm>
            <a:off x="2411280" y="1125360"/>
            <a:ext cx="4248360" cy="424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5"/>
          <p:cNvSpPr/>
          <p:nvPr/>
        </p:nvSpPr>
        <p:spPr>
          <a:xfrm>
            <a:off x="2411280" y="1125360"/>
            <a:ext cx="4248360" cy="4248360"/>
          </a:xfrm>
          <a:prstGeom prst="ellipse">
            <a:avLst/>
          </a:prstGeom>
          <a:solidFill>
            <a:srgbClr val="ffd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6"/>
          <p:cNvGrpSpPr/>
          <p:nvPr/>
        </p:nvGrpSpPr>
        <p:grpSpPr>
          <a:xfrm>
            <a:off x="1258920" y="4726080"/>
            <a:ext cx="6840000" cy="880920"/>
            <a:chOff x="1258920" y="4726080"/>
            <a:chExt cx="6840000" cy="880920"/>
          </a:xfrm>
        </p:grpSpPr>
        <p:sp>
          <p:nvSpPr>
            <p:cNvPr id="252" name="Rectangle 7"/>
            <p:cNvSpPr/>
            <p:nvPr/>
          </p:nvSpPr>
          <p:spPr>
            <a:xfrm>
              <a:off x="1407960" y="4726080"/>
              <a:ext cx="6468120" cy="88092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1258920" y="4726080"/>
              <a:ext cx="684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圆的半径和它的面积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Line 9"/>
          <p:cNvSpPr/>
          <p:nvPr/>
        </p:nvSpPr>
        <p:spPr>
          <a:xfrm flipH="1">
            <a:off x="4571640" y="3286080"/>
            <a:ext cx="2087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5425920" y="2584440"/>
            <a:ext cx="3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  <a:ea typeface="楷体_GB2312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4"/>
          <p:cNvSpPr/>
          <p:nvPr/>
        </p:nvSpPr>
        <p:spPr>
          <a:xfrm>
            <a:off x="712800" y="476280"/>
            <a:ext cx="7921440" cy="2881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535040" y="695160"/>
            <a:ext cx="64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一幅图的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图上距离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和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实际距离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的比叫做这幅图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楷体_GB2312"/>
              </a:rPr>
              <a:t>比例尺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684360" y="3716280"/>
            <a:ext cx="7921440" cy="2881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683800" y="4022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Calibri"/>
                <a:ea typeface="华文新魏"/>
              </a:rPr>
              <a:t>图上距离</a:t>
            </a:r>
            <a:r>
              <a:rPr b="1" lang="en-US" sz="4000" spc="-1" strike="noStrike">
                <a:solidFill>
                  <a:srgbClr val="993300"/>
                </a:solidFill>
                <a:latin typeface="Calibri"/>
                <a:ea typeface="华文新魏"/>
              </a:rPr>
              <a:t>︰</a:t>
            </a:r>
            <a:r>
              <a:rPr b="1" lang="zh-CN" sz="4000" spc="-1" strike="noStrike">
                <a:solidFill>
                  <a:srgbClr val="993300"/>
                </a:solidFill>
                <a:latin typeface="Calibri"/>
                <a:ea typeface="华文新魏"/>
              </a:rPr>
              <a:t>实际距离＝比例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8"/>
          <p:cNvGrpSpPr/>
          <p:nvPr/>
        </p:nvGrpSpPr>
        <p:grpSpPr>
          <a:xfrm>
            <a:off x="2766960" y="4975200"/>
            <a:ext cx="4512240" cy="1349640"/>
            <a:chOff x="2766960" y="4975200"/>
            <a:chExt cx="4512240" cy="1349640"/>
          </a:xfrm>
        </p:grpSpPr>
        <p:sp>
          <p:nvSpPr>
            <p:cNvPr id="261" name="Rectangle 9"/>
            <p:cNvSpPr/>
            <p:nvPr/>
          </p:nvSpPr>
          <p:spPr>
            <a:xfrm>
              <a:off x="2766960" y="4975200"/>
              <a:ext cx="2838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图上距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898720" y="5621400"/>
              <a:ext cx="25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实际距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3157560" y="5675400"/>
              <a:ext cx="208764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5290200" y="528300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3300"/>
                  </a:solidFill>
                  <a:latin typeface="Calibri"/>
                  <a:ea typeface="楷体_GB2312"/>
                </a:rPr>
                <a:t>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6184080" y="539100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比例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4"/>
          <p:cNvSpPr/>
          <p:nvPr/>
        </p:nvSpPr>
        <p:spPr>
          <a:xfrm>
            <a:off x="2097360" y="5170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969720" y="189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Calibri"/>
              </a:rPr>
              <a:t>比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038840" y="14860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两个数的比表示什么（什么叫比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24000" y="20606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两个数的比表示两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451120" y="20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相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547640" y="3429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8    :    12  =28÷1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502720" y="278136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比的各部分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076720" y="3070080"/>
                <a:ext cx="5079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12"/>
          <p:cNvSpPr/>
          <p:nvPr/>
        </p:nvSpPr>
        <p:spPr>
          <a:xfrm>
            <a:off x="1694880" y="4330440"/>
            <a:ext cx="60696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2918880" y="4330440"/>
            <a:ext cx="60696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5150880" y="4329000"/>
            <a:ext cx="60696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702080" y="5445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269440" y="4330440"/>
            <a:ext cx="60696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2277720" y="5445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158080" y="5445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2853720" y="5445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6084720" y="357336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Calibri"/>
              </a:rPr>
              <a:t>比值通常可以用分数表示，也可以用小数或整数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1"/>
          <p:cNvSpPr/>
          <p:nvPr/>
        </p:nvSpPr>
        <p:spPr>
          <a:xfrm rot="1360200">
            <a:off x="6372360" y="2133360"/>
            <a:ext cx="2409840" cy="1224000"/>
          </a:xfrm>
          <a:prstGeom prst="cloudCallout">
            <a:avLst>
              <a:gd name="adj1" fmla="val -60194"/>
              <a:gd name="adj2" fmla="val 798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求比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2820960" y="1395360"/>
            <a:ext cx="1247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值比例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2820960" y="2619360"/>
            <a:ext cx="1247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段比例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981680" y="1433520"/>
            <a:ext cx="1902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1:5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7"/>
          <p:cNvGrpSpPr/>
          <p:nvPr/>
        </p:nvGrpSpPr>
        <p:grpSpPr>
          <a:xfrm>
            <a:off x="4745160" y="2505240"/>
            <a:ext cx="2076480" cy="609480"/>
            <a:chOff x="4745160" y="2505240"/>
            <a:chExt cx="2076480" cy="609480"/>
          </a:xfrm>
        </p:grpSpPr>
        <p:sp>
          <p:nvSpPr>
            <p:cNvPr id="271" name="Line 8"/>
            <p:cNvSpPr/>
            <p:nvPr/>
          </p:nvSpPr>
          <p:spPr>
            <a:xfrm>
              <a:off x="5156280" y="3108600"/>
              <a:ext cx="8017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>
              <a:off x="5940720" y="3021120"/>
              <a:ext cx="0" cy="87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5156280" y="3006720"/>
              <a:ext cx="0" cy="101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4745160" y="250524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Calibri"/>
                  <a:ea typeface="楷体_GB2312"/>
                </a:rPr>
                <a:t>0      50k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2"/>
          <p:cNvSpPr/>
          <p:nvPr/>
        </p:nvSpPr>
        <p:spPr>
          <a:xfrm>
            <a:off x="756360" y="2036880"/>
            <a:ext cx="1247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形式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2170080" y="1649520"/>
            <a:ext cx="216000" cy="1441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2824920" y="4202280"/>
            <a:ext cx="1247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缩小比例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2824920" y="5425920"/>
            <a:ext cx="1247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比例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756360" y="4843440"/>
            <a:ext cx="1247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用途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2195640" y="4437000"/>
            <a:ext cx="215640" cy="144144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4957920" y="4189320"/>
            <a:ext cx="1902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1:5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4870440" y="5459400"/>
            <a:ext cx="1800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50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1783800" y="533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、比例尺的分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9"/>
          <p:cNvSpPr/>
          <p:nvPr/>
        </p:nvSpPr>
        <p:spPr>
          <a:xfrm>
            <a:off x="3898440" y="39085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楷体_GB2312"/>
              </a:rPr>
              <a:t>0      3    6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2247840" y="1106640"/>
            <a:ext cx="3776760" cy="272088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4"/>
          <p:cNvGrpSpPr/>
          <p:nvPr/>
        </p:nvGrpSpPr>
        <p:grpSpPr>
          <a:xfrm>
            <a:off x="3938760" y="4282920"/>
            <a:ext cx="1341360" cy="82800"/>
            <a:chOff x="3938760" y="4282920"/>
            <a:chExt cx="1341360" cy="82800"/>
          </a:xfrm>
        </p:grpSpPr>
        <p:sp>
          <p:nvSpPr>
            <p:cNvPr id="287" name="Line 5"/>
            <p:cNvSpPr/>
            <p:nvPr/>
          </p:nvSpPr>
          <p:spPr>
            <a:xfrm>
              <a:off x="3938760" y="4356360"/>
              <a:ext cx="1341360" cy="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4585680" y="4300920"/>
              <a:ext cx="0" cy="55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3938760" y="4291920"/>
              <a:ext cx="0" cy="64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 flipH="1">
              <a:off x="5267880" y="4282920"/>
              <a:ext cx="1080" cy="8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0"/>
          <p:cNvSpPr/>
          <p:nvPr/>
        </p:nvSpPr>
        <p:spPr>
          <a:xfrm>
            <a:off x="2195640" y="38606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楷体_GB2312"/>
              </a:rPr>
              <a:t>比例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1686960" y="598320"/>
            <a:ext cx="48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把图中的线段比例尺改成数值比例尺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3629160" y="4437000"/>
            <a:ext cx="27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图上距离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实际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2885760" y="5013360"/>
            <a:ext cx="21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=1cm:3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2125800" y="559440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=1cm:300000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108160" y="6172200"/>
            <a:ext cx="35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=1:3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2179080" y="105264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把下面的线段比例尺改成数值比例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2351160" y="2205000"/>
            <a:ext cx="4848120" cy="936720"/>
            <a:chOff x="2351160" y="2205000"/>
            <a:chExt cx="4848120" cy="936720"/>
          </a:xfrm>
        </p:grpSpPr>
        <p:sp>
          <p:nvSpPr>
            <p:cNvPr id="299" name="Line 6"/>
            <p:cNvSpPr/>
            <p:nvPr/>
          </p:nvSpPr>
          <p:spPr>
            <a:xfrm>
              <a:off x="2627280" y="3141720"/>
              <a:ext cx="331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 flipV="1">
              <a:off x="2627280" y="2925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8"/>
            <p:cNvSpPr/>
            <p:nvPr/>
          </p:nvSpPr>
          <p:spPr>
            <a:xfrm flipV="1">
              <a:off x="4886280" y="2925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 flipV="1">
              <a:off x="3755880" y="2925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 flipV="1">
              <a:off x="5962680" y="2925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2351160" y="220500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3384720" y="2211480"/>
              <a:ext cx="64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4556160" y="2205000"/>
              <a:ext cx="64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5665680" y="2211480"/>
              <a:ext cx="153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20</a:t>
              </a: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千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539640" y="111096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在比例尺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1∶600000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的地图上，量得南京到北京的距离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厘米．南京到北京的实际距离大约是多少千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116000" y="1413000"/>
            <a:ext cx="431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7"/>
          <p:cNvGrpSpPr/>
          <p:nvPr/>
        </p:nvGrpSpPr>
        <p:grpSpPr>
          <a:xfrm>
            <a:off x="1332000" y="2565360"/>
            <a:ext cx="5545080" cy="1349640"/>
            <a:chOff x="1332000" y="2565360"/>
            <a:chExt cx="5545080" cy="1349640"/>
          </a:xfrm>
        </p:grpSpPr>
        <p:sp>
          <p:nvSpPr>
            <p:cNvPr id="312" name="Rectangle 8"/>
            <p:cNvSpPr/>
            <p:nvPr/>
          </p:nvSpPr>
          <p:spPr>
            <a:xfrm>
              <a:off x="1332000" y="2565360"/>
              <a:ext cx="2838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图上距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1463760" y="3211560"/>
              <a:ext cx="25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实际距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0"/>
            <p:cNvSpPr/>
            <p:nvPr/>
          </p:nvSpPr>
          <p:spPr>
            <a:xfrm>
              <a:off x="1722600" y="3265560"/>
              <a:ext cx="208764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"/>
            <p:cNvSpPr/>
            <p:nvPr/>
          </p:nvSpPr>
          <p:spPr>
            <a:xfrm>
              <a:off x="3855240" y="28731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3300"/>
                  </a:solidFill>
                  <a:latin typeface="Calibri"/>
                  <a:ea typeface="楷体_GB2312"/>
                </a:rPr>
                <a:t>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2"/>
            <p:cNvSpPr/>
            <p:nvPr/>
          </p:nvSpPr>
          <p:spPr>
            <a:xfrm>
              <a:off x="4038840" y="2565360"/>
              <a:ext cx="2838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3"/>
            <p:cNvSpPr/>
            <p:nvPr/>
          </p:nvSpPr>
          <p:spPr>
            <a:xfrm>
              <a:off x="4170600" y="3211560"/>
              <a:ext cx="25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3300"/>
                  </a:solidFill>
                  <a:latin typeface="Calibri"/>
                  <a:ea typeface="华文新魏"/>
                </a:rPr>
                <a:t>600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4429080" y="3265560"/>
              <a:ext cx="208764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5"/>
          <p:cNvGrpSpPr/>
          <p:nvPr/>
        </p:nvGrpSpPr>
        <p:grpSpPr>
          <a:xfrm>
            <a:off x="468360" y="3933720"/>
            <a:ext cx="8207280" cy="2519280"/>
            <a:chOff x="468360" y="3933720"/>
            <a:chExt cx="8207280" cy="2519280"/>
          </a:xfrm>
        </p:grpSpPr>
        <p:sp>
          <p:nvSpPr>
            <p:cNvPr id="320" name="AutoShape 16"/>
            <p:cNvSpPr/>
            <p:nvPr/>
          </p:nvSpPr>
          <p:spPr>
            <a:xfrm>
              <a:off x="468360" y="3933720"/>
              <a:ext cx="8207280" cy="2519280"/>
            </a:xfrm>
            <a:prstGeom prst="roundRect">
              <a:avLst>
                <a:gd name="adj" fmla="val 16667"/>
              </a:avLst>
            </a:prstGeom>
            <a:solidFill>
              <a:srgbClr val="dcf2d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"/>
            <p:cNvSpPr/>
            <p:nvPr/>
          </p:nvSpPr>
          <p:spPr>
            <a:xfrm>
              <a:off x="2122200" y="3953520"/>
              <a:ext cx="486612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解：设南京到北京的实际距离为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厘米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　　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5∶x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∶6000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　　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0000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Calibri"/>
                  <a:ea typeface="楷体_GB2312"/>
                </a:rPr>
                <a:t>　　</a:t>
              </a:r>
              <a:r>
                <a:rPr b="1" lang="en-US" sz="3200" spc="-1" strike="noStrike">
                  <a:solidFill>
                    <a:srgbClr val="008000"/>
                  </a:solidFill>
                  <a:latin typeface="Calibri"/>
                  <a:ea typeface="楷体_GB2312"/>
                </a:rPr>
                <a:t>90000000</a:t>
              </a:r>
              <a:r>
                <a:rPr b="1" lang="zh-CN" sz="3200" spc="-1" strike="noStrike">
                  <a:solidFill>
                    <a:srgbClr val="008000"/>
                  </a:solidFill>
                  <a:latin typeface="Calibri"/>
                  <a:ea typeface="楷体_GB2312"/>
                </a:rPr>
                <a:t>厘米＝</a:t>
              </a:r>
              <a:r>
                <a:rPr b="1" lang="en-US" sz="3200" spc="-1" strike="noStrike">
                  <a:solidFill>
                    <a:srgbClr val="008000"/>
                  </a:solidFill>
                  <a:latin typeface="Calibri"/>
                  <a:ea typeface="楷体_GB2312"/>
                </a:rPr>
                <a:t>900</a:t>
              </a:r>
              <a:r>
                <a:rPr b="1" lang="zh-CN" sz="3200" spc="-1" strike="noStrike">
                  <a:solidFill>
                    <a:srgbClr val="008000"/>
                  </a:solidFill>
                  <a:latin typeface="Calibri"/>
                  <a:ea typeface="楷体_GB2312"/>
                </a:rPr>
                <a:t>千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答：南京到北京的实际距离大约是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00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千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"/>
          <p:cNvSpPr/>
          <p:nvPr/>
        </p:nvSpPr>
        <p:spPr>
          <a:xfrm>
            <a:off x="0" y="907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在比例尺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000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云南地图上，量得大理到楚雄的距离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厘米。计算一下，大理到楚雄的实际距离大约是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2708280"/>
            <a:ext cx="91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一栋楼房东西方向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0m,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图纸上的长度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cm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这幅图纸的比例尺是多少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436572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在一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:5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设计图纸上，量得一正方形建筑的边长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这个建筑物的实际占地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646200" y="1557360"/>
            <a:ext cx="7670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、图形的放大与缩小的特点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形状相同，大小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、图形的放大或缩小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一看，二算，三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554200" y="247680"/>
            <a:ext cx="403380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alibri"/>
                <a:ea typeface="楷体_GB2312"/>
              </a:rPr>
              <a:t>图形的放大与缩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5"/>
          <p:cNvSpPr/>
          <p:nvPr/>
        </p:nvSpPr>
        <p:spPr>
          <a:xfrm>
            <a:off x="1187280" y="836640"/>
            <a:ext cx="74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9900"/>
                </a:solidFill>
                <a:latin typeface="Calibri"/>
              </a:rPr>
              <a:t>比  的  应  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148360" y="602136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4"/>
          <p:cNvSpPr/>
          <p:nvPr/>
        </p:nvSpPr>
        <p:spPr>
          <a:xfrm>
            <a:off x="826920" y="549360"/>
            <a:ext cx="58327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配制了一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液，其中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缩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体积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pic_284057"/>
          <p:cNvPicPr/>
          <p:nvPr/>
        </p:nvPicPr>
        <p:blipFill>
          <a:blip r:embed="rId1"/>
          <a:srcRect l="16982" t="23903" r="55992" b="65497"/>
          <a:stretch/>
        </p:blipFill>
        <p:spPr>
          <a:xfrm>
            <a:off x="6588000" y="1123920"/>
            <a:ext cx="2590920" cy="10368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539640" y="270828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总份数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0" y="2781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总份数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4643280" y="2349360"/>
            <a:ext cx="0" cy="2880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1619280" y="5516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浓缩液和水的体积分别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790200" y="328464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每份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0÷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941760" y="378936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浓缩液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0×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943920" y="44370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0×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5008680" y="3213000"/>
            <a:ext cx="3539880" cy="863640"/>
            <a:chOff x="5008680" y="3213000"/>
            <a:chExt cx="3539880" cy="863640"/>
          </a:xfrm>
        </p:grpSpPr>
        <mc:AlternateContent>
          <mc:Choice xmlns:a14="http://schemas.microsoft.com/office/drawing/2010/main" Requires="a14">
            <p:sp>
              <p:nvSpPr>
                <p:cNvPr id="339" name="Object 12"/>
                <p:cNvSpPr txBox="1"/>
                <p:nvPr/>
              </p:nvSpPr>
              <p:spPr>
                <a:xfrm>
                  <a:off x="7020360" y="3213000"/>
                  <a:ext cx="4633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Text Box 13"/>
            <p:cNvSpPr/>
            <p:nvPr/>
          </p:nvSpPr>
          <p:spPr>
            <a:xfrm>
              <a:off x="5008680" y="3428640"/>
              <a:ext cx="353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浓缩液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0×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0m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4"/>
          <p:cNvGrpSpPr/>
          <p:nvPr/>
        </p:nvGrpSpPr>
        <p:grpSpPr>
          <a:xfrm>
            <a:off x="4947480" y="3860640"/>
            <a:ext cx="3193920" cy="1091160"/>
            <a:chOff x="4947480" y="3860640"/>
            <a:chExt cx="3193920" cy="1091160"/>
          </a:xfrm>
        </p:grpSpPr>
        <mc:AlternateContent>
          <mc:Choice xmlns:a14="http://schemas.microsoft.com/office/drawing/2010/main" Requires="a14">
            <p:sp>
              <p:nvSpPr>
                <p:cNvPr id="342" name="Object 15"/>
                <p:cNvSpPr txBox="1"/>
                <p:nvPr/>
              </p:nvSpPr>
              <p:spPr>
                <a:xfrm>
                  <a:off x="6443640" y="3860640"/>
                  <a:ext cx="5058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Text Box 16"/>
            <p:cNvSpPr/>
            <p:nvPr/>
          </p:nvSpPr>
          <p:spPr>
            <a:xfrm>
              <a:off x="4947480" y="4004640"/>
              <a:ext cx="319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水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0×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0m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7"/>
          <p:cNvSpPr/>
          <p:nvPr/>
        </p:nvSpPr>
        <p:spPr>
          <a:xfrm>
            <a:off x="32400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一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己知总量和比，求其它各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826920" y="98100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六年级二班有学生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，男生与女生的比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男生、女生各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2124000" y="1484280"/>
            <a:ext cx="295128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"/>
          <p:cNvSpPr/>
          <p:nvPr/>
        </p:nvSpPr>
        <p:spPr>
          <a:xfrm>
            <a:off x="1835280" y="2060640"/>
            <a:ext cx="122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124000" y="5442120"/>
            <a:ext cx="56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403280" y="22906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解：设一份为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2863440" y="278136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则男生是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x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人，女生是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7x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902320" y="335772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由题意得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x+7x=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4433400" y="386064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3x=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440600" y="436572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x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3682440" y="4870440"/>
            <a:ext cx="21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×6=30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3679200" y="537372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×7=35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244320" y="5950080"/>
            <a:ext cx="36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答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男生有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人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女生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5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4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4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4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4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900000" y="692280"/>
            <a:ext cx="7128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口头练习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 .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白兔和灰兔只数的比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白兔占两种兔总只数的（    ），灰兔占两种兔总只数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371520" cy="838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4525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Object 10"/>
          <p:cNvGraphicFramePr/>
          <p:nvPr/>
        </p:nvGraphicFramePr>
        <p:xfrm>
          <a:off x="2627280" y="333360"/>
          <a:ext cx="8380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3336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Text Box 11"/>
          <p:cNvSpPr/>
          <p:nvPr/>
        </p:nvSpPr>
        <p:spPr>
          <a:xfrm>
            <a:off x="755640" y="2997360"/>
            <a:ext cx="884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２．一个三角形三条边的长度比是３：５：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条边的长度分别占三角形周长的（    ），（     ）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6516720" y="3500280"/>
                <a:ext cx="506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8"/>
              <p:cNvSpPr txBox="1"/>
              <p:nvPr/>
            </p:nvSpPr>
            <p:spPr>
              <a:xfrm>
                <a:off x="7885080" y="3429000"/>
                <a:ext cx="676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1332000" y="4149720"/>
                <a:ext cx="463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84360" y="148428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比的基本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95280" y="2708280"/>
            <a:ext cx="84596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比的前项和后项同时乘或除以相同的数（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外），比值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 rot="5400000">
            <a:off x="4987080" y="3518640"/>
            <a:ext cx="1906560" cy="2736720"/>
          </a:xfrm>
          <a:prstGeom prst="wedgeEllipseCallout">
            <a:avLst>
              <a:gd name="adj1" fmla="val -73648"/>
              <a:gd name="adj2" fmla="val 4361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化简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5"/>
          <p:cNvSpPr txBox="1"/>
          <p:nvPr/>
        </p:nvSpPr>
        <p:spPr>
          <a:xfrm>
            <a:off x="755640" y="333360"/>
            <a:ext cx="201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做一做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332000" y="105408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某妇产医院上月新生婴儿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0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名，男女婴儿人数之比是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上月新生男女婴儿各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500720" y="270972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总份数：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1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0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1547640" y="5805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答：上月新生男女婴儿各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5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4429080" y="249408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395280" y="2781360"/>
            <a:ext cx="42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总份数：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737640" y="335772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每份：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03÷10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888480" y="3933720"/>
            <a:ext cx="31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男婴：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0 ×5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53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888480" y="4437000"/>
            <a:ext cx="31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女婴：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0 ×5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5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1"/>
          <p:cNvGrpSpPr/>
          <p:nvPr/>
        </p:nvGrpSpPr>
        <p:grpSpPr>
          <a:xfrm>
            <a:off x="4812480" y="3141720"/>
            <a:ext cx="3684600" cy="718920"/>
            <a:chOff x="4812480" y="3141720"/>
            <a:chExt cx="3684600" cy="718920"/>
          </a:xfrm>
        </p:grpSpPr>
        <mc:AlternateContent>
          <mc:Choice xmlns:a14="http://schemas.microsoft.com/office/drawing/2010/main" Requires="a14">
            <p:sp>
              <p:nvSpPr>
                <p:cNvPr id="376" name="Object 12"/>
                <p:cNvSpPr txBox="1"/>
                <p:nvPr/>
              </p:nvSpPr>
              <p:spPr>
                <a:xfrm>
                  <a:off x="6804360" y="3141720"/>
                  <a:ext cx="57564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Text Box 13"/>
            <p:cNvSpPr/>
            <p:nvPr/>
          </p:nvSpPr>
          <p:spPr>
            <a:xfrm>
              <a:off x="4812480" y="3285720"/>
              <a:ext cx="368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男婴：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303 ×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　＝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153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4812480" y="3933720"/>
            <a:ext cx="3684600" cy="720720"/>
            <a:chOff x="4812480" y="3933720"/>
            <a:chExt cx="3684600" cy="720720"/>
          </a:xfrm>
        </p:grpSpPr>
        <mc:AlternateContent>
          <mc:Choice xmlns:a14="http://schemas.microsoft.com/office/drawing/2010/main" Requires="a14">
            <p:sp>
              <p:nvSpPr>
                <p:cNvPr id="379" name="Object 15"/>
                <p:cNvSpPr txBox="1"/>
                <p:nvPr/>
              </p:nvSpPr>
              <p:spPr>
                <a:xfrm>
                  <a:off x="6804360" y="3933720"/>
                  <a:ext cx="57636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Text Box 16"/>
            <p:cNvSpPr/>
            <p:nvPr/>
          </p:nvSpPr>
          <p:spPr>
            <a:xfrm>
              <a:off x="4812480" y="4005360"/>
              <a:ext cx="368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女婴：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303 ×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　＝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150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17"/>
          <p:cNvSpPr/>
          <p:nvPr/>
        </p:nvSpPr>
        <p:spPr>
          <a:xfrm>
            <a:off x="1403280" y="22906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解法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：设一份为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8"/>
          <p:cNvSpPr/>
          <p:nvPr/>
        </p:nvSpPr>
        <p:spPr>
          <a:xfrm>
            <a:off x="3024720" y="278136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则男婴儿是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1x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人，女婴儿是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0x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2930040" y="3357720"/>
            <a:ext cx="30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由题意得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1x+50x=3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0"/>
          <p:cNvSpPr/>
          <p:nvPr/>
        </p:nvSpPr>
        <p:spPr>
          <a:xfrm>
            <a:off x="4451760" y="386064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1x=3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1"/>
          <p:cNvSpPr/>
          <p:nvPr/>
        </p:nvSpPr>
        <p:spPr>
          <a:xfrm>
            <a:off x="4636080" y="436572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3700800" y="4870440"/>
            <a:ext cx="25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1×3=153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3697920" y="53737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0×3=150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116000" y="37735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</a:rPr>
              <a:t>鸡和鸭的只数比是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︰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1116000" y="314172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鸡和鸭共有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10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116000" y="442440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鸭有多少几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WordArt 5"/>
          <p:cNvSpPr txBox="1"/>
          <p:nvPr/>
        </p:nvSpPr>
        <p:spPr>
          <a:xfrm rot="5400000">
            <a:off x="-830520" y="126828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练习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044720" y="90972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气中氧气和氮气的体积比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米的空气中有氧气和氮气各多少立方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9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4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5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6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95280" y="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二、已知一个分量和比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求其它各量。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971640" y="620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六年级二班有男生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人，男生与女生的比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，女生有多少人？一共有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39640" y="2349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Calibri"/>
              </a:rPr>
              <a:t>解法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 </a:t>
            </a:r>
            <a:r>
              <a:rPr b="1" lang="zh-CN" sz="2800" spc="-1" strike="noStrike">
                <a:solidFill>
                  <a:srgbClr val="1f497d"/>
                </a:solidFill>
                <a:latin typeface="Calibr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÷6=5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763640" y="29257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5+30=65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3564000" y="1700280"/>
            <a:ext cx="1873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3780000" y="1197000"/>
            <a:ext cx="1873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13400" y="234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×7=35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82560" y="349884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Calibri"/>
              </a:rPr>
              <a:t>解法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1f497d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1584360" y="351468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一份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则男生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x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，女生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x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1763640" y="623736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女生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一共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2612160" y="4510080"/>
            <a:ext cx="22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题意得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x=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053600" y="501336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2157480" y="5589720"/>
            <a:ext cx="46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×7=3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人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5+30=65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411280" y="285264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</a:rPr>
              <a:t>鸡和鸭的只数比是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︰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413080" y="193500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鸡有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10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2411280" y="378936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鸭有多少几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 rot="5400000">
            <a:off x="-325800" y="76500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练习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0920" y="1123920"/>
            <a:ext cx="8064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六年二班男生与女生的比是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女生比男生多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人，男生、女生各多少人？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Line 3"/>
          <p:cNvSpPr/>
          <p:nvPr/>
        </p:nvSpPr>
        <p:spPr>
          <a:xfrm>
            <a:off x="6084720" y="1773360"/>
            <a:ext cx="1873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468360" y="476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三、已知分量差和比，求其它各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6"/>
          <p:cNvSpPr/>
          <p:nvPr/>
        </p:nvSpPr>
        <p:spPr>
          <a:xfrm>
            <a:off x="2124000" y="2349360"/>
            <a:ext cx="2449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179280" y="299736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Calibri"/>
              </a:rPr>
              <a:t>解法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÷(7-6)=5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Arial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332000" y="3573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×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30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Arial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1332000" y="4149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×7=35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1619280" y="587700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答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男生有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30</a:t>
            </a: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人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女生有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35</a:t>
            </a: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4140360" y="2421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Calibri"/>
              </a:rPr>
              <a:t>解法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1f497d"/>
                </a:solidFill>
                <a:latin typeface="Calibr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4032360" y="292428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设一份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4952880" y="335772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则男生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x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，女生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x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974840" y="378936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由题意得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x-6x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912360" y="42940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5974200" y="4797360"/>
            <a:ext cx="20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×6=3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972760" y="537372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×7=3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9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2411280" y="285264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</a:rPr>
              <a:t>鸡和鸭的只数比是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︰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2413080" y="193500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鸡比鸭少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10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2411280" y="378936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鸭有多少几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5"/>
          <p:cNvSpPr txBox="1"/>
          <p:nvPr/>
        </p:nvSpPr>
        <p:spPr>
          <a:xfrm rot="5400000">
            <a:off x="-1441080" y="1881000"/>
            <a:ext cx="417492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练习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7"/>
          <p:cNvSpPr txBox="1"/>
          <p:nvPr/>
        </p:nvSpPr>
        <p:spPr>
          <a:xfrm rot="657600">
            <a:off x="3059280" y="259920"/>
            <a:ext cx="1866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8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能力提高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8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539640" y="1916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甲、乙、丙三个数的平均数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甲、乙、丙三个数的比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甲、乙、丙三个数各是多少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5"/>
              <p:cNvSpPr txBox="1"/>
              <p:nvPr/>
            </p:nvSpPr>
            <p:spPr>
              <a:xfrm>
                <a:off x="0" y="0"/>
                <a:ext cx="24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7"/>
              <p:cNvSpPr txBox="1"/>
              <p:nvPr/>
            </p:nvSpPr>
            <p:spPr>
              <a:xfrm>
                <a:off x="0" y="0"/>
                <a:ext cx="24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9"/>
              <p:cNvSpPr txBox="1"/>
              <p:nvPr/>
            </p:nvSpPr>
            <p:spPr>
              <a:xfrm>
                <a:off x="0" y="0"/>
                <a:ext cx="24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8" name="Line 15"/>
          <p:cNvSpPr/>
          <p:nvPr/>
        </p:nvSpPr>
        <p:spPr>
          <a:xfrm>
            <a:off x="4284720" y="2492280"/>
            <a:ext cx="129528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539640" y="458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个直角三角形的两个锐角度数的比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这两个锐角分别是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468360" y="5734080"/>
            <a:ext cx="14396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9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"/>
          <p:cNvSpPr/>
          <p:nvPr/>
        </p:nvSpPr>
        <p:spPr>
          <a:xfrm>
            <a:off x="755640" y="1198440"/>
            <a:ext cx="72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厘米的铁丝做一个长方体的框架。长、宽、高的比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这个长方体的长、宽、高分别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5292720" y="1774800"/>
            <a:ext cx="144000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6"/>
          <p:cNvSpPr txBox="1"/>
          <p:nvPr/>
        </p:nvSpPr>
        <p:spPr>
          <a:xfrm rot="657600">
            <a:off x="3059280" y="259920"/>
            <a:ext cx="1866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8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能力提高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8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900000" y="4005360"/>
            <a:ext cx="662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家里的菜地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平方米，用      种西红柿。剩下的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面积比种黄瓜和茄子。三种蔬菜的面积分别是多少平方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3924360" y="5013360"/>
            <a:ext cx="122400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7"/>
              <p:cNvSpPr txBox="1"/>
              <p:nvPr/>
            </p:nvSpPr>
            <p:spPr>
              <a:xfrm>
                <a:off x="6229440" y="3860640"/>
                <a:ext cx="50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4"/>
          <p:cNvSpPr/>
          <p:nvPr/>
        </p:nvSpPr>
        <p:spPr>
          <a:xfrm>
            <a:off x="900000" y="162864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男工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人，男工与女工的比是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男女工一共有多少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WordArt 5"/>
          <p:cNvSpPr txBox="1"/>
          <p:nvPr/>
        </p:nvSpPr>
        <p:spPr>
          <a:xfrm>
            <a:off x="2627280" y="0"/>
            <a:ext cx="280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举一反三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971640" y="3933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0÷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 ＝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5"/>
              <p:cNvSpPr txBox="1"/>
              <p:nvPr/>
            </p:nvSpPr>
            <p:spPr>
              <a:xfrm>
                <a:off x="1758960" y="4222800"/>
                <a:ext cx="80316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Text Box 9"/>
          <p:cNvSpPr/>
          <p:nvPr/>
        </p:nvSpPr>
        <p:spPr>
          <a:xfrm>
            <a:off x="4211640" y="3284640"/>
            <a:ext cx="432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解：设男女工一共有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 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4716360" y="4221000"/>
                <a:ext cx="7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8"/>
              <p:cNvSpPr txBox="1"/>
              <p:nvPr/>
            </p:nvSpPr>
            <p:spPr>
              <a:xfrm>
                <a:off x="6588000" y="4724280"/>
                <a:ext cx="7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4" name="Text Box 12"/>
          <p:cNvSpPr/>
          <p:nvPr/>
        </p:nvSpPr>
        <p:spPr>
          <a:xfrm>
            <a:off x="2268360" y="587700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答：男女工一共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3"/>
          <p:cNvSpPr/>
          <p:nvPr/>
        </p:nvSpPr>
        <p:spPr>
          <a:xfrm>
            <a:off x="3924360" y="321480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2041560" y="1820880"/>
            <a:ext cx="161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457200" y="380880"/>
            <a:ext cx="8153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两个长方形重叠的面积，相当于大长方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相当于小长方形的       ，大长方形与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长方形的面积比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606240" y="1371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606240" y="99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4800600" y="1295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4800600" y="914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609480" y="1447920"/>
            <a:ext cx="38124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9"/>
          <p:cNvSpPr/>
          <p:nvPr/>
        </p:nvSpPr>
        <p:spPr>
          <a:xfrm>
            <a:off x="4876920" y="1371600"/>
            <a:ext cx="3808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685800" y="2743200"/>
            <a:ext cx="4495680" cy="2075040"/>
            <a:chOff x="685800" y="2743200"/>
            <a:chExt cx="4495680" cy="2075040"/>
          </a:xfrm>
        </p:grpSpPr>
        <p:sp>
          <p:nvSpPr>
            <p:cNvPr id="465" name="Rectangle 11"/>
            <p:cNvSpPr/>
            <p:nvPr/>
          </p:nvSpPr>
          <p:spPr>
            <a:xfrm>
              <a:off x="2933640" y="4124160"/>
              <a:ext cx="2247840" cy="6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685800" y="4124160"/>
              <a:ext cx="2247840" cy="6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2933640" y="3429000"/>
              <a:ext cx="22478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2933640" y="2743200"/>
              <a:ext cx="2247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"/>
            <p:cNvSpPr/>
            <p:nvPr/>
          </p:nvSpPr>
          <p:spPr>
            <a:xfrm>
              <a:off x="685800" y="2743200"/>
              <a:ext cx="2247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6"/>
            <p:cNvSpPr/>
            <p:nvPr/>
          </p:nvSpPr>
          <p:spPr>
            <a:xfrm>
              <a:off x="685800" y="2743200"/>
              <a:ext cx="4495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7"/>
            <p:cNvSpPr/>
            <p:nvPr/>
          </p:nvSpPr>
          <p:spPr>
            <a:xfrm>
              <a:off x="685800" y="4818240"/>
              <a:ext cx="4495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8"/>
            <p:cNvSpPr/>
            <p:nvPr/>
          </p:nvSpPr>
          <p:spPr>
            <a:xfrm>
              <a:off x="685800" y="2743200"/>
              <a:ext cx="0" cy="2075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9"/>
            <p:cNvSpPr/>
            <p:nvPr/>
          </p:nvSpPr>
          <p:spPr>
            <a:xfrm>
              <a:off x="5181480" y="2743200"/>
              <a:ext cx="0" cy="2075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Rectangle 20"/>
          <p:cNvSpPr/>
          <p:nvPr/>
        </p:nvSpPr>
        <p:spPr>
          <a:xfrm>
            <a:off x="2971800" y="4800600"/>
            <a:ext cx="22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5181480" y="411480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2"/>
          <p:cNvSpPr/>
          <p:nvPr/>
        </p:nvSpPr>
        <p:spPr>
          <a:xfrm>
            <a:off x="2971800" y="4114800"/>
            <a:ext cx="220968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>
            <a:off x="2971800" y="4114800"/>
            <a:ext cx="4419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>
            <a:off x="2971800" y="5438880"/>
            <a:ext cx="4419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5"/>
          <p:cNvSpPr/>
          <p:nvPr/>
        </p:nvSpPr>
        <p:spPr>
          <a:xfrm>
            <a:off x="2971800" y="4114800"/>
            <a:ext cx="0" cy="132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6"/>
          <p:cNvSpPr/>
          <p:nvPr/>
        </p:nvSpPr>
        <p:spPr>
          <a:xfrm>
            <a:off x="7391520" y="4114800"/>
            <a:ext cx="0" cy="132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Object 27"/>
          <p:cNvGraphicFramePr/>
          <p:nvPr/>
        </p:nvGraphicFramePr>
        <p:xfrm>
          <a:off x="8305920" y="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6"/>
          <p:cNvSpPr/>
          <p:nvPr/>
        </p:nvSpPr>
        <p:spPr>
          <a:xfrm>
            <a:off x="1519200" y="4076640"/>
            <a:ext cx="49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甲比乙少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甲和乙的比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539640" y="2637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甲是乙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倍，甲和乙的比是（     ），乙和甲的比是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898640" y="6922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3399ff"/>
                </a:solidFill>
                <a:latin typeface="Calibri"/>
              </a:rPr>
              <a:t>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34136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比的（      ）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比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4646160" y="134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前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7597080" y="134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后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321960" y="26370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6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1714320" y="3141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1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6464880" y="40766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4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1519200" y="5157720"/>
            <a:ext cx="49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甲比乙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甲和乙的比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6464880" y="5157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5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2041560" y="1820880"/>
            <a:ext cx="161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457200" y="380880"/>
            <a:ext cx="8153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两个长方形重叠的面积，相当于大长方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相当于小长方形的       ，大长方形与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长方形的面积比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06240" y="1371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606240" y="99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4800600" y="1295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4800600" y="914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609480" y="1447920"/>
            <a:ext cx="38124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4876920" y="1371600"/>
            <a:ext cx="3808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685800" y="2743200"/>
          <a:ext cx="4495680" cy="2057400"/>
        </p:xfrm>
        <a:graphic>
          <a:graphicData uri="http://schemas.openxmlformats.org/drawingml/2006/table">
            <a:tbl>
              <a:tblPr/>
              <a:tblGrid>
                <a:gridCol w="2247840"/>
                <a:gridCol w="22478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2" name="Group 24"/>
          <p:cNvGrpSpPr/>
          <p:nvPr/>
        </p:nvGrpSpPr>
        <p:grpSpPr>
          <a:xfrm>
            <a:off x="2916360" y="4076640"/>
            <a:ext cx="4419360" cy="1295280"/>
            <a:chOff x="2916360" y="4076640"/>
            <a:chExt cx="4419360" cy="1295280"/>
          </a:xfrm>
        </p:grpSpPr>
        <p:sp>
          <p:nvSpPr>
            <p:cNvPr id="493" name="Rectangle 25"/>
            <p:cNvSpPr/>
            <p:nvPr/>
          </p:nvSpPr>
          <p:spPr>
            <a:xfrm>
              <a:off x="5125680" y="4734000"/>
              <a:ext cx="2209680" cy="6379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6"/>
            <p:cNvSpPr/>
            <p:nvPr/>
          </p:nvSpPr>
          <p:spPr>
            <a:xfrm>
              <a:off x="2916360" y="4734000"/>
              <a:ext cx="2209320" cy="637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7"/>
            <p:cNvSpPr/>
            <p:nvPr/>
          </p:nvSpPr>
          <p:spPr>
            <a:xfrm>
              <a:off x="5125680" y="4076640"/>
              <a:ext cx="2209680" cy="657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8"/>
            <p:cNvSpPr/>
            <p:nvPr/>
          </p:nvSpPr>
          <p:spPr>
            <a:xfrm>
              <a:off x="2916360" y="4076640"/>
              <a:ext cx="2209320" cy="657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2916360" y="4076640"/>
              <a:ext cx="4419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2916360" y="473400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2916360" y="5371920"/>
              <a:ext cx="4419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2"/>
            <p:cNvSpPr/>
            <p:nvPr/>
          </p:nvSpPr>
          <p:spPr>
            <a:xfrm>
              <a:off x="2916360" y="4076640"/>
              <a:ext cx="0" cy="12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33"/>
            <p:cNvSpPr/>
            <p:nvPr/>
          </p:nvSpPr>
          <p:spPr>
            <a:xfrm>
              <a:off x="5125680" y="4076640"/>
              <a:ext cx="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4"/>
            <p:cNvSpPr/>
            <p:nvPr/>
          </p:nvSpPr>
          <p:spPr>
            <a:xfrm>
              <a:off x="7335720" y="4076640"/>
              <a:ext cx="0" cy="12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3" name="Object 35"/>
          <p:cNvGraphicFramePr/>
          <p:nvPr/>
        </p:nvGraphicFramePr>
        <p:xfrm>
          <a:off x="8305920" y="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36"/>
          <p:cNvSpPr/>
          <p:nvPr/>
        </p:nvSpPr>
        <p:spPr>
          <a:xfrm>
            <a:off x="2195640" y="5661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6  :  4 = 3  :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WordArt 4"/>
          <p:cNvSpPr txBox="1"/>
          <p:nvPr/>
        </p:nvSpPr>
        <p:spPr>
          <a:xfrm>
            <a:off x="2771640" y="836640"/>
            <a:ext cx="302436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思维拓展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971640" y="1341360"/>
            <a:ext cx="70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甲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乙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的比是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乙数和丙数的比是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甲数和丙数的比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2771640" y="328464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甲        乙         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：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  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7"/>
          <p:cNvSpPr/>
          <p:nvPr/>
        </p:nvSpPr>
        <p:spPr>
          <a:xfrm>
            <a:off x="442764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"/>
          <p:cNvSpPr/>
          <p:nvPr/>
        </p:nvSpPr>
        <p:spPr>
          <a:xfrm>
            <a:off x="3492360" y="4365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9"/>
          <p:cNvSpPr/>
          <p:nvPr/>
        </p:nvSpPr>
        <p:spPr>
          <a:xfrm>
            <a:off x="536400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399564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3276720" y="5589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932360" y="5589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144360" y="205272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读一本书，已读的和末读的页数比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如果再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，则已读的和末读的页数之比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本书共有多少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755640" y="83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Calibri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"/>
          <p:cNvSpPr/>
          <p:nvPr/>
        </p:nvSpPr>
        <p:spPr>
          <a:xfrm>
            <a:off x="971640" y="126828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9900"/>
                </a:solidFill>
                <a:latin typeface="Calibri"/>
              </a:rPr>
              <a:t>比 例 的 应 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5148360" y="602136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0" y="1800720"/>
            <a:ext cx="91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、小明身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1.5m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，影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2.4m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，同一地点和时间，树影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4m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，树高多少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5295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甲地到乙地的海路长约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0km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轮船从甲地到乙地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时，照这样的速度，该船从甲地到丙地行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时。甲地到丙地的海路长多少千米？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3494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用测量一棵树的高度，量的树的影长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.2m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同时有一根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8m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标杆直立在地面上，量得影长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6m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这棵树高多少米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1042920" y="189000"/>
          <a:ext cx="7129440" cy="12240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明买了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枝圆珠笔用了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。小刚想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枝同样的圆珠笔，要用多少钱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Text Box 30"/>
          <p:cNvSpPr/>
          <p:nvPr/>
        </p:nvSpPr>
        <p:spPr>
          <a:xfrm>
            <a:off x="2016000" y="14097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解：设要用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χ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31"/>
          <p:cNvGrpSpPr/>
          <p:nvPr/>
        </p:nvGrpSpPr>
        <p:grpSpPr>
          <a:xfrm>
            <a:off x="2952720" y="1914480"/>
            <a:ext cx="2808360" cy="1016280"/>
            <a:chOff x="2952720" y="1914480"/>
            <a:chExt cx="2808360" cy="1016280"/>
          </a:xfrm>
        </p:grpSpPr>
        <p:grpSp>
          <p:nvGrpSpPr>
            <p:cNvPr id="525" name="Group 32"/>
            <p:cNvGrpSpPr/>
            <p:nvPr/>
          </p:nvGrpSpPr>
          <p:grpSpPr>
            <a:xfrm>
              <a:off x="2952720" y="1914480"/>
              <a:ext cx="1006920" cy="1016280"/>
              <a:chOff x="2952720" y="1914480"/>
              <a:chExt cx="1006920" cy="1016280"/>
            </a:xfrm>
          </p:grpSpPr>
          <p:sp>
            <p:nvSpPr>
              <p:cNvPr id="526" name="Rectangle 33"/>
              <p:cNvSpPr/>
              <p:nvPr/>
            </p:nvSpPr>
            <p:spPr>
              <a:xfrm>
                <a:off x="2952720" y="2163600"/>
                <a:ext cx="1004760" cy="36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34"/>
              <p:cNvGrpSpPr/>
              <p:nvPr/>
            </p:nvGrpSpPr>
            <p:grpSpPr>
              <a:xfrm>
                <a:off x="3094920" y="1914480"/>
                <a:ext cx="864720" cy="1016280"/>
                <a:chOff x="3094920" y="1914480"/>
                <a:chExt cx="864720" cy="1016280"/>
              </a:xfrm>
            </p:grpSpPr>
            <p:sp>
              <p:nvSpPr>
                <p:cNvPr id="528" name="Line 35"/>
                <p:cNvSpPr/>
                <p:nvPr/>
              </p:nvSpPr>
              <p:spPr>
                <a:xfrm>
                  <a:off x="3094920" y="2420640"/>
                  <a:ext cx="864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36"/>
                <p:cNvSpPr/>
                <p:nvPr/>
              </p:nvSpPr>
              <p:spPr>
                <a:xfrm>
                  <a:off x="3094920" y="1914480"/>
                  <a:ext cx="86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Calibri"/>
                    </a:rPr>
                    <a:t>  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Calibri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Text Box 37"/>
                <p:cNvSpPr/>
                <p:nvPr/>
              </p:nvSpPr>
              <p:spPr>
                <a:xfrm>
                  <a:off x="3094920" y="2349360"/>
                  <a:ext cx="86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66"/>
                      </a:solidFill>
                      <a:latin typeface="Calibri"/>
                    </a:rPr>
                    <a:t>  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Calibri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1" name="Group 38"/>
            <p:cNvGrpSpPr/>
            <p:nvPr/>
          </p:nvGrpSpPr>
          <p:grpSpPr>
            <a:xfrm>
              <a:off x="4608360" y="1920600"/>
              <a:ext cx="1152720" cy="1006920"/>
              <a:chOff x="4608360" y="1920600"/>
              <a:chExt cx="1152720" cy="1006920"/>
            </a:xfrm>
          </p:grpSpPr>
          <p:sp>
            <p:nvSpPr>
              <p:cNvPr id="532" name="Text Box 39"/>
              <p:cNvSpPr/>
              <p:nvPr/>
            </p:nvSpPr>
            <p:spPr>
              <a:xfrm>
                <a:off x="4610160" y="1920600"/>
                <a:ext cx="1112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40"/>
              <p:cNvGrpSpPr/>
              <p:nvPr/>
            </p:nvGrpSpPr>
            <p:grpSpPr>
              <a:xfrm>
                <a:off x="4608360" y="2346120"/>
                <a:ext cx="1152720" cy="581400"/>
                <a:chOff x="4608360" y="2346120"/>
                <a:chExt cx="1152720" cy="581400"/>
              </a:xfrm>
            </p:grpSpPr>
            <p:sp>
              <p:nvSpPr>
                <p:cNvPr id="534" name="Line 41"/>
                <p:cNvSpPr/>
                <p:nvPr/>
              </p:nvSpPr>
              <p:spPr>
                <a:xfrm>
                  <a:off x="4608360" y="2417760"/>
                  <a:ext cx="72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Text Box 42"/>
                <p:cNvSpPr/>
                <p:nvPr/>
              </p:nvSpPr>
              <p:spPr>
                <a:xfrm>
                  <a:off x="4648320" y="2346120"/>
                  <a:ext cx="1112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Calibri"/>
                    </a:rPr>
                    <a:t> 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Calibri"/>
                    </a:rPr>
                    <a:t>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Text Box 43"/>
            <p:cNvSpPr/>
            <p:nvPr/>
          </p:nvSpPr>
          <p:spPr>
            <a:xfrm>
              <a:off x="4033800" y="205884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Calibri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 Box 44"/>
          <p:cNvSpPr/>
          <p:nvPr/>
        </p:nvSpPr>
        <p:spPr>
          <a:xfrm>
            <a:off x="4643280" y="1844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5"/>
          <p:cNvSpPr/>
          <p:nvPr/>
        </p:nvSpPr>
        <p:spPr>
          <a:xfrm>
            <a:off x="3348000" y="2852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χ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6"/>
          <p:cNvSpPr/>
          <p:nvPr/>
        </p:nvSpPr>
        <p:spPr>
          <a:xfrm>
            <a:off x="3313080" y="34257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χ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3529080" y="39369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χ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8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8"/>
          <p:cNvSpPr/>
          <p:nvPr/>
        </p:nvSpPr>
        <p:spPr>
          <a:xfrm>
            <a:off x="3600360" y="45784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χ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2843280" y="5084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答：要用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4.5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0" descr="pic_298496"/>
          <p:cNvPicPr/>
          <p:nvPr/>
        </p:nvPicPr>
        <p:blipFill>
          <a:blip r:embed="rId1"/>
          <a:srcRect l="66880" t="51284" r="21113" b="34528"/>
          <a:stretch/>
        </p:blipFill>
        <p:spPr>
          <a:xfrm>
            <a:off x="7632720" y="4365720"/>
            <a:ext cx="1332000" cy="2421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1"/>
          <p:cNvSpPr/>
          <p:nvPr/>
        </p:nvSpPr>
        <p:spPr>
          <a:xfrm rot="792000">
            <a:off x="5292360" y="3498840"/>
            <a:ext cx="2087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52"/>
          <p:cNvGrpSpPr/>
          <p:nvPr/>
        </p:nvGrpSpPr>
        <p:grpSpPr>
          <a:xfrm>
            <a:off x="2052720" y="5754600"/>
            <a:ext cx="3671280" cy="977760"/>
            <a:chOff x="2052720" y="5754600"/>
            <a:chExt cx="3671280" cy="977760"/>
          </a:xfrm>
        </p:grpSpPr>
        <p:grpSp>
          <p:nvGrpSpPr>
            <p:cNvPr id="546" name="Group 53"/>
            <p:cNvGrpSpPr/>
            <p:nvPr/>
          </p:nvGrpSpPr>
          <p:grpSpPr>
            <a:xfrm>
              <a:off x="2052720" y="5754600"/>
              <a:ext cx="3071880" cy="977760"/>
              <a:chOff x="2052720" y="5754600"/>
              <a:chExt cx="3071880" cy="977760"/>
            </a:xfrm>
          </p:grpSpPr>
          <p:grpSp>
            <p:nvGrpSpPr>
              <p:cNvPr id="547" name="Group 54"/>
              <p:cNvGrpSpPr/>
              <p:nvPr/>
            </p:nvGrpSpPr>
            <p:grpSpPr>
              <a:xfrm>
                <a:off x="2052720" y="5754600"/>
                <a:ext cx="1354320" cy="977760"/>
                <a:chOff x="2052720" y="5754600"/>
                <a:chExt cx="1354320" cy="977760"/>
              </a:xfrm>
            </p:grpSpPr>
            <p:sp>
              <p:nvSpPr>
                <p:cNvPr id="548" name="Text Box 55"/>
                <p:cNvSpPr/>
                <p:nvPr/>
              </p:nvSpPr>
              <p:spPr>
                <a:xfrm>
                  <a:off x="2052720" y="6211800"/>
                  <a:ext cx="99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数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" name="Group 56"/>
                <p:cNvGrpSpPr/>
                <p:nvPr/>
              </p:nvGrpSpPr>
              <p:grpSpPr>
                <a:xfrm>
                  <a:off x="2052720" y="5754600"/>
                  <a:ext cx="1354320" cy="520560"/>
                  <a:chOff x="2052720" y="5754600"/>
                  <a:chExt cx="1354320" cy="520560"/>
                </a:xfrm>
              </p:grpSpPr>
              <p:sp>
                <p:nvSpPr>
                  <p:cNvPr id="550" name="Text Box 57"/>
                  <p:cNvSpPr/>
                  <p:nvPr/>
                </p:nvSpPr>
                <p:spPr>
                  <a:xfrm>
                    <a:off x="2052720" y="5754600"/>
                    <a:ext cx="13543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总价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8"/>
                  <p:cNvSpPr/>
                  <p:nvPr/>
                </p:nvSpPr>
                <p:spPr>
                  <a:xfrm>
                    <a:off x="2142720" y="6211800"/>
                    <a:ext cx="812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Text Box 59"/>
              <p:cNvSpPr/>
              <p:nvPr/>
            </p:nvSpPr>
            <p:spPr>
              <a:xfrm>
                <a:off x="2956320" y="5983200"/>
                <a:ext cx="216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＝单价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60"/>
            <p:cNvSpPr/>
            <p:nvPr/>
          </p:nvSpPr>
          <p:spPr>
            <a:xfrm>
              <a:off x="3931560" y="5972040"/>
              <a:ext cx="17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一定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61"/>
          <p:cNvGrpSpPr/>
          <p:nvPr/>
        </p:nvGrpSpPr>
        <p:grpSpPr>
          <a:xfrm>
            <a:off x="1835280" y="1484280"/>
            <a:ext cx="9938880" cy="2087280"/>
            <a:chOff x="1835280" y="1484280"/>
            <a:chExt cx="9938880" cy="2087280"/>
          </a:xfrm>
        </p:grpSpPr>
        <p:sp>
          <p:nvSpPr>
            <p:cNvPr id="555" name="Rectangle 62"/>
            <p:cNvSpPr/>
            <p:nvPr/>
          </p:nvSpPr>
          <p:spPr>
            <a:xfrm>
              <a:off x="1835280" y="1484280"/>
              <a:ext cx="5370120" cy="208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63"/>
            <p:cNvSpPr/>
            <p:nvPr/>
          </p:nvSpPr>
          <p:spPr>
            <a:xfrm>
              <a:off x="1835280" y="1857240"/>
              <a:ext cx="99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解：设要用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χ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元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64"/>
            <p:cNvGrpSpPr/>
            <p:nvPr/>
          </p:nvGrpSpPr>
          <p:grpSpPr>
            <a:xfrm>
              <a:off x="2177640" y="2230560"/>
              <a:ext cx="1596960" cy="1031400"/>
              <a:chOff x="2177640" y="2230560"/>
              <a:chExt cx="1596960" cy="1031400"/>
            </a:xfrm>
          </p:grpSpPr>
          <p:sp>
            <p:nvSpPr>
              <p:cNvPr id="558" name="Rectangle 65"/>
              <p:cNvSpPr/>
              <p:nvPr/>
            </p:nvSpPr>
            <p:spPr>
              <a:xfrm>
                <a:off x="2177640" y="2488680"/>
                <a:ext cx="1593720" cy="372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" name="Group 66"/>
              <p:cNvGrpSpPr/>
              <p:nvPr/>
            </p:nvGrpSpPr>
            <p:grpSpPr>
              <a:xfrm>
                <a:off x="2403360" y="2230560"/>
                <a:ext cx="1371240" cy="1031400"/>
                <a:chOff x="2403360" y="2230560"/>
                <a:chExt cx="1371240" cy="1031400"/>
              </a:xfrm>
            </p:grpSpPr>
            <p:sp>
              <p:nvSpPr>
                <p:cNvPr id="560" name="Line 67"/>
                <p:cNvSpPr/>
                <p:nvPr/>
              </p:nvSpPr>
              <p:spPr>
                <a:xfrm>
                  <a:off x="2403360" y="2754360"/>
                  <a:ext cx="137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Text Box 68"/>
                <p:cNvSpPr/>
                <p:nvPr/>
              </p:nvSpPr>
              <p:spPr>
                <a:xfrm>
                  <a:off x="2403360" y="2230560"/>
                  <a:ext cx="1371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Calibri"/>
                    </a:rPr>
                    <a:t>  </a:t>
                  </a:r>
                  <a:r>
                    <a:rPr b="1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9"/>
                <p:cNvSpPr/>
                <p:nvPr/>
              </p:nvSpPr>
              <p:spPr>
                <a:xfrm>
                  <a:off x="2403360" y="2680560"/>
                  <a:ext cx="1371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66"/>
                      </a:solidFill>
                      <a:latin typeface="Calibri"/>
                    </a:rPr>
                    <a:t>  </a:t>
                  </a:r>
                  <a:r>
                    <a:rPr b="1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3" name="Text Box 70"/>
            <p:cNvSpPr/>
            <p:nvPr/>
          </p:nvSpPr>
          <p:spPr>
            <a:xfrm>
              <a:off x="5150160" y="2156400"/>
              <a:ext cx="17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alibri"/>
                </a:rPr>
                <a:t>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71"/>
            <p:cNvGrpSpPr/>
            <p:nvPr/>
          </p:nvGrpSpPr>
          <p:grpSpPr>
            <a:xfrm>
              <a:off x="5147280" y="2684160"/>
              <a:ext cx="1828440" cy="642600"/>
              <a:chOff x="5147280" y="2684160"/>
              <a:chExt cx="1828440" cy="642600"/>
            </a:xfrm>
          </p:grpSpPr>
          <p:sp>
            <p:nvSpPr>
              <p:cNvPr id="565" name="Line 72"/>
              <p:cNvSpPr/>
              <p:nvPr/>
            </p:nvSpPr>
            <p:spPr>
              <a:xfrm>
                <a:off x="5147280" y="275832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73"/>
              <p:cNvSpPr/>
              <p:nvPr/>
            </p:nvSpPr>
            <p:spPr>
              <a:xfrm>
                <a:off x="5210640" y="2684160"/>
                <a:ext cx="176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66"/>
                    </a:solidFill>
                    <a:latin typeface="Calibri"/>
                  </a:rPr>
                  <a:t> 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Calibri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Text Box 74"/>
            <p:cNvSpPr/>
            <p:nvPr/>
          </p:nvSpPr>
          <p:spPr>
            <a:xfrm>
              <a:off x="3890880" y="2398320"/>
              <a:ext cx="102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Calibri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7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千克的海水中含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千克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吨的海水含盐几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0" y="1989000"/>
            <a:ext cx="88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、华南服装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天加工西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18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套，照这样计算，要生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54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套西装，需要多少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0" y="342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、用同样的砖铺地，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平方米要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6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块。如果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平方米，要用多少块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Calibri"/>
                <a:ea typeface="华文新魏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0" y="4941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堆煤，原计划每天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，可以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，由于改进炉灶，每天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，这堆煤实际可以烧多少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9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2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3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4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3"/>
          <p:cNvSpPr/>
          <p:nvPr/>
        </p:nvSpPr>
        <p:spPr>
          <a:xfrm>
            <a:off x="0" y="836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乙两地之间的公路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一辆汽车从甲地开往乙地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行驶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照这样的速度，这辆汽车从甲地开往乙地一共需要行驶多少小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314172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种糖水，糖和水按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∶15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制的；现有糖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，需要水多少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4718160"/>
            <a:ext cx="939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育老师买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1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绳子，先剪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正好做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跳绳。剩下的绳子还能够做这种跳绳多少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25092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①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一个小组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天加工零件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89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个，照这样计算，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天可加工零件多少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6"/>
          <p:cNvGrpSpPr/>
          <p:nvPr/>
        </p:nvGrpSpPr>
        <p:grpSpPr>
          <a:xfrm>
            <a:off x="2287440" y="2276640"/>
            <a:ext cx="3579840" cy="1232280"/>
            <a:chOff x="2287440" y="2276640"/>
            <a:chExt cx="3579840" cy="1232280"/>
          </a:xfrm>
        </p:grpSpPr>
        <p:grpSp>
          <p:nvGrpSpPr>
            <p:cNvPr id="578" name="Group 7"/>
            <p:cNvGrpSpPr/>
            <p:nvPr/>
          </p:nvGrpSpPr>
          <p:grpSpPr>
            <a:xfrm>
              <a:off x="2287440" y="2421000"/>
              <a:ext cx="1252440" cy="1087920"/>
              <a:chOff x="2287440" y="2421000"/>
              <a:chExt cx="1252440" cy="1087920"/>
            </a:xfrm>
          </p:grpSpPr>
          <p:sp>
            <p:nvSpPr>
              <p:cNvPr id="579" name="Rectangle 8"/>
              <p:cNvSpPr/>
              <p:nvPr/>
            </p:nvSpPr>
            <p:spPr>
              <a:xfrm>
                <a:off x="2287440" y="2741760"/>
                <a:ext cx="12495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" name="Group 9"/>
              <p:cNvGrpSpPr/>
              <p:nvPr/>
            </p:nvGrpSpPr>
            <p:grpSpPr>
              <a:xfrm>
                <a:off x="2322360" y="2421000"/>
                <a:ext cx="1217520" cy="1087920"/>
                <a:chOff x="2322360" y="2421000"/>
                <a:chExt cx="1217520" cy="1087920"/>
              </a:xfrm>
            </p:grpSpPr>
            <p:sp>
              <p:nvSpPr>
                <p:cNvPr id="581" name="Line 10"/>
                <p:cNvSpPr/>
                <p:nvPr/>
              </p:nvSpPr>
              <p:spPr>
                <a:xfrm>
                  <a:off x="2465280" y="2998800"/>
                  <a:ext cx="107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Text Box 11"/>
                <p:cNvSpPr/>
                <p:nvPr/>
              </p:nvSpPr>
              <p:spPr>
                <a:xfrm>
                  <a:off x="2322360" y="2421000"/>
                  <a:ext cx="1074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 </a:t>
                  </a:r>
                  <a:r>
                    <a:rPr b="1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189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Text Box 12"/>
                <p:cNvSpPr/>
                <p:nvPr/>
              </p:nvSpPr>
              <p:spPr>
                <a:xfrm>
                  <a:off x="2465280" y="2927520"/>
                  <a:ext cx="1074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  </a:t>
                  </a:r>
                  <a:r>
                    <a:rPr b="1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" name="Text Box 13"/>
            <p:cNvSpPr/>
            <p:nvPr/>
          </p:nvSpPr>
          <p:spPr>
            <a:xfrm>
              <a:off x="4484520" y="2495520"/>
              <a:ext cx="1382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4"/>
            <p:cNvSpPr/>
            <p:nvPr/>
          </p:nvSpPr>
          <p:spPr>
            <a:xfrm>
              <a:off x="4411440" y="2992680"/>
              <a:ext cx="89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5"/>
            <p:cNvSpPr/>
            <p:nvPr/>
          </p:nvSpPr>
          <p:spPr>
            <a:xfrm>
              <a:off x="4338360" y="2276640"/>
              <a:ext cx="1382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6"/>
            <p:cNvSpPr/>
            <p:nvPr/>
          </p:nvSpPr>
          <p:spPr>
            <a:xfrm>
              <a:off x="3632040" y="2637000"/>
              <a:ext cx="80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Calibri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7"/>
            <p:cNvSpPr/>
            <p:nvPr/>
          </p:nvSpPr>
          <p:spPr>
            <a:xfrm>
              <a:off x="4627440" y="29242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 Box 18"/>
          <p:cNvSpPr/>
          <p:nvPr/>
        </p:nvSpPr>
        <p:spPr>
          <a:xfrm>
            <a:off x="179280" y="3860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②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六年级同学们做广播操，每行站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人，正好站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行，如果每行站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4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人，可以站几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2411280" y="5157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4χ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0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0" y="6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食堂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桶油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8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照这样计算，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桶油要用多少元？（用比例知识解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2820600" y="256536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设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桶油要用     元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5"/>
              <p:cNvSpPr txBox="1"/>
              <p:nvPr/>
            </p:nvSpPr>
            <p:spPr>
              <a:xfrm>
                <a:off x="5338800" y="261144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Text Box 6"/>
          <p:cNvSpPr/>
          <p:nvPr/>
        </p:nvSpPr>
        <p:spPr>
          <a:xfrm>
            <a:off x="3033000" y="544500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：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桶油要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8"/>
          <p:cNvGrpSpPr/>
          <p:nvPr/>
        </p:nvGrpSpPr>
        <p:grpSpPr>
          <a:xfrm>
            <a:off x="4022640" y="3083040"/>
            <a:ext cx="762120" cy="832680"/>
            <a:chOff x="4022640" y="3083040"/>
            <a:chExt cx="762120" cy="832680"/>
          </a:xfrm>
        </p:grpSpPr>
        <p:sp>
          <p:nvSpPr>
            <p:cNvPr id="596" name="Text Box 9"/>
            <p:cNvSpPr/>
            <p:nvPr/>
          </p:nvSpPr>
          <p:spPr>
            <a:xfrm>
              <a:off x="4084560" y="30830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0"/>
            <p:cNvSpPr/>
            <p:nvPr/>
          </p:nvSpPr>
          <p:spPr>
            <a:xfrm>
              <a:off x="4022640" y="3498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1"/>
            <p:cNvSpPr/>
            <p:nvPr/>
          </p:nvSpPr>
          <p:spPr>
            <a:xfrm>
              <a:off x="4251600" y="345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12"/>
          <p:cNvSpPr/>
          <p:nvPr/>
        </p:nvSpPr>
        <p:spPr>
          <a:xfrm>
            <a:off x="4815720" y="32716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3"/>
          <p:cNvGrpSpPr/>
          <p:nvPr/>
        </p:nvGrpSpPr>
        <p:grpSpPr>
          <a:xfrm>
            <a:off x="4145040" y="4038480"/>
            <a:ext cx="658800" cy="482760"/>
            <a:chOff x="4145040" y="4038480"/>
            <a:chExt cx="658800" cy="482760"/>
          </a:xfrm>
        </p:grpSpPr>
        <p:sp>
          <p:nvSpPr>
            <p:cNvPr id="601" name="Text Box 14"/>
            <p:cNvSpPr/>
            <p:nvPr/>
          </p:nvSpPr>
          <p:spPr>
            <a:xfrm>
              <a:off x="4145040" y="403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2" name="Object 15"/>
                <p:cNvSpPr txBox="1"/>
                <p:nvPr/>
              </p:nvSpPr>
              <p:spPr>
                <a:xfrm>
                  <a:off x="4346640" y="406404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3" name="Text Box 16"/>
          <p:cNvSpPr/>
          <p:nvPr/>
        </p:nvSpPr>
        <p:spPr>
          <a:xfrm>
            <a:off x="4826880" y="40449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7"/>
          <p:cNvSpPr/>
          <p:nvPr/>
        </p:nvSpPr>
        <p:spPr>
          <a:xfrm>
            <a:off x="5217120" y="403848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8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8"/>
              <p:cNvSpPr txBox="1"/>
              <p:nvPr/>
            </p:nvSpPr>
            <p:spPr>
              <a:xfrm>
                <a:off x="4327560" y="468324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Text Box 19"/>
          <p:cNvSpPr/>
          <p:nvPr/>
        </p:nvSpPr>
        <p:spPr>
          <a:xfrm>
            <a:off x="4817160" y="468324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0"/>
          <p:cNvSpPr/>
          <p:nvPr/>
        </p:nvSpPr>
        <p:spPr>
          <a:xfrm>
            <a:off x="5151600" y="4648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1"/>
          <p:cNvGrpSpPr/>
          <p:nvPr/>
        </p:nvGrpSpPr>
        <p:grpSpPr>
          <a:xfrm>
            <a:off x="5165640" y="3083040"/>
            <a:ext cx="762120" cy="820080"/>
            <a:chOff x="5165640" y="3083040"/>
            <a:chExt cx="762120" cy="820080"/>
          </a:xfrm>
        </p:grpSpPr>
        <p:sp>
          <p:nvSpPr>
            <p:cNvPr id="609" name="Line 22"/>
            <p:cNvSpPr/>
            <p:nvPr/>
          </p:nvSpPr>
          <p:spPr>
            <a:xfrm>
              <a:off x="5165640" y="35067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23"/>
            <p:cNvGrpSpPr/>
            <p:nvPr/>
          </p:nvGrpSpPr>
          <p:grpSpPr>
            <a:xfrm>
              <a:off x="5284800" y="3083040"/>
              <a:ext cx="457200" cy="820080"/>
              <a:chOff x="5284800" y="3083040"/>
              <a:chExt cx="457200" cy="820080"/>
            </a:xfrm>
          </p:grpSpPr>
          <mc:AlternateContent>
            <mc:Choice xmlns:a14="http://schemas.microsoft.com/office/drawing/2010/main" Requires="a14">
              <p:sp>
                <p:nvSpPr>
                  <p:cNvPr id="611" name="Object 24"/>
                  <p:cNvSpPr txBox="1"/>
                  <p:nvPr/>
                </p:nvSpPr>
                <p:spPr>
                  <a:xfrm>
                    <a:off x="5284800" y="30830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2" name="Text Box 25"/>
              <p:cNvSpPr/>
              <p:nvPr/>
            </p:nvSpPr>
            <p:spPr>
              <a:xfrm>
                <a:off x="5342040" y="34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Text Box 26"/>
          <p:cNvSpPr/>
          <p:nvPr/>
        </p:nvSpPr>
        <p:spPr>
          <a:xfrm>
            <a:off x="3060360" y="19162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每桶油的单价一定，总价和数量成正比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2" dur="indefinite" restart="never" nodeType="tmRoot">
          <p:childTnLst>
            <p:seq>
              <p:cTn id="1723" dur="indefinite" nodeType="mainSeq">
                <p:childTnLst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0" y="2060640"/>
            <a:ext cx="91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鸡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只，鸭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只，鸡和鸭只数的比是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长方形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米，宽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厘米，长与宽的比是（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一本书读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页，还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页没有读，已读页数与总页数的比是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7689600" y="20606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4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7762680" y="29242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5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733040" y="422100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1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539640" y="10526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同学们做广播操，每行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正好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每行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可以站多少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115440" y="254016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设可以站     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5"/>
              <p:cNvSpPr txBox="1"/>
              <p:nvPr/>
            </p:nvSpPr>
            <p:spPr>
              <a:xfrm>
                <a:off x="4835520" y="259704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Text Box 7"/>
          <p:cNvSpPr/>
          <p:nvPr/>
        </p:nvSpPr>
        <p:spPr>
          <a:xfrm>
            <a:off x="2843280" y="2060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学生总数一定，每行的人数与行数成反比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8"/>
          <p:cNvGrpSpPr/>
          <p:nvPr/>
        </p:nvGrpSpPr>
        <p:grpSpPr>
          <a:xfrm>
            <a:off x="3270240" y="3119400"/>
            <a:ext cx="787320" cy="487440"/>
            <a:chOff x="3270240" y="3119400"/>
            <a:chExt cx="787320" cy="487440"/>
          </a:xfrm>
        </p:grpSpPr>
        <p:sp>
          <p:nvSpPr>
            <p:cNvPr id="619" name="Text Box 9"/>
            <p:cNvSpPr/>
            <p:nvPr/>
          </p:nvSpPr>
          <p:spPr>
            <a:xfrm>
              <a:off x="3270240" y="31194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0" name="Object 10"/>
                <p:cNvSpPr txBox="1"/>
                <p:nvPr/>
              </p:nvSpPr>
              <p:spPr>
                <a:xfrm>
                  <a:off x="3600360" y="314964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1" name="Text Box 11"/>
          <p:cNvSpPr/>
          <p:nvPr/>
        </p:nvSpPr>
        <p:spPr>
          <a:xfrm>
            <a:off x="4080600" y="31305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530960" y="3124080"/>
            <a:ext cx="9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13"/>
              <p:cNvSpPr txBox="1"/>
              <p:nvPr/>
            </p:nvSpPr>
            <p:spPr>
              <a:xfrm>
                <a:off x="3581280" y="4724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Text Box 14"/>
          <p:cNvSpPr/>
          <p:nvPr/>
        </p:nvSpPr>
        <p:spPr>
          <a:xfrm>
            <a:off x="4099680" y="47242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4514760" y="4700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6"/>
              <p:cNvSpPr txBox="1"/>
              <p:nvPr/>
            </p:nvSpPr>
            <p:spPr>
              <a:xfrm>
                <a:off x="3581280" y="3886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Text Box 17"/>
          <p:cNvSpPr/>
          <p:nvPr/>
        </p:nvSpPr>
        <p:spPr>
          <a:xfrm>
            <a:off x="4071240" y="38862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18"/>
          <p:cNvGrpSpPr/>
          <p:nvPr/>
        </p:nvGrpSpPr>
        <p:grpSpPr>
          <a:xfrm>
            <a:off x="4495680" y="3733920"/>
            <a:ext cx="1017360" cy="783360"/>
            <a:chOff x="4495680" y="3733920"/>
            <a:chExt cx="1017360" cy="783360"/>
          </a:xfrm>
        </p:grpSpPr>
        <p:sp>
          <p:nvSpPr>
            <p:cNvPr id="629" name="Text Box 19"/>
            <p:cNvSpPr/>
            <p:nvPr/>
          </p:nvSpPr>
          <p:spPr>
            <a:xfrm>
              <a:off x="4548600" y="3733920"/>
              <a:ext cx="96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>
              <a:off x="449568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1"/>
            <p:cNvSpPr/>
            <p:nvPr/>
          </p:nvSpPr>
          <p:spPr>
            <a:xfrm>
              <a:off x="4778280" y="4057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 Box 22"/>
          <p:cNvSpPr/>
          <p:nvPr/>
        </p:nvSpPr>
        <p:spPr>
          <a:xfrm>
            <a:off x="3041640" y="523872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：可以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3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3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6"/>
          <p:cNvSpPr/>
          <p:nvPr/>
        </p:nvSpPr>
        <p:spPr>
          <a:xfrm>
            <a:off x="1979640" y="22017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解：设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χ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天可以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7"/>
          <p:cNvSpPr/>
          <p:nvPr/>
        </p:nvSpPr>
        <p:spPr>
          <a:xfrm>
            <a:off x="2556000" y="2637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0χ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0×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2556000" y="31370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0χ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9"/>
          <p:cNvSpPr/>
          <p:nvPr/>
        </p:nvSpPr>
        <p:spPr>
          <a:xfrm>
            <a:off x="2987640" y="36511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χ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20÷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>
            <a:off x="2987640" y="42894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χ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1"/>
          <p:cNvSpPr/>
          <p:nvPr/>
        </p:nvSpPr>
        <p:spPr>
          <a:xfrm>
            <a:off x="2411280" y="4797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答：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天可以修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32" descr="pic_298496"/>
          <p:cNvPicPr/>
          <p:nvPr/>
        </p:nvPicPr>
        <p:blipFill>
          <a:blip r:embed="rId1"/>
          <a:srcRect l="66880" t="51284" r="21113" b="34528"/>
          <a:stretch/>
        </p:blipFill>
        <p:spPr>
          <a:xfrm>
            <a:off x="7812000" y="4437000"/>
            <a:ext cx="1332000" cy="2421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34"/>
          <p:cNvSpPr/>
          <p:nvPr/>
        </p:nvSpPr>
        <p:spPr>
          <a:xfrm>
            <a:off x="1258920" y="1557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工作效率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时间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工作总量（一定）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468360" y="404640"/>
          <a:ext cx="7775640" cy="103680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程队修一条水渠。每天修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修完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如果每天修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，多少天可以修完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2"/>
          <p:cNvSpPr/>
          <p:nvPr/>
        </p:nvSpPr>
        <p:spPr>
          <a:xfrm>
            <a:off x="0" y="981000"/>
            <a:ext cx="4319640" cy="2519280"/>
          </a:xfrm>
          <a:prstGeom prst="cloudCallout">
            <a:avLst>
              <a:gd name="adj1" fmla="val 27837"/>
              <a:gd name="adj2" fmla="val 8762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去时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每小时行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千米，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小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到达昆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3"/>
          <p:cNvSpPr/>
          <p:nvPr/>
        </p:nvSpPr>
        <p:spPr>
          <a:xfrm>
            <a:off x="4824360" y="1628640"/>
            <a:ext cx="4319640" cy="2519640"/>
          </a:xfrm>
          <a:prstGeom prst="cloudCallout">
            <a:avLst>
              <a:gd name="adj1" fmla="val -50328"/>
              <a:gd name="adj2" fmla="val 7047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回来时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每小时行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5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千米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6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小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到达禄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OT_0007"/>
          <p:cNvPicPr/>
          <p:nvPr/>
        </p:nvPicPr>
        <p:blipFill>
          <a:blip r:embed="rId1"/>
          <a:stretch/>
        </p:blipFill>
        <p:spPr>
          <a:xfrm rot="1693200">
            <a:off x="88920" y="188640"/>
            <a:ext cx="954000" cy="64764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5"/>
          <p:cNvSpPr/>
          <p:nvPr/>
        </p:nvSpPr>
        <p:spPr>
          <a:xfrm>
            <a:off x="755640" y="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cc00ff"/>
                </a:solidFill>
                <a:uFillTx/>
                <a:latin typeface="Times New Roman"/>
                <a:ea typeface="黑体"/>
              </a:rPr>
              <a:t>大胆尝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6" descr="2008-6-6-17-57-3"/>
          <p:cNvPicPr/>
          <p:nvPr/>
        </p:nvPicPr>
        <p:blipFill>
          <a:blip r:embed="rId2"/>
          <a:stretch/>
        </p:blipFill>
        <p:spPr>
          <a:xfrm>
            <a:off x="6732720" y="33480"/>
            <a:ext cx="2195280" cy="130788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7"/>
          <p:cNvSpPr/>
          <p:nvPr/>
        </p:nvSpPr>
        <p:spPr>
          <a:xfrm>
            <a:off x="1619280" y="54450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选择其中的三个数量编一道正比例或反比例应用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8" descr="u=1952616281,832020008&amp;fm=0&amp;gp=2"/>
          <p:cNvPicPr/>
          <p:nvPr/>
        </p:nvPicPr>
        <p:blipFill>
          <a:blip r:embed="rId3"/>
          <a:stretch/>
        </p:blipFill>
        <p:spPr>
          <a:xfrm>
            <a:off x="3492360" y="3500280"/>
            <a:ext cx="1332000" cy="17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500"/>
                            </p:stCondLst>
                            <p:childTnLst>
                              <p:par>
                                <p:cTn id="189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2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3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1047600" y="639720"/>
            <a:ext cx="114804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2370960" y="2039760"/>
            <a:ext cx="494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比例知识解答应用题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关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是正确找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中的两种相关联的量，判断它们成哪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系，然后根据正反比例的意义列出方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3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684360" y="1268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除法是一种运算，分数是一种数，比是表示两个数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84360" y="476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除法、分数、比之间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11280" y="285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汽车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时行驶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米，轿车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时行驶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米，汽车和轿车的时间比、速度比和路程比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879480" y="4403880"/>
            <a:ext cx="77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小强的身高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m,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爸爸的身高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73cm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小强说他和爸爸身高的比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:17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小强说的对吗？你认为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1"/>
          <p:cNvSpPr/>
          <p:nvPr/>
        </p:nvSpPr>
        <p:spPr>
          <a:xfrm>
            <a:off x="2127600" y="155736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表示两个比相等的式子叫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例</a:t>
            </a:r>
            <a:r>
              <a:rPr b="1" lang="zh-CN" sz="4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982160" y="76500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什么叫比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39640" y="2802600"/>
            <a:ext cx="80010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两个比能不能组成比例，要看它们的比值是否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059280" y="378936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9"/>
          <p:cNvGrpSpPr/>
          <p:nvPr/>
        </p:nvGrpSpPr>
        <p:grpSpPr>
          <a:xfrm>
            <a:off x="2071800" y="4762440"/>
            <a:ext cx="3576600" cy="2196720"/>
            <a:chOff x="2071800" y="4762440"/>
            <a:chExt cx="3576600" cy="2196720"/>
          </a:xfrm>
        </p:grpSpPr>
        <p:sp>
          <p:nvSpPr>
            <p:cNvPr id="93" name="Text Box 4"/>
            <p:cNvSpPr/>
            <p:nvPr/>
          </p:nvSpPr>
          <p:spPr>
            <a:xfrm>
              <a:off x="2341080" y="4762440"/>
              <a:ext cx="299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∶10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9∶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组合 7"/>
            <p:cNvGrpSpPr/>
            <p:nvPr/>
          </p:nvGrpSpPr>
          <p:grpSpPr>
            <a:xfrm>
              <a:off x="2071800" y="5762160"/>
              <a:ext cx="3576600" cy="1197000"/>
              <a:chOff x="2071800" y="5762160"/>
              <a:chExt cx="3576600" cy="1197000"/>
            </a:xfrm>
          </p:grpSpPr>
          <p:sp>
            <p:nvSpPr>
              <p:cNvPr id="95" name="Text Box 34"/>
              <p:cNvSpPr/>
              <p:nvPr/>
            </p:nvSpPr>
            <p:spPr>
              <a:xfrm>
                <a:off x="2071800" y="631656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35"/>
              <p:cNvSpPr/>
              <p:nvPr/>
            </p:nvSpPr>
            <p:spPr>
              <a:xfrm>
                <a:off x="2077920" y="577800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6"/>
              <p:cNvSpPr/>
              <p:nvPr/>
            </p:nvSpPr>
            <p:spPr>
              <a:xfrm>
                <a:off x="2073240" y="6388200"/>
                <a:ext cx="503280" cy="0"/>
              </a:xfrm>
              <a:prstGeom prst="line">
                <a:avLst/>
              </a:prstGeom>
              <a:ln w="57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37"/>
              <p:cNvSpPr/>
              <p:nvPr/>
            </p:nvSpPr>
            <p:spPr>
              <a:xfrm>
                <a:off x="2504880" y="602712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</a:rPr>
                  <a:t>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38"/>
              <p:cNvSpPr/>
              <p:nvPr/>
            </p:nvSpPr>
            <p:spPr>
              <a:xfrm>
                <a:off x="3000240" y="6024240"/>
                <a:ext cx="50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39"/>
              <p:cNvSpPr/>
              <p:nvPr/>
            </p:nvSpPr>
            <p:spPr>
              <a:xfrm>
                <a:off x="4485960" y="5762160"/>
                <a:ext cx="41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40"/>
              <p:cNvSpPr/>
              <p:nvPr/>
            </p:nvSpPr>
            <p:spPr>
              <a:xfrm>
                <a:off x="4451400" y="631656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1"/>
              <p:cNvSpPr/>
              <p:nvPr/>
            </p:nvSpPr>
            <p:spPr>
              <a:xfrm>
                <a:off x="4429440" y="6377040"/>
                <a:ext cx="504720" cy="0"/>
              </a:xfrm>
              <a:prstGeom prst="line">
                <a:avLst/>
              </a:prstGeom>
              <a:ln w="57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43"/>
              <p:cNvSpPr/>
              <p:nvPr/>
            </p:nvSpPr>
            <p:spPr>
              <a:xfrm>
                <a:off x="4859640" y="602424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隶书"/>
                    <a:ea typeface="华文隶书"/>
                  </a:rPr>
                  <a:t>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44"/>
              <p:cNvSpPr/>
              <p:nvPr/>
            </p:nvSpPr>
            <p:spPr>
              <a:xfrm>
                <a:off x="5288040" y="5952600"/>
                <a:ext cx="36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45"/>
              <p:cNvSpPr/>
              <p:nvPr/>
            </p:nvSpPr>
            <p:spPr>
              <a:xfrm>
                <a:off x="3571920" y="6024240"/>
                <a:ext cx="86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Calibri"/>
                  </a:rPr>
                  <a:t>和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Text Box 3"/>
          <p:cNvSpPr/>
          <p:nvPr/>
        </p:nvSpPr>
        <p:spPr>
          <a:xfrm>
            <a:off x="500040" y="39402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面的两个比能不能组成比例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844720" y="646200"/>
            <a:ext cx="129564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159520" y="627120"/>
            <a:ext cx="129528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085160" y="595440"/>
            <a:ext cx="1295280" cy="1008000"/>
          </a:xfrm>
          <a:prstGeom prst="rect">
            <a:avLst/>
          </a:prstGeom>
          <a:solidFill>
            <a:srgbClr val="87d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861840" y="646200"/>
            <a:ext cx="1297080" cy="1008000"/>
          </a:xfrm>
          <a:prstGeom prst="rect">
            <a:avLst/>
          </a:prstGeom>
          <a:solidFill>
            <a:srgbClr val="87d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4240" y="65880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4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︰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5246640" y="627120"/>
            <a:ext cx="305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0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︰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248360" y="2858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alibri"/>
                <a:ea typeface="楷体_GB2312"/>
              </a:rPr>
              <a:t>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3419640" y="244620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3419640" y="16542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153320" y="2044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新魏"/>
              </a:rPr>
              <a:t>内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5148360" y="244620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5724360" y="16542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547640" y="33098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547640" y="1654200"/>
            <a:ext cx="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153320" y="294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新魏"/>
              </a:rPr>
              <a:t>外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H="1">
            <a:off x="5219640" y="330984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7451640" y="1654200"/>
            <a:ext cx="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857160" y="4000680"/>
            <a:ext cx="73580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比例的四个数，叫做比例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两端的两项叫做比例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中间的两项叫做比例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9"/>
          <p:cNvSpPr/>
          <p:nvPr/>
        </p:nvSpPr>
        <p:spPr>
          <a:xfrm>
            <a:off x="785880" y="642960"/>
            <a:ext cx="650088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4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6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714240" y="19224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在比例里，两个外项的积等于两个内项的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6522120" y="4437000"/>
            <a:ext cx="1278000" cy="64260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交叉相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2916360" y="3213000"/>
            <a:ext cx="50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4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6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6"/>
          <p:cNvSpPr/>
          <p:nvPr/>
        </p:nvSpPr>
        <p:spPr>
          <a:xfrm>
            <a:off x="3714840" y="4508640"/>
            <a:ext cx="1214280" cy="642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7"/>
          <p:cNvSpPr/>
          <p:nvPr/>
        </p:nvSpPr>
        <p:spPr>
          <a:xfrm flipH="1">
            <a:off x="3643200" y="4508640"/>
            <a:ext cx="1214640" cy="64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53"/>
          <p:cNvGrpSpPr/>
          <p:nvPr/>
        </p:nvGrpSpPr>
        <p:grpSpPr>
          <a:xfrm>
            <a:off x="2954160" y="4149720"/>
            <a:ext cx="2519280" cy="1181520"/>
            <a:chOff x="2954160" y="4149720"/>
            <a:chExt cx="2519280" cy="1181520"/>
          </a:xfrm>
        </p:grpSpPr>
        <p:grpSp>
          <p:nvGrpSpPr>
            <p:cNvPr id="132" name="Group 8"/>
            <p:cNvGrpSpPr/>
            <p:nvPr/>
          </p:nvGrpSpPr>
          <p:grpSpPr>
            <a:xfrm>
              <a:off x="2954160" y="4149720"/>
              <a:ext cx="717840" cy="1181520"/>
              <a:chOff x="2954160" y="4149720"/>
              <a:chExt cx="717840" cy="1181520"/>
            </a:xfrm>
          </p:grpSpPr>
          <p:sp>
            <p:nvSpPr>
              <p:cNvPr id="133" name="Text Box 9"/>
              <p:cNvSpPr/>
              <p:nvPr/>
            </p:nvSpPr>
            <p:spPr>
              <a:xfrm>
                <a:off x="2971440" y="4149720"/>
                <a:ext cx="70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2.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0"/>
              <p:cNvSpPr/>
              <p:nvPr/>
            </p:nvSpPr>
            <p:spPr>
              <a:xfrm>
                <a:off x="3019320" y="474660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1"/>
              <p:cNvSpPr/>
              <p:nvPr/>
            </p:nvSpPr>
            <p:spPr>
              <a:xfrm>
                <a:off x="2954160" y="4749840"/>
                <a:ext cx="70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.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2"/>
            <p:cNvSpPr/>
            <p:nvPr/>
          </p:nvSpPr>
          <p:spPr>
            <a:xfrm>
              <a:off x="3933360" y="4149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＝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4877640" y="4149720"/>
              <a:ext cx="595800" cy="1181520"/>
              <a:chOff x="4877640" y="4149720"/>
              <a:chExt cx="595800" cy="1181520"/>
            </a:xfrm>
          </p:grpSpPr>
          <p:sp>
            <p:nvSpPr>
              <p:cNvPr id="138" name="Text Box 9"/>
              <p:cNvSpPr/>
              <p:nvPr/>
            </p:nvSpPr>
            <p:spPr>
              <a:xfrm>
                <a:off x="4877640" y="4149720"/>
                <a:ext cx="59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6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0"/>
              <p:cNvSpPr/>
              <p:nvPr/>
            </p:nvSpPr>
            <p:spPr>
              <a:xfrm>
                <a:off x="4896000" y="4746600"/>
                <a:ext cx="57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1"/>
              <p:cNvSpPr/>
              <p:nvPr/>
            </p:nvSpPr>
            <p:spPr>
              <a:xfrm>
                <a:off x="4880520" y="4749840"/>
                <a:ext cx="59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4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矩形 54"/>
          <p:cNvSpPr/>
          <p:nvPr/>
        </p:nvSpPr>
        <p:spPr>
          <a:xfrm>
            <a:off x="642960" y="1571760"/>
            <a:ext cx="7215120" cy="1285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线形标注 1 55"/>
          <p:cNvSpPr/>
          <p:nvPr/>
        </p:nvSpPr>
        <p:spPr>
          <a:xfrm>
            <a:off x="428760" y="3500280"/>
            <a:ext cx="1857240" cy="928800"/>
          </a:xfrm>
          <a:prstGeom prst="borderCallout1">
            <a:avLst>
              <a:gd name="adj1" fmla="val 18750"/>
              <a:gd name="adj2" fmla="val -8333"/>
              <a:gd name="adj3" fmla="val -72268"/>
              <a:gd name="adj4" fmla="val 70092"/>
            </a:avLst>
          </a:prstGeom>
          <a:solidFill>
            <a:srgbClr val="d9ffff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例的基本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 rot="5400000">
            <a:off x="773280" y="4528080"/>
            <a:ext cx="1401840" cy="2737080"/>
          </a:xfrm>
          <a:prstGeom prst="wedgeEllipseCallout">
            <a:avLst>
              <a:gd name="adj1" fmla="val -102888"/>
              <a:gd name="adj2" fmla="val -2227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解比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0T01:50:50Z</dcterms:created>
  <dc:creator/>
  <dc:description/>
  <cp:keywords/>
  <dc:language>en-US</dc:language>
  <cp:lastModifiedBy>User</cp:lastModifiedBy>
  <dcterms:modified xsi:type="dcterms:W3CDTF">2017-12-20T01:56:01Z</dcterms:modified>
  <cp:revision>1</cp:revision>
  <dc:subject/>
  <dc:title>幻灯片 1</dc:title>
</cp:coreProperties>
</file>