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6ED-2335-4999-9409-89637659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6C0-845F-4A90-B9B0-F567B9AE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4DD-4580-4C70-A504-087AEB01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309-A673-4759-9F28-79398F91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FAA4-EC69-4BD1-A64D-2CCDDAD9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E8F-A3D4-4785-B6BF-7F276ADC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FDFE-7FE4-4266-AF5D-D6884D28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51C0-2CF1-4B32-8328-54BBA99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424-9C54-4ED1-9D7C-90067D97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A88-4531-4497-B576-34FD402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799D-F91E-4622-8DC3-6F53CDE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A97-FF4D-41C0-8E5A-8FA48A2F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807F-C6D5-4E79-99E0-0EC8452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55A1-62B3-4ED0-819A-A29415AD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CF1-DC31-445C-A0BB-3EA95E42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375-316D-45DF-B8BE-D5AFD596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2CB4-ACCB-4EDB-98D5-94AE4055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923-1FAB-4493-A7A8-AF80813D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B34-CB29-4535-A9B6-370D418C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F66-DD20-451F-8B01-87016C10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844-B146-4014-9B07-BC7C02A4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721-75C4-4AF7-9193-1C2B524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09A-5BA2-4EC6-90DD-D638A9F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D98-305D-4425-90D5-4F554F7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7931-0B35-4D65-A739-94FFC2F1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A3F6-95A3-4381-B439-8ADCD1AC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乘除运算（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914400" y="685800"/>
            <a:ext cx="74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　一 共有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个小组，每个小组种了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棵树苗。购买树苗花了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1250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元，每棵树苗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059280" y="3429000"/>
            <a:ext cx="6624360" cy="3429000"/>
          </a:xfrm>
          <a:prstGeom prst="irregularSeal2">
            <a:avLst/>
          </a:prstGeom>
          <a:solidFill>
            <a:srgbClr val="ffcc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  <a:ea typeface="宋体"/>
              </a:rPr>
              <a:t>一个数连续除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  <a:ea typeface="宋体"/>
              </a:rPr>
              <a:t>两个数，可以除以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  <a:ea typeface="宋体"/>
              </a:rPr>
              <a:t>两个数的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331280" y="22748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50÷25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967320" y="350676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50÷1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853200" y="407520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085400" y="292428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50÷(25×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5"/>
          <p:cNvGrpSpPr/>
          <p:nvPr/>
        </p:nvGrpSpPr>
        <p:grpSpPr>
          <a:xfrm>
            <a:off x="3822840" y="1557360"/>
            <a:ext cx="5279760" cy="3441240"/>
            <a:chOff x="3822840" y="1557360"/>
            <a:chExt cx="5279760" cy="3441240"/>
          </a:xfrm>
        </p:grpSpPr>
        <p:sp>
          <p:nvSpPr>
            <p:cNvPr id="191" name="Freeform 7"/>
            <p:cNvSpPr/>
            <p:nvPr/>
          </p:nvSpPr>
          <p:spPr>
            <a:xfrm>
              <a:off x="4832640" y="2285280"/>
              <a:ext cx="3308760" cy="2713320"/>
            </a:xfrm>
            <a:custGeom>
              <a:avLst/>
              <a:gdLst>
                <a:gd name="textAreaLeft" fmla="*/ 0 w 3308760"/>
                <a:gd name="textAreaRight" fmla="*/ 3309120 w 3308760"/>
                <a:gd name="textAreaTop" fmla="*/ 0 h 2713320"/>
                <a:gd name="textAreaBottom" fmla="*/ 2713680 h 2713320"/>
              </a:gdLst>
              <a:ahLst/>
              <a:rect l="textAreaLeft" t="textAreaTop" r="textAreaRight" b="textAreaBottom"/>
              <a:pathLst>
                <a:path w="2268" h="1860">
                  <a:moveTo>
                    <a:pt x="0" y="0"/>
                  </a:moveTo>
                  <a:lnTo>
                    <a:pt x="816" y="0"/>
                  </a:lnTo>
                  <a:lnTo>
                    <a:pt x="816" y="1180"/>
                  </a:lnTo>
                  <a:lnTo>
                    <a:pt x="2268" y="1180"/>
                  </a:lnTo>
                  <a:lnTo>
                    <a:pt x="2268" y="1860"/>
                  </a:lnTo>
                  <a:lnTo>
                    <a:pt x="0" y="186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4832640" y="1820880"/>
              <a:ext cx="0" cy="46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 flipV="1">
              <a:off x="6022800" y="1820880"/>
              <a:ext cx="0" cy="46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8141400" y="3540960"/>
              <a:ext cx="0" cy="46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1"/>
            <p:cNvSpPr/>
            <p:nvPr/>
          </p:nvSpPr>
          <p:spPr>
            <a:xfrm>
              <a:off x="8141400" y="4005360"/>
              <a:ext cx="46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>
              <a:off x="8141400" y="49971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>
              <a:off x="8141400" y="4997160"/>
              <a:ext cx="46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4"/>
            <p:cNvSpPr/>
            <p:nvPr/>
          </p:nvSpPr>
          <p:spPr>
            <a:xfrm>
              <a:off x="4435920" y="2285280"/>
              <a:ext cx="46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>
              <a:off x="4368600" y="4997160"/>
              <a:ext cx="46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6"/>
            <p:cNvSpPr/>
            <p:nvPr/>
          </p:nvSpPr>
          <p:spPr>
            <a:xfrm>
              <a:off x="4832640" y="2019600"/>
              <a:ext cx="1190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>
              <a:off x="6022800" y="3674160"/>
              <a:ext cx="2118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 flipV="1">
              <a:off x="4566960" y="2285280"/>
              <a:ext cx="1440" cy="2711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 flipV="1">
              <a:off x="8405280" y="4005000"/>
              <a:ext cx="0" cy="99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5136120" y="155736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9000" y="321156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3"/>
            <p:cNvSpPr/>
            <p:nvPr/>
          </p:nvSpPr>
          <p:spPr>
            <a:xfrm>
              <a:off x="8444880" y="42678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3822840" y="341028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26"/>
          <p:cNvSpPr/>
          <p:nvPr/>
        </p:nvSpPr>
        <p:spPr>
          <a:xfrm>
            <a:off x="395280" y="90792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李大爷家有一块菜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块菜地的面积有多少平方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"/>
          <p:cNvGrpSpPr/>
          <p:nvPr/>
        </p:nvGrpSpPr>
        <p:grpSpPr>
          <a:xfrm>
            <a:off x="7058880" y="4478760"/>
            <a:ext cx="1939320" cy="1182240"/>
            <a:chOff x="7058880" y="4478760"/>
            <a:chExt cx="1939320" cy="1182240"/>
          </a:xfrm>
        </p:grpSpPr>
        <p:pic>
          <p:nvPicPr>
            <p:cNvPr id="210" name="Picture 4" descr="E098"/>
            <p:cNvPicPr/>
            <p:nvPr/>
          </p:nvPicPr>
          <p:blipFill>
            <a:blip r:embed="rId1"/>
            <a:stretch/>
          </p:blipFill>
          <p:spPr>
            <a:xfrm flipH="1" rot="216600">
              <a:off x="7536600" y="4522320"/>
              <a:ext cx="142848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p"/>
            <p:cNvPicPr/>
            <p:nvPr/>
          </p:nvPicPr>
          <p:blipFill>
            <a:blip r:embed="rId2"/>
            <a:stretch/>
          </p:blipFill>
          <p:spPr>
            <a:xfrm flipH="1" rot="216600">
              <a:off x="7085520" y="4734720"/>
              <a:ext cx="1190880" cy="88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6" descr="33"/>
          <p:cNvPicPr/>
          <p:nvPr/>
        </p:nvPicPr>
        <p:blipFill>
          <a:blip r:embed="rId3"/>
          <a:stretch/>
        </p:blipFill>
        <p:spPr>
          <a:xfrm>
            <a:off x="2987640" y="4076640"/>
            <a:ext cx="3672000" cy="24368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7"/>
          <p:cNvGrpSpPr/>
          <p:nvPr/>
        </p:nvGrpSpPr>
        <p:grpSpPr>
          <a:xfrm>
            <a:off x="-297360" y="2978280"/>
            <a:ext cx="1521720" cy="2178000"/>
            <a:chOff x="-297360" y="2978280"/>
            <a:chExt cx="1521720" cy="2178000"/>
          </a:xfrm>
        </p:grpSpPr>
        <p:sp>
          <p:nvSpPr>
            <p:cNvPr id="214" name="Rectangle 8"/>
            <p:cNvSpPr/>
            <p:nvPr/>
          </p:nvSpPr>
          <p:spPr>
            <a:xfrm>
              <a:off x="627120" y="4049640"/>
              <a:ext cx="166680" cy="1106640"/>
            </a:xfrm>
            <a:prstGeom prst="rect">
              <a:avLst/>
            </a:prstGeom>
            <a:solidFill>
              <a:srgbClr val="996633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214200" y="3160800"/>
              <a:ext cx="966960" cy="942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317520" y="3263760"/>
              <a:ext cx="760320" cy="74160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-297360" y="2978280"/>
              <a:ext cx="1521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66ffff"/>
                  </a:solidFill>
                  <a:latin typeface="Arial"/>
                  <a:ea typeface="隶书"/>
                </a:rPr>
                <a:t>　！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3"/>
          <p:cNvSpPr/>
          <p:nvPr/>
        </p:nvSpPr>
        <p:spPr>
          <a:xfrm>
            <a:off x="533520" y="7621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果园要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4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筐苹果，每辆汽车一次可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筐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辆这样的汽车，多少次能运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1325160" y="990720"/>
            <a:ext cx="7290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计算下面各题，怎样简便就怎样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492000" y="2060640"/>
            <a:ext cx="177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5×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508920" y="3279600"/>
            <a:ext cx="15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5×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508920" y="4505400"/>
            <a:ext cx="15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×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4720" y="333360"/>
            <a:ext cx="705636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在           里填上适当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48÷0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÷0.00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2÷7.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.8÷8.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÷84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484360" y="692280"/>
            <a:ext cx="12956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357800" y="1928880"/>
            <a:ext cx="1295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429080" y="3068640"/>
            <a:ext cx="1295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429080" y="5214960"/>
            <a:ext cx="1295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429080" y="4143240"/>
            <a:ext cx="129528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572000" y="17859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429080" y="29289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572000" y="40006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9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429080" y="50720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415800"/>
            <a:ext cx="849600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计算，在下面各题的      里填上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或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                 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4508640" y="3301920"/>
                <a:ext cx="1267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4508640" y="3301920"/>
                <a:ext cx="1267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1476360" y="2062080"/>
                <a:ext cx="133200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Oval 9"/>
          <p:cNvSpPr/>
          <p:nvPr/>
        </p:nvSpPr>
        <p:spPr>
          <a:xfrm>
            <a:off x="5943600" y="533520"/>
            <a:ext cx="64944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843280" y="2567160"/>
            <a:ext cx="6490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3570120" y="2062080"/>
                <a:ext cx="4971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1476360" y="3711600"/>
                <a:ext cx="133200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Oval 13"/>
          <p:cNvSpPr/>
          <p:nvPr/>
        </p:nvSpPr>
        <p:spPr>
          <a:xfrm>
            <a:off x="2843280" y="4222800"/>
            <a:ext cx="649080" cy="57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564000" y="3706920"/>
                <a:ext cx="49680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5508720" y="2055960"/>
                <a:ext cx="16365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Oval 16"/>
          <p:cNvSpPr/>
          <p:nvPr/>
        </p:nvSpPr>
        <p:spPr>
          <a:xfrm>
            <a:off x="7093080" y="2565360"/>
            <a:ext cx="649080" cy="57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7740720" y="2062080"/>
                <a:ext cx="76356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5508720" y="3699000"/>
                <a:ext cx="16365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Oval 19"/>
          <p:cNvSpPr/>
          <p:nvPr/>
        </p:nvSpPr>
        <p:spPr>
          <a:xfrm>
            <a:off x="7093080" y="4221000"/>
            <a:ext cx="649080" cy="57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7740720" y="3705120"/>
                <a:ext cx="76356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Text Box 21"/>
          <p:cNvSpPr/>
          <p:nvPr/>
        </p:nvSpPr>
        <p:spPr>
          <a:xfrm>
            <a:off x="2916360" y="25225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916360" y="41608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7236000" y="25225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7164360" y="41068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1575000" cy="161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1981080" y="692280"/>
            <a:ext cx="1619280" cy="16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3708360" y="692280"/>
            <a:ext cx="1681200" cy="16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5508720" y="692280"/>
            <a:ext cx="1557360" cy="16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5"/>
          <a:stretch/>
        </p:blipFill>
        <p:spPr>
          <a:xfrm>
            <a:off x="7237440" y="703440"/>
            <a:ext cx="1619280" cy="1611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4375800" y="230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宋体"/>
              </a:rPr>
              <a:t>科考队这次考察一共花了多少时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20060118125930615"/>
          <p:cNvPicPr/>
          <p:nvPr/>
        </p:nvPicPr>
        <p:blipFill>
          <a:blip r:embed="rId6"/>
          <a:stretch/>
        </p:blipFill>
        <p:spPr>
          <a:xfrm>
            <a:off x="-1620720" y="2997360"/>
            <a:ext cx="4795560" cy="3600360"/>
          </a:xfrm>
          <a:prstGeom prst="rect">
            <a:avLst/>
          </a:prstGeom>
          <a:ln w="0">
            <a:noFill/>
          </a:ln>
        </p:spPr>
      </p:pic>
      <p:sp>
        <p:nvSpPr>
          <p:cNvPr id="125" name="Oval 15"/>
          <p:cNvSpPr/>
          <p:nvPr/>
        </p:nvSpPr>
        <p:spPr>
          <a:xfrm>
            <a:off x="3276720" y="-2774880"/>
            <a:ext cx="299880" cy="299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8459640" y="1773360"/>
            <a:ext cx="360360" cy="360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8099280" y="1989000"/>
            <a:ext cx="360360" cy="360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2411280" y="3068640"/>
            <a:ext cx="5761080" cy="865080"/>
          </a:xfrm>
          <a:prstGeom prst="wedgeRectCallout">
            <a:avLst>
              <a:gd name="adj1" fmla="val -65236"/>
              <a:gd name="adj2" fmla="val 42291"/>
            </a:avLst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月份来算，一共花了两个大月和两个小月，再加上七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496600" y="4005360"/>
            <a:ext cx="31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1×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×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3160800" y="4070520"/>
            <a:ext cx="431640" cy="43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2"/>
          <p:cNvSpPr/>
          <p:nvPr/>
        </p:nvSpPr>
        <p:spPr>
          <a:xfrm>
            <a:off x="4573440" y="4038480"/>
            <a:ext cx="432000" cy="432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079720" y="450864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3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)×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070000" y="5013360"/>
            <a:ext cx="22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1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933560" y="5442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1959120" y="5945040"/>
            <a:ext cx="18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48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2413080" y="450864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2413080" y="508464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4688280" y="5373720"/>
            <a:ext cx="382176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宋体"/>
              </a:rPr>
              <a:t>乘法的分配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×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＋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×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(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＋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)×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2"/>
          <p:cNvSpPr/>
          <p:nvPr/>
        </p:nvSpPr>
        <p:spPr>
          <a:xfrm>
            <a:off x="1403280" y="981000"/>
            <a:ext cx="360360" cy="360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图片1副本"/>
          <p:cNvPicPr/>
          <p:nvPr/>
        </p:nvPicPr>
        <p:blipFill>
          <a:blip r:embed="rId1"/>
          <a:stretch/>
        </p:blipFill>
        <p:spPr>
          <a:xfrm>
            <a:off x="304920" y="685800"/>
            <a:ext cx="5257800" cy="5904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762120" y="4495680"/>
            <a:ext cx="3886200" cy="1828800"/>
          </a:xfrm>
          <a:prstGeom prst="wedgeRoundRectCallout">
            <a:avLst>
              <a:gd name="adj1" fmla="val -34069"/>
              <a:gd name="adj2" fmla="val -72425"/>
              <a:gd name="adj3" fmla="val 16667"/>
            </a:avLst>
          </a:prstGeom>
          <a:solidFill>
            <a:srgbClr val="ff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共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组，每个小组种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棵树苗。购买树苗花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每棵树苗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233400" y="29242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50÷25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7812000" y="765000"/>
          <a:ext cx="1119240" cy="13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765000"/>
                    <a:ext cx="11192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14"/>
          <p:cNvSpPr/>
          <p:nvPr/>
        </p:nvSpPr>
        <p:spPr>
          <a:xfrm>
            <a:off x="5638680" y="1341360"/>
            <a:ext cx="1814760" cy="1020960"/>
          </a:xfrm>
          <a:prstGeom prst="wedgeRoundRectCallout">
            <a:avLst>
              <a:gd name="adj1" fmla="val 76263"/>
              <a:gd name="adj2" fmla="val -30814"/>
              <a:gd name="adj3" fmla="val 16667"/>
            </a:avLst>
          </a:prstGeom>
          <a:solidFill>
            <a:srgbClr val="cce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是这样计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877360" y="35798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0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755320" y="422748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图片1副本"/>
          <p:cNvPicPr/>
          <p:nvPr/>
        </p:nvPicPr>
        <p:blipFill>
          <a:blip r:embed="rId1"/>
          <a:stretch/>
        </p:blipFill>
        <p:spPr>
          <a:xfrm>
            <a:off x="179280" y="620640"/>
            <a:ext cx="5459400" cy="5904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8"/>
          <p:cNvSpPr/>
          <p:nvPr/>
        </p:nvSpPr>
        <p:spPr>
          <a:xfrm>
            <a:off x="755640" y="4581360"/>
            <a:ext cx="3892680" cy="1819440"/>
          </a:xfrm>
          <a:prstGeom prst="wedgeRoundRectCallout">
            <a:avLst>
              <a:gd name="adj1" fmla="val -34069"/>
              <a:gd name="adj2" fmla="val -72425"/>
              <a:gd name="adj3" fmla="val 16667"/>
            </a:avLst>
          </a:prstGeom>
          <a:solidFill>
            <a:srgbClr val="ff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 共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组，每个小组种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棵树苗。购买树苗花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每棵树苗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7524720" y="1197000"/>
          <a:ext cx="120024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1197000"/>
                    <a:ext cx="12002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AutoShape 14"/>
          <p:cNvSpPr/>
          <p:nvPr/>
        </p:nvSpPr>
        <p:spPr>
          <a:xfrm>
            <a:off x="5595840" y="1773360"/>
            <a:ext cx="1719360" cy="1046160"/>
          </a:xfrm>
          <a:prstGeom prst="wedgeRoundRectCallout">
            <a:avLst>
              <a:gd name="adj1" fmla="val 76263"/>
              <a:gd name="adj2" fmla="val -16893"/>
              <a:gd name="adj3" fmla="val 16667"/>
            </a:avLst>
          </a:prstGeom>
          <a:solidFill>
            <a:srgbClr val="cce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这样算也可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089040" y="3003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50÷25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5676480" y="423540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50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571720" y="4803840"/>
            <a:ext cx="1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803920" y="365292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250÷(25×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4000" y="33336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大小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1"/>
          <p:cNvGrpSpPr/>
          <p:nvPr/>
        </p:nvGrpSpPr>
        <p:grpSpPr>
          <a:xfrm>
            <a:off x="250920" y="1773360"/>
            <a:ext cx="4174560" cy="1350720"/>
            <a:chOff x="250920" y="1773360"/>
            <a:chExt cx="4174560" cy="1350720"/>
          </a:xfrm>
        </p:grpSpPr>
        <mc:AlternateContent>
          <mc:Choice xmlns:a14="http://schemas.microsoft.com/office/drawing/2010/main" Requires="a14">
            <p:sp>
              <p:nvSpPr>
                <p:cNvPr id="160" name="Object 5"/>
                <p:cNvSpPr txBox="1"/>
                <p:nvPr/>
              </p:nvSpPr>
              <p:spPr>
                <a:xfrm>
                  <a:off x="250920" y="1773360"/>
                  <a:ext cx="1990440" cy="13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÷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1" name="Group 11"/>
            <p:cNvGrpSpPr/>
            <p:nvPr/>
          </p:nvGrpSpPr>
          <p:grpSpPr>
            <a:xfrm>
              <a:off x="2553840" y="2060640"/>
              <a:ext cx="1871640" cy="718200"/>
              <a:chOff x="2553840" y="2060640"/>
              <a:chExt cx="1871640" cy="7182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2553840" y="2060640"/>
                <a:ext cx="187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0"/>
              <p:cNvSpPr/>
              <p:nvPr/>
            </p:nvSpPr>
            <p:spPr>
              <a:xfrm>
                <a:off x="2985480" y="2131560"/>
                <a:ext cx="648000" cy="647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22"/>
          <p:cNvGrpSpPr/>
          <p:nvPr/>
        </p:nvGrpSpPr>
        <p:grpSpPr>
          <a:xfrm>
            <a:off x="142920" y="4078440"/>
            <a:ext cx="4430160" cy="718560"/>
            <a:chOff x="142920" y="4078440"/>
            <a:chExt cx="4430160" cy="718560"/>
          </a:xfrm>
        </p:grpSpPr>
        <mc:AlternateContent>
          <mc:Choice xmlns:a14="http://schemas.microsoft.com/office/drawing/2010/main" Requires="a14">
            <p:sp>
              <p:nvSpPr>
                <p:cNvPr id="165" name="Object 6"/>
                <p:cNvSpPr txBox="1"/>
                <p:nvPr/>
              </p:nvSpPr>
              <p:spPr>
                <a:xfrm>
                  <a:off x="142920" y="4157640"/>
                  <a:ext cx="2487240" cy="56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×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6" name="Group 12"/>
            <p:cNvGrpSpPr/>
            <p:nvPr/>
          </p:nvGrpSpPr>
          <p:grpSpPr>
            <a:xfrm>
              <a:off x="2701440" y="4078440"/>
              <a:ext cx="1871640" cy="718560"/>
              <a:chOff x="2701440" y="4078440"/>
              <a:chExt cx="1871640" cy="718560"/>
            </a:xfrm>
          </p:grpSpPr>
          <p:sp>
            <p:nvSpPr>
              <p:cNvPr id="167" name="Text Box 13"/>
              <p:cNvSpPr/>
              <p:nvPr/>
            </p:nvSpPr>
            <p:spPr>
              <a:xfrm>
                <a:off x="2701440" y="4078440"/>
                <a:ext cx="187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4"/>
              <p:cNvSpPr/>
              <p:nvPr/>
            </p:nvSpPr>
            <p:spPr>
              <a:xfrm>
                <a:off x="3133080" y="4149360"/>
                <a:ext cx="64800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23"/>
          <p:cNvGrpSpPr/>
          <p:nvPr/>
        </p:nvGrpSpPr>
        <p:grpSpPr>
          <a:xfrm>
            <a:off x="4716360" y="1773360"/>
            <a:ext cx="4392720" cy="1350720"/>
            <a:chOff x="4716360" y="1773360"/>
            <a:chExt cx="4392720" cy="1350720"/>
          </a:xfrm>
        </p:grpSpPr>
        <mc:AlternateContent>
          <mc:Choice xmlns:a14="http://schemas.microsoft.com/office/drawing/2010/main" Requires="a14">
            <p:sp>
              <p:nvSpPr>
                <p:cNvPr id="170" name="Object 7"/>
                <p:cNvSpPr txBox="1"/>
                <p:nvPr/>
              </p:nvSpPr>
              <p:spPr>
                <a:xfrm>
                  <a:off x="4716360" y="1773360"/>
                  <a:ext cx="2238480" cy="13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÷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1" name="Group 15"/>
            <p:cNvGrpSpPr/>
            <p:nvPr/>
          </p:nvGrpSpPr>
          <p:grpSpPr>
            <a:xfrm>
              <a:off x="7237440" y="2062080"/>
              <a:ext cx="1871640" cy="719280"/>
              <a:chOff x="7237440" y="2062080"/>
              <a:chExt cx="1871640" cy="719280"/>
            </a:xfrm>
          </p:grpSpPr>
          <p:sp>
            <p:nvSpPr>
              <p:cNvPr id="172" name="Text Box 16"/>
              <p:cNvSpPr/>
              <p:nvPr/>
            </p:nvSpPr>
            <p:spPr>
              <a:xfrm>
                <a:off x="7237440" y="2062080"/>
                <a:ext cx="187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7"/>
              <p:cNvSpPr/>
              <p:nvPr/>
            </p:nvSpPr>
            <p:spPr>
              <a:xfrm>
                <a:off x="7669080" y="2133360"/>
                <a:ext cx="648000" cy="64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24"/>
          <p:cNvGrpSpPr/>
          <p:nvPr/>
        </p:nvGrpSpPr>
        <p:grpSpPr>
          <a:xfrm>
            <a:off x="4680000" y="4078440"/>
            <a:ext cx="4464000" cy="718560"/>
            <a:chOff x="4680000" y="4078440"/>
            <a:chExt cx="4464000" cy="718560"/>
          </a:xfrm>
        </p:grpSpPr>
        <mc:AlternateContent>
          <mc:Choice xmlns:a14="http://schemas.microsoft.com/office/drawing/2010/main" Requires="a14">
            <p:sp>
              <p:nvSpPr>
                <p:cNvPr id="175" name="Object 8"/>
                <p:cNvSpPr txBox="1"/>
                <p:nvPr/>
              </p:nvSpPr>
              <p:spPr>
                <a:xfrm>
                  <a:off x="4680000" y="4149720"/>
                  <a:ext cx="2415960" cy="56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×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6" name="Group 18"/>
            <p:cNvGrpSpPr/>
            <p:nvPr/>
          </p:nvGrpSpPr>
          <p:grpSpPr>
            <a:xfrm>
              <a:off x="7272360" y="4078440"/>
              <a:ext cx="1871640" cy="718560"/>
              <a:chOff x="7272360" y="4078440"/>
              <a:chExt cx="1871640" cy="718560"/>
            </a:xfrm>
          </p:grpSpPr>
          <p:sp>
            <p:nvSpPr>
              <p:cNvPr id="177" name="Text Box 19"/>
              <p:cNvSpPr/>
              <p:nvPr/>
            </p:nvSpPr>
            <p:spPr>
              <a:xfrm>
                <a:off x="7272360" y="4078440"/>
                <a:ext cx="187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20"/>
              <p:cNvSpPr/>
              <p:nvPr/>
            </p:nvSpPr>
            <p:spPr>
              <a:xfrm>
                <a:off x="7704000" y="4149360"/>
                <a:ext cx="64800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 Box 25"/>
          <p:cNvSpPr/>
          <p:nvPr/>
        </p:nvSpPr>
        <p:spPr>
          <a:xfrm>
            <a:off x="3211560" y="4076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7781760" y="4076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7740720" y="2060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3059280" y="2060640"/>
            <a:ext cx="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58:31Z</dcterms:created>
  <dc:creator/>
  <dc:description/>
  <dc:language>en-US</dc:language>
  <cp:lastModifiedBy/>
  <dcterms:modified xsi:type="dcterms:W3CDTF">2015-04-08T10:58:35Z</dcterms:modified>
  <cp:revision>1</cp:revision>
  <dc:subject/>
  <dc:title/>
</cp:coreProperties>
</file>