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4.xml" ContentType="application/vnd.openxmlformats-officedocument.theme+xml"/>
  <Override PartName="/ppt/theme/theme62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hammer.wav" ContentType="audio/x-wav"/>
  <Override PartName="/ppt/media/image3.png" ContentType="image/png"/>
  <Override PartName="/ppt/media/chimes.wav" ContentType="audio/x-wav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notesMasterIdLst>
    <p:notesMasterId r:id="rId75"/>
  </p:notesMasterIdLst>
  <p:sldIdLst>
    <p:sldId id="256" r:id="rId76"/>
    <p:sldId id="257" r:id="rId77"/>
    <p:sldId id="258" r:id="rId78"/>
    <p:sldId id="259" r:id="rId79"/>
    <p:sldId id="260" r:id="rId80"/>
    <p:sldId id="261" r:id="rId81"/>
    <p:sldId id="262" r:id="rId82"/>
    <p:sldId id="263" r:id="rId83"/>
    <p:sldId id="264" r:id="rId84"/>
    <p:sldId id="265" r:id="rId85"/>
    <p:sldId id="266" r:id="rId86"/>
    <p:sldId id="267" r:id="rId87"/>
    <p:sldId id="268" r:id="rId88"/>
    <p:sldId id="269" r:id="rId89"/>
    <p:sldId id="270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notesMaster" Target="notesMasters/notesMaster1.xml"/><Relationship Id="rId76" Type="http://schemas.openxmlformats.org/officeDocument/2006/relationships/slide" Target="slides/slide1.xml"/><Relationship Id="rId77" Type="http://schemas.openxmlformats.org/officeDocument/2006/relationships/slide" Target="slides/slide2.xml"/><Relationship Id="rId78" Type="http://schemas.openxmlformats.org/officeDocument/2006/relationships/slide" Target="slides/slide3.xml"/><Relationship Id="rId79" Type="http://schemas.openxmlformats.org/officeDocument/2006/relationships/slide" Target="slides/slide4.xml"/><Relationship Id="rId80" Type="http://schemas.openxmlformats.org/officeDocument/2006/relationships/slide" Target="slides/slide5.xml"/><Relationship Id="rId81" Type="http://schemas.openxmlformats.org/officeDocument/2006/relationships/slide" Target="slides/slide6.xml"/><Relationship Id="rId82" Type="http://schemas.openxmlformats.org/officeDocument/2006/relationships/slide" Target="slides/slide7.xml"/><Relationship Id="rId83" Type="http://schemas.openxmlformats.org/officeDocument/2006/relationships/slide" Target="slides/slide8.xml"/><Relationship Id="rId84" Type="http://schemas.openxmlformats.org/officeDocument/2006/relationships/slide" Target="slides/slide9.xml"/><Relationship Id="rId85" Type="http://schemas.openxmlformats.org/officeDocument/2006/relationships/slide" Target="slides/slide10.xml"/><Relationship Id="rId86" Type="http://schemas.openxmlformats.org/officeDocument/2006/relationships/slide" Target="slides/slide11.xml"/><Relationship Id="rId87" Type="http://schemas.openxmlformats.org/officeDocument/2006/relationships/slide" Target="slides/slide12.xml"/><Relationship Id="rId88" Type="http://schemas.openxmlformats.org/officeDocument/2006/relationships/slide" Target="slides/slide13.xml"/><Relationship Id="rId89" Type="http://schemas.openxmlformats.org/officeDocument/2006/relationships/slide" Target="slides/slide14.xml"/><Relationship Id="rId90" Type="http://schemas.openxmlformats.org/officeDocument/2006/relationships/slide" Target="slides/slide15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dt" idx="2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 type="ftr" idx="2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 type="sldNum" idx="2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C122-862E-481A-AC50-AAAA7C82C8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14A8-5236-4924-9C31-9A3DD16541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A16-3B23-4995-82EA-82E37E2E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702-FB3E-4A5C-BA7F-11DF6E6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0FAE3-075B-4722-927F-B5241DC5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A1B77-D40E-4837-BAC4-08127FD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F56B5-690F-4002-ADD1-8668BC6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D2F32-C05B-4ABB-A31F-69DEEEA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F660-23CA-44AC-B88E-EE4F427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CFA3B-58BE-4F49-853F-1A9673E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3245-247E-49B0-94AD-742225D1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2AA6F-522D-4F10-92F2-2623C3F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35B90-B5B7-4695-A5DD-6FE90D0A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46C06-F993-4E16-A9A7-F2B6901A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943-25D2-4A29-A667-370A0853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23B4C-83F5-4416-8D92-4A48F9F1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4516D-FB5E-4AEE-B57B-0119D18B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330C7-9FA2-44CA-B776-5165E9F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4121C-3F63-45F6-AFB0-BA6D2C7C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1FC41-2ACA-42D8-B300-1375A149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55EC8-2BCC-4986-8DD7-C500DE6F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47B4E-0A44-481D-8666-4E528DD1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5E0C3-312D-4897-9BA5-3DDBAA7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131AE-96C8-46CD-981F-A098465A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B8C90-EAC0-4932-B586-41C5CBA2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D23-B730-4888-8DFA-1BC319E8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36D7B-85E4-4C28-80E1-BAD83F86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B941C-88BC-42FB-976B-44D4E19C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BC43-AE58-4ECC-9B05-A5355C3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2BE77-FDFF-4457-A04D-CD7E9764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AA577-85FC-424F-895F-32BDE422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E8F17-EB5D-4A69-AAE0-E848DD9B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C5AD-5AE1-44D8-B475-E67C705A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1EF1F-0783-4445-9C39-37E0C30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67E53-AE62-4035-96AC-C6E247B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72213-F640-45C2-9B5B-F5C0AE3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928B-D365-4F16-B483-7E35F11E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514E0-7BB3-4B1A-A257-796B61C9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791CB-E220-4CC4-BED0-D6D6BE1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4DBFA-1307-41F5-8DC3-987991C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CDB7E-D771-450D-8FEA-265973C7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2094B-AE8F-4A5E-8827-1803ADEC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CF92E-B6E6-43A6-9E49-03B527C3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E340C-1F80-4C15-A559-8EF77FF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9F95C-3BD5-4476-9F50-248A23A8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B90F3-137A-4A92-9DCD-39AEDC6B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3B3A0-C72E-4672-A2C5-E9E13407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D09-3AEB-44E1-B89F-C0C9AC2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278F1-E8D8-4575-9AED-BB0F6089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A0FA-CBC4-4A20-BF30-C8F83A36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3C75B-4982-44F3-AE89-1D639173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1744E-5E05-48FC-B24D-5CC2F503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69B9C-BF0E-463E-A4B4-9E703405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81EAA-3757-4B02-BBEA-1571F2CC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5C14F-7D71-45A6-A1D5-7C516301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5CE44-9B51-4C6A-853F-BD172D5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5D480-679A-4983-873C-8A55EBB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F879C-FBB1-4885-9625-9973324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8147-8D5C-4EF1-A047-5FFB419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5A87E-4D0F-446D-8CFE-2997443C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6440C-D767-4B85-92B1-41E2780E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474BE-90FA-4D7B-99D4-11D480B1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70B2E-17B7-4326-9327-AD4DE955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B1B5B-64E4-4227-A259-9F85486D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33166-AE0A-48E9-9735-E4062ED8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448F6-93FC-406F-856E-F36CD66F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45F26-127B-4784-BFAA-DA51794E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B9FD3-D8C9-4118-A2AD-3E02B519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18B27-3F74-4238-B1A4-7E1FD7F0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804B-C3E4-48F3-A7F3-5BF46796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A36B9-AFC7-4EB6-8690-92D51498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960BE-1A40-4D2A-837F-7BB8F0CB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795FA-5FF8-4B37-B90D-2234C6E2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04468-5D41-493E-9754-85282158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BB703-F421-4CD2-B2F0-DB0BDF4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45B3E-49F8-475B-A665-9C918F1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4C83C-2055-48F8-9E4F-4D3AB463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4563A-0D7D-4E2A-A834-CEAFEADD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E898C-4D30-43F0-AA04-EB9FCE29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550DB-1571-4976-ABCE-EA9CCFB0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97D-4C36-43CE-AD91-C4D4730A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859DC-7909-4763-95E8-28A69C2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70F39-36DB-4939-8A2E-58D69330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73620-8B51-4FD3-95A7-711E51CC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7BBB7-2688-4AFF-8F2B-DA1A708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DFF3B-334C-4D0B-9D8E-94D6AD4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007B2-BF41-46BC-9EE2-D79B7E2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EC9B0-1935-4EB1-9F09-9B1DB10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D26CD-ACC9-419B-B559-2C124A6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0B4DC-EB7C-4AB1-89D8-049860D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3A245-4031-4666-8EC5-0BD821FA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A534-9A03-4319-9BFC-51C3F98A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711C8-67C0-4618-9789-27B6F74D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50467-0B8A-4CB0-B4EB-F4FAF060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7B690-3290-487C-A3BE-1B1F146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10808-F46F-4042-92CC-EA55194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9345C-FD14-4F60-81EB-CE09D479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5DD72-542D-4BB8-880A-E82A727C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1C201-50EB-4D18-88BC-F152DA39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BAF1E-EE0C-4EF8-81DD-1A85683B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B31B7-08E2-477F-83B8-B1A6B29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98F2B-94ED-4B33-9207-F7255E3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DAB3-491D-402B-87EE-B4B44D58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A6837-B948-49AE-AD0A-9EF81582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1A364-B487-4FBC-853E-F2C92E3F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CB62B-EE61-4E26-BC53-A7B3DAAA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6F0C3-2EC5-4B25-A1DA-07E69829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E4A03-DDE4-417E-9B8A-942FDB12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31255-8CA1-4A6A-91E3-6784D30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576AD-91A2-410E-9E47-C243A5BA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2A90C-FEBB-4319-BCAA-4B55D8ED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7BC37-0CE9-4383-A51E-8B0CBD65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83A31-5A81-445A-9239-9517A752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625-10AE-4006-AA72-07C03D9F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C110-6A74-4657-A409-27B90C5F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40477-BFA3-451F-9423-19414A9A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08EB4-F1E5-4415-9B63-C7C076A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FE7EA-0C78-4D85-8BCC-82D1F5A7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A13CC-F0C7-42D7-918A-7E0C0FE3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DAE3D-8EAB-4B43-A88B-26D1C1C1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01F87-8D9E-4129-942D-0E5ECFAA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6E793-FA32-480D-B69D-159DED51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E67F0-FC46-4C63-86E0-E4D10F0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A154B-FA55-4779-9ED1-714CB22E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9303B-5935-4EAB-ACFC-E5C39529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96F3-3D19-48FE-B087-2C6C86E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C300D-CF1D-437E-A738-625D8F0F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7AD1B-38C2-46BC-8A74-0BE7D64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551FF-5AA9-459D-B869-50CE853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50F71-890D-4DBF-9D54-B5CBE67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2BA4D8-577F-4512-BAF0-B5B3F40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A4535-36E3-401B-8ECC-7F525E0A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46435-5D46-465B-A416-6CBE0538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120FE-4FD1-43D4-8C7E-0012211A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D5E6A-9952-4D32-B96E-75592EC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3EF58-FADB-48CA-B3E7-BB761F7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61EB-79D4-4B73-AC51-3863D47A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33717-F9B3-4C06-B80C-056B290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DBE05-E122-40A9-807F-07E31D81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2DAC8-D6DB-406B-95A7-6A33B3D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CBFDD-EA14-4CB4-B682-FE7504C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0D90F-8B28-4311-860B-F9A1F6D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7AD352-5922-44B9-A711-192DB9A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2E43A-0328-4B1B-8EC0-5DD0FF4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9693A-995F-42DB-ADBC-B8E7BE55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335E7-EBE4-4A29-A485-0DEAD6EE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0D63C-D5EA-4B5D-9F14-CF96BDC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6BB9-8C61-4EF5-B679-A5F21609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1B171-B7C1-4618-A573-A19A81B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7F453-E79F-4C2D-BEAA-89762FA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7ACFC-C3C9-46D2-BFD6-1BADA565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A77C7-51AB-46F0-8A71-DE29418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B5BB0-909D-4EA7-840A-A5B02BA4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BBD605-0388-4BBA-A566-E8C9073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8AE9C-8B0A-47DA-963F-E4BAF12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10BE8-8A18-4C00-9557-4893499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0297C-32B6-4B03-8444-A62CA98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D65C0-75CE-4E37-8844-FEF5E641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D2CC-5193-42E7-A895-65F0B310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43B95-E76F-4054-AC57-FC9CDF60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3F936-2B71-4508-8B97-A3A0275F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E1007-00A4-4E0C-87CA-92757A63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E04BE-651C-443B-9D04-A750C358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96576F-70DD-4DB5-8555-F63617C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78DCF-AB0C-4921-B00B-20393ABA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A0AFAF-F59A-4283-844F-8323139C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62C08-E23E-4F4B-9C9B-6EB26E6F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A835A-C986-46B6-AA9F-95F4657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41024C-A47F-4B06-A84E-009C89B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C317-48A2-4BD8-AF06-5F5A039E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3EC2C-CCD4-4B4D-BA2D-2F0AABA3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5E33CC-F77C-4B62-8F3E-50F1371D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5DCD2-8C13-4A46-9644-D162E5DA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FD632C-5186-4062-BC27-E7B5A031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C348C1-95B2-4D63-B91A-F899322F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04055-89E8-4142-9405-4C230298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9D2E9-7725-4983-8FC9-FB8F8E63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ABB32-45A4-494E-B685-7196992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339989-A529-4521-BFBF-F60987E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38ACA4-9B45-4A08-AC2F-B1CD10D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3ED3-3424-40DF-8800-6281809A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F3068-09AA-4C5A-B15A-7742896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B3AFB-0ACF-4FAF-B9D8-CEB28A1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A284F1-EC4A-486A-9C3D-042E29C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AFBB21-7525-457D-AE15-DCB63A2F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BF63CE-ED45-4D11-889B-7A2B347C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0D1BF7-BA61-432C-86C2-E8CFDB02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6E17DC-0764-49E8-A299-1DF54F8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9E1ABC-970C-4204-BE9C-0AFFFDF6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A31664-9663-446C-B210-CEAC9D0B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B0751E-BF69-460C-9F32-E402707B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3FA6-FD73-48D9-B047-A933F867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A98721-5A7B-4D05-8CAD-BEDA19F5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6A3E55-BF85-4F43-8D30-4DCBE4A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E6933-BAB5-41E2-A561-DC33382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4561D3-6B2B-49AB-826B-B9F2E97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0EE14-6A4C-48BD-BFBE-2E1D2E41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2231F7-DACF-4462-B57B-A5C007DA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25AA7F-62AF-4786-AA6D-7F55C70F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E3A92E-0B44-43D3-B41D-EC6074C1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C83439-1506-4E1C-99CB-11D320D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247491-2A54-4341-9447-1FB44C67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9229-97F0-4F24-9069-99852B71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85AE69-3FB5-4666-BBD8-F5BFF90C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F52E7-9FEB-4E16-A84F-EFFC8F24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9924D2-0DB1-43F0-B6AF-410FC79B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92575D-8128-4A06-B91F-2A271C93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DEABC2-5964-4C95-B41F-21A8272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B3B41E-55CB-469E-87F7-AC4E5CF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679643-21F1-4105-ABC0-DF9A915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3B7CA-5470-4313-B623-472DF1A9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14029-5085-4530-BEDC-914648F2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F66C34-0EF7-46ED-A3BB-CC9B94CF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890E-BF2D-4E39-AD70-63638EF6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4D15BA-8297-4CC9-B21B-20EB5D3B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9410C3-F868-4317-A2C9-A015A72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B79AB5-9C19-41AC-802C-63C3EBDC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17DD8B-18CA-4B65-B861-DE1A2343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7E1211-CE79-45A6-BC97-BC31DD11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315C01-BBEC-4654-9667-B6F31B0B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102D49-0655-494A-8AA8-55B9713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5A5F57-E48B-4777-8523-972BD9D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1BA480-FD5B-46CF-8E7A-1C7D284F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FEAC49-FD13-4229-9135-E8CB7441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A27-F182-47AC-BEB6-4B79C171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3F55-D8A8-4B4F-BD9B-6515DA57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A820CB-ACF8-436E-B3D7-43B05984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252C7-A6C8-4273-A81D-E33401C9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6E43DF-4289-42F8-9BDB-DF0FF105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3852C-2010-40F4-9D04-ED4EAAD8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EE2B39-2FC8-4E54-A14A-9DD49AFF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DF47E0-0382-470A-85E6-055D4AB6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B86A76-5804-46C1-B26E-0046D7CB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E3EE66-6BF6-4B42-907C-BA4448A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028B25-9056-4EEE-AC14-47F73A88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4DBB12-7D0F-49BE-98CF-5220C3F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624BE-3DF6-4586-8217-FBB245A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0D4DE-B66A-4DF9-8F5E-B68F7A5B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700063-7641-45C3-A695-4FF3BACC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FE4D33-0927-4C37-9C40-EBBA0520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E659CA-EF3C-4879-A110-54D76EB8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21B733-891A-48FB-B75F-86C5627D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A3F26F-0DC5-40B2-84C6-59BD95CC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231FC9-FD24-430C-B921-B84FEA79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764B99-9EB6-417E-9DC2-1C7F7014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1ED73E-2385-4482-BBCC-2649CA1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5392D3-11DC-4515-A706-166BAA0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F53F-9FF6-4479-B837-7FE3BD0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35C7A7-2C39-4A98-B27E-7A9CE3C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7FA5B5-CE1B-45D3-8FC9-9235C7C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5AA37D-98B2-4EC8-97C1-85F3D400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88A555-C373-4EEC-A75F-9B9CE75F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188DA7-BA9E-4EE9-8A90-81E7BEF5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AC3192-28AC-4667-A7DB-DF20BDFB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584201-7CD3-4512-B606-334DF00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CA7E0C-35FA-41A1-83FE-C71F7E8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1EA36B-23C9-4860-A168-A2B4CABB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31DD57-9B21-4C12-BAD7-59CC9923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EADC-BCF0-44A7-B0C7-202F57D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443B92-6117-4B89-954F-AF2B7476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92A4A3-F63D-4293-B955-389C05CB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86FF57-6237-4122-9E6C-D2A345B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FA9ED3-658D-4C34-99A1-7DCDDD6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C8FB74-D0C8-42FE-97F1-AC5C34F6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E1E035-2EB5-43F6-AA2B-83219F39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490B3-6FAF-427E-A067-844032F4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57CC51-8225-4B0B-BFD0-B9B59E26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BAD265-ECD2-4D4C-A278-44D0E92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8ED0CA-EB64-4BF8-8331-85C085D8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8645-21F0-4DE8-BE61-E2AAE37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172BE3-B185-4E16-90D4-DE4B47D6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931C88-091E-40FD-9DA6-5001A0E7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3A2288-0F8F-4F5B-854B-0B208BCA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DDE4EE-8EEB-4C5E-88E7-6A331491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7EF878-0B64-4FBC-AE98-68FF84B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51DA11-176C-4ECA-961A-22E4B68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5F933B-C8DD-4081-B5FA-26D920F8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8A24BF-729E-48A3-B874-D2FA8921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7085FF-79D5-40A5-A060-7FC254CE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9DEFCA-1420-4DB2-B140-1ABB4AA4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4A0D-59AE-41C3-A986-EE14361D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768F24-ABCE-4738-B156-8CC36851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15EEEC-3B3E-4B5A-8BBE-7C641F0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498478-9838-4ACF-A447-8CF6CF5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C9A8F1-6804-455F-80D0-EC5C5F15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9189D7-D499-40B7-9277-284F95BE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818954-3B7C-41E2-ACFC-D752CBA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BE8728-492A-490C-9457-2474860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BA5C8-FBCF-4C4B-8B9D-575BD1F3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8799B4-11A9-46D4-9E68-D406505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53E9E3-DBEA-4D8E-9611-145185B0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307C-E664-4BC9-81FD-5DC9FE6D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E2E1B8-D513-40E0-B842-0F5E30B4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28F6FF-28A5-4929-A023-EC6D9F48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21F5A3-5242-4065-8162-A75244C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1A519E-59AF-4432-BFB8-7D9F5F2D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4EB8A5-2F69-42E6-8005-EAC717B5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FE74E4-74E0-4488-903B-DF88E1AE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B0C0AC-AB48-45F0-B132-F454D59C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9FDDFE-668D-4AF7-B229-820B389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EEC8F2-DE63-437C-B5CD-C1EE3E1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099F4F-DDC6-4C8B-9B47-681D4342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0C85-9193-4719-B1F2-2D769F8E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0F7C94-C9B6-4D0B-BD9C-8258D253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AC99BB-1C24-4E7A-AE5A-25F556AF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041908-8F7E-459D-897F-F0FEAD19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43D6F8-E184-4E53-9044-764F33B0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68B19E-2139-4671-9BC7-6210F951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D67892-BB6A-41BF-8080-7EBE024E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3B5BF4-EE31-413F-A7E9-AEA3B5D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944FC7-6E09-4E36-8658-80B797BB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492399-F939-4352-BF68-7EF90E93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2FA3D6-80EF-430E-B132-AF5D7EE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3D82-8C3A-4CE9-8579-1F62188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AF1923-A504-47D1-B0B8-47217B1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B3B7C4-4377-4D0D-94FA-3784AD56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5CF32C-691F-4C20-8C64-DD89B66B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0CBCC8-9D07-40EA-8C6C-4B0C6CD2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987A7F-E804-4F4E-8387-34A38589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F3272D-04EF-49F7-ADCE-19BB3188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97374B-8C73-4E3F-A034-F3A1CCB5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6072CF-DADC-47BD-A8FF-5098C429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ABF852-1A5F-45FA-B263-274BD5DB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61C853-F91C-4FBF-8B07-1F854E5C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F898-A57A-498E-B0D3-F8D2EB3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71622C-57F7-4564-B5BC-DDCE8CB6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5BAAC4-E258-41F0-9B49-62008EB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AC9AED-CEEE-4CBA-85CA-DCA6F55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157711-B331-4EE5-BAD1-62F26017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617D29-ACF6-4B59-8A16-18A259A4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1FE6F4-0080-4BD4-B5B5-CE8E1C5D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AF8C2F-9DFD-4CD1-B8A2-C42C3076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846D6C-938D-4DA8-B07D-3B6F1AFF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A92042-ABEE-4A80-8DE8-306DDF3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F34234-C747-4128-95F0-EB1B10F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465-AD09-47DA-BB58-5B58A652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43AE-4F92-45E9-9737-8FF2F3B0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2B835E-1D18-4F78-9023-2D6D6DAD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C9D78E-2D32-4870-99DB-71EC60F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642251-5825-4FE6-B6AF-719DDE0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176B59-8CD4-4A62-98CB-D47B1018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6F035F-45D2-4C81-BB63-E9EF9E57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226A3C-BAB5-429E-8C4F-6DB9581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BE6A20-A79E-472C-BCBA-66C18E4C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2EB7E1-D13D-42F0-939D-EFB2B87E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88594C-2FBB-4121-B662-C3B047B1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E6D013-A9F6-493A-ABDE-A9C38B94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C7AD-A93C-421F-B4BF-739F3F0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C2D9DD-8D31-4B0D-8047-A5F55B0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6B0789-076C-40F9-BCB2-DC231C1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5DAD4A-06C8-4AD0-8E61-04C586BB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A39E5D-2B81-4EAA-83E4-26C02982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90D319-6BD1-4D74-9FEC-3C47896A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69D256-B51F-47B5-9E22-CCD7126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B30947-AAC8-4073-800F-37D5DA6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5F1C73-AE06-4BA1-97DF-4074F44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C5DEDD-913C-46EF-B485-9E47380F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D9FD10-121F-4F75-9C3C-F3C953ED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D93D-F0DD-498A-903D-7BABAF3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7C1F81-29B5-4AE5-895F-728AAA27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549EE8-A330-481F-B098-106AA0DE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D41219-8079-4496-9F70-2B746EE5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8D7132-C2AB-48C4-81D2-87955B8B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FB2A7C-65A4-4594-A53E-2BA1231B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0CE611-5F39-45CA-8F24-7A880B9E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A88073-3CCF-433E-9EA0-8660F018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4A7757-0399-448D-8ACC-5A7D383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AD67E5-36ED-41C1-9BD9-6BA24C92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E1819F-31BF-491A-BF9B-58E8744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54DA-88FE-4D3C-B426-40501DE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6B65DA-34FF-4D36-A08D-9C73B1EC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24113B-91F1-4FB9-A1B5-1BABB50D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3A25BB-3019-459F-A868-ED6F20FC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17EE8D-162C-4733-95B0-F08DC4A6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4E18FB-28F5-4B34-B152-7C99E450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A5A080-95B2-412C-B420-0CF8A7C2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F6AAB4-F591-41C7-B0E4-45A26BC6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586388-D8B8-4C52-BEB1-5E9997A9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4F96E5-92AB-4CA7-A91F-276B33E8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B629AD-6D45-47E9-8C98-863F5212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E2B1-5D0B-42E9-AFE6-17E0AE9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35405E-9C93-4153-B17F-EA313F2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051B28-B7A4-4108-BC94-DA0DA0E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FB5DA3-4BB8-4316-AFAC-76570B43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DF3FE6-4321-4CF3-8169-4B27D404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097142-1CF4-46F7-931D-1AC969DB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84627C-F8A3-4440-B139-F30212CE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E0CE85-F4FC-4C74-AA11-D616BCF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CDF83A-D9A6-4588-B938-557E92DC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202096-2418-47BC-8A9C-FD25430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902BEE-09BF-46F6-AC40-3CA56CA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4B8B-2621-4526-8D73-1AE745A4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697744-B7FF-44F9-812A-D8D48C9F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0032A1-6DFD-46B7-B06C-20065C1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1F3B9B-7CF1-461B-B4A3-7474EB7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627D04-99FA-409E-AD23-320B03F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1CB8E5-F763-435F-BD4F-25ECE2C1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8AE3CB-AC36-463A-83E9-12269CB3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C58E1D-DBAF-46F7-B164-C35731AC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B1A2EC-F221-44FA-98FF-61EA9758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A9D319-7178-4049-A462-9E738DF9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DC67C3-A158-43A7-BA71-DACF40A4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CD3A-DB72-448C-93C4-637B37C7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BA9E8E-BB05-40B5-BBCE-F0F7A86D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A51CEC-E2F7-4E17-9445-3321397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43C655-99D7-4E6E-89E8-09DD8E02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AC24B6-8A68-4BD1-B508-83A73C5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4C9CC1-5B13-4621-B02E-CC2BE2B2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176DBD-41DD-49FF-822D-717C465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10D94F-D106-4068-A8C6-B54E48D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355CD9-F8CE-4C37-8FF8-CAB1B62C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F72D88-D325-43AA-B419-1F5797E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B1C568-1B6F-4270-A3F7-EB67612E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AEC58-009A-4204-A76B-18F838D6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F144AB-1B71-482F-9FAC-9BF4B59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4FDC4D5-366F-480B-930F-E50D003F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26107E-2529-4420-BF0D-38F3C39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FAE945-B1CA-48E7-9756-12DD1159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E3A24B-C393-45BB-AD96-006E31D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AE14C0-4E90-4D63-8B2A-55A710C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B4B535-8B7C-4741-9542-DCCC04C4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907396-87C8-4A39-8A8A-EEF4394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F487FA-7BEA-41D4-A815-48AFF8FE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E54E531-25CF-4A54-ADDD-D4E50BAA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2EDC-8F34-4D42-A8EE-F18985D2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1A1235-1406-4FB5-9039-AADF1DC0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B4651A-1C1A-48C4-BBB5-155A0769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45E5A2-C164-4A59-AF9C-9B81197B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0B1FD2-8B47-4920-B570-7D90395A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077B97-0954-4AAF-8B6B-BA1437E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6AAAE4-4508-487B-A071-ACFF4BE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CCBAC0-7B71-476C-9FD7-3F62B1A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932E12-43F3-4143-9B98-19BB2E24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85CA2F-8F36-434F-A9E3-034B530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4C3698-B300-4BD4-BC49-DDC40DF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9704-3454-49C6-A979-EED1EF29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B07EC9-7A50-4768-90E3-81BEE701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F65B12-2BE3-4C0F-A465-028DC456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481D27-8753-4F20-947F-BF3412A6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593564-F198-4EAE-9CE3-135702B7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B87716-B09F-43E8-B2FC-F2B215AF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3F5C70-E4C9-477B-8B7D-E84BC1C6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557424-EBC1-4E68-922E-97B4016C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90FCDD-EC45-4A92-9529-39B278BD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72311B-910C-4ED0-AF58-1DA0EF88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DD111F-EECA-4AA0-B5FD-595E7230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144-C5BA-401E-8EB7-14E95F45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C55E-AA96-4B62-8828-05574E6F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43245D-4275-4F13-AF52-52C7009D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4AF24E-7AF3-45D0-994E-01BEC62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DB9C36-56B2-4EEF-9940-ABDE26F6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3780AB-95A3-4AFF-B7D3-155F4B1D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077CDE-BE3F-491A-8D5C-0020DF51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A0D62A-C710-42E9-97C0-34DDEFD5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C0D519-3B2D-447F-8D5F-B81906DC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215AE4-9337-4D67-B5BD-A1709C2C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311F24-86C3-43BB-BB83-10F678D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7FE4B95-C5A3-4106-8DCB-CD9DBC3B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95F2-FB50-480A-BAAF-59DFF740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2BCB49-92BE-4046-A581-977CEFFB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3CD928-33E6-4B6D-851A-6429706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D98895-990C-468D-A141-781776C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AB5B63E-93AF-4167-8353-094DC2AA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6799AE-2615-4B75-A972-11B3346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01C621D-4063-426C-A5B2-32C7B3F3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7E51C0-F480-46B6-982C-3B816F1C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14D30B-1022-49A8-A74E-3B794161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9BF272-13B4-426B-A73B-14BD640C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2305AE-D157-4B4D-8DB4-3D2D4F9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FA4A-894D-4A90-96AC-94D04A92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BA40A2-B153-4463-B765-5697CFCC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5354E5-BF7F-45E3-9112-FBFF4FCD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265095-8FE5-48C7-8A6D-DB4DFB9E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4EFA64-23BC-4AE9-84FE-22301B76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F05131-EC2F-45C4-84BF-C16C8983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800E96-8DA4-4F2D-A2E4-4363DEC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F9040C-BEB5-474C-8F04-15F8D3BF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95C3F5-60F3-4956-A3F7-389524BB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23DF85-CB18-4B8B-B994-6894768B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82FF979-437B-4ACA-9609-5FD96020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05EE-D930-4C6E-B12E-67A9FE3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E7BC36-5D3A-42B6-9557-8B3F3BE6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E91DF8-BE4F-4162-908A-C8D8B21D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FA9283-02BC-48A5-843A-2B4FC6A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4F48982-8005-42FF-B5C7-FFDA7FF0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AF095B0-D0B6-4A27-B1C3-8D00070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827CF4-086F-4FF4-8EA3-5358ED9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635E0A-F488-444B-9C40-8F6DD6B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92ED92-AD9A-4F6A-9C5C-24D631AB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078F7C-35BA-45F9-9A97-CB4C0C0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B01AFA-AEFB-4517-A3B3-2CA4BF9D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41DC5-5C0A-409C-BA46-D1A5DD0A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8C94D4-D202-4A38-8B2B-8A2A70D5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71CBE91-DE9A-4A24-A0F8-CC4B35D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C5E172-D366-4BAD-B118-D2F6890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D8C2A9-8E77-4704-93BB-430124BB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38AB19-F46E-4730-946D-472A792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858144-9D08-453D-96A9-CE9D96A4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EB6DCC-1FF3-4022-B627-14DE8D8A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883D46-6789-4308-8C18-D48BAC5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9802FB-6A22-4C1B-98E5-333AFA3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698F87-BC85-4AB7-8D31-1A16BC46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3B52-46EB-4E1E-A7FF-1219C70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278A53-F5C3-4301-96B8-7115EC15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9F7246-70F7-4DE3-8C78-FD3117BE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0907CB-7682-46E9-9E9C-17FA2DD2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39AAF3-5BA6-4AEE-B4F1-85F97530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E18E32-0A36-42EC-A481-8CC54100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2E4C0B-E4B0-4872-8748-1447A862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4E3A28-3284-473E-8B32-4C6D7B9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CA6E9D-2951-45BD-BFFB-EC733CE9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B5C873-B07B-4A40-85D6-572AE2D5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7C11D0-B0C7-48C5-BBFB-BB4CD7C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7F35-8050-4CFA-8B00-8635A2C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09BE8C-F20A-4621-B3C2-0DDC366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4861E6-CBAA-4F82-A692-6E0F470E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B5EB77-F07C-4447-9B19-9474F86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853EF0-E4BA-48EC-841A-355B3A78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3A19EA0-4E00-48AD-897E-B538157E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2CCB95-6C40-46DD-B72A-13E7B312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0B6016-1315-4360-8A44-0D52BEAC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7D3C78-3839-489A-AA78-77450F73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5DE381-28CD-413C-9816-E90C0961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370E57-934C-4AB1-B79E-B5EACECE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4932-A74C-46F3-8ADC-0785D23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23E3F2-CAC3-43FA-8DD7-5CAB0C8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4B505D-C12E-4B1B-9408-D07E187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57DBB0-316C-4DAD-9B52-5A2B7B6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6F8E59-A3D7-462A-B3FA-85DE81B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696A08-3900-474B-ACFC-6345664B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8BD03B-9C80-44DF-A4AA-15C3B27C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8583F3-EEBC-4530-9D61-4CABD488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89A0CC-3EA0-4DB2-8E1F-3D7AD165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CCCD96-25D3-4231-9511-4FEDE72D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D5E1FA3-5D91-4130-B1B6-EB3A9568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900D-0F6A-4874-B17A-EC5FBE9B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8C2C24-3F2A-4AA5-9E3A-137A1491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4C619E-A3E4-4087-9917-907C40D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6034E37-165A-46AA-A5A4-E0E39957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316FCD-21BD-4AA8-9214-8D201D76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734FDE1-FAB5-4D72-A7E9-5E7CF2F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202F51-FCE8-449C-BF1B-8DF6412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59E07F-D188-4294-8F20-C9F4601B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E781C2-E057-49A2-801B-7ADF9E18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7E85E0-DD22-41A0-99F2-D7065860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E0034D-C0E6-4BA7-80C9-F9ADDA14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AECB-D3A9-482A-8701-ECEF702F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775844-51F9-48CA-9CBA-2CB09211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A937B7-D9DF-4205-9FBF-DF957978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C3FDDF-3672-4713-8950-0A27C32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1D07F67-8074-47CE-890A-8F4DAAA2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5490097-2B5E-4E0C-8788-3DB4674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73D28C-B635-48D9-8813-6124B80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495673-2102-4EF3-9520-DBD359C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CA8D88-A96A-4DE9-BCB7-CC49A99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7985972-CE47-4FB9-9E72-01E210FF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5B5DE2-9F75-4D39-B849-1DE1939F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5F9-B000-4ACD-9198-D577067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170D-2DB0-441C-A7A4-211AB3F8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6433F00-E27E-4ABB-968A-6CFCA0F8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D980CA5-28B3-4005-93CE-6F922096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0ECBCF-B4A4-4C8C-AC12-AF3B9EFB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4C9142A-7D82-4CEC-B547-0BEC53EA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917771C-8231-47DB-95B0-F80FFC1F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1A4A644-E591-4223-B960-7C4B0972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507E72D-8C82-4494-BDB9-42F904B8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63B9EE-E59E-493B-88BF-7D0CE82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9D2FB6-7A62-4A1C-8082-86EB6A9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B879B7-6B13-4810-B8C1-55576EE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5B66-F2C9-4B68-BBEC-7A3D85CC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0725590-7713-4D9F-A5D4-CBB9C9E7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0E3060B-04EC-440D-A23C-E573CA94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2D43F9-B3F0-4A65-AF7C-BC2FBC03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1E9E42-1390-48F3-ACAC-DCF9C2BB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1565934-E17E-4796-A214-3672B504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98C33A-7D4A-4A7B-B037-5E28B4D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D8B620-2E04-4295-835E-7CB298DF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B18D82-E982-4626-A622-D77B528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2237C8-EE5F-4CAB-9580-646385BF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E5CF82-76A3-4B0A-B77D-C8A1F9D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B8972-D5D9-4386-9D55-9436CC30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6ADE4EF-DDC0-48E8-ABB8-5A8AB6A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610645-8D5B-48A5-AB00-7767860F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11B58F-AB5B-4791-8333-EC20836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D747EAC-F9D0-4678-9A52-E5F420B6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AD7D88-26C3-44E1-B1AD-424E4103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7AC3D0-F766-4A0F-AEE5-92148B51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CA36CAA-ED42-4DAB-9497-68E9966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EDA3A71-E5E8-46E0-B1BA-F0599430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8FB40C7-2A20-4C79-90F2-00CD4CC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64E8639-615B-4D25-ACAE-A877869F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52AFE-6C7F-4CE3-B517-A260AA6F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306BBF-51C0-46B7-B283-DFF4DE94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B623DD-39BB-476C-B031-BAE29A1C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435B65D-6B64-4D4A-8115-0D6F99B4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39C0B4-83AF-44B0-8B77-50C03179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B1A03F-5B5C-4694-B591-A3FEF1A7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3C76282-CC3E-4E5B-B482-B3602704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DD723E2-02B7-4883-8282-71EEFD37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288474-977F-45F3-ADF0-ED5FC70C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1812BE9-F49E-4F4F-8C2C-4A6DE9E0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CEFCB1-1952-4E9C-B61A-F85DDFF6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058BB-3FBE-4C84-8DB0-70C5B130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2396571-BBBD-42C4-BF9D-708A409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FC2DE7-F8DC-4B96-83BB-098C19F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BF97C1D-BF94-49D4-9F6B-7F260C58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F16130C-2159-4456-ACB7-12D17037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258C2F-7043-41B0-9374-72CD155C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EDAD5D-A159-4099-B967-0743A23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D1B860-5781-465B-ABAB-88F7A064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0F3F33-B26D-4467-BB67-0BA64FBC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D307284-7E75-431A-9D4D-EC4FD497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DB3804-8B26-4E93-8666-5C8229D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04A26-D887-4E2C-9F31-0E41DBCD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7976A51-2B78-4ACD-B1A7-C12CFA60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A10469-0777-4102-B887-FC06D57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96391B-F679-4359-8274-181D113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07D20A4-1CE2-4070-851A-CFD5EBF4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7CD9C73-1BFE-4008-9B41-7506FA61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8746DD1-223E-4E88-89AF-CB1E5E1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1CE6737-15A8-4FC0-98E0-46995C13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C35BF8-FA3B-4ED6-AE9B-F392924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CD29C6-3166-451F-BD69-E641EF17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8C658C-7883-4C9F-AFFB-71E5CD26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7CDD-1C56-47E8-84A9-D7F9579E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85FB280-6E1F-4358-95E9-BADB8F86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B8A9D33-8C65-48A2-8496-F55FA857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85225F-3703-487B-889A-2B3AB8F6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74BAB0-0697-45B7-B4AC-D3E20EB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951D7B-26B2-45DF-987C-E4FA12E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ADAD2E0-7B20-4FC5-84FD-E385E11A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FE08BF8-15B6-4333-8611-29F92CD7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86D876-2979-46B9-9A75-9C02F16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2ED75BF-236A-47F1-9DD0-D469577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2EAC78C-746C-43DC-9800-7E00124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106B1-E7DA-4C82-9F36-AAA50A6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331CF6-6AAA-44D4-87C0-5B507FDE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3ECE97-2463-4F97-9430-97B5FCC6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C1F8B6-96A6-484C-9602-E6944C4C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2D73E37-C697-4094-BD87-ADBBF26B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FABC2C-D17F-4819-9FCA-38C70C4F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A35543-F752-40B0-AAF3-A43B82F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742348A-6544-48AF-AC23-3EC4198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F4AC0C-BA77-41DE-9801-B366E81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01C9BF6-4D10-4E84-92A4-EBAF71F2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D23D483-86C4-43AB-AD6F-C7F32D3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074A-AA78-4971-BDA5-19B99FC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C404FC4-766A-45F1-A10D-9A4DE62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358400-51FC-4281-9EFE-454D3F9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9FCAFD-452F-4DEE-AA41-922354BB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361F66A-9039-4A62-97EB-FF33B18C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A885E07-D355-4B9E-AE65-3BF14A6C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4D1DB74-B9EC-4C74-9A92-46847A42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03E3B62-3365-48E2-B45A-EEC5A6F1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7CD752-6A3B-480B-862E-5224B933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00F643-2C63-4941-A4BA-BF2F58C9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0988042-E65D-41BD-8619-F255ABC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889B-C69E-4683-B014-8E56E31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BA758FD-E574-427A-A364-E87C7DB2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3B29E9B-BDAE-45C3-BB0F-36D63A0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14053E-6AF3-424E-838E-597DF343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9237D7A-2C17-48CC-ADCE-0CB779E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0EF8C9B-285D-4922-98AB-E0CD5613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1B250C-E1CA-452E-8B59-71CA01AA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F8E1845-EA75-42A2-9A47-1B4BD8ED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26C793-F9A9-42FE-90A8-A3A1F373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818B51A-46AD-4861-8F87-8721860A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CC63F0F-45C7-4481-BFF9-2B1139C0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DF6-2BBD-4D3F-8D0D-DD6CD4B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C1199-84FC-4D48-9D5A-1D9E8B3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ABD413F-70EF-4930-AB20-628AB5E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3A6DA22-0B23-43D9-8658-D35BDA9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6B7E989-5DE4-4EDA-A430-3D1D270B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518B677-4290-4120-BD30-7C6D653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FDC0E0E-9347-4A73-B54E-02E37BCE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31BB44E-43EB-4017-980A-576B91F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488621D-0053-4CBE-92D5-4046193E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3F738D9-7635-4970-A6F7-B367507F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538B3C0-606B-4513-9F75-87187682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E9C762A-9972-4276-80B3-36206BAC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CA3F-9022-4D5D-BEA9-21AC898A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9D7AA5C-ED8D-4CDC-BC01-DF0946E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4FDE6D0-5638-4452-8693-0176B93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278E369-9BE5-40C8-A48F-3225968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5BBC2AF-7B69-4567-8BE5-115DE1F0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AEB1651-EB59-423D-9272-16381F13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77B7C2F-E15C-4B9E-AE6C-C65D9509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373028-E841-4059-9B0B-F553B686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094204A-5942-41B4-85E5-C94EF19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EC3971-352A-4E38-82CA-E1FAEDCF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DF25A30-E138-4625-8E86-5402BFBF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4B2D-52E0-4592-B44C-A2F5A3FA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DB88A24-D850-43A9-AA0E-0ACE74E6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F89AF60-107E-45A3-908C-74A28C1F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7B51E06-E583-40B8-8DC2-7AB19378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B442B2B-CBA6-4A0A-B510-6D32548F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49CF89E-D630-4384-9278-48FE85D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02632D3-B175-4983-8C99-75A1C934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A607B63-659C-4AC1-AEB8-B721159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2EDE69-8281-43F5-A461-A189AE6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0854549-19B9-4B0E-9B96-A1C6C77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FA2839-7102-4973-B19B-FD8A9BA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D4C5D-21E8-41AC-8B51-8E306434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4C9286E-91A5-4CCB-9645-725DB522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1CCA20F-9CD8-446F-9B7A-31249DF2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E0A38A3-EF6E-4C00-95A6-22805EEE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4D76B9A-92FC-4FDF-942B-47CE2D9B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BC1C98C-DABD-45B8-ABFE-26417E50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E5DCA43-15AE-4141-80ED-09436099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27F3274-95D2-444F-B042-0FAB0A4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932E6B6-43FB-4715-B4C4-697251C8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0E4AD87-E5F0-4B93-9229-743D8990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B2FE43A-1FA3-4D50-B9BC-491993D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790B-1F4B-4A3B-AE39-0C90518C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E8B9D5D-796A-4B9B-A2B0-63BB1BA7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4550E40-C98F-49CE-984C-8A58889D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A03DECC-0BB2-4B35-90E9-BD7E50A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C1EDE9A-D267-41FB-A775-A09BE65D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239F70-655E-4737-BD41-383A15CE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98AF7DB-4FB5-4293-B25B-A8463060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9C45F4F-DA25-4DDC-A978-F2912B1E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174A0CC-F614-4721-93C9-5082A007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46AFECE-FF57-4815-8084-F6779F54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01BFC49-B838-4BE5-8C73-CBE43707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9A16-3F62-4816-BED1-F7AA29C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2C0EEE2-B62D-42F0-A4A0-2683FC3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EF74CB0-DDDF-4794-A180-20E655C6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E678C92-1F5F-4200-A8FF-B20DC97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09DB5DE-35C8-4D59-B93A-F092144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F5240B3-C18C-4143-826D-59B0CD0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C60CA85-9ABB-4D36-B3B3-EADC7ACC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1945364-5371-4EE0-B453-F1009FA8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D995BB0-8CCC-4E1E-B152-F9CB09E7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6EE9658-2D90-4CD2-925A-511DE844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9FD6856-A6E1-466B-8836-DFA1CABC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7DD35-51C5-4D94-B927-19E941C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C7B34AC-D8F1-4EE7-90E0-B4A4B086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32705F7-E9E9-4FB3-9DB9-C1C31203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5FB58F4-BBA8-4CFD-8671-7200211D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606D3FB-6E8A-472C-8D1E-7340984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9773EEA-D947-4B4B-B265-57940F81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25F1BB4-D0D2-4D4A-849D-2E2D1F44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3CAD724-CBD7-4FCE-B3F9-856F5BB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32A00C2-FF6D-4B86-AB17-EDD379B3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3DC88B9-D544-4BD5-A383-3022F614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A1A0108-F0DE-4D11-AE85-399F26F8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21780-E918-4BB1-9AEB-FAA3A746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2F6C986-96BC-4CFB-9181-E6332F61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4CD017D-07B9-4D00-992C-C7BBA613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851722B-7D6C-4EAD-84C6-A4EEBFA2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1D1AD5B-29A7-486C-9B76-65FE51C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5C20C14-8557-43CB-AE43-D9C2274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DB0A9F-2CE0-46A0-B0BF-91A577E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7EF4465-D52D-4E78-B7A0-33F4E12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866B800-48F8-4B30-85A5-34DB7496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45B014E-0D46-48B4-8134-A2D14174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6020BB8-3651-44E8-804E-7EFE2E23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2203-835A-49B9-B907-346C28D2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B3A7C66-B5EA-4E3A-A78A-96A2DFCE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504BB1A-CEB7-4B70-BEAC-F5665693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F5D9E26-3B1C-4DAB-BA17-72D9A2F3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48E3944-46E7-4A90-AE95-2841E8E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2C02825-7395-4857-BBC0-297008A8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F2090B8-62AE-4D35-96DE-C0F9A236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DBFD79-2446-423C-A9A6-143A3EE3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4BF6D9-15B7-4A98-9AC7-42309F1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EBF3693-AF4E-4988-9E06-665AC958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008E748-0FC6-4D80-972C-3A77C33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9279B-461A-4803-8390-89CB655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A880E97-F2B6-49F9-9721-78F7B443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BF8399F-25ED-42D3-8C29-C49DA1B3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428B50-A294-4894-9D90-49BA1296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02A3391-5231-4E18-87EA-845FEFBC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C50FF8E-B7FE-4FE5-B2FE-FDEB06B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526F2D7-17FA-4D96-ADD7-6F77CD5B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C797F2C-38B9-499C-927B-EBF75E41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69E2BA6-72AE-40FC-AD7D-462780BF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96BBFF2-BF86-4DDD-B662-40EDC3E2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78642A5-694E-42DF-811F-833AA1F2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A08-46EC-4529-A1D6-4A15804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CF84E-9681-42C5-A817-9C487C7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50936C3-5A19-432C-9F1C-D4A8EF5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01F105F-071B-403A-A106-6FF3280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5CE0AC-AA45-454A-A773-E02AF44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D3D6D2D-8A67-4855-9F65-20A5CB2B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B56A3DC-FEF9-49EE-81BE-FC8D328D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1E390F4-A48E-4C53-855F-57125873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6E30CF5-F94F-4754-9E3B-C2949DB2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002D4B-2F89-4B5D-9316-52FB302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8B7C1B0-F16C-4760-B61C-0C30D71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2C3B5C-71CD-44BF-8E61-F240DB86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5CFEA-F286-4C6F-9B01-53A7DF1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46E374D-E3E7-47F7-A1BD-B1C54176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F467C41-FB26-4A91-AFA8-3A880ED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86B5B11-4950-47DE-BD8A-4E45E25B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B8A4F3C-4448-4F2D-A5C2-C6B4084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C47D3CE-D9A4-4691-A466-785F9EE3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35D1E5D-DABA-49AD-B046-0570E37C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F390E93-45EB-45FE-AFA6-4094C42E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BF79639-49BE-4022-9907-DD2BE101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7A5BB38-8D4D-452A-BB30-492A9CA6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06886F8-158B-49F3-92CC-4B09B549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28C45-431A-477C-BD83-A81F450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C51D6CD-D3A0-436C-950E-0330FAC4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554ACE6-3D42-42A3-9F4D-4E081C20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A3A1F1C-52D7-44EB-B1EA-0D606C84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EE14666-ACBE-4592-A1AE-2A00A38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D13DAC5-B205-4DC4-9F2B-3FE53412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F627072-255C-4B4C-A2B5-09E57F6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8B78BE5-6071-403C-A2F9-C3BF88C4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6110FEC-ABE9-4F21-BB3F-DAF4DC58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CF585F9-220F-4476-93E1-A6A47DFE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27A9865-BD95-4DAA-AFB8-1B56681A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A3E34-80CB-41AA-819B-6CC9F82E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67FEE9C-0CAA-4F10-BFFF-8403046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FE2234B-2707-46BB-8326-8510CA70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56CB0DA-36DC-4D78-BD0D-445A552F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3F46069-B1AE-4872-877F-DD57C149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316E672-4B35-461C-96B5-3AEE170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BB49876-7A65-4D7A-B832-2BDF8DA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99AB910-8EC2-4C1C-A933-F667C089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2EC45DC-9FD4-448D-8D58-64BF38F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FF50C19-3313-460A-B8CD-DED6185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DBF096B-BC03-4A36-A982-6407B24F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9380-20D1-499C-BA85-4C5A3000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7C698F8-4414-4AB7-8645-DEA4F14D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342B713-CABA-4EBE-A61F-892329F2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35086A6-5B35-4DD2-AA55-576CF4F5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1D1A091-3B0B-4078-8D5F-F6166366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8BFCB3D-0430-494C-821A-C349E0BF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09299EA-F62A-49FE-8EB3-656A12C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B9B3339-77BA-427C-A199-0C7DFCD6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7F49EE5-0861-48B4-89CF-42E7B2C1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81A59D1-1D75-401A-A818-82C23DB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AAD6DD7-8604-45B1-9076-849273BF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14026-F826-4CEE-9BDA-3B5A7AC4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5E38C5-05E0-44B1-9056-F111B3A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A201F9E-C98B-46E9-889F-715CE26C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2D80E9F-9459-483E-A55B-A36D9724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22D95D6-4ACC-4275-ACC2-2C9A90CE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0B7FA98-80D2-422B-9459-5A11EF3C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0CD2242-8D57-4A9E-AB1B-2DE19674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5D2EB2F-3092-4894-928B-E895C4BF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8DB78B6-2891-4138-8A35-3B296E0C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5EE989E-18ED-4C67-B745-ACCA8C77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DF56F1B-E36F-438A-A81A-AD85830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06CCD-4DBA-49AD-B76A-28079CBD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620544A-7F1B-42D1-8CA7-6E12462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16E214-C87C-4BAE-A224-3763A98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3FC06FD-2381-46D7-BE07-B2A09E2D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33CCD2C-62F2-4713-8F1B-4D95467F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4CFD807-A243-4760-8E03-5D6F84E3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F480214-DCD6-40BF-A918-35DF4F0E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9B9C2A3-F5BD-4C52-A0DB-CBAC4824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BFF09A7-D404-4C83-8312-931C6084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43B5705-C784-414F-B2DB-873F172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CC02F5D-2275-4E3E-BF74-5D1A82B4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4AAE1-F571-46A6-BD56-E4A51D73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92847EE-9CE1-401A-AEFF-1165AFE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28AB99F-E90E-418F-B5CF-A87C0D84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098E371-AF95-4C66-8DDF-B24AA635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7552772-8A4C-4AF9-BD26-806DC89D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E0DF487-DE42-42AE-BE55-897F2746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D7F1BA2-A236-47A2-BA18-0E0283F5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39AC3DE-3C0D-4AF2-8811-2CE6D40E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DF206-878B-406D-A665-2290ECC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D5E29-2091-4CBC-AE22-57B822E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135-4CA0-4279-B7F4-52CBF9CA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94BA6-F8A1-4629-A320-4626C229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BBC4-3E14-447D-BF1B-54D6FB07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14DD1-119D-48F5-ABDD-F56D5F3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CD2A3-DF07-4625-A1B6-A9AA6DC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1F738-7378-4C91-ADE3-C64E02D4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FDD2-E0D5-470A-9DCE-3F0EB8F7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6C845-BA5D-4903-A465-7AA7971A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D0326-88B9-4D46-8471-4D5C3527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3BD1-D64C-4855-AD5A-D6E48826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D598C-DC90-4CB9-8697-DD2B4BAA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1601-B028-495E-AFDF-28C58CD1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7077-34BF-4E3F-98EE-85F32500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AC25-358E-49EE-A729-42D686512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F59-729E-44A4-9E72-7465C520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21A8-F4C4-4720-8D61-C6110DEE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7CE7-42FA-4D8B-93ED-EFCA67B3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FB82-CA09-460B-9D57-6C00B1FA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072C-C4E8-4DA9-A65E-863A8FCD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4AF-08C1-4C1F-AE17-26594AF0F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1532-9331-4A90-90FA-C3F82E1D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096-27AB-473E-8147-47E53C33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72D2-386D-4686-BE50-6FD7F7093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64F9-0BB7-4EC8-A0BA-4D95C046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0E33-EB1E-45D4-BDCF-DE4CDCE39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044-80F2-4A07-B3A3-126C7BC9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0383-29F9-4CD2-ABA7-9A34A8DC1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6AE0-5AA2-4B42-B24F-6B3DA2B8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9C15-08CC-4503-836A-0AFE03C0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1E6E-CEC8-443D-9ED9-1FBF35BDD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EE41-7B54-4C37-9341-332E0EA0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A7AB-91A0-4C26-8977-425EDFDCE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67E7-CE26-41AF-B1F6-0E244F54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E2CA-A28C-4243-829E-D7F0B7554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4EC9-E353-4609-97C6-7F9C8E9C8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EBC0-3A05-4F42-8F87-0B004669D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3A10-2373-4DA2-84BD-A8E2992D5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E0AF-1D41-4B00-A93F-8C97C173A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A2AF-EC48-4668-864D-8E25894F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E7A-F497-4BC3-B36A-F99225DC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B63D-C676-43F5-923C-F81293924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4F7B-894D-4BFB-A659-58A23098D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2F9-AB56-45A2-8014-B6E3B5A0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6E4-E579-423E-A2FF-2A5A4E4D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82B5-D747-4A8E-B4AA-2E5424D29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BB19-F92D-42C4-8DC2-A743048A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5FCB-7665-45C8-8427-98C27780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F588-B138-477E-AC26-87929E9F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8012-E93A-402B-8782-DBB046340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7405-C60E-453C-B435-F75E23C60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21C-2D59-4734-BC3E-3F9C8C41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DBF-F9D0-4BE4-91CF-E501E46F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12E5-CBA9-454D-9615-DC17851A8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0F88-44C3-49C1-B951-C8137101E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7495-F2FD-40E5-9618-F7D47327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02D-564B-4AF0-B940-ADEC0354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051D-9E1A-4076-B275-02C54F0D4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F02A-E000-45B5-9243-15014007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182-B852-483D-8732-BE9D9D055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FF6C-1A19-48E0-B1D6-B0817824E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8325-6BCD-4263-A0FA-8237666F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748A-0E43-4AE7-BD3C-130DCD2DF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177C-7379-47BA-9BE8-01207FDE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A03-C0CE-4719-A31E-39C5FA933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0BA0-6686-404A-AA0D-58F60674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2EEC-040E-4EFD-A709-6057F8880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6B1-C366-4DA4-947A-5EB5B2528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FE94-9677-4B47-B7A1-ADDF7887C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484E-2F49-430A-BE03-DBB25E50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3164-D13C-441E-8231-2FD52BFE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F9D-46FA-43C4-AD41-8F044749B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E6B2-8DD2-4AF7-B164-7BBF12B0F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AD91-4D70-4CE8-8AB6-DD35FB339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075C-657D-4FB4-82AA-9B6498F9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B1D3-07C2-4FEF-AA71-A40903F36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37A-C708-4E94-857F-0B6943F4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1A3-A027-46FB-861F-8B7A53ED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590A-7F76-43D2-86C3-462B8741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F59D-BB80-414C-B409-74DA0F279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BA1C-4BA4-46CB-8218-6000D6C3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4CAE-EE24-4B9C-903D-829AA619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0203-2BC9-41BB-A93F-79CAF8DDD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8C24-6BA7-4592-9985-62EA14C0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55EF-A4A2-4746-A3CB-AB8E7E2F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4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代数式与方程（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Text Box 4"/>
          <p:cNvSpPr/>
          <p:nvPr/>
        </p:nvSpPr>
        <p:spPr>
          <a:xfrm>
            <a:off x="250920" y="260280"/>
            <a:ext cx="87138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电影院第一排有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座位，后面每一排比前面一排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座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第二排有（        ）个座位，第三排有（        ）个座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第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排的座位数，那么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于（                        ）。当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于（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5"/>
          <p:cNvSpPr/>
          <p:nvPr/>
        </p:nvSpPr>
        <p:spPr>
          <a:xfrm>
            <a:off x="4213080" y="2079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6"/>
          <p:cNvSpPr/>
          <p:nvPr/>
        </p:nvSpPr>
        <p:spPr>
          <a:xfrm>
            <a:off x="1908000" y="2798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7"/>
          <p:cNvSpPr/>
          <p:nvPr/>
        </p:nvSpPr>
        <p:spPr>
          <a:xfrm>
            <a:off x="1981080" y="4599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2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8"/>
          <p:cNvSpPr/>
          <p:nvPr/>
        </p:nvSpPr>
        <p:spPr>
          <a:xfrm>
            <a:off x="5291280" y="5319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0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Text Box 3"/>
          <p:cNvSpPr/>
          <p:nvPr/>
        </p:nvSpPr>
        <p:spPr>
          <a:xfrm>
            <a:off x="1568520" y="221940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设小云踢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2" name="Object 4"/>
              <p:cNvSpPr txBox="1"/>
              <p:nvPr/>
            </p:nvSpPr>
            <p:spPr>
              <a:xfrm>
                <a:off x="1828800" y="2590920"/>
                <a:ext cx="1873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Object 5"/>
              <p:cNvSpPr txBox="1"/>
              <p:nvPr/>
            </p:nvSpPr>
            <p:spPr>
              <a:xfrm>
                <a:off x="2444760" y="3370320"/>
                <a:ext cx="18842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Object 6"/>
              <p:cNvSpPr txBox="1"/>
              <p:nvPr/>
            </p:nvSpPr>
            <p:spPr>
              <a:xfrm>
                <a:off x="2475000" y="4176720"/>
                <a:ext cx="1873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Object 7"/>
              <p:cNvSpPr txBox="1"/>
              <p:nvPr/>
            </p:nvSpPr>
            <p:spPr>
              <a:xfrm>
                <a:off x="2476440" y="5003640"/>
                <a:ext cx="11890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6" name="Text Box 8"/>
          <p:cNvSpPr/>
          <p:nvPr/>
        </p:nvSpPr>
        <p:spPr>
          <a:xfrm>
            <a:off x="1695240" y="556560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小云踢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TextBox 8"/>
          <p:cNvSpPr/>
          <p:nvPr/>
        </p:nvSpPr>
        <p:spPr>
          <a:xfrm>
            <a:off x="106668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平在踢毽比赛中踢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，她踢毽的数量是小云的   。小云踢了多少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TextBox 11"/>
          <p:cNvSpPr/>
          <p:nvPr/>
        </p:nvSpPr>
        <p:spPr>
          <a:xfrm>
            <a:off x="419112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TextBox 13"/>
          <p:cNvSpPr/>
          <p:nvPr/>
        </p:nvSpPr>
        <p:spPr>
          <a:xfrm>
            <a:off x="419112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直接连接符 27"/>
          <p:cNvSpPr/>
          <p:nvPr/>
        </p:nvSpPr>
        <p:spPr>
          <a:xfrm>
            <a:off x="411480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Text Box 4"/>
          <p:cNvSpPr/>
          <p:nvPr/>
        </p:nvSpPr>
        <p:spPr>
          <a:xfrm>
            <a:off x="179280" y="95400"/>
            <a:ext cx="8785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某市规定：乘坐出租车起步价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以内），超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以外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计费（不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计费）。已知小明的妈乘坐出租车行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用代数式表示小明的妈妈应付的钱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小明的妈妈应付多少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Text Box 5"/>
          <p:cNvSpPr/>
          <p:nvPr/>
        </p:nvSpPr>
        <p:spPr>
          <a:xfrm>
            <a:off x="252360" y="4365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Text Box 6"/>
          <p:cNvSpPr/>
          <p:nvPr/>
        </p:nvSpPr>
        <p:spPr>
          <a:xfrm>
            <a:off x="971640" y="486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≤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小明的妈妈应付的钱数为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7"/>
          <p:cNvSpPr/>
          <p:nvPr/>
        </p:nvSpPr>
        <p:spPr>
          <a:xfrm>
            <a:off x="971640" y="537372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小明的妈妈应付的钱数为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2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500"/>
                                        <p:tgtEl>
                                          <p:spTgt spid="3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Text Box 5"/>
          <p:cNvSpPr/>
          <p:nvPr/>
        </p:nvSpPr>
        <p:spPr>
          <a:xfrm>
            <a:off x="900000" y="11923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Text Box 6"/>
          <p:cNvSpPr/>
          <p:nvPr/>
        </p:nvSpPr>
        <p:spPr>
          <a:xfrm>
            <a:off x="2844720" y="119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Text Box 7"/>
          <p:cNvSpPr/>
          <p:nvPr/>
        </p:nvSpPr>
        <p:spPr>
          <a:xfrm>
            <a:off x="3132000" y="2273400"/>
            <a:ext cx="4030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Text Box 8"/>
          <p:cNvSpPr/>
          <p:nvPr/>
        </p:nvSpPr>
        <p:spPr>
          <a:xfrm>
            <a:off x="1981080" y="472140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小明的妈妈应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500"/>
                                        <p:tgtEl>
                                          <p:spTgt spid="3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9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Text Box 4"/>
          <p:cNvSpPr/>
          <p:nvPr/>
        </p:nvSpPr>
        <p:spPr>
          <a:xfrm>
            <a:off x="0" y="457200"/>
            <a:ext cx="86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式子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式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方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5"/>
          <p:cNvSpPr/>
          <p:nvPr/>
        </p:nvSpPr>
        <p:spPr>
          <a:xfrm>
            <a:off x="285840" y="17146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·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用来表示几个数之间关系的，都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式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6"/>
          <p:cNvSpPr/>
          <p:nvPr/>
        </p:nvSpPr>
        <p:spPr>
          <a:xfrm>
            <a:off x="214200" y="3143160"/>
            <a:ext cx="853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·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左右两边相等的式子，都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等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7"/>
          <p:cNvSpPr/>
          <p:nvPr/>
        </p:nvSpPr>
        <p:spPr>
          <a:xfrm>
            <a:off x="357120" y="47862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·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样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含有未知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等字母）的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等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方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6" name="矩形 5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620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Text Box 4"/>
          <p:cNvSpPr/>
          <p:nvPr/>
        </p:nvSpPr>
        <p:spPr>
          <a:xfrm>
            <a:off x="0" y="714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式子、等式和方程三者之间的关系如下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Oval 5"/>
          <p:cNvSpPr/>
          <p:nvPr/>
        </p:nvSpPr>
        <p:spPr>
          <a:xfrm>
            <a:off x="2627280" y="1700280"/>
            <a:ext cx="3745080" cy="25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WordArt 6"/>
          <p:cNvSpPr txBox="1"/>
          <p:nvPr/>
        </p:nvSpPr>
        <p:spPr>
          <a:xfrm>
            <a:off x="4211640" y="1787400"/>
            <a:ext cx="6238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式子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3010" name="Oval 7"/>
          <p:cNvSpPr/>
          <p:nvPr/>
        </p:nvSpPr>
        <p:spPr>
          <a:xfrm>
            <a:off x="3274920" y="2201760"/>
            <a:ext cx="2559240" cy="1873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WordArt 8"/>
          <p:cNvSpPr txBox="1"/>
          <p:nvPr/>
        </p:nvSpPr>
        <p:spPr>
          <a:xfrm>
            <a:off x="4226040" y="2382840"/>
            <a:ext cx="6238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等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12" name="Oval 9"/>
          <p:cNvSpPr/>
          <p:nvPr/>
        </p:nvSpPr>
        <p:spPr>
          <a:xfrm>
            <a:off x="3790800" y="2819520"/>
            <a:ext cx="1563840" cy="968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WordArt 10"/>
          <p:cNvSpPr txBox="1"/>
          <p:nvPr/>
        </p:nvSpPr>
        <p:spPr>
          <a:xfrm>
            <a:off x="4227480" y="3084480"/>
            <a:ext cx="6238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方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14" name="Text Box 11"/>
          <p:cNvSpPr/>
          <p:nvPr/>
        </p:nvSpPr>
        <p:spPr>
          <a:xfrm>
            <a:off x="395280" y="4788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方程是等式中的一部分；等式又是式子中的一部分。换句话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式子包含等式；等式包含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Text Box 2"/>
          <p:cNvSpPr/>
          <p:nvPr/>
        </p:nvSpPr>
        <p:spPr>
          <a:xfrm>
            <a:off x="285840" y="500040"/>
            <a:ext cx="865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方程的解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解方程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Rectangle 3"/>
          <p:cNvSpPr/>
          <p:nvPr/>
        </p:nvSpPr>
        <p:spPr>
          <a:xfrm>
            <a:off x="152280" y="1828800"/>
            <a:ext cx="869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使方程左右两边相等的未知数的值，叫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程的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求方程的解的过程叫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方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Text Box 4"/>
          <p:cNvSpPr/>
          <p:nvPr/>
        </p:nvSpPr>
        <p:spPr>
          <a:xfrm>
            <a:off x="0" y="38862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方程的解是一个结果，如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解方程是一个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Text Box 4"/>
          <p:cNvSpPr/>
          <p:nvPr/>
        </p:nvSpPr>
        <p:spPr>
          <a:xfrm>
            <a:off x="1219320" y="1295280"/>
            <a:ext cx="53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Text Box 6"/>
          <p:cNvSpPr/>
          <p:nvPr/>
        </p:nvSpPr>
        <p:spPr>
          <a:xfrm>
            <a:off x="2254320" y="3960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Text Box 7"/>
          <p:cNvSpPr/>
          <p:nvPr/>
        </p:nvSpPr>
        <p:spPr>
          <a:xfrm>
            <a:off x="1103400" y="1835280"/>
            <a:ext cx="3504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解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4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1" name="Group 8"/>
          <p:cNvGrpSpPr/>
          <p:nvPr/>
        </p:nvGrpSpPr>
        <p:grpSpPr>
          <a:xfrm>
            <a:off x="4206960" y="4030560"/>
            <a:ext cx="4095720" cy="520560"/>
            <a:chOff x="4206960" y="4030560"/>
            <a:chExt cx="4095720" cy="520560"/>
          </a:xfrm>
        </p:grpSpPr>
        <p:sp>
          <p:nvSpPr>
            <p:cNvPr id="3022" name="Line 9"/>
            <p:cNvSpPr/>
            <p:nvPr/>
          </p:nvSpPr>
          <p:spPr>
            <a:xfrm>
              <a:off x="4206960" y="4321080"/>
              <a:ext cx="187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Text Box 10"/>
            <p:cNvSpPr/>
            <p:nvPr/>
          </p:nvSpPr>
          <p:spPr>
            <a:xfrm>
              <a:off x="6032520" y="4030560"/>
              <a:ext cx="227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方程的解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4" name="AutoShape 11"/>
          <p:cNvSpPr/>
          <p:nvPr/>
        </p:nvSpPr>
        <p:spPr>
          <a:xfrm>
            <a:off x="4603680" y="1944720"/>
            <a:ext cx="289080" cy="2592360"/>
          </a:xfrm>
          <a:custGeom>
            <a:avLst/>
            <a:gdLst>
              <a:gd name="textAreaLeft" fmla="*/ 0 w 289080"/>
              <a:gd name="textAreaRight" fmla="*/ 104400 w 2890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74"/>
                </a:lnTo>
                <a:cubicBezTo>
                  <a:pt x="10800" y="8174"/>
                  <a:pt x="16200" y="9074"/>
                  <a:pt x="21600" y="9074"/>
                </a:cubicBezTo>
                <a:cubicBezTo>
                  <a:pt x="16200" y="9074"/>
                  <a:pt x="10800" y="9974"/>
                  <a:pt x="10800" y="108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2"/>
          <p:cNvSpPr/>
          <p:nvPr/>
        </p:nvSpPr>
        <p:spPr>
          <a:xfrm>
            <a:off x="5251320" y="2303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方程解的过程叫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解方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Text Box 4"/>
          <p:cNvSpPr/>
          <p:nvPr/>
        </p:nvSpPr>
        <p:spPr>
          <a:xfrm>
            <a:off x="1295280" y="2666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第一步：弄清题意，设未知数为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5"/>
          <p:cNvSpPr/>
          <p:nvPr/>
        </p:nvSpPr>
        <p:spPr>
          <a:xfrm>
            <a:off x="1295280" y="3352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第二步：分析、写数量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6"/>
          <p:cNvSpPr/>
          <p:nvPr/>
        </p:nvSpPr>
        <p:spPr>
          <a:xfrm>
            <a:off x="1295280" y="4114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第三步：列方程并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Text Box 7"/>
          <p:cNvSpPr/>
          <p:nvPr/>
        </p:nvSpPr>
        <p:spPr>
          <a:xfrm>
            <a:off x="1371600" y="481644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第四步：检验，写出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Text Box 8"/>
          <p:cNvSpPr/>
          <p:nvPr/>
        </p:nvSpPr>
        <p:spPr>
          <a:xfrm>
            <a:off x="2071800" y="285840"/>
            <a:ext cx="54687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经典综艺体简"/>
              </a:rPr>
              <a:t>列方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经典综艺体简"/>
              </a:rPr>
              <a:t>解应用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10"/>
          <p:cNvSpPr/>
          <p:nvPr/>
        </p:nvSpPr>
        <p:spPr>
          <a:xfrm>
            <a:off x="304920" y="1523880"/>
            <a:ext cx="519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经典综艺体简"/>
              </a:rPr>
              <a:t>列方程解应用题的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2"/>
          <p:cNvSpPr/>
          <p:nvPr/>
        </p:nvSpPr>
        <p:spPr>
          <a:xfrm>
            <a:off x="1187280" y="900000"/>
            <a:ext cx="7632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组织远足活动。原计划每小时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到达目的地。实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走完了原定路程，平均每小时走了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 Box 6"/>
          <p:cNvSpPr/>
          <p:nvPr/>
        </p:nvSpPr>
        <p:spPr>
          <a:xfrm>
            <a:off x="1908720" y="256212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设平均每小时走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"/>
          <p:cNvSpPr/>
          <p:nvPr/>
        </p:nvSpPr>
        <p:spPr>
          <a:xfrm>
            <a:off x="2165400" y="3100320"/>
            <a:ext cx="20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8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8"/>
          <p:cNvSpPr/>
          <p:nvPr/>
        </p:nvSpPr>
        <p:spPr>
          <a:xfrm>
            <a:off x="2105280" y="3639960"/>
            <a:ext cx="18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9"/>
          <p:cNvSpPr/>
          <p:nvPr/>
        </p:nvSpPr>
        <p:spPr>
          <a:xfrm>
            <a:off x="2775240" y="4119480"/>
            <a:ext cx="20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÷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10"/>
          <p:cNvSpPr/>
          <p:nvPr/>
        </p:nvSpPr>
        <p:spPr>
          <a:xfrm>
            <a:off x="2717280" y="4610160"/>
            <a:ext cx="13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11"/>
          <p:cNvSpPr/>
          <p:nvPr/>
        </p:nvSpPr>
        <p:spPr>
          <a:xfrm>
            <a:off x="2199600" y="528624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平均每小时走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9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Text Box 2"/>
          <p:cNvSpPr/>
          <p:nvPr/>
        </p:nvSpPr>
        <p:spPr>
          <a:xfrm>
            <a:off x="609480" y="838080"/>
            <a:ext cx="8245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判断对错，我能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是方程。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方程，不是等式。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方程的式子一定是等式。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等式的式子一定是方程。 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3"/>
          <p:cNvSpPr/>
          <p:nvPr/>
        </p:nvSpPr>
        <p:spPr>
          <a:xfrm>
            <a:off x="7010280" y="1676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4"/>
          <p:cNvSpPr/>
          <p:nvPr/>
        </p:nvSpPr>
        <p:spPr>
          <a:xfrm>
            <a:off x="624852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5"/>
          <p:cNvSpPr/>
          <p:nvPr/>
        </p:nvSpPr>
        <p:spPr>
          <a:xfrm>
            <a:off x="6172200" y="3429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6"/>
          <p:cNvSpPr/>
          <p:nvPr/>
        </p:nvSpPr>
        <p:spPr>
          <a:xfrm>
            <a:off x="6172200" y="4191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19:55Z</dcterms:created>
  <dc:creator/>
  <dc:description/>
  <dc:language>en-US</dc:language>
  <cp:lastModifiedBy/>
  <dcterms:modified xsi:type="dcterms:W3CDTF">2015-04-09T06:20:51Z</dcterms:modified>
  <cp:revision>1</cp:revision>
  <dc:subject/>
  <dc:title/>
</cp:coreProperties>
</file>