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0BE-C763-4035-8DC4-5C0E496A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269-78F4-40DB-88AA-719AEE3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FE2-69C6-49BA-9460-C37958D9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D73-C4EC-4AFC-A8B9-EA36F7C7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D52-56A4-4E0D-85E4-511821BB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66B-8355-4FD9-91E7-260D349B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E9E-296E-4348-B160-49E73F0A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FEB-6EC7-47EB-8840-0E4AF4E8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0C1-A13B-4CFB-9935-628D2B3B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089-8B6F-40EF-9898-6C261AB2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A24-8074-483A-B107-84EE6B2C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91B-CBA1-4532-899F-131BC2B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77A0-B4D5-43CD-8167-C4FD5D394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2209680"/>
            <a:ext cx="6705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解决问题</a:t>
            </a:r>
            <a:endParaRPr b="1" i="1" lang="en-US" sz="8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250920" y="476280"/>
            <a:ext cx="82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边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d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正方形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长方形，把所拼成的长方形的长和宽填入下面的表格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Users\phcui\Desktop\西南师大数学6B(2014.12第1版)\西南6B\正文(49)01.png"/>
          <p:cNvPicPr/>
          <p:nvPr/>
        </p:nvPicPr>
        <p:blipFill>
          <a:blip r:embed="rId1"/>
          <a:stretch/>
        </p:blipFill>
        <p:spPr>
          <a:xfrm>
            <a:off x="2286000" y="1444680"/>
            <a:ext cx="3384720" cy="23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1643040" y="3792600"/>
          <a:ext cx="4464000" cy="1149120"/>
        </p:xfrm>
        <a:graphic>
          <a:graphicData uri="http://schemas.openxmlformats.org/drawingml/2006/table">
            <a:tbl>
              <a:tblPr/>
              <a:tblGrid>
                <a:gridCol w="1785960"/>
                <a:gridCol w="681120"/>
                <a:gridCol w="623880"/>
                <a:gridCol w="617400"/>
                <a:gridCol w="755640"/>
              </a:tblGrid>
              <a:tr h="63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>
                      <a:noFill/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宽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m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>
                      <a:noFill/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8"/>
          <p:cNvSpPr/>
          <p:nvPr/>
        </p:nvSpPr>
        <p:spPr>
          <a:xfrm>
            <a:off x="3475080" y="3914640"/>
            <a:ext cx="74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4122720" y="3914640"/>
            <a:ext cx="74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773600" y="3914640"/>
            <a:ext cx="74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5440320" y="3914640"/>
            <a:ext cx="74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2"/>
          <p:cNvGrpSpPr/>
          <p:nvPr/>
        </p:nvGrpSpPr>
        <p:grpSpPr>
          <a:xfrm>
            <a:off x="3714840" y="1333440"/>
            <a:ext cx="3160800" cy="595440"/>
            <a:chOff x="3714840" y="1333440"/>
            <a:chExt cx="3160800" cy="595440"/>
          </a:xfrm>
        </p:grpSpPr>
        <p:sp>
          <p:nvSpPr>
            <p:cNvPr id="105" name="TextBox 8"/>
            <p:cNvSpPr/>
            <p:nvPr/>
          </p:nvSpPr>
          <p:spPr>
            <a:xfrm>
              <a:off x="3714840" y="1333440"/>
              <a:ext cx="316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多少种拼法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圆角矩形标注 11"/>
            <p:cNvSpPr/>
            <p:nvPr/>
          </p:nvSpPr>
          <p:spPr>
            <a:xfrm>
              <a:off x="3800520" y="1357200"/>
              <a:ext cx="2733840" cy="571680"/>
            </a:xfrm>
            <a:prstGeom prst="wedgeRoundRectCallout">
              <a:avLst>
                <a:gd name="adj1" fmla="val -63712"/>
                <a:gd name="adj2" fmla="val 30662"/>
                <a:gd name="adj3" fmla="val 16667"/>
              </a:avLst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8"/>
          <p:cNvSpPr/>
          <p:nvPr/>
        </p:nvSpPr>
        <p:spPr>
          <a:xfrm>
            <a:off x="785880" y="492588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上表中，长和宽成反比例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1000080" y="5477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反比例，乘积为定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49120" y="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课堂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个成反比例的量，它们的对应数值比也成反比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y=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有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1/x2=y2/y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762120" y="380880"/>
            <a:ext cx="70866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回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imes New Roman"/>
              </a:rPr>
              <a:t>判断下面的量是否成反比例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长方形的面积一定，长与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分子与一定，分母和分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正方形的边长和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6400800" y="2590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imes New Roman"/>
              </a:rPr>
              <a:t>成反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324480" y="3429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imes New Roman"/>
              </a:rPr>
              <a:t>成反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48640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imes New Roman"/>
              </a:rPr>
              <a:t>不成反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28760" y="620640"/>
            <a:ext cx="831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甲站到乙站，客车行完全程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时，货车行完全程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时。写出客车与货车所用的时间比与速度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26920" y="2924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间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: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067280" y="2924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速度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ject 7" descr=""/>
          <p:cNvPicPr/>
          <p:nvPr/>
        </p:nvPicPr>
        <p:blipFill>
          <a:blip r:embed="rId1"/>
          <a:stretch/>
        </p:blipFill>
        <p:spPr>
          <a:xfrm>
            <a:off x="5740560" y="2693880"/>
            <a:ext cx="1982520" cy="106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900000" y="4076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路程一定，时间和速度成反比例，两个时间的数值比等于相对应的两个速度数值比的反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26920" y="29289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时间比：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6: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067280" y="29289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速度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ject 11" descr=""/>
          <p:cNvPicPr/>
          <p:nvPr/>
        </p:nvPicPr>
        <p:blipFill>
          <a:blip r:embed="rId2"/>
          <a:stretch/>
        </p:blipFill>
        <p:spPr>
          <a:xfrm>
            <a:off x="5740560" y="2714760"/>
            <a:ext cx="19825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179280" y="981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果厂生产一批水果糖。把这些水果糖平均分装在若干个袋子里，每袋装的粒数和装的袋数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0040" y="2403360"/>
          <a:ext cx="8001000" cy="1036800"/>
        </p:xfrm>
        <a:graphic>
          <a:graphicData uri="http://schemas.openxmlformats.org/drawingml/2006/table">
            <a:tbl>
              <a:tblPr/>
              <a:tblGrid>
                <a:gridCol w="2549520"/>
                <a:gridCol w="907920"/>
                <a:gridCol w="908280"/>
                <a:gridCol w="909720"/>
                <a:gridCol w="907920"/>
                <a:gridCol w="909720"/>
                <a:gridCol w="907920"/>
              </a:tblGrid>
              <a:tr h="518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袋装的粒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518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装的袋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</a:tr>
            </a:tbl>
          </a:graphicData>
        </a:graphic>
      </p:graphicFrame>
      <p:sp>
        <p:nvSpPr>
          <p:cNvPr id="56" name="TextBox 5"/>
          <p:cNvSpPr/>
          <p:nvPr/>
        </p:nvSpPr>
        <p:spPr>
          <a:xfrm>
            <a:off x="179280" y="391644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写出几组相对应的每袋粒数和袋数的积，比较积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每袋装的粒数和袋数成反比例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84320" y="0"/>
            <a:ext cx="23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358920" y="2428920"/>
            <a:ext cx="8499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每袋装的粒数和袋数成反比例。因为每袋装的粒数和装的袋数是两种相关联的量，每袋装的粒数变化，装的袋数也随着变化。当每袋装的粒数和装的袋数的积总是一定时，每袋装的粒数和装的袋数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反比例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428760" y="500040"/>
            <a:ext cx="7642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对应的每袋装的粒数和装的袋数的积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24000" y="26028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练习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一台打字机打字，每小时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页纸，打完一本书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时，照这样计算，如果每小时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页纸，打完一本书要多长时间？（列出等式即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122560" y="292428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设需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ject 6" descr=""/>
          <p:cNvPicPr/>
          <p:nvPr/>
        </p:nvPicPr>
        <p:blipFill>
          <a:blip r:embed="rId1"/>
          <a:stretch/>
        </p:blipFill>
        <p:spPr>
          <a:xfrm>
            <a:off x="3144960" y="3716280"/>
            <a:ext cx="2265120" cy="488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212760" y="44593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如果两个量成反比例，则它们的积一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12760" y="51004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216080" y="51004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每小时打字页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打字时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反比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900000" y="2456640"/>
            <a:ext cx="73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练习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加工一批零件，实际每天比原计划多加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实际工作时间与原计划工作时间的比是几比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24000" y="26028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设原计划加工零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加工总零件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5" descr=""/>
          <p:cNvPicPr/>
          <p:nvPr/>
        </p:nvPicPr>
        <p:blipFill>
          <a:blip r:embed="rId1"/>
          <a:stretch/>
        </p:blipFill>
        <p:spPr>
          <a:xfrm>
            <a:off x="3564000" y="1279440"/>
            <a:ext cx="425520" cy="1157400"/>
          </a:xfrm>
          <a:prstGeom prst="rect">
            <a:avLst/>
          </a:prstGeom>
          <a:ln w="0">
            <a:noFill/>
          </a:ln>
        </p:spPr>
      </p:pic>
      <p:pic>
        <p:nvPicPr>
          <p:cNvPr id="69" name="Object 6" descr=""/>
          <p:cNvPicPr/>
          <p:nvPr/>
        </p:nvPicPr>
        <p:blipFill>
          <a:blip r:embed="rId2"/>
          <a:stretch/>
        </p:blipFill>
        <p:spPr>
          <a:xfrm>
            <a:off x="4060800" y="2428920"/>
            <a:ext cx="2225880" cy="1251000"/>
          </a:xfrm>
          <a:prstGeom prst="rect">
            <a:avLst/>
          </a:prstGeom>
          <a:ln w="0">
            <a:noFill/>
          </a:ln>
        </p:spPr>
      </p:pic>
      <p:pic>
        <p:nvPicPr>
          <p:cNvPr id="70" name="Object 7" descr=""/>
          <p:cNvPicPr/>
          <p:nvPr/>
        </p:nvPicPr>
        <p:blipFill>
          <a:blip r:embed="rId3"/>
          <a:stretch/>
        </p:blipFill>
        <p:spPr>
          <a:xfrm>
            <a:off x="82440" y="4854600"/>
            <a:ext cx="6010560" cy="1251000"/>
          </a:xfrm>
          <a:prstGeom prst="rect">
            <a:avLst/>
          </a:prstGeom>
          <a:ln w="0">
            <a:noFill/>
          </a:ln>
        </p:spPr>
      </p:pic>
      <p:sp>
        <p:nvSpPr>
          <p:cNvPr id="71" name="Line 8"/>
          <p:cNvSpPr/>
          <p:nvPr/>
        </p:nvSpPr>
        <p:spPr>
          <a:xfrm>
            <a:off x="4140360" y="5013360"/>
            <a:ext cx="360360" cy="21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3348000" y="5661000"/>
            <a:ext cx="216000" cy="360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3924360" y="5589720"/>
            <a:ext cx="287280" cy="503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4788000" y="4941720"/>
            <a:ext cx="360360" cy="432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706920" y="472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59280" y="59500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5003640" y="47242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067280" y="59500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ject 18" descr=""/>
          <p:cNvPicPr/>
          <p:nvPr/>
        </p:nvPicPr>
        <p:blipFill>
          <a:blip r:embed="rId4"/>
          <a:stretch/>
        </p:blipFill>
        <p:spPr>
          <a:xfrm>
            <a:off x="6056280" y="4878360"/>
            <a:ext cx="280188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9"/>
          <p:cNvSpPr/>
          <p:nvPr/>
        </p:nvSpPr>
        <p:spPr>
          <a:xfrm>
            <a:off x="468360" y="1484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原计划时间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539640" y="2637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实际加工时间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50920" y="3860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实际工作时间：原计划工作时间）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8"/>
          <p:cNvSpPr/>
          <p:nvPr/>
        </p:nvSpPr>
        <p:spPr>
          <a:xfrm>
            <a:off x="250920" y="146160"/>
            <a:ext cx="82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“青年突击队”参加泥石流抢险，原计划每时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才能到达目的地。出发时接到紧急通知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到达，他们平均每时需要行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500040" y="3500280"/>
            <a:ext cx="590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设他们平均每时需要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2340000" y="39290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484360" y="44258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÷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2556000" y="486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39640" y="528156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他们平均每时需要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8"/>
          <p:cNvGrpSpPr/>
          <p:nvPr/>
        </p:nvGrpSpPr>
        <p:grpSpPr>
          <a:xfrm>
            <a:off x="571680" y="1571760"/>
            <a:ext cx="4093920" cy="1758960"/>
            <a:chOff x="571680" y="1571760"/>
            <a:chExt cx="4093920" cy="1758960"/>
          </a:xfrm>
        </p:grpSpPr>
        <p:sp>
          <p:nvSpPr>
            <p:cNvPr id="90" name="TextBox 8"/>
            <p:cNvSpPr/>
            <p:nvPr/>
          </p:nvSpPr>
          <p:spPr>
            <a:xfrm>
              <a:off x="617400" y="1585800"/>
              <a:ext cx="3014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要求他们平均每时行多少千米，需要先求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6" descr="C:\Users\phcui\Desktop\西南师大数学6B(2014.12第1版)\西南6B\正文(45)01.png"/>
            <p:cNvPicPr/>
            <p:nvPr/>
          </p:nvPicPr>
          <p:blipFill>
            <a:blip r:embed="rId1"/>
            <a:stretch/>
          </p:blipFill>
          <p:spPr>
            <a:xfrm>
              <a:off x="3618000" y="2357640"/>
              <a:ext cx="104760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圆角矩形标注 17"/>
            <p:cNvSpPr/>
            <p:nvPr/>
          </p:nvSpPr>
          <p:spPr>
            <a:xfrm>
              <a:off x="571680" y="1571760"/>
              <a:ext cx="2928960" cy="1428840"/>
            </a:xfrm>
            <a:prstGeom prst="wedgeRoundRectCallout">
              <a:avLst>
                <a:gd name="adj1" fmla="val 59375"/>
                <a:gd name="adj2" fmla="val 22814"/>
                <a:gd name="adj3" fmla="val 16667"/>
              </a:avLst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"/>
          <p:cNvGrpSpPr/>
          <p:nvPr/>
        </p:nvGrpSpPr>
        <p:grpSpPr>
          <a:xfrm>
            <a:off x="5853240" y="1500120"/>
            <a:ext cx="3147840" cy="2185920"/>
            <a:chOff x="5853240" y="1500120"/>
            <a:chExt cx="3147840" cy="2185920"/>
          </a:xfrm>
        </p:grpSpPr>
        <p:pic>
          <p:nvPicPr>
            <p:cNvPr id="94" name="Picture 6" descr="C:\Users\phcui\Desktop\西南师大数学6B(2014.12第1版)\西南6B\正文(45)01.png"/>
            <p:cNvPicPr/>
            <p:nvPr/>
          </p:nvPicPr>
          <p:blipFill>
            <a:blip r:embed="rId2"/>
            <a:stretch/>
          </p:blipFill>
          <p:spPr>
            <a:xfrm>
              <a:off x="5929200" y="2571480"/>
              <a:ext cx="9522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8"/>
            <p:cNvSpPr/>
            <p:nvPr/>
          </p:nvSpPr>
          <p:spPr>
            <a:xfrm>
              <a:off x="5853240" y="1531800"/>
              <a:ext cx="314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路程一定，速度和时间成反比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圆角矩形标注 19"/>
            <p:cNvSpPr/>
            <p:nvPr/>
          </p:nvSpPr>
          <p:spPr>
            <a:xfrm>
              <a:off x="5857920" y="1500120"/>
              <a:ext cx="3071880" cy="1000080"/>
            </a:xfrm>
            <a:prstGeom prst="wedgeRoundRectCallout">
              <a:avLst>
                <a:gd name="adj1" fmla="val -33587"/>
                <a:gd name="adj2" fmla="val 62199"/>
                <a:gd name="adj3" fmla="val 16667"/>
              </a:avLst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10:59:14Z</dcterms:created>
  <dc:creator/>
  <dc:description/>
  <dc:language>en-US</dc:language>
  <cp:lastModifiedBy>林森</cp:lastModifiedBy>
  <dcterms:modified xsi:type="dcterms:W3CDTF">2017-12-24T11:51:0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