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6B9-0262-48BB-B8F9-FB87F759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075-6FA5-4000-BE40-2B3CA6C7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97E-5518-40E3-9768-0DB73A33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4CE-D7E4-4B51-A8FC-A7D22E05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493-D991-43F3-84D7-BB171B69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869-B9B2-4AA3-8FFB-A33E2BD3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0AD-F247-4462-BFFB-2A9EB431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D96-C14E-42ED-ADFC-021B8DF1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3CB-0617-45EC-B5FC-77690CE5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642-3AEC-4076-B663-B71109DD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9C8-567B-45FB-92C9-2B8D1DEF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DEA-408F-4FFA-B9DE-5211D04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1779-1142-4AAF-BD15-CC1613125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66680" y="2286000"/>
            <a:ext cx="61628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反比例（二）</a:t>
            </a:r>
            <a:endParaRPr b="1" i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个成反比例的量，它们的对应数值比也成反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y=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有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1/x2=y2/y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3"/>
          <p:cNvSpPr/>
          <p:nvPr/>
        </p:nvSpPr>
        <p:spPr>
          <a:xfrm>
            <a:off x="357120" y="1033560"/>
            <a:ext cx="6357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想一想，判断下列说法是否正确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9"/>
          <p:cNvSpPr/>
          <p:nvPr/>
        </p:nvSpPr>
        <p:spPr>
          <a:xfrm>
            <a:off x="7643880" y="2428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错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9"/>
          <p:cNvSpPr/>
          <p:nvPr/>
        </p:nvSpPr>
        <p:spPr>
          <a:xfrm>
            <a:off x="500040" y="24289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×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9"/>
          <p:cNvSpPr/>
          <p:nvPr/>
        </p:nvSpPr>
        <p:spPr>
          <a:xfrm>
            <a:off x="500040" y="318924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驶的路程一定，则车轮的周长与车轮需转动的圈数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9"/>
          <p:cNvSpPr/>
          <p:nvPr/>
        </p:nvSpPr>
        <p:spPr>
          <a:xfrm>
            <a:off x="500040" y="447660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跑步速度与他跑的路程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9"/>
          <p:cNvSpPr/>
          <p:nvPr/>
        </p:nvSpPr>
        <p:spPr>
          <a:xfrm>
            <a:off x="7643880" y="32148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Times New Roman"/>
              </a:rPr>
              <a:t>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9"/>
          <p:cNvSpPr/>
          <p:nvPr/>
        </p:nvSpPr>
        <p:spPr>
          <a:xfrm>
            <a:off x="7643880" y="4429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错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04920" y="304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</a:rPr>
              <a:t>知识回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28760" y="620640"/>
            <a:ext cx="831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甲站到乙站，客车行完全程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时，货车行完全程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时。写出客车与货车所用的时间比与速度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6920" y="2924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间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067280" y="292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速度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ject 7" descr=""/>
          <p:cNvPicPr/>
          <p:nvPr/>
        </p:nvPicPr>
        <p:blipFill>
          <a:blip r:embed="rId1"/>
          <a:stretch/>
        </p:blipFill>
        <p:spPr>
          <a:xfrm>
            <a:off x="5740560" y="2693880"/>
            <a:ext cx="1982520" cy="106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900000" y="4076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路程一定，时间和速度成反比例，两个时间的数值比等于相对应的两个速度数值比的反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826920" y="29289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时间比：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6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067280" y="29289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速度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ject 11" descr=""/>
          <p:cNvPicPr/>
          <p:nvPr/>
        </p:nvPicPr>
        <p:blipFill>
          <a:blip r:embed="rId2"/>
          <a:stretch/>
        </p:blipFill>
        <p:spPr>
          <a:xfrm>
            <a:off x="5740560" y="2714760"/>
            <a:ext cx="19825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9"/>
          <p:cNvSpPr/>
          <p:nvPr/>
        </p:nvSpPr>
        <p:spPr>
          <a:xfrm>
            <a:off x="357120" y="299880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表中有哪两种量？它们是不是相关联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4" descr="C:\Users\phcui\Desktop\人教数学6B(2014.10.第1版)\正文(48).jpg"/>
          <p:cNvPicPr/>
          <p:nvPr/>
        </p:nvPicPr>
        <p:blipFill>
          <a:blip r:embed="rId1"/>
          <a:stretch/>
        </p:blipFill>
        <p:spPr>
          <a:xfrm>
            <a:off x="2700360" y="476280"/>
            <a:ext cx="3311640" cy="9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03280" y="1628640"/>
          <a:ext cx="7705800" cy="1181160"/>
        </p:xfrm>
        <a:graphic>
          <a:graphicData uri="http://schemas.openxmlformats.org/drawingml/2006/table">
            <a:tbl>
              <a:tblPr/>
              <a:tblGrid>
                <a:gridCol w="2757600"/>
                <a:gridCol w="988920"/>
                <a:gridCol w="919080"/>
                <a:gridCol w="919080"/>
                <a:gridCol w="636840"/>
                <a:gridCol w="847440"/>
                <a:gridCol w="636840"/>
              </a:tblGrid>
              <a:tr h="590400"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每天运的吨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90760"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货的天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69"/>
          <p:cNvSpPr/>
          <p:nvPr/>
        </p:nvSpPr>
        <p:spPr>
          <a:xfrm>
            <a:off x="395280" y="355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出几组这两种量中相对应的俩个数的积，并比较积的大小，说一说这个积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9"/>
          <p:cNvSpPr/>
          <p:nvPr/>
        </p:nvSpPr>
        <p:spPr>
          <a:xfrm>
            <a:off x="395280" y="4581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运货天数与每天运的吨数成反比例关系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4920" y="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9"/>
          <p:cNvSpPr/>
          <p:nvPr/>
        </p:nvSpPr>
        <p:spPr>
          <a:xfrm>
            <a:off x="611280" y="112536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表中有运货天数与每天运的吨数两种量，它们是相关联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9"/>
          <p:cNvSpPr/>
          <p:nvPr/>
        </p:nvSpPr>
        <p:spPr>
          <a:xfrm>
            <a:off x="530280" y="225900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×1=150×2=75×4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9"/>
          <p:cNvSpPr/>
          <p:nvPr/>
        </p:nvSpPr>
        <p:spPr>
          <a:xfrm>
            <a:off x="530280" y="377028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运货天数与每天运的吨数乘积一定，运货天数与每天运的吨数成反比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826920" y="2862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相等，总共运的吨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8"/>
          <p:cNvSpPr/>
          <p:nvPr/>
        </p:nvSpPr>
        <p:spPr>
          <a:xfrm>
            <a:off x="504720" y="2080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橡皮筋在钉子板上围几个宽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长方形，把围成的长方形的长和面积填入下面的表格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42960" y="1976400"/>
          <a:ext cx="4792680" cy="1631880"/>
        </p:xfrm>
        <a:graphic>
          <a:graphicData uri="http://schemas.openxmlformats.org/drawingml/2006/table">
            <a:tbl>
              <a:tblPr/>
              <a:tblGrid>
                <a:gridCol w="1928880"/>
                <a:gridCol w="720720"/>
                <a:gridCol w="668160"/>
                <a:gridCol w="663840"/>
                <a:gridCol w="811080"/>
              </a:tblGrid>
              <a:tr h="595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>
                      <a:noFill/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宽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>
                      <a:noFill/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面积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50"/>
                      </a:solidFill>
                    </a:lnL>
                    <a:lnR>
                      <a:noFill/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8"/>
          <p:cNvSpPr/>
          <p:nvPr/>
        </p:nvSpPr>
        <p:spPr>
          <a:xfrm>
            <a:off x="4000680" y="314172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724120" y="197640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3411360" y="314172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716200" y="314172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C:\Users\phcui\Desktop\西南师大数学6B(2014.12第1版)\西南6B\正文(49)02.png"/>
          <p:cNvPicPr/>
          <p:nvPr/>
        </p:nvPicPr>
        <p:blipFill>
          <a:blip r:embed="rId1"/>
          <a:stretch/>
        </p:blipFill>
        <p:spPr>
          <a:xfrm>
            <a:off x="5935680" y="1384200"/>
            <a:ext cx="2835360" cy="2495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3419640" y="197640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4830840" y="197640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073400" y="197640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759200" y="312120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657360" y="4419720"/>
            <a:ext cx="82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上表中，长和面积成反比例吗？成什么比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03440" y="5418000"/>
            <a:ext cx="82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上表中，长和面积不成反比例，成正比例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79280" y="476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果厂生产一批水果糖。把这些水果糖平均分装在若干个袋子里，每袋装的粒数和装的袋数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00040" y="1900080"/>
          <a:ext cx="8001000" cy="1036800"/>
        </p:xfrm>
        <a:graphic>
          <a:graphicData uri="http://schemas.openxmlformats.org/drawingml/2006/table">
            <a:tbl>
              <a:tblPr/>
              <a:tblGrid>
                <a:gridCol w="2549520"/>
                <a:gridCol w="907920"/>
                <a:gridCol w="908280"/>
                <a:gridCol w="909720"/>
                <a:gridCol w="907920"/>
                <a:gridCol w="909720"/>
                <a:gridCol w="907920"/>
              </a:tblGrid>
              <a:tr h="518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每袋装的粒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518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装的袋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72bfc5"/>
                      </a:solidFill>
                    </a:lnL>
                    <a:lnR>
                      <a:noFill/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solidFill>
                      <a:srgbClr val="d6ecee"/>
                    </a:solidFill>
                  </a:tcPr>
                </a:tc>
              </a:tr>
            </a:tbl>
          </a:graphicData>
        </a:graphic>
      </p:graphicFrame>
      <p:sp>
        <p:nvSpPr>
          <p:cNvPr id="83" name="TextBox 5"/>
          <p:cNvSpPr/>
          <p:nvPr/>
        </p:nvSpPr>
        <p:spPr>
          <a:xfrm>
            <a:off x="179280" y="3411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袋装的粒数和袋数成反比例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358920" y="1197000"/>
            <a:ext cx="8499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每袋装的粒数和袋数成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×500=6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×400=6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×300=6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对应的每袋装的粒数和装的袋数的积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每袋装的粒数和装的袋数是两种相关联的量，每袋装的粒数变化，装的袋数也随着变化。当每袋装的粒数和装的袋数的积总是一定时，每袋装的粒数和装的袋数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反比例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3"/>
          <p:cNvSpPr/>
          <p:nvPr/>
        </p:nvSpPr>
        <p:spPr>
          <a:xfrm>
            <a:off x="1825200" y="1228680"/>
            <a:ext cx="53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下面每题中的两个量是否成正比例或反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234720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成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71280" y="2071800"/>
            <a:ext cx="85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的电线，用去的长度与剩下的长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71280" y="3286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三角形的面积一定，它的底和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71280" y="4556160"/>
            <a:ext cx="83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数与它的倒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347200" y="38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成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377440" y="513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成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08:13:53Z</dcterms:created>
  <dc:creator/>
  <dc:description/>
  <dc:language>en-US</dc:language>
  <cp:lastModifiedBy>林森</cp:lastModifiedBy>
  <dcterms:modified xsi:type="dcterms:W3CDTF">2017-12-24T11:53:1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