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C7E-C5DA-4DA5-8746-81C79C89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A52-CF1A-4243-9977-C866DB8D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3B6-5D9D-4EEC-9E80-10224E27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E7F-9231-479A-9D37-7F00337F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A35-02A6-4832-AA3C-CEAC8921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89F-375C-46C0-9D47-AED59577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2B7-ED4A-4EC3-99C8-E0E7AB7E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E57-9862-4AA2-89D9-113BC8D4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2C1-FEE8-4241-891B-7000809C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06F-8798-4499-AECB-3EDF058A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972-5BA6-42CF-926A-F205E22E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2B0-2192-492D-ADE3-60E04808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FD1C-1AB3-453B-AF6B-5FE25F694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90720" y="2209680"/>
            <a:ext cx="6705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反比例（一）</a:t>
            </a:r>
            <a:endParaRPr b="1" i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判定两个量是不是成反比例，主要是看它们的积是不是一定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1905120" y="2514600"/>
            <a:ext cx="5219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52280" y="304920"/>
            <a:ext cx="74678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68"/>
                </a:solidFill>
                <a:latin typeface="Times New Roman"/>
              </a:rPr>
              <a:t>判断下面各题中的两种变量是否成正比例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苹果的单价一定，购买苹果的数量和总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小新跳高的高度是他的身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速度一定，时间和路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1828800" y="31240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成正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6400800" y="3581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不成正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5638680" y="41148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成正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79280" y="18900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长方形的面积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平方厘米，它的宽和长的关系如下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6360" y="1628640"/>
          <a:ext cx="9036360" cy="2394000"/>
        </p:xfrm>
        <a:graphic>
          <a:graphicData uri="http://schemas.openxmlformats.org/drawingml/2006/table">
            <a:tbl>
              <a:tblPr/>
              <a:tblGrid>
                <a:gridCol w="905040"/>
                <a:gridCol w="903240"/>
                <a:gridCol w="901800"/>
                <a:gridCol w="903240"/>
                <a:gridCol w="904680"/>
                <a:gridCol w="905040"/>
                <a:gridCol w="903240"/>
                <a:gridCol w="901800"/>
                <a:gridCol w="903240"/>
                <a:gridCol w="905040"/>
              </a:tblGrid>
              <a:tr h="106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宽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c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长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 Box 53"/>
          <p:cNvSpPr/>
          <p:nvPr/>
        </p:nvSpPr>
        <p:spPr>
          <a:xfrm>
            <a:off x="108000" y="414972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中你发现了什么规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4"/>
          <p:cNvSpPr/>
          <p:nvPr/>
        </p:nvSpPr>
        <p:spPr>
          <a:xfrm>
            <a:off x="179280" y="5013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宽是原来的几倍，长就是原来的积分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5"/>
          <p:cNvSpPr/>
          <p:nvPr/>
        </p:nvSpPr>
        <p:spPr>
          <a:xfrm>
            <a:off x="142920" y="5805360"/>
            <a:ext cx="73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长与宽所对应的两个数的积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28760" y="228600"/>
            <a:ext cx="81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上表中选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长方形，按下图所示，依次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长方形的左下角对齐叠在一起，将这些面积相等的长方形右上角的点连接起来，就形成了一条曲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44"/>
          <p:cNvGrpSpPr/>
          <p:nvPr/>
        </p:nvGrpSpPr>
        <p:grpSpPr>
          <a:xfrm>
            <a:off x="428760" y="2857680"/>
            <a:ext cx="214200" cy="2857320"/>
            <a:chOff x="428760" y="2857680"/>
            <a:chExt cx="214200" cy="2857320"/>
          </a:xfrm>
        </p:grpSpPr>
        <p:sp>
          <p:nvSpPr>
            <p:cNvPr id="53" name="矩形 5"/>
            <p:cNvSpPr/>
            <p:nvPr/>
          </p:nvSpPr>
          <p:spPr>
            <a:xfrm>
              <a:off x="428760" y="5477040"/>
              <a:ext cx="214200" cy="23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6"/>
            <p:cNvSpPr/>
            <p:nvPr/>
          </p:nvSpPr>
          <p:spPr>
            <a:xfrm>
              <a:off x="428760" y="5239080"/>
              <a:ext cx="214200" cy="23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7"/>
            <p:cNvSpPr/>
            <p:nvPr/>
          </p:nvSpPr>
          <p:spPr>
            <a:xfrm>
              <a:off x="428760" y="5000760"/>
              <a:ext cx="214200" cy="23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8"/>
            <p:cNvSpPr/>
            <p:nvPr/>
          </p:nvSpPr>
          <p:spPr>
            <a:xfrm>
              <a:off x="428760" y="4762800"/>
              <a:ext cx="214200" cy="23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9"/>
            <p:cNvSpPr/>
            <p:nvPr/>
          </p:nvSpPr>
          <p:spPr>
            <a:xfrm>
              <a:off x="428760" y="4524480"/>
              <a:ext cx="214200" cy="23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0"/>
            <p:cNvSpPr/>
            <p:nvPr/>
          </p:nvSpPr>
          <p:spPr>
            <a:xfrm>
              <a:off x="428760" y="4286520"/>
              <a:ext cx="214200" cy="23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11"/>
            <p:cNvSpPr/>
            <p:nvPr/>
          </p:nvSpPr>
          <p:spPr>
            <a:xfrm>
              <a:off x="428760" y="3810240"/>
              <a:ext cx="214200" cy="23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12"/>
            <p:cNvSpPr/>
            <p:nvPr/>
          </p:nvSpPr>
          <p:spPr>
            <a:xfrm>
              <a:off x="428760" y="4048200"/>
              <a:ext cx="214200" cy="23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2"/>
            <p:cNvSpPr/>
            <p:nvPr/>
          </p:nvSpPr>
          <p:spPr>
            <a:xfrm>
              <a:off x="428760" y="2857680"/>
              <a:ext cx="214200" cy="23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3"/>
            <p:cNvSpPr/>
            <p:nvPr/>
          </p:nvSpPr>
          <p:spPr>
            <a:xfrm>
              <a:off x="428760" y="3095640"/>
              <a:ext cx="214200" cy="23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4"/>
            <p:cNvSpPr/>
            <p:nvPr/>
          </p:nvSpPr>
          <p:spPr>
            <a:xfrm>
              <a:off x="428760" y="3333960"/>
              <a:ext cx="214200" cy="23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3"/>
            <p:cNvSpPr/>
            <p:nvPr/>
          </p:nvSpPr>
          <p:spPr>
            <a:xfrm>
              <a:off x="428760" y="3571920"/>
              <a:ext cx="214200" cy="23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357120" y="22860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97"/>
          <p:cNvGrpSpPr/>
          <p:nvPr/>
        </p:nvGrpSpPr>
        <p:grpSpPr>
          <a:xfrm>
            <a:off x="857160" y="3786120"/>
            <a:ext cx="857520" cy="1932120"/>
            <a:chOff x="857160" y="3786120"/>
            <a:chExt cx="857520" cy="1932120"/>
          </a:xfrm>
        </p:grpSpPr>
        <p:grpSp>
          <p:nvGrpSpPr>
            <p:cNvPr id="67" name="组合 17"/>
            <p:cNvGrpSpPr/>
            <p:nvPr/>
          </p:nvGrpSpPr>
          <p:grpSpPr>
            <a:xfrm>
              <a:off x="857160" y="4314960"/>
              <a:ext cx="244800" cy="1403280"/>
              <a:chOff x="857160" y="4314960"/>
              <a:chExt cx="244800" cy="1403280"/>
            </a:xfrm>
          </p:grpSpPr>
          <p:sp>
            <p:nvSpPr>
              <p:cNvPr id="68" name="矩形 18"/>
              <p:cNvSpPr/>
              <p:nvPr/>
            </p:nvSpPr>
            <p:spPr>
              <a:xfrm>
                <a:off x="857160" y="4314960"/>
                <a:ext cx="244800" cy="23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矩形 19"/>
              <p:cNvSpPr/>
              <p:nvPr/>
            </p:nvSpPr>
            <p:spPr>
              <a:xfrm>
                <a:off x="857160" y="4548240"/>
                <a:ext cx="244800" cy="234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矩形 20"/>
              <p:cNvSpPr/>
              <p:nvPr/>
            </p:nvSpPr>
            <p:spPr>
              <a:xfrm>
                <a:off x="857160" y="4783320"/>
                <a:ext cx="244800" cy="23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矩形 21"/>
              <p:cNvSpPr/>
              <p:nvPr/>
            </p:nvSpPr>
            <p:spPr>
              <a:xfrm>
                <a:off x="857160" y="5249880"/>
                <a:ext cx="244800" cy="234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矩形 22"/>
              <p:cNvSpPr/>
              <p:nvPr/>
            </p:nvSpPr>
            <p:spPr>
              <a:xfrm>
                <a:off x="857160" y="5484960"/>
                <a:ext cx="244800" cy="23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矩形 23"/>
              <p:cNvSpPr/>
              <p:nvPr/>
            </p:nvSpPr>
            <p:spPr>
              <a:xfrm>
                <a:off x="857160" y="5016600"/>
                <a:ext cx="244800" cy="23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组合 24"/>
            <p:cNvGrpSpPr/>
            <p:nvPr/>
          </p:nvGrpSpPr>
          <p:grpSpPr>
            <a:xfrm>
              <a:off x="1101960" y="4314960"/>
              <a:ext cx="244800" cy="1403280"/>
              <a:chOff x="1101960" y="4314960"/>
              <a:chExt cx="244800" cy="1403280"/>
            </a:xfrm>
          </p:grpSpPr>
          <p:sp>
            <p:nvSpPr>
              <p:cNvPr id="75" name="矩形 25"/>
              <p:cNvSpPr/>
              <p:nvPr/>
            </p:nvSpPr>
            <p:spPr>
              <a:xfrm>
                <a:off x="1101960" y="4314960"/>
                <a:ext cx="244800" cy="23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矩形 26"/>
              <p:cNvSpPr/>
              <p:nvPr/>
            </p:nvSpPr>
            <p:spPr>
              <a:xfrm>
                <a:off x="1101960" y="4548240"/>
                <a:ext cx="244800" cy="234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矩形 27"/>
              <p:cNvSpPr/>
              <p:nvPr/>
            </p:nvSpPr>
            <p:spPr>
              <a:xfrm>
                <a:off x="1101960" y="4783320"/>
                <a:ext cx="244800" cy="23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矩形 28"/>
              <p:cNvSpPr/>
              <p:nvPr/>
            </p:nvSpPr>
            <p:spPr>
              <a:xfrm>
                <a:off x="1101960" y="5249880"/>
                <a:ext cx="244800" cy="234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矩形 29"/>
              <p:cNvSpPr/>
              <p:nvPr/>
            </p:nvSpPr>
            <p:spPr>
              <a:xfrm>
                <a:off x="1101960" y="5484960"/>
                <a:ext cx="244800" cy="23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矩形 30"/>
              <p:cNvSpPr/>
              <p:nvPr/>
            </p:nvSpPr>
            <p:spPr>
              <a:xfrm>
                <a:off x="1101960" y="5016600"/>
                <a:ext cx="244800" cy="23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Box 31"/>
            <p:cNvSpPr/>
            <p:nvPr/>
          </p:nvSpPr>
          <p:spPr>
            <a:xfrm>
              <a:off x="1040760" y="3786120"/>
              <a:ext cx="67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98"/>
          <p:cNvGrpSpPr/>
          <p:nvPr/>
        </p:nvGrpSpPr>
        <p:grpSpPr>
          <a:xfrm>
            <a:off x="1571760" y="4214880"/>
            <a:ext cx="1000080" cy="1500120"/>
            <a:chOff x="1571760" y="4214880"/>
            <a:chExt cx="1000080" cy="1500120"/>
          </a:xfrm>
        </p:grpSpPr>
        <p:grpSp>
          <p:nvGrpSpPr>
            <p:cNvPr id="83" name="组合 33"/>
            <p:cNvGrpSpPr/>
            <p:nvPr/>
          </p:nvGrpSpPr>
          <p:grpSpPr>
            <a:xfrm>
              <a:off x="1571760" y="4791960"/>
              <a:ext cx="222120" cy="923040"/>
              <a:chOff x="1571760" y="4791960"/>
              <a:chExt cx="222120" cy="923040"/>
            </a:xfrm>
          </p:grpSpPr>
          <p:sp>
            <p:nvSpPr>
              <p:cNvPr id="84" name="矩形 34"/>
              <p:cNvSpPr/>
              <p:nvPr/>
            </p:nvSpPr>
            <p:spPr>
              <a:xfrm>
                <a:off x="1571760" y="4791960"/>
                <a:ext cx="222120" cy="231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矩形 35"/>
              <p:cNvSpPr/>
              <p:nvPr/>
            </p:nvSpPr>
            <p:spPr>
              <a:xfrm>
                <a:off x="1571760" y="5023440"/>
                <a:ext cx="222120" cy="230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矩形 36"/>
              <p:cNvSpPr/>
              <p:nvPr/>
            </p:nvSpPr>
            <p:spPr>
              <a:xfrm>
                <a:off x="1571760" y="5253480"/>
                <a:ext cx="222120" cy="231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37"/>
              <p:cNvSpPr/>
              <p:nvPr/>
            </p:nvSpPr>
            <p:spPr>
              <a:xfrm>
                <a:off x="1571760" y="5484960"/>
                <a:ext cx="222120" cy="230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组合 38"/>
            <p:cNvGrpSpPr/>
            <p:nvPr/>
          </p:nvGrpSpPr>
          <p:grpSpPr>
            <a:xfrm>
              <a:off x="1793880" y="4791960"/>
              <a:ext cx="222120" cy="923040"/>
              <a:chOff x="1793880" y="4791960"/>
              <a:chExt cx="222120" cy="923040"/>
            </a:xfrm>
          </p:grpSpPr>
          <p:sp>
            <p:nvSpPr>
              <p:cNvPr id="89" name="矩形 39"/>
              <p:cNvSpPr/>
              <p:nvPr/>
            </p:nvSpPr>
            <p:spPr>
              <a:xfrm>
                <a:off x="1793880" y="4791960"/>
                <a:ext cx="222120" cy="231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40"/>
              <p:cNvSpPr/>
              <p:nvPr/>
            </p:nvSpPr>
            <p:spPr>
              <a:xfrm>
                <a:off x="1793880" y="5023440"/>
                <a:ext cx="222120" cy="230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41"/>
              <p:cNvSpPr/>
              <p:nvPr/>
            </p:nvSpPr>
            <p:spPr>
              <a:xfrm>
                <a:off x="1793880" y="5253480"/>
                <a:ext cx="222120" cy="231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矩形 42"/>
              <p:cNvSpPr/>
              <p:nvPr/>
            </p:nvSpPr>
            <p:spPr>
              <a:xfrm>
                <a:off x="1793880" y="5484960"/>
                <a:ext cx="222120" cy="230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组合 43"/>
            <p:cNvGrpSpPr/>
            <p:nvPr/>
          </p:nvGrpSpPr>
          <p:grpSpPr>
            <a:xfrm>
              <a:off x="2016360" y="4791960"/>
              <a:ext cx="222120" cy="923040"/>
              <a:chOff x="2016360" y="4791960"/>
              <a:chExt cx="222120" cy="923040"/>
            </a:xfrm>
          </p:grpSpPr>
          <p:sp>
            <p:nvSpPr>
              <p:cNvPr id="94" name="矩形 44"/>
              <p:cNvSpPr/>
              <p:nvPr/>
            </p:nvSpPr>
            <p:spPr>
              <a:xfrm>
                <a:off x="2016360" y="4791960"/>
                <a:ext cx="222120" cy="231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45"/>
              <p:cNvSpPr/>
              <p:nvPr/>
            </p:nvSpPr>
            <p:spPr>
              <a:xfrm>
                <a:off x="2016360" y="5023440"/>
                <a:ext cx="222120" cy="230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46"/>
              <p:cNvSpPr/>
              <p:nvPr/>
            </p:nvSpPr>
            <p:spPr>
              <a:xfrm>
                <a:off x="2016360" y="5253480"/>
                <a:ext cx="222120" cy="231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47"/>
              <p:cNvSpPr/>
              <p:nvPr/>
            </p:nvSpPr>
            <p:spPr>
              <a:xfrm>
                <a:off x="2016360" y="5484960"/>
                <a:ext cx="222120" cy="230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Box 48"/>
            <p:cNvSpPr/>
            <p:nvPr/>
          </p:nvSpPr>
          <p:spPr>
            <a:xfrm>
              <a:off x="1960560" y="4214880"/>
              <a:ext cx="6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99"/>
          <p:cNvGrpSpPr/>
          <p:nvPr/>
        </p:nvGrpSpPr>
        <p:grpSpPr>
          <a:xfrm>
            <a:off x="2500200" y="4429080"/>
            <a:ext cx="1285920" cy="1285920"/>
            <a:chOff x="2500200" y="4429080"/>
            <a:chExt cx="1285920" cy="1285920"/>
          </a:xfrm>
        </p:grpSpPr>
        <p:grpSp>
          <p:nvGrpSpPr>
            <p:cNvPr id="100" name="组合 50"/>
            <p:cNvGrpSpPr/>
            <p:nvPr/>
          </p:nvGrpSpPr>
          <p:grpSpPr>
            <a:xfrm>
              <a:off x="3201480" y="4981680"/>
              <a:ext cx="233640" cy="733320"/>
              <a:chOff x="3201480" y="4981680"/>
              <a:chExt cx="233640" cy="733320"/>
            </a:xfrm>
          </p:grpSpPr>
          <p:sp>
            <p:nvSpPr>
              <p:cNvPr id="101" name="矩形 51"/>
              <p:cNvSpPr/>
              <p:nvPr/>
            </p:nvSpPr>
            <p:spPr>
              <a:xfrm>
                <a:off x="3201480" y="4981680"/>
                <a:ext cx="233640" cy="244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52"/>
              <p:cNvSpPr/>
              <p:nvPr/>
            </p:nvSpPr>
            <p:spPr>
              <a:xfrm>
                <a:off x="3201480" y="5226120"/>
                <a:ext cx="233640" cy="244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53"/>
              <p:cNvSpPr/>
              <p:nvPr/>
            </p:nvSpPr>
            <p:spPr>
              <a:xfrm>
                <a:off x="3201480" y="5470560"/>
                <a:ext cx="233640" cy="244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54"/>
            <p:cNvGrpSpPr/>
            <p:nvPr/>
          </p:nvGrpSpPr>
          <p:grpSpPr>
            <a:xfrm>
              <a:off x="2967840" y="4981680"/>
              <a:ext cx="233640" cy="733320"/>
              <a:chOff x="2967840" y="4981680"/>
              <a:chExt cx="233640" cy="733320"/>
            </a:xfrm>
          </p:grpSpPr>
          <p:sp>
            <p:nvSpPr>
              <p:cNvPr id="105" name="矩形 55"/>
              <p:cNvSpPr/>
              <p:nvPr/>
            </p:nvSpPr>
            <p:spPr>
              <a:xfrm>
                <a:off x="2967840" y="4981680"/>
                <a:ext cx="233640" cy="244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56"/>
              <p:cNvSpPr/>
              <p:nvPr/>
            </p:nvSpPr>
            <p:spPr>
              <a:xfrm>
                <a:off x="2967840" y="5226120"/>
                <a:ext cx="233640" cy="244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57"/>
              <p:cNvSpPr/>
              <p:nvPr/>
            </p:nvSpPr>
            <p:spPr>
              <a:xfrm>
                <a:off x="2967840" y="5470560"/>
                <a:ext cx="233640" cy="244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组合 58"/>
            <p:cNvGrpSpPr/>
            <p:nvPr/>
          </p:nvGrpSpPr>
          <p:grpSpPr>
            <a:xfrm>
              <a:off x="2733840" y="4981680"/>
              <a:ext cx="233640" cy="733320"/>
              <a:chOff x="2733840" y="4981680"/>
              <a:chExt cx="233640" cy="733320"/>
            </a:xfrm>
          </p:grpSpPr>
          <p:sp>
            <p:nvSpPr>
              <p:cNvPr id="109" name="矩形 59"/>
              <p:cNvSpPr/>
              <p:nvPr/>
            </p:nvSpPr>
            <p:spPr>
              <a:xfrm>
                <a:off x="2733840" y="4981680"/>
                <a:ext cx="233640" cy="244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矩形 60"/>
              <p:cNvSpPr/>
              <p:nvPr/>
            </p:nvSpPr>
            <p:spPr>
              <a:xfrm>
                <a:off x="2733840" y="5226120"/>
                <a:ext cx="233640" cy="244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矩形 61"/>
              <p:cNvSpPr/>
              <p:nvPr/>
            </p:nvSpPr>
            <p:spPr>
              <a:xfrm>
                <a:off x="2733840" y="5470560"/>
                <a:ext cx="233640" cy="244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组合 62"/>
            <p:cNvGrpSpPr/>
            <p:nvPr/>
          </p:nvGrpSpPr>
          <p:grpSpPr>
            <a:xfrm>
              <a:off x="2500200" y="4981680"/>
              <a:ext cx="233640" cy="733320"/>
              <a:chOff x="2500200" y="4981680"/>
              <a:chExt cx="233640" cy="733320"/>
            </a:xfrm>
          </p:grpSpPr>
          <p:sp>
            <p:nvSpPr>
              <p:cNvPr id="113" name="矩形 63"/>
              <p:cNvSpPr/>
              <p:nvPr/>
            </p:nvSpPr>
            <p:spPr>
              <a:xfrm>
                <a:off x="2500200" y="4981680"/>
                <a:ext cx="233640" cy="244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矩形 64"/>
              <p:cNvSpPr/>
              <p:nvPr/>
            </p:nvSpPr>
            <p:spPr>
              <a:xfrm>
                <a:off x="2500200" y="5226120"/>
                <a:ext cx="233640" cy="244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矩形 65"/>
              <p:cNvSpPr/>
              <p:nvPr/>
            </p:nvSpPr>
            <p:spPr>
              <a:xfrm>
                <a:off x="2500200" y="5470560"/>
                <a:ext cx="233640" cy="244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66"/>
            <p:cNvSpPr/>
            <p:nvPr/>
          </p:nvSpPr>
          <p:spPr>
            <a:xfrm>
              <a:off x="3143160" y="4429080"/>
              <a:ext cx="64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100"/>
          <p:cNvGrpSpPr/>
          <p:nvPr/>
        </p:nvGrpSpPr>
        <p:grpSpPr>
          <a:xfrm>
            <a:off x="3643200" y="4643280"/>
            <a:ext cx="1785960" cy="1071720"/>
            <a:chOff x="3643200" y="4643280"/>
            <a:chExt cx="1785960" cy="1071720"/>
          </a:xfrm>
        </p:grpSpPr>
        <p:grpSp>
          <p:nvGrpSpPr>
            <p:cNvPr id="118" name="组合 68"/>
            <p:cNvGrpSpPr/>
            <p:nvPr/>
          </p:nvGrpSpPr>
          <p:grpSpPr>
            <a:xfrm>
              <a:off x="4795560" y="5212080"/>
              <a:ext cx="230400" cy="502920"/>
              <a:chOff x="4795560" y="5212080"/>
              <a:chExt cx="230400" cy="502920"/>
            </a:xfrm>
          </p:grpSpPr>
          <p:sp>
            <p:nvSpPr>
              <p:cNvPr id="119" name="矩形 69"/>
              <p:cNvSpPr/>
              <p:nvPr/>
            </p:nvSpPr>
            <p:spPr>
              <a:xfrm>
                <a:off x="4795560" y="5212080"/>
                <a:ext cx="230400" cy="252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70"/>
              <p:cNvSpPr/>
              <p:nvPr/>
            </p:nvSpPr>
            <p:spPr>
              <a:xfrm>
                <a:off x="4795560" y="5464440"/>
                <a:ext cx="230400" cy="25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组合 71"/>
            <p:cNvGrpSpPr/>
            <p:nvPr/>
          </p:nvGrpSpPr>
          <p:grpSpPr>
            <a:xfrm>
              <a:off x="4334400" y="5212080"/>
              <a:ext cx="230400" cy="502920"/>
              <a:chOff x="4334400" y="5212080"/>
              <a:chExt cx="230400" cy="502920"/>
            </a:xfrm>
          </p:grpSpPr>
          <p:sp>
            <p:nvSpPr>
              <p:cNvPr id="122" name="矩形 72"/>
              <p:cNvSpPr/>
              <p:nvPr/>
            </p:nvSpPr>
            <p:spPr>
              <a:xfrm>
                <a:off x="4334400" y="5212080"/>
                <a:ext cx="230400" cy="252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矩形 73"/>
              <p:cNvSpPr/>
              <p:nvPr/>
            </p:nvSpPr>
            <p:spPr>
              <a:xfrm>
                <a:off x="4334400" y="5464440"/>
                <a:ext cx="230400" cy="25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组合 74"/>
            <p:cNvGrpSpPr/>
            <p:nvPr/>
          </p:nvGrpSpPr>
          <p:grpSpPr>
            <a:xfrm>
              <a:off x="4565160" y="5212080"/>
              <a:ext cx="230400" cy="502920"/>
              <a:chOff x="4565160" y="5212080"/>
              <a:chExt cx="230400" cy="502920"/>
            </a:xfrm>
          </p:grpSpPr>
          <p:sp>
            <p:nvSpPr>
              <p:cNvPr id="125" name="矩形 75"/>
              <p:cNvSpPr/>
              <p:nvPr/>
            </p:nvSpPr>
            <p:spPr>
              <a:xfrm>
                <a:off x="4565160" y="5212080"/>
                <a:ext cx="230400" cy="252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矩形 76"/>
              <p:cNvSpPr/>
              <p:nvPr/>
            </p:nvSpPr>
            <p:spPr>
              <a:xfrm>
                <a:off x="4565160" y="5464440"/>
                <a:ext cx="230400" cy="25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组合 77"/>
            <p:cNvGrpSpPr/>
            <p:nvPr/>
          </p:nvGrpSpPr>
          <p:grpSpPr>
            <a:xfrm>
              <a:off x="4104000" y="5212080"/>
              <a:ext cx="230400" cy="502920"/>
              <a:chOff x="4104000" y="5212080"/>
              <a:chExt cx="230400" cy="502920"/>
            </a:xfrm>
          </p:grpSpPr>
          <p:sp>
            <p:nvSpPr>
              <p:cNvPr id="128" name="矩形 78"/>
              <p:cNvSpPr/>
              <p:nvPr/>
            </p:nvSpPr>
            <p:spPr>
              <a:xfrm>
                <a:off x="4104000" y="5212080"/>
                <a:ext cx="230400" cy="252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矩形 79"/>
              <p:cNvSpPr/>
              <p:nvPr/>
            </p:nvSpPr>
            <p:spPr>
              <a:xfrm>
                <a:off x="4104000" y="5464440"/>
                <a:ext cx="230400" cy="25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组合 80"/>
            <p:cNvGrpSpPr/>
            <p:nvPr/>
          </p:nvGrpSpPr>
          <p:grpSpPr>
            <a:xfrm>
              <a:off x="3873600" y="5212080"/>
              <a:ext cx="230400" cy="502920"/>
              <a:chOff x="3873600" y="5212080"/>
              <a:chExt cx="230400" cy="502920"/>
            </a:xfrm>
          </p:grpSpPr>
          <p:sp>
            <p:nvSpPr>
              <p:cNvPr id="131" name="矩形 81"/>
              <p:cNvSpPr/>
              <p:nvPr/>
            </p:nvSpPr>
            <p:spPr>
              <a:xfrm>
                <a:off x="3873600" y="5212080"/>
                <a:ext cx="230400" cy="252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矩形 82"/>
              <p:cNvSpPr/>
              <p:nvPr/>
            </p:nvSpPr>
            <p:spPr>
              <a:xfrm>
                <a:off x="3873600" y="5464440"/>
                <a:ext cx="230400" cy="25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组合 83"/>
            <p:cNvGrpSpPr/>
            <p:nvPr/>
          </p:nvGrpSpPr>
          <p:grpSpPr>
            <a:xfrm>
              <a:off x="3643200" y="5212080"/>
              <a:ext cx="230400" cy="502920"/>
              <a:chOff x="3643200" y="5212080"/>
              <a:chExt cx="230400" cy="502920"/>
            </a:xfrm>
          </p:grpSpPr>
          <p:sp>
            <p:nvSpPr>
              <p:cNvPr id="134" name="矩形 84"/>
              <p:cNvSpPr/>
              <p:nvPr/>
            </p:nvSpPr>
            <p:spPr>
              <a:xfrm>
                <a:off x="3643200" y="5212080"/>
                <a:ext cx="230400" cy="252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85"/>
              <p:cNvSpPr/>
              <p:nvPr/>
            </p:nvSpPr>
            <p:spPr>
              <a:xfrm>
                <a:off x="3643200" y="5464440"/>
                <a:ext cx="230400" cy="25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TextBox 110"/>
            <p:cNvSpPr/>
            <p:nvPr/>
          </p:nvSpPr>
          <p:spPr>
            <a:xfrm>
              <a:off x="4795560" y="4643280"/>
              <a:ext cx="63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145"/>
          <p:cNvGrpSpPr/>
          <p:nvPr/>
        </p:nvGrpSpPr>
        <p:grpSpPr>
          <a:xfrm>
            <a:off x="500040" y="6296040"/>
            <a:ext cx="1438200" cy="204840"/>
            <a:chOff x="500040" y="6296040"/>
            <a:chExt cx="1438200" cy="204840"/>
          </a:xfrm>
        </p:grpSpPr>
        <p:sp>
          <p:nvSpPr>
            <p:cNvPr id="138" name="矩形 125"/>
            <p:cNvSpPr/>
            <p:nvPr/>
          </p:nvSpPr>
          <p:spPr>
            <a:xfrm>
              <a:off x="739440" y="6296040"/>
              <a:ext cx="239760" cy="204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26"/>
            <p:cNvSpPr/>
            <p:nvPr/>
          </p:nvSpPr>
          <p:spPr>
            <a:xfrm>
              <a:off x="500040" y="6296040"/>
              <a:ext cx="239400" cy="204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27"/>
            <p:cNvSpPr/>
            <p:nvPr/>
          </p:nvSpPr>
          <p:spPr>
            <a:xfrm>
              <a:off x="979200" y="6296040"/>
              <a:ext cx="239400" cy="204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28"/>
            <p:cNvSpPr/>
            <p:nvPr/>
          </p:nvSpPr>
          <p:spPr>
            <a:xfrm>
              <a:off x="1218960" y="6296040"/>
              <a:ext cx="239760" cy="204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34"/>
            <p:cNvSpPr/>
            <p:nvPr/>
          </p:nvSpPr>
          <p:spPr>
            <a:xfrm>
              <a:off x="1698480" y="6296040"/>
              <a:ext cx="239760" cy="204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35"/>
            <p:cNvSpPr/>
            <p:nvPr/>
          </p:nvSpPr>
          <p:spPr>
            <a:xfrm>
              <a:off x="1458720" y="6296040"/>
              <a:ext cx="239400" cy="204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矩形 136"/>
          <p:cNvSpPr/>
          <p:nvPr/>
        </p:nvSpPr>
        <p:spPr>
          <a:xfrm>
            <a:off x="1938240" y="6296040"/>
            <a:ext cx="239760" cy="2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7"/>
          <p:cNvSpPr/>
          <p:nvPr/>
        </p:nvSpPr>
        <p:spPr>
          <a:xfrm>
            <a:off x="2178000" y="6296040"/>
            <a:ext cx="241200" cy="2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9"/>
          <p:cNvSpPr/>
          <p:nvPr/>
        </p:nvSpPr>
        <p:spPr>
          <a:xfrm>
            <a:off x="2658960" y="6296040"/>
            <a:ext cx="239760" cy="2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0"/>
          <p:cNvSpPr/>
          <p:nvPr/>
        </p:nvSpPr>
        <p:spPr>
          <a:xfrm>
            <a:off x="2419200" y="6296040"/>
            <a:ext cx="239760" cy="2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41"/>
          <p:cNvSpPr/>
          <p:nvPr/>
        </p:nvSpPr>
        <p:spPr>
          <a:xfrm>
            <a:off x="2898720" y="6296040"/>
            <a:ext cx="239760" cy="2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42"/>
          <p:cNvSpPr/>
          <p:nvPr/>
        </p:nvSpPr>
        <p:spPr>
          <a:xfrm>
            <a:off x="3138480" y="6296040"/>
            <a:ext cx="239760" cy="2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43"/>
          <p:cNvSpPr/>
          <p:nvPr/>
        </p:nvSpPr>
        <p:spPr>
          <a:xfrm>
            <a:off x="3143160" y="5643720"/>
            <a:ext cx="65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02"/>
          <p:cNvGrpSpPr/>
          <p:nvPr/>
        </p:nvGrpSpPr>
        <p:grpSpPr>
          <a:xfrm>
            <a:off x="5500800" y="2857680"/>
            <a:ext cx="3429000" cy="2856960"/>
            <a:chOff x="5500800" y="2857680"/>
            <a:chExt cx="3429000" cy="2856960"/>
          </a:xfrm>
        </p:grpSpPr>
        <p:sp>
          <p:nvSpPr>
            <p:cNvPr id="152" name="TextBox 44"/>
            <p:cNvSpPr/>
            <p:nvPr/>
          </p:nvSpPr>
          <p:spPr>
            <a:xfrm>
              <a:off x="5806800" y="4089240"/>
              <a:ext cx="67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组合 54"/>
            <p:cNvGrpSpPr/>
            <p:nvPr/>
          </p:nvGrpSpPr>
          <p:grpSpPr>
            <a:xfrm>
              <a:off x="5500800" y="2857680"/>
              <a:ext cx="3429000" cy="2856960"/>
              <a:chOff x="5500800" y="2857680"/>
              <a:chExt cx="3429000" cy="2856960"/>
            </a:xfrm>
          </p:grpSpPr>
          <p:grpSp>
            <p:nvGrpSpPr>
              <p:cNvPr id="154" name="组合 26"/>
              <p:cNvGrpSpPr/>
              <p:nvPr/>
            </p:nvGrpSpPr>
            <p:grpSpPr>
              <a:xfrm>
                <a:off x="6296760" y="5123520"/>
                <a:ext cx="244800" cy="591120"/>
                <a:chOff x="6296760" y="5123520"/>
                <a:chExt cx="244800" cy="591120"/>
              </a:xfrm>
            </p:grpSpPr>
            <p:sp>
              <p:nvSpPr>
                <p:cNvPr id="155" name="矩形 27"/>
                <p:cNvSpPr/>
                <p:nvPr/>
              </p:nvSpPr>
              <p:spPr>
                <a:xfrm>
                  <a:off x="6296760" y="5123520"/>
                  <a:ext cx="244800" cy="198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矩形 28"/>
                <p:cNvSpPr/>
                <p:nvPr/>
              </p:nvSpPr>
              <p:spPr>
                <a:xfrm>
                  <a:off x="6296760" y="5321520"/>
                  <a:ext cx="244800" cy="196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矩形 29"/>
                <p:cNvSpPr/>
                <p:nvPr/>
              </p:nvSpPr>
              <p:spPr>
                <a:xfrm>
                  <a:off x="6296760" y="5518080"/>
                  <a:ext cx="244800" cy="196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组合 30"/>
              <p:cNvGrpSpPr/>
              <p:nvPr/>
            </p:nvGrpSpPr>
            <p:grpSpPr>
              <a:xfrm>
                <a:off x="6786720" y="5320800"/>
                <a:ext cx="244800" cy="393840"/>
                <a:chOff x="6786720" y="5320800"/>
                <a:chExt cx="244800" cy="393840"/>
              </a:xfrm>
            </p:grpSpPr>
            <p:sp>
              <p:nvSpPr>
                <p:cNvPr id="159" name="矩形 31"/>
                <p:cNvSpPr/>
                <p:nvPr/>
              </p:nvSpPr>
              <p:spPr>
                <a:xfrm>
                  <a:off x="6786720" y="5320800"/>
                  <a:ext cx="244800" cy="197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矩形 32"/>
                <p:cNvSpPr/>
                <p:nvPr/>
              </p:nvSpPr>
              <p:spPr>
                <a:xfrm>
                  <a:off x="6786720" y="5518440"/>
                  <a:ext cx="244800" cy="196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组合 53"/>
              <p:cNvGrpSpPr/>
              <p:nvPr/>
            </p:nvGrpSpPr>
            <p:grpSpPr>
              <a:xfrm>
                <a:off x="5500800" y="2857680"/>
                <a:ext cx="3429000" cy="2856960"/>
                <a:chOff x="5500800" y="2857680"/>
                <a:chExt cx="3429000" cy="2856960"/>
              </a:xfrm>
            </p:grpSpPr>
            <p:sp>
              <p:nvSpPr>
                <p:cNvPr id="162" name="TextBox 46"/>
                <p:cNvSpPr/>
                <p:nvPr/>
              </p:nvSpPr>
              <p:spPr>
                <a:xfrm>
                  <a:off x="6296760" y="4727160"/>
                  <a:ext cx="673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" name="组合 52"/>
                <p:cNvGrpSpPr/>
                <p:nvPr/>
              </p:nvGrpSpPr>
              <p:grpSpPr>
                <a:xfrm>
                  <a:off x="5500800" y="2857680"/>
                  <a:ext cx="3429000" cy="2856960"/>
                  <a:chOff x="5500800" y="2857680"/>
                  <a:chExt cx="3429000" cy="2856960"/>
                </a:xfrm>
              </p:grpSpPr>
              <p:sp>
                <p:nvSpPr>
                  <p:cNvPr id="164" name="TextBox 43"/>
                  <p:cNvSpPr/>
                  <p:nvPr/>
                </p:nvSpPr>
                <p:spPr>
                  <a:xfrm>
                    <a:off x="5500800" y="2857680"/>
                    <a:ext cx="6735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TextBox 47"/>
                  <p:cNvSpPr/>
                  <p:nvPr/>
                </p:nvSpPr>
                <p:spPr>
                  <a:xfrm>
                    <a:off x="6786720" y="4924440"/>
                    <a:ext cx="6735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e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TextBox 48"/>
                  <p:cNvSpPr/>
                  <p:nvPr/>
                </p:nvSpPr>
                <p:spPr>
                  <a:xfrm>
                    <a:off x="8256240" y="5072040"/>
                    <a:ext cx="6735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f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7" name="组合 51"/>
                  <p:cNvGrpSpPr/>
                  <p:nvPr/>
                </p:nvGrpSpPr>
                <p:grpSpPr>
                  <a:xfrm>
                    <a:off x="5562000" y="3334680"/>
                    <a:ext cx="2939040" cy="2379600"/>
                    <a:chOff x="5562000" y="3334680"/>
                    <a:chExt cx="2939040" cy="2379600"/>
                  </a:xfrm>
                </p:grpSpPr>
                <p:grpSp>
                  <p:nvGrpSpPr>
                    <p:cNvPr id="168" name="组合 50"/>
                    <p:cNvGrpSpPr/>
                    <p:nvPr/>
                  </p:nvGrpSpPr>
                  <p:grpSpPr>
                    <a:xfrm>
                      <a:off x="5562000" y="3349080"/>
                      <a:ext cx="2939040" cy="2365200"/>
                      <a:chOff x="5562000" y="3349080"/>
                      <a:chExt cx="2939040" cy="2365200"/>
                    </a:xfrm>
                  </p:grpSpPr>
                  <p:grpSp>
                    <p:nvGrpSpPr>
                      <p:cNvPr id="169" name="组合 1"/>
                      <p:cNvGrpSpPr/>
                      <p:nvPr/>
                    </p:nvGrpSpPr>
                    <p:grpSpPr>
                      <a:xfrm>
                        <a:off x="5562000" y="3349080"/>
                        <a:ext cx="244800" cy="2365200"/>
                        <a:chOff x="5562000" y="3349080"/>
                        <a:chExt cx="244800" cy="2365200"/>
                      </a:xfrm>
                    </p:grpSpPr>
                    <p:sp>
                      <p:nvSpPr>
                        <p:cNvPr id="170" name="矩形 2"/>
                        <p:cNvSpPr/>
                        <p:nvPr/>
                      </p:nvSpPr>
                      <p:spPr>
                        <a:xfrm>
                          <a:off x="5562000" y="551736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矩形 3"/>
                        <p:cNvSpPr/>
                        <p:nvPr/>
                      </p:nvSpPr>
                      <p:spPr>
                        <a:xfrm>
                          <a:off x="5562000" y="532008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矩形 4"/>
                        <p:cNvSpPr/>
                        <p:nvPr/>
                      </p:nvSpPr>
                      <p:spPr>
                        <a:xfrm>
                          <a:off x="5562000" y="512316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矩形 5"/>
                        <p:cNvSpPr/>
                        <p:nvPr/>
                      </p:nvSpPr>
                      <p:spPr>
                        <a:xfrm>
                          <a:off x="5562000" y="492588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矩形 6"/>
                        <p:cNvSpPr/>
                        <p:nvPr/>
                      </p:nvSpPr>
                      <p:spPr>
                        <a:xfrm>
                          <a:off x="5562000" y="472896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矩形 7"/>
                        <p:cNvSpPr/>
                        <p:nvPr/>
                      </p:nvSpPr>
                      <p:spPr>
                        <a:xfrm>
                          <a:off x="5562000" y="453168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矩形 8"/>
                        <p:cNvSpPr/>
                        <p:nvPr/>
                      </p:nvSpPr>
                      <p:spPr>
                        <a:xfrm>
                          <a:off x="5562000" y="413568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矩形 9"/>
                        <p:cNvSpPr/>
                        <p:nvPr/>
                      </p:nvSpPr>
                      <p:spPr>
                        <a:xfrm>
                          <a:off x="5562000" y="4332960"/>
                          <a:ext cx="244800" cy="19836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矩形 10"/>
                        <p:cNvSpPr/>
                        <p:nvPr/>
                      </p:nvSpPr>
                      <p:spPr>
                        <a:xfrm>
                          <a:off x="5562000" y="334908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矩形 11"/>
                        <p:cNvSpPr/>
                        <p:nvPr/>
                      </p:nvSpPr>
                      <p:spPr>
                        <a:xfrm>
                          <a:off x="5562000" y="354600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矩形 12"/>
                        <p:cNvSpPr/>
                        <p:nvPr/>
                      </p:nvSpPr>
                      <p:spPr>
                        <a:xfrm>
                          <a:off x="5562000" y="3743280"/>
                          <a:ext cx="244800" cy="19548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矩形 13"/>
                        <p:cNvSpPr/>
                        <p:nvPr/>
                      </p:nvSpPr>
                      <p:spPr>
                        <a:xfrm>
                          <a:off x="5562000" y="393876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2" name="组合 14"/>
                      <p:cNvGrpSpPr/>
                      <p:nvPr/>
                    </p:nvGrpSpPr>
                    <p:grpSpPr>
                      <a:xfrm>
                        <a:off x="5806800" y="4531680"/>
                        <a:ext cx="244800" cy="1182600"/>
                        <a:chOff x="5806800" y="4531680"/>
                        <a:chExt cx="244800" cy="1182600"/>
                      </a:xfrm>
                    </p:grpSpPr>
                    <p:sp>
                      <p:nvSpPr>
                        <p:cNvPr id="183" name="矩形 15"/>
                        <p:cNvSpPr/>
                        <p:nvPr/>
                      </p:nvSpPr>
                      <p:spPr>
                        <a:xfrm>
                          <a:off x="5806800" y="453168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矩形 16"/>
                        <p:cNvSpPr/>
                        <p:nvPr/>
                      </p:nvSpPr>
                      <p:spPr>
                        <a:xfrm>
                          <a:off x="5806800" y="472896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矩形 17"/>
                        <p:cNvSpPr/>
                        <p:nvPr/>
                      </p:nvSpPr>
                      <p:spPr>
                        <a:xfrm>
                          <a:off x="5806800" y="4926240"/>
                          <a:ext cx="244800" cy="19548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矩形 18"/>
                        <p:cNvSpPr/>
                        <p:nvPr/>
                      </p:nvSpPr>
                      <p:spPr>
                        <a:xfrm>
                          <a:off x="5806800" y="531972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矩形 19"/>
                        <p:cNvSpPr/>
                        <p:nvPr/>
                      </p:nvSpPr>
                      <p:spPr>
                        <a:xfrm>
                          <a:off x="5806800" y="551700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矩形 151"/>
                        <p:cNvSpPr/>
                        <p:nvPr/>
                      </p:nvSpPr>
                      <p:spPr>
                        <a:xfrm>
                          <a:off x="5806800" y="512208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9" name="组合 21"/>
                      <p:cNvGrpSpPr/>
                      <p:nvPr/>
                    </p:nvGrpSpPr>
                    <p:grpSpPr>
                      <a:xfrm>
                        <a:off x="6051960" y="4925880"/>
                        <a:ext cx="244800" cy="788400"/>
                        <a:chOff x="6051960" y="4925880"/>
                        <a:chExt cx="244800" cy="788400"/>
                      </a:xfrm>
                    </p:grpSpPr>
                    <p:sp>
                      <p:nvSpPr>
                        <p:cNvPr id="190" name="矩形 138"/>
                        <p:cNvSpPr/>
                        <p:nvPr/>
                      </p:nvSpPr>
                      <p:spPr>
                        <a:xfrm>
                          <a:off x="6051960" y="4925880"/>
                          <a:ext cx="244800" cy="1958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矩形 143"/>
                        <p:cNvSpPr/>
                        <p:nvPr/>
                      </p:nvSpPr>
                      <p:spPr>
                        <a:xfrm>
                          <a:off x="6051960" y="512172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矩形 144"/>
                        <p:cNvSpPr/>
                        <p:nvPr/>
                      </p:nvSpPr>
                      <p:spPr>
                        <a:xfrm>
                          <a:off x="6051960" y="531936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矩形 145"/>
                        <p:cNvSpPr/>
                        <p:nvPr/>
                      </p:nvSpPr>
                      <p:spPr>
                        <a:xfrm>
                          <a:off x="6051960" y="551700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4" name="组合 33"/>
                      <p:cNvGrpSpPr/>
                      <p:nvPr/>
                    </p:nvGrpSpPr>
                    <p:grpSpPr>
                      <a:xfrm>
                        <a:off x="6541920" y="5320080"/>
                        <a:ext cx="244800" cy="394200"/>
                        <a:chOff x="6541920" y="5320080"/>
                        <a:chExt cx="244800" cy="394200"/>
                      </a:xfrm>
                    </p:grpSpPr>
                    <p:sp>
                      <p:nvSpPr>
                        <p:cNvPr id="195" name="矩形 132"/>
                        <p:cNvSpPr/>
                        <p:nvPr/>
                      </p:nvSpPr>
                      <p:spPr>
                        <a:xfrm>
                          <a:off x="6541920" y="532008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矩形 133"/>
                        <p:cNvSpPr/>
                        <p:nvPr/>
                      </p:nvSpPr>
                      <p:spPr>
                        <a:xfrm>
                          <a:off x="6541920" y="5517000"/>
                          <a:ext cx="244800" cy="19728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7" name="组合 36"/>
                      <p:cNvGrpSpPr/>
                      <p:nvPr/>
                    </p:nvGrpSpPr>
                    <p:grpSpPr>
                      <a:xfrm>
                        <a:off x="7031520" y="5517360"/>
                        <a:ext cx="1469520" cy="196920"/>
                        <a:chOff x="7031520" y="5517360"/>
                        <a:chExt cx="1469520" cy="196920"/>
                      </a:xfrm>
                    </p:grpSpPr>
                    <p:sp>
                      <p:nvSpPr>
                        <p:cNvPr id="198" name="矩形 122"/>
                        <p:cNvSpPr/>
                        <p:nvPr/>
                      </p:nvSpPr>
                      <p:spPr>
                        <a:xfrm>
                          <a:off x="7276320" y="5517360"/>
                          <a:ext cx="243360" cy="19692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矩形 123"/>
                        <p:cNvSpPr/>
                        <p:nvPr/>
                      </p:nvSpPr>
                      <p:spPr>
                        <a:xfrm>
                          <a:off x="7031520" y="551736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矩形 124"/>
                        <p:cNvSpPr/>
                        <p:nvPr/>
                      </p:nvSpPr>
                      <p:spPr>
                        <a:xfrm>
                          <a:off x="7519680" y="5517360"/>
                          <a:ext cx="246240" cy="19692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矩形 129"/>
                        <p:cNvSpPr/>
                        <p:nvPr/>
                      </p:nvSpPr>
                      <p:spPr>
                        <a:xfrm>
                          <a:off x="7766280" y="551736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矩形 130"/>
                        <p:cNvSpPr/>
                        <p:nvPr/>
                      </p:nvSpPr>
                      <p:spPr>
                        <a:xfrm>
                          <a:off x="8256240" y="551736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矩形 131"/>
                        <p:cNvSpPr/>
                        <p:nvPr/>
                      </p:nvSpPr>
                      <p:spPr>
                        <a:xfrm>
                          <a:off x="8011080" y="5517360"/>
                          <a:ext cx="244800" cy="19692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04" name="TextBox 45"/>
                      <p:cNvSpPr/>
                      <p:nvPr/>
                    </p:nvSpPr>
                    <p:spPr>
                      <a:xfrm>
                        <a:off x="6051960" y="4531680"/>
                        <a:ext cx="673560" cy="642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c</a:t>
                        </a:r>
                        <a:endParaRPr b="0" lang="en-US" sz="3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5" name="任意多边形 115"/>
                    <p:cNvSpPr/>
                    <p:nvPr/>
                  </p:nvSpPr>
                  <p:spPr>
                    <a:xfrm>
                      <a:off x="5794200" y="3334680"/>
                      <a:ext cx="2691360" cy="21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39440" h="3169920">
                          <a:moveTo>
                            <a:pt x="0" y="0"/>
                          </a:moveTo>
                          <a:cubicBezTo>
                            <a:pt x="96520" y="669290"/>
                            <a:pt x="193040" y="1338580"/>
                            <a:pt x="289560" y="1722120"/>
                          </a:cubicBezTo>
                          <a:cubicBezTo>
                            <a:pt x="386080" y="2105660"/>
                            <a:pt x="485140" y="2156460"/>
                            <a:pt x="579120" y="2301240"/>
                          </a:cubicBezTo>
                          <a:cubicBezTo>
                            <a:pt x="673100" y="2446020"/>
                            <a:pt x="708660" y="2494280"/>
                            <a:pt x="853440" y="2590800"/>
                          </a:cubicBezTo>
                          <a:cubicBezTo>
                            <a:pt x="998220" y="2687320"/>
                            <a:pt x="1066800" y="2783840"/>
                            <a:pt x="1447800" y="2880360"/>
                          </a:cubicBezTo>
                          <a:cubicBezTo>
                            <a:pt x="1828800" y="2976880"/>
                            <a:pt x="3139440" y="3169920"/>
                            <a:pt x="3139440" y="3169920"/>
                          </a:cubicBezTo>
                          <a:lnTo>
                            <a:pt x="3139440" y="3169920"/>
                          </a:lnTo>
                        </a:path>
                      </a:pathLst>
                    </a:cu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682560" y="11592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方形的长、宽、面积有下面的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684360" y="142884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两种相依变化的量，如果它们相对应的两个数的积一定，这两种量就叫做成反比例的量，它们的关系叫做反比例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684360" y="3959280"/>
            <a:ext cx="72738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字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两种相依变化的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用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它们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积（一定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反比例关系可以概括成下面的式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916360" y="57294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一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0"/>
              <p:cNvSpPr txBox="1"/>
              <p:nvPr/>
            </p:nvSpPr>
            <p:spPr>
              <a:xfrm>
                <a:off x="2857680" y="857160"/>
                <a:ext cx="3246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长</m:t>
                    </m:r>
                    <m:r>
                      <m:t xml:space="preserve">×</m:t>
                    </m:r>
                    <m:r>
                      <m:t xml:space="preserve">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面积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一定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1"/>
              <p:cNvSpPr txBox="1"/>
              <p:nvPr/>
            </p:nvSpPr>
            <p:spPr>
              <a:xfrm>
                <a:off x="2843280" y="858960"/>
                <a:ext cx="457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长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3564000" y="858960"/>
                <a:ext cx="4316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4284720" y="836640"/>
                <a:ext cx="1828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面积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一定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95280" y="60480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练习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铺地面积一定时，方砖边长与所需块数成不成反比例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900000" y="2349360"/>
            <a:ext cx="207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因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6"/>
              <p:cNvSpPr txBox="1"/>
              <p:nvPr/>
            </p:nvSpPr>
            <p:spPr>
              <a:xfrm>
                <a:off x="1287360" y="3284640"/>
                <a:ext cx="66373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方砖边长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所需块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铺地面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Text Box 7"/>
          <p:cNvSpPr/>
          <p:nvPr/>
        </p:nvSpPr>
        <p:spPr>
          <a:xfrm>
            <a:off x="3071880" y="32432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900000" y="4076640"/>
            <a:ext cx="19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295280" y="48690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方砖边长与所需块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反比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357120" y="169920"/>
            <a:ext cx="83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练习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用一批纸装订大小相同的练习本。每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页，可以装订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本；每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页，可以装订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本。用等式表示其中的数量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714240" y="3436920"/>
            <a:ext cx="842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每本装订的页数和装订的本数成反比例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2700360" y="43578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×200=25×1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457200" y="106668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乒乓球总个数一定，每盒装的个数和需要的盒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533520" y="205740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反比例，因为各数越多需要的盒数越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380880" y="259092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长方形的面积一定，长方形的长和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457200" y="3124080"/>
            <a:ext cx="83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反比例，因为长方形的长越长，宽就越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457200" y="365760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长方形的周长一定，长方形的长和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457200" y="411480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不成比例关系，因为长方形的面积不固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457200" y="457200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轮船行驶的速度一定，行驶的路程和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533520" y="548640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正比例，因为行驶的路程越多需要的时间越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762120" y="304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练习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428760" y="500040"/>
            <a:ext cx="82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每小时织布的米数一定，织布的总米数和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571680" y="15717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正比例，因为织布的总米数越长需要的时间越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500040" y="278604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全班总人数一定，男生人数和女生人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571680" y="37735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不成比例关系，因为没有对应的乘积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10:59:14Z</dcterms:created>
  <dc:creator/>
  <dc:description/>
  <cp:keywords/>
  <dc:language>en-US</dc:language>
  <cp:lastModifiedBy/>
  <dcterms:modified xsi:type="dcterms:W3CDTF">2015-05-19T02:41:11Z</dcterms:modified>
  <cp:revision>1</cp:revision>
  <dc:subject/>
  <dc:title/>
</cp:coreProperties>
</file>