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amera.wav" ContentType="audio/x-wav"/>
  <Override PartName="/ppt/media/image6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C6C1-57AF-4B38-AAE3-F24907F5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1E50-89CA-4EEF-BDD4-85652735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B773-591E-43B8-98DD-940B23C4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2D56-FD11-4284-9E96-D7E9A0FD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E380-8E7D-4A90-908B-01E54617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D8CB-E630-4E2A-8652-AEF5EE8F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5873-B639-4BA5-8F02-DBD520D3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24DA-FD73-47B6-A1B3-56F1D2CC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1D47-00FE-4B5F-B7EB-11116252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07CF-1D02-43FD-9835-969067BD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D637-03C8-4498-ADD1-FE4697E9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AB7-36C0-4F56-B83A-5F4741AC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706E-06B9-41BC-9AB9-F388B433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7B6F-C92A-425F-A240-0FCEF884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FB43-F89E-4C05-A0D3-0E5AC204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7F77-6AEB-46D9-8929-A9746408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22EE-6158-4CA2-9C8B-D6D619D6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9E642-CD5B-475C-9B93-958361AA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90F64-9E16-4D33-9B50-BF87A43F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768DB-DFA9-4F43-AFBF-72D7FE06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4CE41-11EB-4CF8-95A7-FE02D53E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5CCA8-AAF3-41ED-9DEB-9DF891A0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B8C8-A83F-4BD3-9484-5B600764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163F6-93BF-4E5D-BD3F-1AB7109F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6EC65-45D9-4001-9C88-C08C9BDC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61C9C-4267-4694-8694-F7813E39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F6A6E-D9B6-41BB-B2FB-576DEA93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B03AB-FCF0-4DF1-905C-199D68D5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69D20-FB01-4393-A3ED-F18518C0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76C62-D791-4896-93E2-CD722135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24284-C978-4B3C-8F39-C46388DE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F0B47-6AE9-4BD3-99BE-2BF62653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AB463-384F-4A7A-9F22-28A09940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9F3E-C113-4A26-A0DE-50F194E5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F2D92-5E68-436C-B065-9680BD33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1A4D4-0114-4A43-B323-A3A5C6F2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5A7E3-D9D5-4139-99D6-D10E1FA2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B86B1-A3AA-44D8-B3FC-7165205E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F71D5-4CE3-482E-AFFD-9FCDF549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B41C3-6275-49F6-9827-3148F89C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9D33F-9FA1-4EEB-90B7-C93A4986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EAEEA-80AA-4885-9564-6C328B42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47EC8-FB8B-494E-88ED-2DD43EBC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D471B5-9868-429F-8984-7429F9DEC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998-0CDD-4385-8D3D-898217C7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0BCB33-FC05-476B-A56E-4E089152C0F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463CD8-D691-42D0-AE7A-BAEAD554C4F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DEE22C-DD43-4833-A1AD-432FBB0988E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BA37DA-00A5-4007-823B-1890FD70917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DCCDAF-599B-45A0-8921-696F600A43F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ACDCDA-5505-4DC2-A27C-D8B073FB0A4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FE6F3A-F93A-42BF-AE83-86ABAB8D37B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03D00F-59BC-4161-B866-F3A84B641F3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6B6EAF-A04A-42BC-9943-DA2FC53172D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1BFDB5-1792-4A07-8816-9334AEB85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23D-93CE-4D5E-8342-2FA7133F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0E9AED-1996-4225-9E66-87478B5061F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643804-6D99-4156-A6A3-B10EF54B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BF960D-6B55-4650-8589-5CEA2F95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A6E053-B094-4D12-9B24-384E0F7F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EF0DFB-8BF3-420F-B76B-3D675FF1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16C3AE-2F01-41E1-95BD-77E2D7C0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CFE5F3-C449-4D8D-B4EA-07C3B6B8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4910E9-D186-49F7-A74E-9B586F2E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B067F5-2BBF-44F8-9E00-4B546B73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EB633D-F3F4-441E-833B-D52A868F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D7DD-24BD-4214-A563-B165AD72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81AB5D-92BB-48DC-B96C-784DB402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FC55D7-424E-4F02-B885-917C0A6C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E921E7-CD58-4D7D-BBFB-5F26FBE6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3C2366-BB2A-40B9-8C5D-B51765DCFDC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2E0AD2-6484-438A-ACD9-0BB5302BA67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168100-EBAC-41B7-9584-9ACC5718822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175B77-8B8A-456A-8484-3A61632EA27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2094B3-5096-4356-BBA4-4B8D0D1E8C9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E0C5F6-A62C-4A50-8C63-EED74CB3C35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DF0F5B-E485-49DF-B4A9-C04ED7AD2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CE94-5D0C-4CB8-8D1C-958153C2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9F1E2A-A961-4694-9413-F7792EE6FEE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2E2D1F-35C5-48F2-B69C-244C31F4DA4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64B507-798B-4A97-9903-E01FFD37C57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BC658B-2CC6-485C-B136-37099F3A76C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6E7C69-13CE-4468-A24B-F0D8B4188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E50-38F3-46BB-9D27-6D5A7786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1749-5C77-480B-9C74-C9478DBC2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B348-4985-4654-B211-807077146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C90A-FE80-4BDF-8F65-79A3C2475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spjy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5067-FED4-4F8B-BCE1-BE3F1FD7F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3"/>
          </p:nvPr>
        </p:nvSpPr>
        <p:spPr>
          <a:xfrm>
            <a:off x="7235640" y="6453360"/>
            <a:ext cx="143964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4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3EAA61A-62C4-49BD-9C7B-57D3F885E3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spjy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FFBD-029E-494E-B90D-CD438400E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17"/>
          </p:nvPr>
        </p:nvSpPr>
        <p:spPr>
          <a:xfrm>
            <a:off x="7235640" y="6453360"/>
            <a:ext cx="143964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4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8F9F973-12E3-4F1D-853D-1D7E852863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方向与位置（十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2714760" y="1663560"/>
          <a:ext cx="5241960" cy="2917800"/>
        </p:xfrm>
        <a:graphic>
          <a:graphicData uri="http://schemas.openxmlformats.org/drawingml/2006/table">
            <a:tbl>
              <a:tblPr/>
              <a:tblGrid>
                <a:gridCol w="873000"/>
                <a:gridCol w="873000"/>
                <a:gridCol w="873360"/>
                <a:gridCol w="873000"/>
                <a:gridCol w="873000"/>
                <a:gridCol w="8766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ff00"/>
                      </a:solidFill>
                    </a:lnL>
                    <a:lnR w="9360">
                      <a:solidFill>
                        <a:srgbClr val="00ff00"/>
                      </a:solidFill>
                    </a:lnR>
                    <a:lnT w="9360">
                      <a:solidFill>
                        <a:srgbClr val="00ff00"/>
                      </a:solidFill>
                    </a:lnT>
                    <a:lnB w="9360">
                      <a:solidFill>
                        <a:srgbClr val="00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Text Box 3"/>
          <p:cNvSpPr/>
          <p:nvPr/>
        </p:nvSpPr>
        <p:spPr>
          <a:xfrm>
            <a:off x="380880" y="45720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队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8"/>
          <p:cNvSpPr/>
          <p:nvPr/>
        </p:nvSpPr>
        <p:spPr>
          <a:xfrm>
            <a:off x="1066680" y="3286080"/>
            <a:ext cx="14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9"/>
          <p:cNvSpPr/>
          <p:nvPr/>
        </p:nvSpPr>
        <p:spPr>
          <a:xfrm>
            <a:off x="1066680" y="386064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0"/>
          <p:cNvSpPr/>
          <p:nvPr/>
        </p:nvSpPr>
        <p:spPr>
          <a:xfrm>
            <a:off x="1066680" y="4437000"/>
            <a:ext cx="14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71"/>
          <p:cNvSpPr/>
          <p:nvPr/>
        </p:nvSpPr>
        <p:spPr>
          <a:xfrm>
            <a:off x="1066680" y="2709720"/>
            <a:ext cx="14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2"/>
          <p:cNvSpPr/>
          <p:nvPr/>
        </p:nvSpPr>
        <p:spPr>
          <a:xfrm>
            <a:off x="1066680" y="2133720"/>
            <a:ext cx="14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五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3"/>
          <p:cNvSpPr/>
          <p:nvPr/>
        </p:nvSpPr>
        <p:spPr>
          <a:xfrm>
            <a:off x="1066680" y="1557360"/>
            <a:ext cx="14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六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4"/>
          <p:cNvSpPr/>
          <p:nvPr/>
        </p:nvSpPr>
        <p:spPr>
          <a:xfrm>
            <a:off x="2477520" y="4903920"/>
            <a:ext cx="60696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5"/>
          <p:cNvSpPr/>
          <p:nvPr/>
        </p:nvSpPr>
        <p:spPr>
          <a:xfrm>
            <a:off x="3361680" y="445428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6"/>
          <p:cNvSpPr/>
          <p:nvPr/>
        </p:nvSpPr>
        <p:spPr>
          <a:xfrm>
            <a:off x="4200120" y="445428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7"/>
          <p:cNvSpPr/>
          <p:nvPr/>
        </p:nvSpPr>
        <p:spPr>
          <a:xfrm>
            <a:off x="5114520" y="445428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8"/>
          <p:cNvSpPr/>
          <p:nvPr/>
        </p:nvSpPr>
        <p:spPr>
          <a:xfrm>
            <a:off x="5952600" y="445428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五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9"/>
          <p:cNvSpPr/>
          <p:nvPr/>
        </p:nvSpPr>
        <p:spPr>
          <a:xfrm>
            <a:off x="6790680" y="445428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六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0"/>
          <p:cNvSpPr/>
          <p:nvPr/>
        </p:nvSpPr>
        <p:spPr>
          <a:xfrm>
            <a:off x="7516440" y="443988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七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81"/>
          <p:cNvSpPr/>
          <p:nvPr/>
        </p:nvSpPr>
        <p:spPr>
          <a:xfrm>
            <a:off x="3492360" y="393372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82"/>
          <p:cNvSpPr/>
          <p:nvPr/>
        </p:nvSpPr>
        <p:spPr>
          <a:xfrm>
            <a:off x="5219640" y="213372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83"/>
          <p:cNvSpPr/>
          <p:nvPr/>
        </p:nvSpPr>
        <p:spPr>
          <a:xfrm>
            <a:off x="7885080" y="155736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84"/>
          <p:cNvSpPr/>
          <p:nvPr/>
        </p:nvSpPr>
        <p:spPr>
          <a:xfrm>
            <a:off x="7885080" y="4437000"/>
            <a:ext cx="144360" cy="144360"/>
          </a:xfrm>
          <a:prstGeom prst="ellipse">
            <a:avLst/>
          </a:prstGeom>
          <a:solidFill>
            <a:srgbClr val="08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85"/>
          <p:cNvSpPr/>
          <p:nvPr/>
        </p:nvSpPr>
        <p:spPr>
          <a:xfrm>
            <a:off x="2627280" y="45100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6"/>
          <p:cNvSpPr/>
          <p:nvPr/>
        </p:nvSpPr>
        <p:spPr>
          <a:xfrm>
            <a:off x="2646000" y="8380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说出下面各点的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87"/>
          <p:cNvSpPr/>
          <p:nvPr/>
        </p:nvSpPr>
        <p:spPr>
          <a:xfrm>
            <a:off x="1476360" y="573408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88"/>
          <p:cNvSpPr/>
          <p:nvPr/>
        </p:nvSpPr>
        <p:spPr>
          <a:xfrm>
            <a:off x="2844720" y="573408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89"/>
          <p:cNvSpPr/>
          <p:nvPr/>
        </p:nvSpPr>
        <p:spPr>
          <a:xfrm>
            <a:off x="4427640" y="573408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90"/>
          <p:cNvSpPr/>
          <p:nvPr/>
        </p:nvSpPr>
        <p:spPr>
          <a:xfrm>
            <a:off x="6012000" y="5734080"/>
            <a:ext cx="144360" cy="144360"/>
          </a:xfrm>
          <a:prstGeom prst="ellipse">
            <a:avLst/>
          </a:prstGeom>
          <a:solidFill>
            <a:srgbClr val="08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91"/>
          <p:cNvSpPr/>
          <p:nvPr/>
        </p:nvSpPr>
        <p:spPr>
          <a:xfrm>
            <a:off x="7380360" y="573408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92"/>
          <p:cNvSpPr/>
          <p:nvPr/>
        </p:nvSpPr>
        <p:spPr>
          <a:xfrm>
            <a:off x="756720" y="589752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3"/>
          <p:cNvSpPr/>
          <p:nvPr/>
        </p:nvSpPr>
        <p:spPr>
          <a:xfrm>
            <a:off x="2180520" y="587844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94"/>
          <p:cNvSpPr/>
          <p:nvPr/>
        </p:nvSpPr>
        <p:spPr>
          <a:xfrm>
            <a:off x="3635280" y="5956200"/>
            <a:ext cx="17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5"/>
          <p:cNvSpPr/>
          <p:nvPr/>
        </p:nvSpPr>
        <p:spPr>
          <a:xfrm>
            <a:off x="5187960" y="5992920"/>
            <a:ext cx="17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6"/>
          <p:cNvSpPr/>
          <p:nvPr/>
        </p:nvSpPr>
        <p:spPr>
          <a:xfrm>
            <a:off x="6678720" y="595620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617040" y="614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向与距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"/>
          <p:cNvSpPr/>
          <p:nvPr/>
        </p:nvSpPr>
        <p:spPr>
          <a:xfrm>
            <a:off x="3565440" y="2781360"/>
            <a:ext cx="122256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"/>
          <p:cNvSpPr/>
          <p:nvPr/>
        </p:nvSpPr>
        <p:spPr>
          <a:xfrm flipH="1">
            <a:off x="2266560" y="2781360"/>
            <a:ext cx="129708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6"/>
          <p:cNvSpPr/>
          <p:nvPr/>
        </p:nvSpPr>
        <p:spPr>
          <a:xfrm>
            <a:off x="3564000" y="2781360"/>
            <a:ext cx="1440" cy="1224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V="1">
            <a:off x="3564000" y="1628640"/>
            <a:ext cx="1440" cy="115272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3495240" y="1341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宋体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4863960" y="26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宋体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1911240" y="2565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宋体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3423960" y="4005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宋体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2"/>
          <p:cNvSpPr/>
          <p:nvPr/>
        </p:nvSpPr>
        <p:spPr>
          <a:xfrm>
            <a:off x="3858120" y="2854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宋体"/>
              </a:rPr>
              <a:t>指挥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3"/>
          <p:cNvSpPr/>
          <p:nvPr/>
        </p:nvSpPr>
        <p:spPr>
          <a:xfrm flipH="1" flipV="1">
            <a:off x="2556000" y="213336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4"/>
          <p:cNvSpPr/>
          <p:nvPr/>
        </p:nvSpPr>
        <p:spPr>
          <a:xfrm>
            <a:off x="2484360" y="2060640"/>
            <a:ext cx="745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2198160" y="1371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红军阵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6"/>
          <p:cNvSpPr/>
          <p:nvPr/>
        </p:nvSpPr>
        <p:spPr>
          <a:xfrm>
            <a:off x="3492360" y="2708280"/>
            <a:ext cx="7488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未知"/>
          <p:cNvSpPr/>
          <p:nvPr/>
        </p:nvSpPr>
        <p:spPr>
          <a:xfrm>
            <a:off x="3367080" y="2584440"/>
            <a:ext cx="192240" cy="46080"/>
          </a:xfrm>
          <a:custGeom>
            <a:avLst/>
            <a:gdLst>
              <a:gd name="textAreaLeft" fmla="*/ 0 w 192240"/>
              <a:gd name="textAreaRight" fmla="*/ 192600 w 1922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1600" h="21600">
                <a:moveTo>
                  <a:pt x="21600" y="15211"/>
                </a:moveTo>
                <a:cubicBezTo>
                  <a:pt x="20392" y="13081"/>
                  <a:pt x="16839" y="5171"/>
                  <a:pt x="14423" y="3042"/>
                </a:cubicBezTo>
                <a:cubicBezTo>
                  <a:pt x="12007" y="912"/>
                  <a:pt x="9592" y="0"/>
                  <a:pt x="7176" y="3042"/>
                </a:cubicBezTo>
                <a:cubicBezTo>
                  <a:pt x="4760" y="6084"/>
                  <a:pt x="1207" y="18557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2971800" y="1905120"/>
            <a:ext cx="1066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800" spc="-1" strike="noStrike" baseline="50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2346840" y="227664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0"/>
          <p:cNvSpPr/>
          <p:nvPr/>
        </p:nvSpPr>
        <p:spPr>
          <a:xfrm>
            <a:off x="747720" y="4238640"/>
            <a:ext cx="83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指挥部为观测点，红军阵地在什么位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776160" y="4676760"/>
            <a:ext cx="7453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红军阵地在指挥部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北偏西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50</a:t>
            </a:r>
            <a:r>
              <a:rPr b="1" lang="zh-CN" sz="2800" spc="-1" strike="noStrike" baseline="50000">
                <a:solidFill>
                  <a:srgbClr val="ff0000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千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762120" y="54100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描述一个点的位置，既要说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方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也要说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距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这样才能确定一个点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amera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3"/>
          <p:cNvSpPr/>
          <p:nvPr/>
        </p:nvSpPr>
        <p:spPr>
          <a:xfrm>
            <a:off x="3719520" y="4032360"/>
            <a:ext cx="1268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4463280" y="371628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 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3708360" y="4149720"/>
            <a:ext cx="177840" cy="206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rc 6"/>
          <p:cNvSpPr/>
          <p:nvPr/>
        </p:nvSpPr>
        <p:spPr>
          <a:xfrm rot="2013600">
            <a:off x="4174920" y="3968640"/>
            <a:ext cx="141120" cy="142920"/>
          </a:xfrm>
          <a:custGeom>
            <a:avLst/>
            <a:gdLst>
              <a:gd name="textAreaLeft" fmla="*/ 0 w 141120"/>
              <a:gd name="textAreaRight" fmla="*/ 141120 w 1411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fill="none" w="21391" h="21600">
                <a:moveTo>
                  <a:pt x="-1" y="0"/>
                </a:moveTo>
                <a:cubicBezTo>
                  <a:pt x="10771" y="0"/>
                  <a:pt x="19897" y="7936"/>
                  <a:pt x="21391" y="18603"/>
                </a:cubicBezTo>
              </a:path>
              <a:path stroke="0" w="21391" h="21600">
                <a:moveTo>
                  <a:pt x="-1" y="0"/>
                </a:moveTo>
                <a:cubicBezTo>
                  <a:pt x="10771" y="0"/>
                  <a:pt x="19897" y="7936"/>
                  <a:pt x="21391" y="1860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5580000" y="5973840"/>
            <a:ext cx="1825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0"/>
          <p:cNvGrpSpPr/>
          <p:nvPr/>
        </p:nvGrpSpPr>
        <p:grpSpPr>
          <a:xfrm>
            <a:off x="823680" y="558720"/>
            <a:ext cx="5791680" cy="5997600"/>
            <a:chOff x="823680" y="558720"/>
            <a:chExt cx="5791680" cy="5997600"/>
          </a:xfrm>
        </p:grpSpPr>
        <p:sp>
          <p:nvSpPr>
            <p:cNvPr id="342" name="Line 11"/>
            <p:cNvSpPr/>
            <p:nvPr/>
          </p:nvSpPr>
          <p:spPr>
            <a:xfrm>
              <a:off x="1281240" y="4140360"/>
              <a:ext cx="496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2"/>
            <p:cNvSpPr/>
            <p:nvPr/>
          </p:nvSpPr>
          <p:spPr>
            <a:xfrm>
              <a:off x="3801960" y="980280"/>
              <a:ext cx="0" cy="515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3"/>
            <p:cNvSpPr/>
            <p:nvPr/>
          </p:nvSpPr>
          <p:spPr>
            <a:xfrm>
              <a:off x="6221160" y="38768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4"/>
            <p:cNvSpPr/>
            <p:nvPr/>
          </p:nvSpPr>
          <p:spPr>
            <a:xfrm>
              <a:off x="823680" y="3860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5"/>
            <p:cNvSpPr/>
            <p:nvPr/>
          </p:nvSpPr>
          <p:spPr>
            <a:xfrm>
              <a:off x="3617640" y="60357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6"/>
            <p:cNvSpPr/>
            <p:nvPr/>
          </p:nvSpPr>
          <p:spPr>
            <a:xfrm>
              <a:off x="3600000" y="558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Rectangle 18"/>
          <p:cNvSpPr/>
          <p:nvPr/>
        </p:nvSpPr>
        <p:spPr>
          <a:xfrm>
            <a:off x="3851280" y="765000"/>
            <a:ext cx="3240000" cy="3457800"/>
          </a:xfrm>
          <a:prstGeom prst="rect">
            <a:avLst/>
          </a:prstGeom>
          <a:solidFill>
            <a:srgbClr val="ff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9"/>
          <p:cNvGrpSpPr/>
          <p:nvPr/>
        </p:nvGrpSpPr>
        <p:grpSpPr>
          <a:xfrm>
            <a:off x="611280" y="6237000"/>
            <a:ext cx="647280" cy="144720"/>
            <a:chOff x="611280" y="6237000"/>
            <a:chExt cx="647280" cy="144720"/>
          </a:xfrm>
        </p:grpSpPr>
        <p:sp>
          <p:nvSpPr>
            <p:cNvPr id="350" name="Line 20"/>
            <p:cNvSpPr/>
            <p:nvPr/>
          </p:nvSpPr>
          <p:spPr>
            <a:xfrm>
              <a:off x="625320" y="623736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1"/>
            <p:cNvSpPr/>
            <p:nvPr/>
          </p:nvSpPr>
          <p:spPr>
            <a:xfrm>
              <a:off x="611280" y="6370560"/>
              <a:ext cx="64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2"/>
            <p:cNvSpPr/>
            <p:nvPr/>
          </p:nvSpPr>
          <p:spPr>
            <a:xfrm flipV="1">
              <a:off x="1258560" y="623700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 Box 23"/>
          <p:cNvSpPr/>
          <p:nvPr/>
        </p:nvSpPr>
        <p:spPr>
          <a:xfrm>
            <a:off x="295200" y="58276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4"/>
          <p:cNvSpPr/>
          <p:nvPr/>
        </p:nvSpPr>
        <p:spPr>
          <a:xfrm>
            <a:off x="0" y="6984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红家在学校东偏北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30º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的方向上，距离大约是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5"/>
          <p:cNvSpPr/>
          <p:nvPr/>
        </p:nvSpPr>
        <p:spPr>
          <a:xfrm flipV="1">
            <a:off x="3780000" y="2637000"/>
            <a:ext cx="2879640" cy="151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26"/>
          <p:cNvSpPr/>
          <p:nvPr/>
        </p:nvSpPr>
        <p:spPr>
          <a:xfrm>
            <a:off x="3780000" y="3068640"/>
            <a:ext cx="2087280" cy="1081080"/>
          </a:xfrm>
          <a:custGeom>
            <a:avLst/>
            <a:gdLst/>
            <a:ahLst/>
            <a:rect l="l" t="t" r="r" b="b"/>
            <a:pathLst>
              <a:path w="1315" h="681">
                <a:moveTo>
                  <a:pt x="0" y="681"/>
                </a:moveTo>
                <a:lnTo>
                  <a:pt x="1315" y="681"/>
                </a:lnTo>
                <a:lnTo>
                  <a:pt x="1315" y="0"/>
                </a:lnTo>
                <a:lnTo>
                  <a:pt x="0" y="681"/>
                </a:lnTo>
                <a:close/>
              </a:path>
            </a:pathLst>
          </a:custGeom>
          <a:solidFill>
            <a:srgbClr val="996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27"/>
          <p:cNvGrpSpPr/>
          <p:nvPr/>
        </p:nvGrpSpPr>
        <p:grpSpPr>
          <a:xfrm>
            <a:off x="6016680" y="2532240"/>
            <a:ext cx="627480" cy="422640"/>
            <a:chOff x="6016680" y="2532240"/>
            <a:chExt cx="627480" cy="422640"/>
          </a:xfrm>
        </p:grpSpPr>
        <p:sp>
          <p:nvSpPr>
            <p:cNvPr id="358" name="Line 28"/>
            <p:cNvSpPr/>
            <p:nvPr/>
          </p:nvSpPr>
          <p:spPr>
            <a:xfrm>
              <a:off x="6016680" y="2827080"/>
              <a:ext cx="67320" cy="12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29"/>
            <p:cNvSpPr/>
            <p:nvPr/>
          </p:nvSpPr>
          <p:spPr>
            <a:xfrm flipV="1">
              <a:off x="6066360" y="2650680"/>
              <a:ext cx="572760" cy="3009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0"/>
            <p:cNvSpPr/>
            <p:nvPr/>
          </p:nvSpPr>
          <p:spPr>
            <a:xfrm flipH="1" flipV="1">
              <a:off x="6577200" y="2532240"/>
              <a:ext cx="66960" cy="12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31"/>
          <p:cNvGrpSpPr/>
          <p:nvPr/>
        </p:nvGrpSpPr>
        <p:grpSpPr>
          <a:xfrm>
            <a:off x="5453280" y="2832480"/>
            <a:ext cx="627480" cy="422640"/>
            <a:chOff x="5453280" y="2832480"/>
            <a:chExt cx="627480" cy="422640"/>
          </a:xfrm>
        </p:grpSpPr>
        <p:sp>
          <p:nvSpPr>
            <p:cNvPr id="362" name="Line 32"/>
            <p:cNvSpPr/>
            <p:nvPr/>
          </p:nvSpPr>
          <p:spPr>
            <a:xfrm>
              <a:off x="5453280" y="3127320"/>
              <a:ext cx="66960" cy="12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33"/>
            <p:cNvSpPr/>
            <p:nvPr/>
          </p:nvSpPr>
          <p:spPr>
            <a:xfrm flipV="1">
              <a:off x="5502600" y="2950560"/>
              <a:ext cx="573120" cy="3013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34"/>
            <p:cNvSpPr/>
            <p:nvPr/>
          </p:nvSpPr>
          <p:spPr>
            <a:xfrm flipH="1" flipV="1">
              <a:off x="6013440" y="2832480"/>
              <a:ext cx="67320" cy="12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35"/>
          <p:cNvGrpSpPr/>
          <p:nvPr/>
        </p:nvGrpSpPr>
        <p:grpSpPr>
          <a:xfrm>
            <a:off x="4899240" y="3119760"/>
            <a:ext cx="627480" cy="422640"/>
            <a:chOff x="4899240" y="3119760"/>
            <a:chExt cx="627480" cy="422640"/>
          </a:xfrm>
        </p:grpSpPr>
        <p:sp>
          <p:nvSpPr>
            <p:cNvPr id="366" name="Line 36"/>
            <p:cNvSpPr/>
            <p:nvPr/>
          </p:nvSpPr>
          <p:spPr>
            <a:xfrm>
              <a:off x="4899240" y="3414600"/>
              <a:ext cx="66960" cy="12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37"/>
            <p:cNvSpPr/>
            <p:nvPr/>
          </p:nvSpPr>
          <p:spPr>
            <a:xfrm flipV="1">
              <a:off x="4948560" y="3237840"/>
              <a:ext cx="573120" cy="3013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8"/>
            <p:cNvSpPr/>
            <p:nvPr/>
          </p:nvSpPr>
          <p:spPr>
            <a:xfrm flipH="1" flipV="1">
              <a:off x="5459400" y="3119760"/>
              <a:ext cx="67320" cy="12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9"/>
          <p:cNvGrpSpPr/>
          <p:nvPr/>
        </p:nvGrpSpPr>
        <p:grpSpPr>
          <a:xfrm>
            <a:off x="4327560" y="3419640"/>
            <a:ext cx="627480" cy="422640"/>
            <a:chOff x="4327560" y="3419640"/>
            <a:chExt cx="627480" cy="422640"/>
          </a:xfrm>
        </p:grpSpPr>
        <p:sp>
          <p:nvSpPr>
            <p:cNvPr id="370" name="Line 40"/>
            <p:cNvSpPr/>
            <p:nvPr/>
          </p:nvSpPr>
          <p:spPr>
            <a:xfrm>
              <a:off x="4327560" y="3714480"/>
              <a:ext cx="67320" cy="12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41"/>
            <p:cNvSpPr/>
            <p:nvPr/>
          </p:nvSpPr>
          <p:spPr>
            <a:xfrm flipV="1">
              <a:off x="4377240" y="3538080"/>
              <a:ext cx="572760" cy="3009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42"/>
            <p:cNvSpPr/>
            <p:nvPr/>
          </p:nvSpPr>
          <p:spPr>
            <a:xfrm flipH="1" flipV="1">
              <a:off x="4888080" y="3419640"/>
              <a:ext cx="66960" cy="12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43"/>
          <p:cNvGrpSpPr/>
          <p:nvPr/>
        </p:nvGrpSpPr>
        <p:grpSpPr>
          <a:xfrm>
            <a:off x="3773880" y="3707280"/>
            <a:ext cx="627480" cy="422640"/>
            <a:chOff x="3773880" y="3707280"/>
            <a:chExt cx="627480" cy="422640"/>
          </a:xfrm>
        </p:grpSpPr>
        <p:sp>
          <p:nvSpPr>
            <p:cNvPr id="374" name="Line 44"/>
            <p:cNvSpPr/>
            <p:nvPr/>
          </p:nvSpPr>
          <p:spPr>
            <a:xfrm>
              <a:off x="3773880" y="4002120"/>
              <a:ext cx="66960" cy="12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45"/>
            <p:cNvSpPr/>
            <p:nvPr/>
          </p:nvSpPr>
          <p:spPr>
            <a:xfrm flipV="1">
              <a:off x="3823200" y="3825360"/>
              <a:ext cx="573120" cy="3013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46"/>
            <p:cNvSpPr/>
            <p:nvPr/>
          </p:nvSpPr>
          <p:spPr>
            <a:xfrm flipH="1" flipV="1">
              <a:off x="4334040" y="3707280"/>
              <a:ext cx="67320" cy="12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Rectangle 79"/>
          <p:cNvSpPr/>
          <p:nvPr/>
        </p:nvSpPr>
        <p:spPr>
          <a:xfrm>
            <a:off x="6490440" y="2421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宋体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80"/>
          <p:cNvSpPr/>
          <p:nvPr/>
        </p:nvSpPr>
        <p:spPr>
          <a:xfrm>
            <a:off x="6877080" y="2421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红红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1"/>
          <p:cNvSpPr/>
          <p:nvPr/>
        </p:nvSpPr>
        <p:spPr>
          <a:xfrm>
            <a:off x="0" y="549360"/>
            <a:ext cx="3962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基本步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、以观测点为标准画出东西南北四个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3"/>
          <p:cNvSpPr/>
          <p:nvPr/>
        </p:nvSpPr>
        <p:spPr>
          <a:xfrm>
            <a:off x="324000" y="220500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85"/>
          <p:cNvSpPr/>
          <p:nvPr/>
        </p:nvSpPr>
        <p:spPr>
          <a:xfrm>
            <a:off x="0" y="22860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、判断观察对象的大致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86"/>
          <p:cNvSpPr/>
          <p:nvPr/>
        </p:nvSpPr>
        <p:spPr>
          <a:xfrm>
            <a:off x="4952880" y="4343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、根据所给度数和比例尺确定该物体的具体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88" descr="1"/>
          <p:cNvPicPr/>
          <p:nvPr/>
        </p:nvPicPr>
        <p:blipFill>
          <a:blip r:embed="rId1"/>
          <a:stretch/>
        </p:blipFill>
        <p:spPr>
          <a:xfrm>
            <a:off x="2743200" y="3048120"/>
            <a:ext cx="2160720" cy="114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东莞地图"/>
          <p:cNvPicPr/>
          <p:nvPr/>
        </p:nvPicPr>
        <p:blipFill>
          <a:blip r:embed="rId1"/>
          <a:stretch/>
        </p:blipFill>
        <p:spPr>
          <a:xfrm>
            <a:off x="971640" y="401760"/>
            <a:ext cx="7029360" cy="538956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3"/>
          <p:cNvSpPr/>
          <p:nvPr/>
        </p:nvSpPr>
        <p:spPr>
          <a:xfrm>
            <a:off x="539640" y="-2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  <a:ea typeface="宋体"/>
              </a:rPr>
              <a:t>根据下面的描述把地图补充完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457200" y="4724280"/>
            <a:ext cx="792468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麻涌在莞城的最西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虎门在莞城的南偏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向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石排在莞城的东偏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向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樟木头在莞城的东偏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向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2638440" y="3989520"/>
            <a:ext cx="576360" cy="35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1198440" y="1319040"/>
            <a:ext cx="576360" cy="358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6067440" y="2946240"/>
            <a:ext cx="576360" cy="358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4870440" y="803160"/>
            <a:ext cx="576360" cy="358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9"/>
          <p:cNvSpPr/>
          <p:nvPr/>
        </p:nvSpPr>
        <p:spPr>
          <a:xfrm>
            <a:off x="2529000" y="4149720"/>
            <a:ext cx="71280" cy="71280"/>
          </a:xfrm>
          <a:prstGeom prst="ellipse">
            <a:avLst/>
          </a:prstGeom>
          <a:solidFill>
            <a:srgbClr val="cc0066">
              <a:alpha val="70000"/>
            </a:srgbClr>
          </a:soli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6200640" y="3357720"/>
            <a:ext cx="71640" cy="71280"/>
          </a:xfrm>
          <a:prstGeom prst="ellipse">
            <a:avLst/>
          </a:prstGeom>
          <a:solidFill>
            <a:srgbClr val="cc0066">
              <a:alpha val="70000"/>
            </a:srgbClr>
          </a:soli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4943520" y="1152360"/>
            <a:ext cx="71280" cy="71640"/>
          </a:xfrm>
          <a:prstGeom prst="ellipse">
            <a:avLst/>
          </a:prstGeom>
          <a:solidFill>
            <a:srgbClr val="cc0066">
              <a:alpha val="70000"/>
            </a:srgbClr>
          </a:soli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2"/>
          <p:cNvSpPr/>
          <p:nvPr/>
        </p:nvSpPr>
        <p:spPr>
          <a:xfrm>
            <a:off x="1770120" y="1268280"/>
            <a:ext cx="71280" cy="71640"/>
          </a:xfrm>
          <a:prstGeom prst="ellipse">
            <a:avLst/>
          </a:prstGeom>
          <a:solidFill>
            <a:srgbClr val="cc0066">
              <a:alpha val="70000"/>
            </a:srgbClr>
          </a:soli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3"/>
          <p:cNvSpPr/>
          <p:nvPr/>
        </p:nvSpPr>
        <p:spPr>
          <a:xfrm>
            <a:off x="3203640" y="1677960"/>
            <a:ext cx="71280" cy="71640"/>
          </a:xfrm>
          <a:prstGeom prst="ellipse">
            <a:avLst/>
          </a:prstGeom>
          <a:solidFill>
            <a:srgbClr val="cc0066">
              <a:alpha val="70000"/>
            </a:srgbClr>
          </a:soli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4665600" y="747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Impact"/>
                <a:ea typeface="楷体_GB2312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5"/>
          <p:cNvSpPr/>
          <p:nvPr/>
        </p:nvSpPr>
        <p:spPr>
          <a:xfrm>
            <a:off x="1004760" y="12794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Impact"/>
                <a:ea typeface="楷体_GB2312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2444760" y="39448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Impact"/>
                <a:ea typeface="楷体_GB2312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7"/>
          <p:cNvSpPr/>
          <p:nvPr/>
        </p:nvSpPr>
        <p:spPr>
          <a:xfrm>
            <a:off x="5878440" y="29084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Impact"/>
                <a:ea typeface="楷体_GB2312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8"/>
          <p:cNvGrpSpPr/>
          <p:nvPr/>
        </p:nvGrpSpPr>
        <p:grpSpPr>
          <a:xfrm>
            <a:off x="2135160" y="614520"/>
            <a:ext cx="2160720" cy="2303280"/>
            <a:chOff x="2135160" y="614520"/>
            <a:chExt cx="2160720" cy="2303280"/>
          </a:xfrm>
        </p:grpSpPr>
        <p:sp>
          <p:nvSpPr>
            <p:cNvPr id="402" name="Line 19"/>
            <p:cNvSpPr/>
            <p:nvPr/>
          </p:nvSpPr>
          <p:spPr>
            <a:xfrm>
              <a:off x="2135160" y="1706400"/>
              <a:ext cx="216072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20"/>
            <p:cNvSpPr/>
            <p:nvPr/>
          </p:nvSpPr>
          <p:spPr>
            <a:xfrm>
              <a:off x="3243240" y="614520"/>
              <a:ext cx="0" cy="23032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21"/>
          <p:cNvGrpSpPr/>
          <p:nvPr/>
        </p:nvGrpSpPr>
        <p:grpSpPr>
          <a:xfrm>
            <a:off x="7624800" y="554040"/>
            <a:ext cx="934920" cy="714240"/>
            <a:chOff x="7624800" y="554040"/>
            <a:chExt cx="934920" cy="714240"/>
          </a:xfrm>
        </p:grpSpPr>
        <p:sp>
          <p:nvSpPr>
            <p:cNvPr id="405" name="Line 22"/>
            <p:cNvSpPr/>
            <p:nvPr/>
          </p:nvSpPr>
          <p:spPr>
            <a:xfrm flipV="1">
              <a:off x="8101080" y="97956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23"/>
            <p:cNvSpPr/>
            <p:nvPr/>
          </p:nvSpPr>
          <p:spPr>
            <a:xfrm>
              <a:off x="7624800" y="55404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Impact"/>
                  <a:ea typeface="黑体"/>
                </a:rPr>
                <a:t>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 Box 24"/>
          <p:cNvSpPr/>
          <p:nvPr/>
        </p:nvSpPr>
        <p:spPr>
          <a:xfrm>
            <a:off x="1077840" y="12747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麻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2514600" y="39448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虎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4745160" y="7650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石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5842080" y="2946240"/>
            <a:ext cx="15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樟木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2124000" y="1628640"/>
          <a:ext cx="4896000" cy="2594160"/>
        </p:xfrm>
        <a:graphic>
          <a:graphicData uri="http://schemas.openxmlformats.org/drawingml/2006/table">
            <a:tbl>
              <a:tblPr/>
              <a:tblGrid>
                <a:gridCol w="816120"/>
                <a:gridCol w="815760"/>
                <a:gridCol w="816120"/>
                <a:gridCol w="814320"/>
                <a:gridCol w="816120"/>
                <a:gridCol w="817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ff00"/>
                      </a:solidFill>
                    </a:lnL>
                    <a:lnR w="1440">
                      <a:solidFill>
                        <a:srgbClr val="00ff00"/>
                      </a:solidFill>
                    </a:lnR>
                    <a:lnT w="1440">
                      <a:solidFill>
                        <a:srgbClr val="00ff00"/>
                      </a:solidFill>
                    </a:lnT>
                    <a:lnB w="1440">
                      <a:solidFill>
                        <a:srgbClr val="00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Text Box 3"/>
          <p:cNvSpPr/>
          <p:nvPr/>
        </p:nvSpPr>
        <p:spPr>
          <a:xfrm>
            <a:off x="1274400" y="6094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用数对表示位置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8"/>
          <p:cNvSpPr/>
          <p:nvPr/>
        </p:nvSpPr>
        <p:spPr>
          <a:xfrm>
            <a:off x="1699560" y="4005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69"/>
          <p:cNvSpPr/>
          <p:nvPr/>
        </p:nvSpPr>
        <p:spPr>
          <a:xfrm>
            <a:off x="2774160" y="4294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0"/>
          <p:cNvSpPr/>
          <p:nvPr/>
        </p:nvSpPr>
        <p:spPr>
          <a:xfrm>
            <a:off x="1694520" y="299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1"/>
          <p:cNvSpPr/>
          <p:nvPr/>
        </p:nvSpPr>
        <p:spPr>
          <a:xfrm>
            <a:off x="1694520" y="2494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2"/>
          <p:cNvSpPr/>
          <p:nvPr/>
        </p:nvSpPr>
        <p:spPr>
          <a:xfrm>
            <a:off x="169956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3"/>
          <p:cNvSpPr/>
          <p:nvPr/>
        </p:nvSpPr>
        <p:spPr>
          <a:xfrm>
            <a:off x="1694520" y="1486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4"/>
          <p:cNvSpPr/>
          <p:nvPr/>
        </p:nvSpPr>
        <p:spPr>
          <a:xfrm>
            <a:off x="1694520" y="3629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5"/>
          <p:cNvSpPr/>
          <p:nvPr/>
        </p:nvSpPr>
        <p:spPr>
          <a:xfrm>
            <a:off x="3593160" y="4324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6"/>
          <p:cNvSpPr/>
          <p:nvPr/>
        </p:nvSpPr>
        <p:spPr>
          <a:xfrm>
            <a:off x="4354560" y="4349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77"/>
          <p:cNvSpPr/>
          <p:nvPr/>
        </p:nvSpPr>
        <p:spPr>
          <a:xfrm>
            <a:off x="5257080" y="434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78"/>
          <p:cNvSpPr/>
          <p:nvPr/>
        </p:nvSpPr>
        <p:spPr>
          <a:xfrm>
            <a:off x="6090480" y="430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79"/>
          <p:cNvSpPr/>
          <p:nvPr/>
        </p:nvSpPr>
        <p:spPr>
          <a:xfrm>
            <a:off x="6876360" y="429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80"/>
          <p:cNvSpPr/>
          <p:nvPr/>
        </p:nvSpPr>
        <p:spPr>
          <a:xfrm>
            <a:off x="2050920" y="4076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81"/>
          <p:cNvSpPr/>
          <p:nvPr/>
        </p:nvSpPr>
        <p:spPr>
          <a:xfrm>
            <a:off x="6937200" y="412128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82"/>
          <p:cNvSpPr/>
          <p:nvPr/>
        </p:nvSpPr>
        <p:spPr>
          <a:xfrm>
            <a:off x="2038320" y="156852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83"/>
          <p:cNvSpPr/>
          <p:nvPr/>
        </p:nvSpPr>
        <p:spPr>
          <a:xfrm>
            <a:off x="4473720" y="25480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84"/>
          <p:cNvSpPr/>
          <p:nvPr/>
        </p:nvSpPr>
        <p:spPr>
          <a:xfrm>
            <a:off x="5292720" y="364500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85"/>
          <p:cNvSpPr/>
          <p:nvPr/>
        </p:nvSpPr>
        <p:spPr>
          <a:xfrm>
            <a:off x="2916360" y="3141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86"/>
          <p:cNvSpPr/>
          <p:nvPr/>
        </p:nvSpPr>
        <p:spPr>
          <a:xfrm>
            <a:off x="6124680" y="21099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87"/>
          <p:cNvSpPr/>
          <p:nvPr/>
        </p:nvSpPr>
        <p:spPr>
          <a:xfrm>
            <a:off x="2273400" y="39718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商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88"/>
          <p:cNvSpPr/>
          <p:nvPr/>
        </p:nvSpPr>
        <p:spPr>
          <a:xfrm>
            <a:off x="3060720" y="2854440"/>
            <a:ext cx="9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邮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89"/>
          <p:cNvSpPr/>
          <p:nvPr/>
        </p:nvSpPr>
        <p:spPr>
          <a:xfrm>
            <a:off x="2187720" y="1727280"/>
            <a:ext cx="16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图书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90"/>
          <p:cNvSpPr/>
          <p:nvPr/>
        </p:nvSpPr>
        <p:spPr>
          <a:xfrm>
            <a:off x="4624560" y="2320920"/>
            <a:ext cx="57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91"/>
          <p:cNvSpPr/>
          <p:nvPr/>
        </p:nvSpPr>
        <p:spPr>
          <a:xfrm>
            <a:off x="5364000" y="3718080"/>
            <a:ext cx="57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公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92"/>
          <p:cNvSpPr/>
          <p:nvPr/>
        </p:nvSpPr>
        <p:spPr>
          <a:xfrm>
            <a:off x="6705720" y="36576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银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93"/>
          <p:cNvSpPr/>
          <p:nvPr/>
        </p:nvSpPr>
        <p:spPr>
          <a:xfrm>
            <a:off x="6261120" y="2257560"/>
            <a:ext cx="57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饭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94"/>
          <p:cNvSpPr/>
          <p:nvPr/>
        </p:nvSpPr>
        <p:spPr>
          <a:xfrm>
            <a:off x="457200" y="48006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商店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）      邮局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）      学校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）      图书馆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公园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）      饭店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）      银行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camera.wav"/>
      </p:stSnd>
    </p:sndAc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3"/>
          <p:cNvSpPr/>
          <p:nvPr/>
        </p:nvSpPr>
        <p:spPr>
          <a:xfrm>
            <a:off x="380880" y="228600"/>
            <a:ext cx="30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方向与距离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4"/>
          <p:cNvSpPr/>
          <p:nvPr/>
        </p:nvSpPr>
        <p:spPr>
          <a:xfrm>
            <a:off x="6588000" y="1486080"/>
            <a:ext cx="0" cy="2734920"/>
          </a:xfrm>
          <a:prstGeom prst="line">
            <a:avLst/>
          </a:prstGeom>
          <a:ln w="19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5"/>
          <p:cNvSpPr/>
          <p:nvPr/>
        </p:nvSpPr>
        <p:spPr>
          <a:xfrm>
            <a:off x="4788000" y="2925720"/>
            <a:ext cx="3744720" cy="0"/>
          </a:xfrm>
          <a:prstGeom prst="line">
            <a:avLst/>
          </a:prstGeom>
          <a:ln w="19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6"/>
          <p:cNvSpPr/>
          <p:nvPr/>
        </p:nvSpPr>
        <p:spPr>
          <a:xfrm flipH="1">
            <a:off x="6587640" y="1844640"/>
            <a:ext cx="576360" cy="10810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7"/>
          <p:cNvSpPr/>
          <p:nvPr/>
        </p:nvSpPr>
        <p:spPr>
          <a:xfrm flipH="1" flipV="1">
            <a:off x="6084720" y="1917720"/>
            <a:ext cx="503280" cy="100800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8"/>
          <p:cNvSpPr/>
          <p:nvPr/>
        </p:nvSpPr>
        <p:spPr>
          <a:xfrm>
            <a:off x="6588000" y="2925720"/>
            <a:ext cx="576360" cy="43200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9"/>
          <p:cNvSpPr/>
          <p:nvPr/>
        </p:nvSpPr>
        <p:spPr>
          <a:xfrm flipH="1">
            <a:off x="5292720" y="2925720"/>
            <a:ext cx="1295280" cy="136836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0"/>
          <p:cNvSpPr/>
          <p:nvPr/>
        </p:nvSpPr>
        <p:spPr>
          <a:xfrm flipH="1" flipV="1">
            <a:off x="6805080" y="2278080"/>
            <a:ext cx="142920" cy="698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1"/>
          <p:cNvSpPr/>
          <p:nvPr/>
        </p:nvSpPr>
        <p:spPr>
          <a:xfrm flipH="1">
            <a:off x="6156000" y="2417760"/>
            <a:ext cx="142920" cy="745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2"/>
          <p:cNvSpPr/>
          <p:nvPr/>
        </p:nvSpPr>
        <p:spPr>
          <a:xfrm flipH="1" flipV="1">
            <a:off x="6084720" y="3287520"/>
            <a:ext cx="69840" cy="680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3"/>
          <p:cNvSpPr/>
          <p:nvPr/>
        </p:nvSpPr>
        <p:spPr>
          <a:xfrm flipH="1" flipV="1">
            <a:off x="5726160" y="3719520"/>
            <a:ext cx="69840" cy="698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4"/>
          <p:cNvSpPr/>
          <p:nvPr/>
        </p:nvSpPr>
        <p:spPr>
          <a:xfrm>
            <a:off x="5221440" y="422100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5"/>
          <p:cNvSpPr/>
          <p:nvPr/>
        </p:nvSpPr>
        <p:spPr>
          <a:xfrm>
            <a:off x="7093080" y="32860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6"/>
          <p:cNvSpPr/>
          <p:nvPr/>
        </p:nvSpPr>
        <p:spPr>
          <a:xfrm>
            <a:off x="6013440" y="184464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7"/>
          <p:cNvSpPr/>
          <p:nvPr/>
        </p:nvSpPr>
        <p:spPr>
          <a:xfrm>
            <a:off x="7093080" y="1773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8"/>
          <p:cNvSpPr/>
          <p:nvPr/>
        </p:nvSpPr>
        <p:spPr>
          <a:xfrm>
            <a:off x="5410080" y="4038480"/>
            <a:ext cx="20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科技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9"/>
          <p:cNvSpPr/>
          <p:nvPr/>
        </p:nvSpPr>
        <p:spPr>
          <a:xfrm>
            <a:off x="7237440" y="3213000"/>
            <a:ext cx="19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实验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0"/>
          <p:cNvSpPr/>
          <p:nvPr/>
        </p:nvSpPr>
        <p:spPr>
          <a:xfrm>
            <a:off x="7237440" y="1628640"/>
            <a:ext cx="15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图书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1"/>
          <p:cNvSpPr/>
          <p:nvPr/>
        </p:nvSpPr>
        <p:spPr>
          <a:xfrm>
            <a:off x="5364000" y="1773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大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未知"/>
          <p:cNvSpPr/>
          <p:nvPr/>
        </p:nvSpPr>
        <p:spPr>
          <a:xfrm>
            <a:off x="6415200" y="3094200"/>
            <a:ext cx="168120" cy="83880"/>
          </a:xfrm>
          <a:custGeom>
            <a:avLst/>
            <a:gdLst>
              <a:gd name="textAreaLeft" fmla="*/ 0 w 168120"/>
              <a:gd name="textAreaRight" fmla="*/ 168480 w 16812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21600" h="21600">
                <a:moveTo>
                  <a:pt x="21600" y="9981"/>
                </a:moveTo>
                <a:cubicBezTo>
                  <a:pt x="19963" y="11618"/>
                  <a:pt x="15218" y="21600"/>
                  <a:pt x="11618" y="19963"/>
                </a:cubicBezTo>
                <a:cubicBezTo>
                  <a:pt x="8018" y="18327"/>
                  <a:pt x="1963" y="3272"/>
                  <a:pt x="0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未知"/>
          <p:cNvSpPr/>
          <p:nvPr/>
        </p:nvSpPr>
        <p:spPr>
          <a:xfrm>
            <a:off x="6595920" y="3068640"/>
            <a:ext cx="166680" cy="90360"/>
          </a:xfrm>
          <a:custGeom>
            <a:avLst/>
            <a:gdLst>
              <a:gd name="textAreaLeft" fmla="*/ 0 w 166680"/>
              <a:gd name="textAreaRight" fmla="*/ 166680 w 16668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18557"/>
                </a:moveTo>
                <a:cubicBezTo>
                  <a:pt x="2454" y="18557"/>
                  <a:pt x="11372" y="21600"/>
                  <a:pt x="14972" y="18557"/>
                </a:cubicBezTo>
                <a:cubicBezTo>
                  <a:pt x="18572" y="15515"/>
                  <a:pt x="20536" y="3042"/>
                  <a:pt x="21600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未知"/>
          <p:cNvSpPr/>
          <p:nvPr/>
        </p:nvSpPr>
        <p:spPr>
          <a:xfrm>
            <a:off x="6583320" y="2590920"/>
            <a:ext cx="179280" cy="39600"/>
          </a:xfrm>
          <a:custGeom>
            <a:avLst/>
            <a:gdLst>
              <a:gd name="textAreaLeft" fmla="*/ 0 w 179280"/>
              <a:gd name="textAreaRight" fmla="*/ 179640 w 1792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cubicBezTo>
                  <a:pt x="18025" y="18059"/>
                  <a:pt x="3574" y="3540"/>
                  <a:pt x="0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未知"/>
          <p:cNvSpPr/>
          <p:nvPr/>
        </p:nvSpPr>
        <p:spPr>
          <a:xfrm>
            <a:off x="6442200" y="2577960"/>
            <a:ext cx="141120" cy="25560"/>
          </a:xfrm>
          <a:custGeom>
            <a:avLst/>
            <a:gdLst>
              <a:gd name="textAreaLeft" fmla="*/ 0 w 141120"/>
              <a:gd name="textAreaRight" fmla="*/ 141480 w 1411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cubicBezTo>
                  <a:pt x="3583" y="17912"/>
                  <a:pt x="18016" y="3687"/>
                  <a:pt x="21600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6"/>
          <p:cNvSpPr/>
          <p:nvPr/>
        </p:nvSpPr>
        <p:spPr>
          <a:xfrm>
            <a:off x="5791320" y="3213000"/>
            <a:ext cx="869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5</a:t>
            </a:r>
            <a:r>
              <a:rPr b="1" lang="zh-CN" sz="2800" spc="-1" strike="noStrike" baseline="50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7"/>
          <p:cNvSpPr/>
          <p:nvPr/>
        </p:nvSpPr>
        <p:spPr>
          <a:xfrm>
            <a:off x="6588000" y="3213000"/>
            <a:ext cx="95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800" spc="-1" strike="noStrike" baseline="50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8"/>
          <p:cNvSpPr/>
          <p:nvPr/>
        </p:nvSpPr>
        <p:spPr>
          <a:xfrm>
            <a:off x="6445080" y="2197080"/>
            <a:ext cx="1098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 baseline="50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9"/>
          <p:cNvSpPr/>
          <p:nvPr/>
        </p:nvSpPr>
        <p:spPr>
          <a:xfrm>
            <a:off x="5867280" y="2060640"/>
            <a:ext cx="865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 baseline="50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30"/>
          <p:cNvSpPr/>
          <p:nvPr/>
        </p:nvSpPr>
        <p:spPr>
          <a:xfrm>
            <a:off x="7380360" y="4870440"/>
            <a:ext cx="79200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31"/>
          <p:cNvSpPr/>
          <p:nvPr/>
        </p:nvSpPr>
        <p:spPr>
          <a:xfrm>
            <a:off x="7380360" y="4797360"/>
            <a:ext cx="1440" cy="730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8172360" y="4797360"/>
            <a:ext cx="0" cy="730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3"/>
          <p:cNvSpPr/>
          <p:nvPr/>
        </p:nvSpPr>
        <p:spPr>
          <a:xfrm>
            <a:off x="7391520" y="4343400"/>
            <a:ext cx="12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10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4"/>
          <p:cNvSpPr/>
          <p:nvPr/>
        </p:nvSpPr>
        <p:spPr>
          <a:xfrm>
            <a:off x="762120" y="1295280"/>
            <a:ext cx="361620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大门在教学楼北偏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 baseline="50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米处；图书馆在教学楼北偏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 baseline="50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米处。请在图上标出大门和图书馆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35"/>
          <p:cNvSpPr/>
          <p:nvPr/>
        </p:nvSpPr>
        <p:spPr>
          <a:xfrm>
            <a:off x="1916640" y="4572000"/>
            <a:ext cx="4921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实验楼在教学楼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___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向上，距离教学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米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科技楼在教学楼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方向上，距教学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米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7"/>
          <p:cNvSpPr/>
          <p:nvPr/>
        </p:nvSpPr>
        <p:spPr>
          <a:xfrm>
            <a:off x="6804000" y="263844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8"/>
          <p:cNvSpPr/>
          <p:nvPr/>
        </p:nvSpPr>
        <p:spPr>
          <a:xfrm>
            <a:off x="4647960" y="4572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2500"/>
                </a:solidFill>
                <a:latin typeface="Times New Roman"/>
                <a:ea typeface="宋体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9"/>
          <p:cNvSpPr/>
          <p:nvPr/>
        </p:nvSpPr>
        <p:spPr>
          <a:xfrm>
            <a:off x="5638680" y="4572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2500"/>
                </a:solidFill>
                <a:latin typeface="Times New Roman"/>
                <a:ea typeface="宋体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0"/>
          <p:cNvSpPr/>
          <p:nvPr/>
        </p:nvSpPr>
        <p:spPr>
          <a:xfrm>
            <a:off x="4343040" y="5410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2500"/>
                </a:solidFill>
                <a:latin typeface="Times New Roman"/>
                <a:ea typeface="宋体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1"/>
          <p:cNvSpPr/>
          <p:nvPr/>
        </p:nvSpPr>
        <p:spPr>
          <a:xfrm>
            <a:off x="5638680" y="5410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2500"/>
                </a:solidFill>
                <a:latin typeface="Times New Roman"/>
                <a:ea typeface="宋体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2"/>
          <p:cNvSpPr/>
          <p:nvPr/>
        </p:nvSpPr>
        <p:spPr>
          <a:xfrm>
            <a:off x="5492880" y="586728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2500"/>
                </a:solidFill>
                <a:latin typeface="Times New Roman"/>
                <a:ea typeface="宋体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3"/>
          <p:cNvSpPr/>
          <p:nvPr/>
        </p:nvSpPr>
        <p:spPr>
          <a:xfrm>
            <a:off x="4502160" y="495288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2500"/>
                </a:solidFill>
                <a:latin typeface="Times New Roman"/>
                <a:ea typeface="宋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4"/>
          <p:cNvSpPr/>
          <p:nvPr/>
        </p:nvSpPr>
        <p:spPr>
          <a:xfrm>
            <a:off x="6261120" y="4572000"/>
            <a:ext cx="641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2500"/>
                </a:solidFill>
                <a:latin typeface="Times New Roman"/>
                <a:ea typeface="宋体"/>
              </a:rPr>
              <a:t>50</a:t>
            </a:r>
            <a:r>
              <a:rPr b="1" lang="zh-CN" sz="2800" spc="-1" strike="noStrike" baseline="50000">
                <a:solidFill>
                  <a:srgbClr val="c02500"/>
                </a:solidFill>
                <a:latin typeface="Times New Roman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5"/>
          <p:cNvSpPr/>
          <p:nvPr/>
        </p:nvSpPr>
        <p:spPr>
          <a:xfrm>
            <a:off x="1689120" y="5867280"/>
            <a:ext cx="641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2500"/>
                </a:solidFill>
                <a:latin typeface="Times New Roman"/>
                <a:ea typeface="宋体"/>
              </a:rPr>
              <a:t>45</a:t>
            </a:r>
            <a:r>
              <a:rPr b="1" lang="zh-CN" sz="2800" spc="-1" strike="noStrike" baseline="50000">
                <a:solidFill>
                  <a:srgbClr val="c02500"/>
                </a:solidFill>
                <a:latin typeface="Times New Roman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1" name="camera.wav"/>
      </p:stSnd>
    </p:sndAc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3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3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3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3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3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3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3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1:51:47Z</dcterms:created>
  <dc:creator/>
  <dc:description/>
  <dc:language>en-US</dc:language>
  <cp:lastModifiedBy/>
  <dcterms:modified xsi:type="dcterms:W3CDTF">2015-04-08T11:51:52Z</dcterms:modified>
  <cp:revision>1</cp:revision>
  <dc:subject/>
  <dc:title/>
</cp:coreProperties>
</file>