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74F-A4B9-496D-AE88-335B1F39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329-B557-4AE8-BE69-00863608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F2B-DEE0-43B6-8133-E55B7CE1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0F0-0F44-42DC-9E28-11823187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3D2-97F3-48F3-A164-8ED8792D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B37-35C2-4775-ACA2-06AFE730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5CD-0654-42AC-B3CC-74B779B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FBD-D439-4118-9E46-334A3FEC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B8F-8998-4D13-BF3B-CBA1F92B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973-7240-4A94-B37A-F852C91F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9C4-1ECA-4B55-AB64-3B46B37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1A8-84E5-4C1F-9478-8DFDED8B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D027-2BDD-4DED-BED9-6F32AF558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676520" y="259092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分数与百分数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50920" y="349200"/>
            <a:ext cx="8569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个分数，它的单位是     ，它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这样的单位，这个分数是（       ），化成小数是（       ），化成百分数是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把带分数化成假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5651640" y="189000"/>
                <a:ext cx="428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6"/>
              <p:cNvSpPr txBox="1"/>
              <p:nvPr/>
            </p:nvSpPr>
            <p:spPr>
              <a:xfrm>
                <a:off x="5398920" y="855720"/>
                <a:ext cx="4287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Text Box 7"/>
          <p:cNvSpPr/>
          <p:nvPr/>
        </p:nvSpPr>
        <p:spPr>
          <a:xfrm>
            <a:off x="1828800" y="19051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629400" y="19051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990720" y="3657600"/>
                <a:ext cx="723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2733840" y="3576600"/>
                <a:ext cx="6858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1"/>
              <p:cNvSpPr txBox="1"/>
              <p:nvPr/>
            </p:nvSpPr>
            <p:spPr>
              <a:xfrm>
                <a:off x="4683240" y="3573360"/>
                <a:ext cx="723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2"/>
              <p:cNvSpPr txBox="1"/>
              <p:nvPr/>
            </p:nvSpPr>
            <p:spPr>
              <a:xfrm>
                <a:off x="6935760" y="3500280"/>
                <a:ext cx="87624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AutoShape 13"/>
          <p:cNvSpPr/>
          <p:nvPr/>
        </p:nvSpPr>
        <p:spPr>
          <a:xfrm>
            <a:off x="1189080" y="486900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1042920" y="5516640"/>
                <a:ext cx="6048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AutoShape 15"/>
          <p:cNvSpPr/>
          <p:nvPr/>
        </p:nvSpPr>
        <p:spPr>
          <a:xfrm>
            <a:off x="7308720" y="486900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4973760" y="486900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2987640" y="486900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8"/>
              <p:cNvSpPr txBox="1"/>
              <p:nvPr/>
            </p:nvSpPr>
            <p:spPr>
              <a:xfrm>
                <a:off x="2814480" y="5529240"/>
                <a:ext cx="605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9"/>
              <p:cNvSpPr txBox="1"/>
              <p:nvPr/>
            </p:nvSpPr>
            <p:spPr>
              <a:xfrm>
                <a:off x="4830840" y="5516640"/>
                <a:ext cx="6048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0"/>
              <p:cNvSpPr txBox="1"/>
              <p:nvPr/>
            </p:nvSpPr>
            <p:spPr>
              <a:xfrm>
                <a:off x="7135920" y="5529240"/>
                <a:ext cx="6048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142920" y="64296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把下面各分数化成小数，除不尽的保留两位小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720720" y="2000160"/>
                <a:ext cx="493560" cy="14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5"/>
              <p:cNvSpPr txBox="1"/>
              <p:nvPr/>
            </p:nvSpPr>
            <p:spPr>
              <a:xfrm>
                <a:off x="2292480" y="2000160"/>
                <a:ext cx="493560" cy="14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3811680" y="2000160"/>
                <a:ext cx="760320" cy="14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5630760" y="1982880"/>
                <a:ext cx="79848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6160" y="2000160"/>
                <a:ext cx="760680" cy="14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下箭头 9"/>
          <p:cNvSpPr/>
          <p:nvPr/>
        </p:nvSpPr>
        <p:spPr>
          <a:xfrm>
            <a:off x="785880" y="371160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下箭头 10"/>
          <p:cNvSpPr/>
          <p:nvPr/>
        </p:nvSpPr>
        <p:spPr>
          <a:xfrm>
            <a:off x="2357280" y="3711600"/>
            <a:ext cx="357480" cy="100008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下箭头 11"/>
          <p:cNvSpPr/>
          <p:nvPr/>
        </p:nvSpPr>
        <p:spPr>
          <a:xfrm>
            <a:off x="4000680" y="371160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下箭头 12"/>
          <p:cNvSpPr/>
          <p:nvPr/>
        </p:nvSpPr>
        <p:spPr>
          <a:xfrm>
            <a:off x="5857920" y="371160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下箭头 13"/>
          <p:cNvSpPr/>
          <p:nvPr/>
        </p:nvSpPr>
        <p:spPr>
          <a:xfrm>
            <a:off x="7715160" y="371160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4"/>
          <p:cNvSpPr/>
          <p:nvPr/>
        </p:nvSpPr>
        <p:spPr>
          <a:xfrm>
            <a:off x="428760" y="52117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.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1928880" y="5211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6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3643200" y="52117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.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7"/>
          <p:cNvSpPr/>
          <p:nvPr/>
        </p:nvSpPr>
        <p:spPr>
          <a:xfrm>
            <a:off x="5572080" y="52117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.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8"/>
          <p:cNvSpPr/>
          <p:nvPr/>
        </p:nvSpPr>
        <p:spPr>
          <a:xfrm>
            <a:off x="7358040" y="52117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.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396720" y="898560"/>
            <a:ext cx="8278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下面各数用大于号连接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3%                  0.4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3105000" y="1521000"/>
                <a:ext cx="7462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6"/>
              <p:cNvSpPr txBox="1"/>
              <p:nvPr/>
            </p:nvSpPr>
            <p:spPr>
              <a:xfrm>
                <a:off x="6227640" y="1557360"/>
                <a:ext cx="46224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1042920" y="2857680"/>
                <a:ext cx="7462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3252960" y="2857680"/>
                <a:ext cx="4618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Text Box 9"/>
          <p:cNvSpPr/>
          <p:nvPr/>
        </p:nvSpPr>
        <p:spPr>
          <a:xfrm>
            <a:off x="2351160" y="32180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1143000" y="4246560"/>
                <a:ext cx="14032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12"/>
          <p:cNvSpPr/>
          <p:nvPr/>
        </p:nvSpPr>
        <p:spPr>
          <a:xfrm>
            <a:off x="4200480" y="32367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    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3"/>
              <p:cNvSpPr txBox="1"/>
              <p:nvPr/>
            </p:nvSpPr>
            <p:spPr>
              <a:xfrm>
                <a:off x="3189240" y="4246560"/>
                <a:ext cx="16477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Text Box 14"/>
          <p:cNvSpPr/>
          <p:nvPr/>
        </p:nvSpPr>
        <p:spPr>
          <a:xfrm>
            <a:off x="6411960" y="32367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    3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5415120" y="45244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3%=0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6"/>
              <p:cNvSpPr txBox="1"/>
              <p:nvPr/>
            </p:nvSpPr>
            <p:spPr>
              <a:xfrm>
                <a:off x="1387440" y="5318280"/>
                <a:ext cx="11588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Text Box 15"/>
          <p:cNvSpPr/>
          <p:nvPr/>
        </p:nvSpPr>
        <p:spPr>
          <a:xfrm>
            <a:off x="3102120" y="54608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0.67&gt;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5745240" y="54529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0.4&gt;0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219320" y="8380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仓库里有一批化肥，第一次取出总数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/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第二次取出总数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袋，这是仓库里还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袋。两次共取出多少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828800" y="335268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45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/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/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2=2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答： 两次共取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762120" y="9144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育才小学四、五、六年级学生上山植树，四年级学生植树的棵树是三个年级植树总棵数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/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六年级比五年级多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如果六年级少植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棵，就和五年级植的树一样多。三个年级共植树多少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38080" y="35053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/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6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 三个年级共植树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6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750480" y="609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分数与除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477240" y="152388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与除法的关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880000" y="228600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被除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除数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5275080" y="2133720"/>
            <a:ext cx="950040" cy="874440"/>
            <a:chOff x="5275080" y="2133720"/>
            <a:chExt cx="950040" cy="874440"/>
          </a:xfrm>
        </p:grpSpPr>
        <p:sp>
          <p:nvSpPr>
            <p:cNvPr id="47" name="Text Box 6"/>
            <p:cNvSpPr/>
            <p:nvPr/>
          </p:nvSpPr>
          <p:spPr>
            <a:xfrm>
              <a:off x="5404320" y="21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被除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5423040" y="2487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除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5275080" y="2565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9"/>
          <p:cNvSpPr/>
          <p:nvPr/>
        </p:nvSpPr>
        <p:spPr>
          <a:xfrm>
            <a:off x="65530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除数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3404160" y="2895480"/>
            <a:ext cx="2792160" cy="1054080"/>
            <a:chOff x="3404160" y="2895480"/>
            <a:chExt cx="2792160" cy="1054080"/>
          </a:xfrm>
        </p:grpSpPr>
        <p:sp>
          <p:nvSpPr>
            <p:cNvPr id="52" name="Text Box 11"/>
            <p:cNvSpPr/>
            <p:nvPr/>
          </p:nvSpPr>
          <p:spPr>
            <a:xfrm>
              <a:off x="3404160" y="313668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2"/>
            <p:cNvGrpSpPr/>
            <p:nvPr/>
          </p:nvGrpSpPr>
          <p:grpSpPr>
            <a:xfrm>
              <a:off x="4343400" y="2895480"/>
              <a:ext cx="365040" cy="1054080"/>
              <a:chOff x="4343400" y="2895480"/>
              <a:chExt cx="365040" cy="1054080"/>
            </a:xfrm>
          </p:grpSpPr>
          <p:sp>
            <p:nvSpPr>
              <p:cNvPr id="54" name="Text Box 13"/>
              <p:cNvSpPr/>
              <p:nvPr/>
            </p:nvSpPr>
            <p:spPr>
              <a:xfrm>
                <a:off x="4345560" y="2895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14"/>
              <p:cNvSpPr/>
              <p:nvPr/>
            </p:nvSpPr>
            <p:spPr>
              <a:xfrm>
                <a:off x="4343400" y="34290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5"/>
              <p:cNvSpPr/>
              <p:nvPr/>
            </p:nvSpPr>
            <p:spPr>
              <a:xfrm>
                <a:off x="4419360" y="342900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16"/>
            <p:cNvSpPr/>
            <p:nvPr/>
          </p:nvSpPr>
          <p:spPr>
            <a:xfrm>
              <a:off x="4866480" y="3124080"/>
              <a:ext cx="132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≠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7"/>
          <p:cNvGrpSpPr/>
          <p:nvPr/>
        </p:nvGrpSpPr>
        <p:grpSpPr>
          <a:xfrm>
            <a:off x="1145880" y="3581280"/>
            <a:ext cx="358920" cy="947160"/>
            <a:chOff x="1145880" y="3581280"/>
            <a:chExt cx="358920" cy="947160"/>
          </a:xfrm>
        </p:grpSpPr>
        <p:sp>
          <p:nvSpPr>
            <p:cNvPr id="59" name="Text Box 18"/>
            <p:cNvSpPr/>
            <p:nvPr/>
          </p:nvSpPr>
          <p:spPr>
            <a:xfrm>
              <a:off x="1145880" y="358128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>
              <a:off x="1163520" y="4013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0"/>
          <p:cNvGrpSpPr/>
          <p:nvPr/>
        </p:nvGrpSpPr>
        <p:grpSpPr>
          <a:xfrm>
            <a:off x="806040" y="3886200"/>
            <a:ext cx="1555200" cy="1701360"/>
            <a:chOff x="806040" y="3886200"/>
            <a:chExt cx="1555200" cy="1701360"/>
          </a:xfrm>
        </p:grpSpPr>
        <p:sp>
          <p:nvSpPr>
            <p:cNvPr id="62" name="Text Box 21"/>
            <p:cNvSpPr/>
            <p:nvPr/>
          </p:nvSpPr>
          <p:spPr>
            <a:xfrm>
              <a:off x="940320" y="3886200"/>
              <a:ext cx="14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示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2"/>
            <p:cNvGrpSpPr/>
            <p:nvPr/>
          </p:nvGrpSpPr>
          <p:grpSpPr>
            <a:xfrm>
              <a:off x="806040" y="4640400"/>
              <a:ext cx="358920" cy="947160"/>
              <a:chOff x="806040" y="4640400"/>
              <a:chExt cx="358920" cy="947160"/>
            </a:xfrm>
          </p:grpSpPr>
          <p:sp>
            <p:nvSpPr>
              <p:cNvPr id="64" name="Text Box 23"/>
              <p:cNvSpPr/>
              <p:nvPr/>
            </p:nvSpPr>
            <p:spPr>
              <a:xfrm>
                <a:off x="806040" y="464040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823680" y="507204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25"/>
            <p:cNvSpPr/>
            <p:nvPr/>
          </p:nvSpPr>
          <p:spPr>
            <a:xfrm>
              <a:off x="1307880" y="477864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表示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6"/>
          <p:cNvSpPr/>
          <p:nvPr/>
        </p:nvSpPr>
        <p:spPr>
          <a:xfrm>
            <a:off x="3462840" y="3886200"/>
            <a:ext cx="45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把单位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取其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份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3443040" y="4800600"/>
            <a:ext cx="451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每份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每份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8"/>
          <p:cNvGrpSpPr/>
          <p:nvPr/>
        </p:nvGrpSpPr>
        <p:grpSpPr>
          <a:xfrm>
            <a:off x="7393680" y="4562640"/>
            <a:ext cx="358920" cy="947160"/>
            <a:chOff x="7393680" y="4562640"/>
            <a:chExt cx="358920" cy="947160"/>
          </a:xfrm>
        </p:grpSpPr>
        <p:sp>
          <p:nvSpPr>
            <p:cNvPr id="70" name="Text Box 29"/>
            <p:cNvSpPr/>
            <p:nvPr/>
          </p:nvSpPr>
          <p:spPr>
            <a:xfrm>
              <a:off x="7393680" y="456264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>
              <a:off x="7411680" y="499428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1"/>
          <p:cNvGrpSpPr/>
          <p:nvPr/>
        </p:nvGrpSpPr>
        <p:grpSpPr>
          <a:xfrm>
            <a:off x="4418640" y="5118120"/>
            <a:ext cx="361440" cy="947160"/>
            <a:chOff x="4418640" y="5118120"/>
            <a:chExt cx="361440" cy="947160"/>
          </a:xfrm>
        </p:grpSpPr>
        <p:sp>
          <p:nvSpPr>
            <p:cNvPr id="73" name="Text Box 32"/>
            <p:cNvSpPr/>
            <p:nvPr/>
          </p:nvSpPr>
          <p:spPr>
            <a:xfrm>
              <a:off x="4418640" y="511812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>
              <a:off x="4492800" y="55749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434760" y="7509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分数大小的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326840" y="1793880"/>
            <a:ext cx="7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母相同的两个分数，分子大的分数比较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261680" y="2971800"/>
            <a:ext cx="7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子相同的两个分数，分母小的分数比较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1828800" y="2133720"/>
            <a:ext cx="4439520" cy="1023480"/>
            <a:chOff x="1828800" y="2133720"/>
            <a:chExt cx="4439520" cy="1023480"/>
          </a:xfrm>
        </p:grpSpPr>
        <p:sp>
          <p:nvSpPr>
            <p:cNvPr id="79" name="Text Box 6"/>
            <p:cNvSpPr/>
            <p:nvPr/>
          </p:nvSpPr>
          <p:spPr>
            <a:xfrm>
              <a:off x="1828800" y="2133720"/>
              <a:ext cx="75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BatangChe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1986120" y="2629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8"/>
            <p:cNvSpPr/>
            <p:nvPr/>
          </p:nvSpPr>
          <p:spPr>
            <a:xfrm>
              <a:off x="2899440" y="2133720"/>
              <a:ext cx="62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4651920" y="2210040"/>
              <a:ext cx="62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5642640" y="2210040"/>
              <a:ext cx="62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992680" y="2617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4740480" y="2683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5748480" y="2681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2487600" y="248472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5224680" y="24861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6"/>
          <p:cNvGrpSpPr/>
          <p:nvPr/>
        </p:nvGrpSpPr>
        <p:grpSpPr>
          <a:xfrm>
            <a:off x="1905120" y="3352680"/>
            <a:ext cx="4350960" cy="947160"/>
            <a:chOff x="1905120" y="3352680"/>
            <a:chExt cx="4350960" cy="947160"/>
          </a:xfrm>
        </p:grpSpPr>
        <p:sp>
          <p:nvSpPr>
            <p:cNvPr id="90" name="Text Box 17"/>
            <p:cNvSpPr/>
            <p:nvPr/>
          </p:nvSpPr>
          <p:spPr>
            <a:xfrm>
              <a:off x="1905120" y="3352680"/>
              <a:ext cx="62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>
              <a:off x="2054520" y="37954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9"/>
            <p:cNvSpPr/>
            <p:nvPr/>
          </p:nvSpPr>
          <p:spPr>
            <a:xfrm>
              <a:off x="2975400" y="3352680"/>
              <a:ext cx="44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0"/>
            <p:cNvSpPr/>
            <p:nvPr/>
          </p:nvSpPr>
          <p:spPr>
            <a:xfrm>
              <a:off x="4651920" y="3352680"/>
              <a:ext cx="626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1"/>
            <p:cNvSpPr/>
            <p:nvPr/>
          </p:nvSpPr>
          <p:spPr>
            <a:xfrm>
              <a:off x="5718600" y="335268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2"/>
            <p:cNvSpPr/>
            <p:nvPr/>
          </p:nvSpPr>
          <p:spPr>
            <a:xfrm>
              <a:off x="3061080" y="37843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3"/>
            <p:cNvSpPr/>
            <p:nvPr/>
          </p:nvSpPr>
          <p:spPr>
            <a:xfrm>
              <a:off x="4808880" y="3849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4"/>
            <p:cNvSpPr/>
            <p:nvPr/>
          </p:nvSpPr>
          <p:spPr>
            <a:xfrm>
              <a:off x="5816880" y="38476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5"/>
            <p:cNvSpPr/>
            <p:nvPr/>
          </p:nvSpPr>
          <p:spPr>
            <a:xfrm>
              <a:off x="2556000" y="365112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6"/>
            <p:cNvSpPr/>
            <p:nvPr/>
          </p:nvSpPr>
          <p:spPr>
            <a:xfrm>
              <a:off x="5293080" y="36525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27"/>
          <p:cNvSpPr/>
          <p:nvPr/>
        </p:nvSpPr>
        <p:spPr>
          <a:xfrm>
            <a:off x="2487960" y="2421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5225040" y="2421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61040" y="35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5296320" y="3619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826920" y="4221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先求出原来几个分母的最小公倍数，然后把各个分数分别化成用这个最小公倍数作分母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7"/>
          <p:cNvGrpSpPr/>
          <p:nvPr/>
        </p:nvGrpSpPr>
        <p:grpSpPr>
          <a:xfrm>
            <a:off x="3201120" y="5118120"/>
            <a:ext cx="2912760" cy="1782720"/>
            <a:chOff x="3201120" y="5118120"/>
            <a:chExt cx="2912760" cy="1782720"/>
          </a:xfrm>
        </p:grpSpPr>
        <p:grpSp>
          <p:nvGrpSpPr>
            <p:cNvPr id="106" name="Group 38"/>
            <p:cNvGrpSpPr/>
            <p:nvPr/>
          </p:nvGrpSpPr>
          <p:grpSpPr>
            <a:xfrm>
              <a:off x="3201120" y="5118120"/>
              <a:ext cx="2912760" cy="1031040"/>
              <a:chOff x="3201120" y="5118120"/>
              <a:chExt cx="2912760" cy="1031040"/>
            </a:xfrm>
          </p:grpSpPr>
          <p:sp>
            <p:nvSpPr>
              <p:cNvPr id="107" name="Text Box 39"/>
              <p:cNvSpPr/>
              <p:nvPr/>
            </p:nvSpPr>
            <p:spPr>
              <a:xfrm>
                <a:off x="3201120" y="511812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40"/>
              <p:cNvSpPr/>
              <p:nvPr/>
            </p:nvSpPr>
            <p:spPr>
              <a:xfrm>
                <a:off x="3240360" y="5638680"/>
                <a:ext cx="30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41"/>
              <p:cNvSpPr/>
              <p:nvPr/>
            </p:nvSpPr>
            <p:spPr>
              <a:xfrm>
                <a:off x="3588480" y="54205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2"/>
              <p:cNvSpPr/>
              <p:nvPr/>
            </p:nvSpPr>
            <p:spPr>
              <a:xfrm>
                <a:off x="3941640" y="5638680"/>
                <a:ext cx="109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43"/>
              <p:cNvSpPr/>
              <p:nvPr/>
            </p:nvSpPr>
            <p:spPr>
              <a:xfrm>
                <a:off x="4007880" y="5140800"/>
                <a:ext cx="740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×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×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44"/>
              <p:cNvSpPr/>
              <p:nvPr/>
            </p:nvSpPr>
            <p:spPr>
              <a:xfrm>
                <a:off x="5087880" y="54205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5"/>
              <p:cNvSpPr/>
              <p:nvPr/>
            </p:nvSpPr>
            <p:spPr>
              <a:xfrm>
                <a:off x="5559480" y="5708880"/>
                <a:ext cx="39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46"/>
              <p:cNvSpPr/>
              <p:nvPr/>
            </p:nvSpPr>
            <p:spPr>
              <a:xfrm>
                <a:off x="5488200" y="5202000"/>
                <a:ext cx="625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 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47"/>
            <p:cNvGrpSpPr/>
            <p:nvPr/>
          </p:nvGrpSpPr>
          <p:grpSpPr>
            <a:xfrm>
              <a:off x="3201120" y="5953680"/>
              <a:ext cx="2760840" cy="947160"/>
              <a:chOff x="3201120" y="5953680"/>
              <a:chExt cx="2760840" cy="947160"/>
            </a:xfrm>
          </p:grpSpPr>
          <p:sp>
            <p:nvSpPr>
              <p:cNvPr id="116" name="Text Box 48"/>
              <p:cNvSpPr/>
              <p:nvPr/>
            </p:nvSpPr>
            <p:spPr>
              <a:xfrm>
                <a:off x="3201120" y="595368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49"/>
              <p:cNvSpPr/>
              <p:nvPr/>
            </p:nvSpPr>
            <p:spPr>
              <a:xfrm>
                <a:off x="3271320" y="6418080"/>
                <a:ext cx="30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50"/>
              <p:cNvSpPr/>
              <p:nvPr/>
            </p:nvSpPr>
            <p:spPr>
              <a:xfrm>
                <a:off x="3619800" y="61239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1"/>
              <p:cNvSpPr/>
              <p:nvPr/>
            </p:nvSpPr>
            <p:spPr>
              <a:xfrm>
                <a:off x="3976560" y="6397200"/>
                <a:ext cx="110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52"/>
              <p:cNvSpPr/>
              <p:nvPr/>
            </p:nvSpPr>
            <p:spPr>
              <a:xfrm>
                <a:off x="4043520" y="5953680"/>
                <a:ext cx="740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×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×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53"/>
              <p:cNvSpPr/>
              <p:nvPr/>
            </p:nvSpPr>
            <p:spPr>
              <a:xfrm>
                <a:off x="5119200" y="61239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54"/>
              <p:cNvSpPr/>
              <p:nvPr/>
            </p:nvSpPr>
            <p:spPr>
              <a:xfrm>
                <a:off x="5484960" y="6384600"/>
                <a:ext cx="39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55"/>
              <p:cNvSpPr/>
              <p:nvPr/>
            </p:nvSpPr>
            <p:spPr>
              <a:xfrm>
                <a:off x="5335920" y="5953680"/>
                <a:ext cx="626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545640" y="1143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数的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00200" y="21607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12760" y="2421000"/>
            <a:ext cx="153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真分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假分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858920" y="2430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子比分母小的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911760" y="372600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比分母大或者分子和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等的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7224840" y="254952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  <a:ea typeface="宋体"/>
              </a:rPr>
              <a:t>真分数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  <a:ea typeface="宋体"/>
              </a:rPr>
              <a:t>&lt;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826240" y="43498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  <a:ea typeface="宋体"/>
              </a:rPr>
              <a:t>假分数≥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559320" y="1111320"/>
            <a:ext cx="25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分数的基本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0240" y="220500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分子和分母同时乘以或者除以相同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零除外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大小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54600" y="4221000"/>
            <a:ext cx="71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分数的分母不变，分子乘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这个分数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分子不变，分母除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这个分数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3995640" y="2708280"/>
            <a:ext cx="649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4788000" y="2708280"/>
            <a:ext cx="194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6948360" y="2708280"/>
            <a:ext cx="129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1116000" y="3141720"/>
            <a:ext cx="1440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225560" y="419256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7203240" y="4606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840840" y="9050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最简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791080" y="1808280"/>
            <a:ext cx="488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计算的结果，能约分的要约成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最简分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假分数的，一般要化成带分数或整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827960" y="3092400"/>
            <a:ext cx="9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判断一个最简分数能不能化成有限小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332000" y="37782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母中除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外，不含有其他的质因数，就能化成有限小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3492360" y="3645000"/>
            <a:ext cx="122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2137320" y="4800600"/>
            <a:ext cx="5945400" cy="985320"/>
            <a:chOff x="2137320" y="4800600"/>
            <a:chExt cx="5945400" cy="985320"/>
          </a:xfrm>
        </p:grpSpPr>
        <p:sp>
          <p:nvSpPr>
            <p:cNvPr id="146" name="Text Box 8"/>
            <p:cNvSpPr/>
            <p:nvPr/>
          </p:nvSpPr>
          <p:spPr>
            <a:xfrm>
              <a:off x="2137320" y="4800600"/>
              <a:ext cx="62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>
              <a:off x="2152800" y="52452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7457040" y="4838760"/>
              <a:ext cx="62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4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7543800" y="53341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3129840" y="4838760"/>
              <a:ext cx="62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3164040" y="52959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4314960" y="4838760"/>
              <a:ext cx="44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4496040" y="533412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5335200" y="4838760"/>
              <a:ext cx="53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5410440" y="53341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6429960" y="4838760"/>
              <a:ext cx="62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6445440" y="528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4193280" y="502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1"/>
          <p:cNvSpPr/>
          <p:nvPr/>
        </p:nvSpPr>
        <p:spPr>
          <a:xfrm>
            <a:off x="2343960" y="55785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3280680" y="55785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5577840" y="5578560"/>
            <a:ext cx="38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4504680" y="55785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7671600" y="55785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6592320" y="55785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697560" y="1125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百分数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77164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278960" y="2209680"/>
            <a:ext cx="123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一个数是另一个数的百分之几的数叫百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数又叫百分率或百分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6348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2484360" y="3429000"/>
            <a:ext cx="4248000" cy="2520720"/>
            <a:chOff x="2484360" y="3429000"/>
            <a:chExt cx="4248000" cy="2520720"/>
          </a:xfrm>
        </p:grpSpPr>
        <p:sp>
          <p:nvSpPr>
            <p:cNvPr id="170" name="AutoShape 7"/>
            <p:cNvSpPr/>
            <p:nvPr/>
          </p:nvSpPr>
          <p:spPr>
            <a:xfrm>
              <a:off x="2484360" y="3429000"/>
              <a:ext cx="4248000" cy="2520720"/>
            </a:xfrm>
            <a:prstGeom prst="irregularSeal1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3400920" y="4078800"/>
              <a:ext cx="2398320" cy="52056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百分数后面不能带单位名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WordArt 9"/>
          <p:cNvSpPr txBox="1"/>
          <p:nvPr/>
        </p:nvSpPr>
        <p:spPr>
          <a:xfrm>
            <a:off x="1116000" y="333360"/>
            <a:ext cx="2085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百分数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11280" y="5805360"/>
            <a:ext cx="1296720" cy="79380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11280" y="836640"/>
            <a:ext cx="1353960" cy="75240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4360" y="83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小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124000" y="1125360"/>
            <a:ext cx="4753080" cy="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7093080" y="692280"/>
            <a:ext cx="1800000" cy="792000"/>
            <a:chOff x="7093080" y="692280"/>
            <a:chExt cx="1800000" cy="792000"/>
          </a:xfrm>
        </p:grpSpPr>
        <p:sp>
          <p:nvSpPr>
            <p:cNvPr id="178" name="Rectangle 7"/>
            <p:cNvSpPr/>
            <p:nvPr/>
          </p:nvSpPr>
          <p:spPr>
            <a:xfrm>
              <a:off x="7093080" y="692280"/>
              <a:ext cx="1726920" cy="792000"/>
            </a:xfrm>
            <a:prstGeom prst="rect">
              <a:avLst/>
            </a:prstGeom>
            <a:solidFill>
              <a:srgbClr val="3bcb3b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7093080" y="763560"/>
              <a:ext cx="18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百分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9"/>
          <p:cNvSpPr/>
          <p:nvPr/>
        </p:nvSpPr>
        <p:spPr>
          <a:xfrm>
            <a:off x="2340000" y="476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df5"/>
                </a:solidFill>
                <a:latin typeface="宋体"/>
                <a:ea typeface="宋体"/>
              </a:rPr>
              <a:t>小数点向右移动两位，添上</a:t>
            </a:r>
            <a:r>
              <a:rPr b="1" lang="en-US" sz="2800" spc="-1" strike="noStrike">
                <a:solidFill>
                  <a:srgbClr val="290df5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2123640" y="1411200"/>
            <a:ext cx="4751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2195640" y="1484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去掉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%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，小数点向左移动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611280" y="5805360"/>
            <a:ext cx="16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 flipV="1">
            <a:off x="2340000" y="1844640"/>
            <a:ext cx="5761080" cy="4176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 rot="19483200">
            <a:off x="1637280" y="3178080"/>
            <a:ext cx="533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df5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290df5"/>
                </a:solidFill>
                <a:latin typeface="宋体"/>
                <a:ea typeface="宋体"/>
              </a:rPr>
              <a:t>通常先化成小数（除不尽时，通常保留</a:t>
            </a:r>
            <a:r>
              <a:rPr b="1" lang="en-US" sz="2800" spc="-1" strike="noStrike">
                <a:solidFill>
                  <a:srgbClr val="290df5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290df5"/>
                </a:solidFill>
                <a:latin typeface="宋体"/>
                <a:ea typeface="宋体"/>
              </a:rPr>
              <a:t>位小数），再化成百分数</a:t>
            </a:r>
            <a:r>
              <a:rPr b="1" lang="en-US" sz="2800" spc="-1" strike="noStrike">
                <a:solidFill>
                  <a:srgbClr val="290df5"/>
                </a:solidFill>
                <a:latin typeface="宋体"/>
                <a:ea typeface="宋体"/>
              </a:rPr>
              <a:t>.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 flipH="1">
            <a:off x="2484360" y="2133720"/>
            <a:ext cx="5832720" cy="417492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 rot="19433400">
            <a:off x="2790720" y="4406400"/>
            <a:ext cx="55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改写成分母是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100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的分数，能约分的要约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1187280" y="1844640"/>
            <a:ext cx="0" cy="381636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8"/>
          <p:cNvSpPr/>
          <p:nvPr/>
        </p:nvSpPr>
        <p:spPr>
          <a:xfrm flipV="1">
            <a:off x="1547640" y="1773000"/>
            <a:ext cx="0" cy="3816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1619280" y="2133720"/>
            <a:ext cx="511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用分子除以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0" y="1773360"/>
            <a:ext cx="115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先化成分母是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100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等  的分数，再约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066680" y="838080"/>
            <a:ext cx="6934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我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0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年上半年进口钢材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0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万吨，约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0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年上半年钢材进口量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7.5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0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年上半年我国大约进口钢材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62120" y="327672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04÷47.5﹪≈3797.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答：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0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年上半年我国大约进口钢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797.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6:17:42Z</dcterms:created>
  <dc:creator/>
  <dc:description/>
  <dc:language>en-US</dc:language>
  <cp:lastModifiedBy/>
  <dcterms:modified xsi:type="dcterms:W3CDTF">2015-04-09T06:17:46Z</dcterms:modified>
  <cp:revision>1</cp:revision>
  <dc:subject/>
  <dc:title/>
</cp:coreProperties>
</file>