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CC9-3DAD-4AEB-B239-F7D65D949A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685A-4BF1-497F-93C9-212FFBC5E7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A619-E81E-49B6-9FCA-D36358CC13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073-E1B4-4AF9-8B17-90956C7A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459-E6AC-49D3-95E3-3CC4B963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349-C8AB-4673-BCA3-41201F6A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6B9-7272-4ED4-88C4-FC0FD6B0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4BC-6A36-41B6-A9B5-06F88A08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9E1-0EA3-4273-9D5A-71614D89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5C5-E43C-4EF6-A8C7-56D84BBE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6CE-35DB-4D55-B23E-6BB24EA2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ED2-F389-41B5-9401-94D36B8B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E41-BCF8-48EE-B5FB-AC5349AF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43D-470C-4B29-817D-6F4F3A61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A8B-0E81-46BB-8CA6-7268A4ED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16B3-1548-4E7E-A0EC-CA8ACDF6C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20110131153014-640418062.jpg"/>
          <p:cNvPicPr/>
          <p:nvPr/>
        </p:nvPicPr>
        <p:blipFill>
          <a:blip r:embed="rId1"/>
          <a:stretch/>
        </p:blipFill>
        <p:spPr>
          <a:xfrm>
            <a:off x="480960" y="3713040"/>
            <a:ext cx="3683160" cy="51991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" descr="U397P1T1D6267499F21DT20050402143837.jpg"/>
          <p:cNvPicPr/>
          <p:nvPr/>
        </p:nvPicPr>
        <p:blipFill>
          <a:blip r:embed="rId2"/>
          <a:stretch/>
        </p:blipFill>
        <p:spPr>
          <a:xfrm>
            <a:off x="4840200" y="360360"/>
            <a:ext cx="3822840" cy="50292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5" descr="U10913P693DT20140708141125.jpg"/>
          <p:cNvPicPr/>
          <p:nvPr/>
        </p:nvPicPr>
        <p:blipFill>
          <a:blip r:embed="rId3"/>
          <a:stretch/>
        </p:blipFill>
        <p:spPr>
          <a:xfrm>
            <a:off x="341280" y="212760"/>
            <a:ext cx="3906720" cy="5164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xinsrc_836f949e7bb7497e82313c25ca9ed546_snake.jpg"/>
          <p:cNvPicPr/>
          <p:nvPr/>
        </p:nvPicPr>
        <p:blipFill>
          <a:blip r:embed="rId4"/>
          <a:stretch/>
        </p:blipFill>
        <p:spPr>
          <a:xfrm>
            <a:off x="4913280" y="3645000"/>
            <a:ext cx="382284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3"/>
          <p:cNvSpPr/>
          <p:nvPr/>
        </p:nvSpPr>
        <p:spPr>
          <a:xfrm>
            <a:off x="297000" y="4994280"/>
            <a:ext cx="85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你准备从哪些角度进行比较？与同伴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204840" y="115920"/>
            <a:ext cx="78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淘气调查了甲、乙两班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的跳远成绩，数据如下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位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1"/>
          <p:cNvSpPr/>
          <p:nvPr/>
        </p:nvSpPr>
        <p:spPr>
          <a:xfrm>
            <a:off x="819000" y="55832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答：可以从跳远成绩最高和最低方面比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"/>
          <p:cNvGrpSpPr/>
          <p:nvPr/>
        </p:nvGrpSpPr>
        <p:grpSpPr>
          <a:xfrm>
            <a:off x="611280" y="1949400"/>
            <a:ext cx="8169120" cy="1932120"/>
            <a:chOff x="611280" y="1949400"/>
            <a:chExt cx="8169120" cy="1932120"/>
          </a:xfrm>
        </p:grpSpPr>
        <p:sp>
          <p:nvSpPr>
            <p:cNvPr id="97" name="圆角矩形 3"/>
            <p:cNvSpPr/>
            <p:nvPr/>
          </p:nvSpPr>
          <p:spPr>
            <a:xfrm>
              <a:off x="611280" y="1949400"/>
              <a:ext cx="7755120" cy="1932120"/>
            </a:xfrm>
            <a:prstGeom prst="roundRect">
              <a:avLst>
                <a:gd name="adj" fmla="val 16667"/>
              </a:avLst>
            </a:prstGeom>
            <a:solidFill>
              <a:srgbClr val="ccccc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"/>
            <p:cNvSpPr/>
            <p:nvPr/>
          </p:nvSpPr>
          <p:spPr>
            <a:xfrm>
              <a:off x="877680" y="2037960"/>
              <a:ext cx="7902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甲班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乙班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4"/>
          <p:cNvSpPr/>
          <p:nvPr/>
        </p:nvSpPr>
        <p:spPr>
          <a:xfrm>
            <a:off x="468360" y="4254480"/>
            <a:ext cx="83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比较两个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的跳远成绩有什么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1680" y="4622760"/>
          <a:ext cx="9041040" cy="1467000"/>
        </p:xfrm>
        <a:graphic>
          <a:graphicData uri="http://schemas.openxmlformats.org/drawingml/2006/table">
            <a:tbl>
              <a:tblPr/>
              <a:tblGrid>
                <a:gridCol w="1473120"/>
                <a:gridCol w="1081080"/>
                <a:gridCol w="1081080"/>
                <a:gridCol w="1081080"/>
                <a:gridCol w="1081440"/>
                <a:gridCol w="1081080"/>
                <a:gridCol w="1081080"/>
                <a:gridCol w="1081080"/>
              </a:tblGrid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Box 5"/>
          <p:cNvSpPr/>
          <p:nvPr/>
        </p:nvSpPr>
        <p:spPr>
          <a:xfrm>
            <a:off x="-142920" y="5649840"/>
            <a:ext cx="18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乙班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0"/>
          <p:cNvSpPr/>
          <p:nvPr/>
        </p:nvSpPr>
        <p:spPr>
          <a:xfrm>
            <a:off x="-135000" y="507996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甲班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2"/>
          <p:cNvSpPr/>
          <p:nvPr/>
        </p:nvSpPr>
        <p:spPr>
          <a:xfrm>
            <a:off x="1873080" y="5157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4          2          1          3           0     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3"/>
          <p:cNvSpPr/>
          <p:nvPr/>
        </p:nvSpPr>
        <p:spPr>
          <a:xfrm>
            <a:off x="1873080" y="5589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  0          2          2          1           2      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2"/>
          <p:cNvSpPr/>
          <p:nvPr/>
        </p:nvSpPr>
        <p:spPr>
          <a:xfrm>
            <a:off x="-108000" y="3929040"/>
            <a:ext cx="88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笑笑列出了下表准备进行比较，填一填，比一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7"/>
          <p:cNvSpPr/>
          <p:nvPr/>
        </p:nvSpPr>
        <p:spPr>
          <a:xfrm>
            <a:off x="-142920" y="4635360"/>
            <a:ext cx="97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成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m         151~160 161~170   171~180  181~190   191~200  201~210   211~2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204840" y="4446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淘气准备比较两个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的平均成绩，请你也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339840" y="1398600"/>
            <a:ext cx="85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答：甲班：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6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76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6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70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70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90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9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72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÷10=180.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乙班：（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2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7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7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10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9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81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20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60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÷10=169.8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甲班的平均成绩比乙班要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24000" y="189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在我国，水土流失是一个严重的问题，它主要由砍伐树木导致的。每年大约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.0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亿吨表土被冲刷到黄河里。平均每天有多少吨表土被冲刷到黄河里？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天算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826920" y="371628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76360" y="4508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07000000÷365≈248493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11280" y="5373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平均每天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48493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吨表土被冲刷到黄河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285840" y="9684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三信小学美术组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，舞蹈组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。美术组的人数比舞蹈组多几分之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1785960" y="5572080"/>
            <a:ext cx="6500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 ÷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+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人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14200" y="4357800"/>
            <a:ext cx="871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三信小学美术组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，比舞蹈组的人数多       。舞蹈组有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547640" y="3571920"/>
            <a:ext cx="7643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人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24"/>
          <p:cNvGrpSpPr/>
          <p:nvPr/>
        </p:nvGrpSpPr>
        <p:grpSpPr>
          <a:xfrm>
            <a:off x="1285920" y="1071720"/>
            <a:ext cx="5929200" cy="1275120"/>
            <a:chOff x="1285920" y="1071720"/>
            <a:chExt cx="5929200" cy="1275120"/>
          </a:xfrm>
        </p:grpSpPr>
        <p:sp>
          <p:nvSpPr>
            <p:cNvPr id="118" name="TextBox 6"/>
            <p:cNvSpPr/>
            <p:nvPr/>
          </p:nvSpPr>
          <p:spPr>
            <a:xfrm>
              <a:off x="1285920" y="1143000"/>
              <a:ext cx="59292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÷56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组合 11"/>
            <p:cNvGrpSpPr/>
            <p:nvPr/>
          </p:nvGrpSpPr>
          <p:grpSpPr>
            <a:xfrm>
              <a:off x="5572080" y="1071720"/>
              <a:ext cx="500040" cy="1275120"/>
              <a:chOff x="5572080" y="1071720"/>
              <a:chExt cx="500040" cy="1275120"/>
            </a:xfrm>
          </p:grpSpPr>
          <p:sp>
            <p:nvSpPr>
              <p:cNvPr id="120" name="直接连接符 4"/>
              <p:cNvSpPr/>
              <p:nvPr/>
            </p:nvSpPr>
            <p:spPr>
              <a:xfrm>
                <a:off x="5572080" y="1714680"/>
                <a:ext cx="452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Box 9"/>
              <p:cNvSpPr/>
              <p:nvPr/>
            </p:nvSpPr>
            <p:spPr>
              <a:xfrm>
                <a:off x="5628600" y="1071720"/>
                <a:ext cx="443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Box 10"/>
              <p:cNvSpPr/>
              <p:nvPr/>
            </p:nvSpPr>
            <p:spPr>
              <a:xfrm>
                <a:off x="5628600" y="1643400"/>
                <a:ext cx="282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组合 14"/>
          <p:cNvGrpSpPr/>
          <p:nvPr/>
        </p:nvGrpSpPr>
        <p:grpSpPr>
          <a:xfrm>
            <a:off x="928800" y="4857840"/>
            <a:ext cx="500040" cy="1275120"/>
            <a:chOff x="928800" y="4857840"/>
            <a:chExt cx="500040" cy="1275120"/>
          </a:xfrm>
        </p:grpSpPr>
        <p:sp>
          <p:nvSpPr>
            <p:cNvPr id="124" name="直接连接符 4"/>
            <p:cNvSpPr/>
            <p:nvPr/>
          </p:nvSpPr>
          <p:spPr>
            <a:xfrm>
              <a:off x="928800" y="5500800"/>
              <a:ext cx="452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6"/>
            <p:cNvSpPr/>
            <p:nvPr/>
          </p:nvSpPr>
          <p:spPr>
            <a:xfrm>
              <a:off x="985320" y="4857840"/>
              <a:ext cx="44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7"/>
            <p:cNvSpPr/>
            <p:nvPr/>
          </p:nvSpPr>
          <p:spPr>
            <a:xfrm>
              <a:off x="985320" y="5429520"/>
              <a:ext cx="28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5"/>
          <p:cNvGrpSpPr/>
          <p:nvPr/>
        </p:nvGrpSpPr>
        <p:grpSpPr>
          <a:xfrm>
            <a:off x="285840" y="2143080"/>
            <a:ext cx="8643960" cy="2456280"/>
            <a:chOff x="285840" y="2143080"/>
            <a:chExt cx="8643960" cy="2456280"/>
          </a:xfrm>
        </p:grpSpPr>
        <p:sp>
          <p:nvSpPr>
            <p:cNvPr id="128" name="TextBox 5"/>
            <p:cNvSpPr/>
            <p:nvPr/>
          </p:nvSpPr>
          <p:spPr>
            <a:xfrm>
              <a:off x="285840" y="2143080"/>
              <a:ext cx="8643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三信小学美术组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人，舞蹈组的人数比美术组少        。舞蹈组有多少人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20"/>
            <p:cNvGrpSpPr/>
            <p:nvPr/>
          </p:nvGrpSpPr>
          <p:grpSpPr>
            <a:xfrm>
              <a:off x="2214720" y="2714760"/>
              <a:ext cx="500040" cy="1884600"/>
              <a:chOff x="2214720" y="2714760"/>
              <a:chExt cx="500040" cy="1884600"/>
            </a:xfrm>
          </p:grpSpPr>
          <p:sp>
            <p:nvSpPr>
              <p:cNvPr id="130" name="直接连接符 4"/>
              <p:cNvSpPr/>
              <p:nvPr/>
            </p:nvSpPr>
            <p:spPr>
              <a:xfrm>
                <a:off x="2214720" y="3357360"/>
                <a:ext cx="452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Box 22"/>
              <p:cNvSpPr/>
              <p:nvPr/>
            </p:nvSpPr>
            <p:spPr>
              <a:xfrm>
                <a:off x="2271240" y="2714760"/>
                <a:ext cx="443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23"/>
              <p:cNvSpPr/>
              <p:nvPr/>
            </p:nvSpPr>
            <p:spPr>
              <a:xfrm>
                <a:off x="2271240" y="3286440"/>
                <a:ext cx="2829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5"/>
          <p:cNvGrpSpPr/>
          <p:nvPr/>
        </p:nvGrpSpPr>
        <p:grpSpPr>
          <a:xfrm>
            <a:off x="4071960" y="3500280"/>
            <a:ext cx="557280" cy="1275120"/>
            <a:chOff x="4071960" y="3500280"/>
            <a:chExt cx="557280" cy="1275120"/>
          </a:xfrm>
        </p:grpSpPr>
        <p:sp>
          <p:nvSpPr>
            <p:cNvPr id="134" name="直接连接符 4"/>
            <p:cNvSpPr/>
            <p:nvPr/>
          </p:nvSpPr>
          <p:spPr>
            <a:xfrm>
              <a:off x="4071960" y="4143240"/>
              <a:ext cx="486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28"/>
            <p:cNvSpPr/>
            <p:nvPr/>
          </p:nvSpPr>
          <p:spPr>
            <a:xfrm>
              <a:off x="4128480" y="3500280"/>
              <a:ext cx="500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29"/>
            <p:cNvSpPr/>
            <p:nvPr/>
          </p:nvSpPr>
          <p:spPr>
            <a:xfrm>
              <a:off x="4128480" y="4071960"/>
              <a:ext cx="500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36"/>
          <p:cNvGrpSpPr/>
          <p:nvPr/>
        </p:nvGrpSpPr>
        <p:grpSpPr>
          <a:xfrm>
            <a:off x="4429080" y="5500800"/>
            <a:ext cx="500040" cy="1275120"/>
            <a:chOff x="4429080" y="5500800"/>
            <a:chExt cx="500040" cy="1275120"/>
          </a:xfrm>
        </p:grpSpPr>
        <p:sp>
          <p:nvSpPr>
            <p:cNvPr id="138" name="直接连接符 4"/>
            <p:cNvSpPr/>
            <p:nvPr/>
          </p:nvSpPr>
          <p:spPr>
            <a:xfrm>
              <a:off x="4429080" y="6143760"/>
              <a:ext cx="452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38"/>
            <p:cNvSpPr/>
            <p:nvPr/>
          </p:nvSpPr>
          <p:spPr>
            <a:xfrm>
              <a:off x="4485600" y="5500800"/>
              <a:ext cx="44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39"/>
            <p:cNvSpPr/>
            <p:nvPr/>
          </p:nvSpPr>
          <p:spPr>
            <a:xfrm>
              <a:off x="4485600" y="6072480"/>
              <a:ext cx="28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357120" y="14292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星海小学举行团体操比赛，各年级参加比赛的人数如下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1500120" y="3556080"/>
            <a:ext cx="7643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+1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人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285840" y="492300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一年级和二年级一共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参加比赛；四年级和五年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00040" y="1149480"/>
          <a:ext cx="8215200" cy="1565280"/>
        </p:xfrm>
        <a:graphic>
          <a:graphicData uri="http://schemas.openxmlformats.org/drawingml/2006/table">
            <a:tbl>
              <a:tblPr/>
              <a:tblGrid>
                <a:gridCol w="2092320"/>
                <a:gridCol w="1020960"/>
                <a:gridCol w="1020600"/>
                <a:gridCol w="1019160"/>
                <a:gridCol w="1020600"/>
                <a:gridCol w="1020960"/>
                <a:gridCol w="1020600"/>
              </a:tblGrid>
              <a:tr h="518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   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行   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每行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6"/>
          <p:cNvSpPr/>
          <p:nvPr/>
        </p:nvSpPr>
        <p:spPr>
          <a:xfrm>
            <a:off x="357120" y="269064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年级和二年级一共有多少人参加比赛？四年级和五年级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lywang4\Desktop\截图后的图片1\q.png"/>
          <p:cNvPicPr/>
          <p:nvPr/>
        </p:nvPicPr>
        <p:blipFill>
          <a:blip r:embed="rId1"/>
          <a:stretch/>
        </p:blipFill>
        <p:spPr>
          <a:xfrm>
            <a:off x="7800840" y="2571840"/>
            <a:ext cx="986040" cy="1357200"/>
          </a:xfrm>
          <a:prstGeom prst="rect">
            <a:avLst/>
          </a:prstGeom>
          <a:ln w="0">
            <a:noFill/>
          </a:ln>
        </p:spPr>
      </p:pic>
      <p:sp>
        <p:nvSpPr>
          <p:cNvPr id="147" name="圆角矩形标注 8"/>
          <p:cNvSpPr/>
          <p:nvPr/>
        </p:nvSpPr>
        <p:spPr>
          <a:xfrm>
            <a:off x="5429160" y="2857680"/>
            <a:ext cx="2143080" cy="857160"/>
          </a:xfrm>
          <a:prstGeom prst="wedgeRoundRectCallout">
            <a:avLst>
              <a:gd name="adj1" fmla="val 59231"/>
              <a:gd name="adj2" fmla="val -1837"/>
              <a:gd name="adj3" fmla="val 16667"/>
            </a:avLst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还能提出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500120" y="4127400"/>
            <a:ext cx="7643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+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人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142920" y="600084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问：二年级、三年级、四年级和六年级一共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矩形 3" descr=""/>
          <p:cNvPicPr/>
          <p:nvPr/>
        </p:nvPicPr>
        <p:blipFill>
          <a:blip r:embed="rId1"/>
          <a:stretch/>
        </p:blipFill>
        <p:spPr>
          <a:xfrm>
            <a:off x="3048120" y="2505240"/>
            <a:ext cx="2944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4"/>
          <p:cNvGrpSpPr/>
          <p:nvPr/>
        </p:nvGrpSpPr>
        <p:grpSpPr>
          <a:xfrm>
            <a:off x="644400" y="3000240"/>
            <a:ext cx="7999560" cy="928800"/>
            <a:chOff x="644400" y="3000240"/>
            <a:chExt cx="7999560" cy="928800"/>
          </a:xfrm>
        </p:grpSpPr>
        <p:pic>
          <p:nvPicPr>
            <p:cNvPr id="53" name="矩形 3" descr=""/>
            <p:cNvPicPr/>
            <p:nvPr/>
          </p:nvPicPr>
          <p:blipFill>
            <a:blip r:embed="rId1"/>
            <a:stretch/>
          </p:blipFill>
          <p:spPr>
            <a:xfrm>
              <a:off x="1180440" y="3000240"/>
              <a:ext cx="746352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椭圆 2"/>
            <p:cNvSpPr/>
            <p:nvPr/>
          </p:nvSpPr>
          <p:spPr>
            <a:xfrm>
              <a:off x="644400" y="3129120"/>
              <a:ext cx="894960" cy="5922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5"/>
          <p:cNvSpPr/>
          <p:nvPr/>
        </p:nvSpPr>
        <p:spPr>
          <a:xfrm>
            <a:off x="2071800" y="15717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保护环境迫在眉睫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928800" y="285840"/>
            <a:ext cx="6033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我国高度重视保护野生动物，林业部门建立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74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多个自然保护区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多种珍稀濒危野生动物得到了较好的保护。某自然保护区形状近似三角形，如右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10"/>
          <p:cNvGrpSpPr/>
          <p:nvPr/>
        </p:nvGrpSpPr>
        <p:grpSpPr>
          <a:xfrm>
            <a:off x="6335640" y="357120"/>
            <a:ext cx="2522520" cy="2306520"/>
            <a:chOff x="6335640" y="357120"/>
            <a:chExt cx="2522520" cy="2306520"/>
          </a:xfrm>
        </p:grpSpPr>
        <p:pic>
          <p:nvPicPr>
            <p:cNvPr id="58" name="图片 9" descr="60.png"/>
            <p:cNvPicPr/>
            <p:nvPr/>
          </p:nvPicPr>
          <p:blipFill>
            <a:blip r:embed="rId1"/>
            <a:stretch/>
          </p:blipFill>
          <p:spPr>
            <a:xfrm>
              <a:off x="6335640" y="357120"/>
              <a:ext cx="252252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0"/>
            <p:cNvSpPr/>
            <p:nvPr/>
          </p:nvSpPr>
          <p:spPr>
            <a:xfrm>
              <a:off x="6978240" y="128592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0k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>
              <a:off x="7038720" y="214308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0k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11" descr="54 1.png"/>
          <p:cNvPicPr/>
          <p:nvPr/>
        </p:nvPicPr>
        <p:blipFill>
          <a:blip r:embed="rId2"/>
          <a:srcRect l="0" t="0" r="10934" b="0"/>
          <a:stretch/>
        </p:blipFill>
        <p:spPr>
          <a:xfrm>
            <a:off x="-142920" y="81000"/>
            <a:ext cx="11430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50920" y="26028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该自然保护区的面积大约是多少平方千米？合多少公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341440" y="1773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平方千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10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公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692360" y="2781360"/>
            <a:ext cx="69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0×120×   =90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平方千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692360" y="3933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方千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90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828720" y="50468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面积大约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平方千米，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000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公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84360" y="270828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4000680" y="2428920"/>
                <a:ext cx="4284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11592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一定范围内生物个体的数量称为种群密度，计算方法是：种群密度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生物个体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单位面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动物学家在该自然保护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公顷的范围内发现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只梅花鹿。梅花鹿的种群密度是每公顷几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71640" y="42210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627280" y="46450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÷5=1.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顷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826920" y="5643720"/>
            <a:ext cx="79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梅花鹿的种群密度是每公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95280" y="50472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估计这个自然保护区内有多少只梅花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26920" y="2421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979640" y="3357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00000×1.8=162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55640" y="50331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这个自然保护区内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200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只梅花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95280" y="333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2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调查发现，这个自然保护区内红松的种群密度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棵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公顷。计算该自然保护区一共有多少棵红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28720" y="278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62200" y="35798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00000×29=2610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928800" y="48690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该自然保护区一共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1000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棵红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324000" y="8593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一批蜂蜜要装箱。如果每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瓶，需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箱子。如果每箱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瓶，可少用多少个箱子？（用两种方法解答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73080" y="2932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法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556000" y="39402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×6÷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71880" y="492912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482920" y="58118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可少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箱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187280" y="5450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每箱装的瓶数和箱子的数量成反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4000" y="14191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解法二：设若每箱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瓶，要用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箱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987640" y="23558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×6=10×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22560" y="32194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×6÷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924360" y="40831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071880" y="487512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411280" y="58831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可少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箱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4:36:22Z</dcterms:created>
  <dc:creator/>
  <dc:description/>
  <dc:language>en-US</dc:language>
  <cp:lastModifiedBy/>
  <dcterms:modified xsi:type="dcterms:W3CDTF">2015-03-24T04:36:28Z</dcterms:modified>
  <cp:revision>1</cp:revision>
  <dc:subject/>
  <dc:title/>
</cp:coreProperties>
</file>