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670-57E7-4FC6-A66E-39862B70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25F-2A67-4BBD-A3C7-F8390070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3B0-C174-4721-B9EB-A720834D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750-BB69-4883-89E5-03BA25F6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E3B-2482-412E-9E1E-C685C7CF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80DA-1EE0-4A4E-8DC7-30F07D8F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777-5DD7-47CC-A49B-5BB68271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8CA3-C908-4194-B4CC-E391B06D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0B8E-1026-4C98-9327-757FBDD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1689-4840-4995-9511-AF31957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6D7-9064-4040-B3DE-A994FD1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F15-972A-4EA7-8C80-7099C92D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0CA6-F794-4E45-A871-8AAE4D8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0E24-D543-43A4-B1C1-D50DD23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7BC9-5ED7-47D0-B29C-A628F034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74E-7A59-40DC-BD11-43F69FB8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AB8A-3ABC-47D6-807B-2F0EB1CD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273B-2990-45E5-8B73-FE2572D4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87A3-6ADB-4CCF-977E-9D607499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C415-39C4-4098-BC67-0A9D2871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2D2B-9987-45B3-B740-C680135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4C7F-B3FF-492E-A49D-9A208FD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8F4-F01A-4443-90E2-5DDED94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080C-D272-4B2A-BBD6-B31D512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2598-3832-483A-9DEB-F26FC85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7BB6-C393-4883-9865-D77DD9F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76EA-313D-43F8-822D-3C93CD2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79E9-9F70-4A64-B218-595B1B35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20EB-3C01-4FF8-A1BB-EC19E23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BB51-47AE-4D54-B0AB-5BBA57A2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D17-8188-40A1-BC90-7904166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94C-F88B-4E3C-93C3-17713641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58B-EA08-4AA4-8E16-EEDEDB2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AAE-FF45-4668-A4CF-F87C980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293-FF37-4180-9C91-24447CAB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A2E-DF5E-4BAC-94A5-1E30A43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0DE-4CDF-45DF-924D-6E21E67A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A911-50A8-4782-AC9A-06A08E7A6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6B6-9FDC-4E7C-8C8D-ACDCE46B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加减运算（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50920" y="351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表格填完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47640" y="1628640"/>
          <a:ext cx="6096240" cy="4040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星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购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剩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47"/>
          <p:cNvSpPr/>
          <p:nvPr/>
        </p:nvSpPr>
        <p:spPr>
          <a:xfrm>
            <a:off x="6516720" y="22615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6373800" y="2851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-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9"/>
          <p:cNvSpPr/>
          <p:nvPr/>
        </p:nvSpPr>
        <p:spPr>
          <a:xfrm>
            <a:off x="6372360" y="34138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25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0"/>
          <p:cNvSpPr/>
          <p:nvPr/>
        </p:nvSpPr>
        <p:spPr>
          <a:xfrm>
            <a:off x="6445080" y="39888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-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1"/>
          <p:cNvSpPr/>
          <p:nvPr/>
        </p:nvSpPr>
        <p:spPr>
          <a:xfrm>
            <a:off x="6445080" y="45648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-5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3276720" y="515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43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3"/>
          <p:cNvSpPr/>
          <p:nvPr/>
        </p:nvSpPr>
        <p:spPr>
          <a:xfrm>
            <a:off x="4716360" y="51411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25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4"/>
          <p:cNvSpPr/>
          <p:nvPr/>
        </p:nvSpPr>
        <p:spPr>
          <a:xfrm>
            <a:off x="6300720" y="515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18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24000" y="4618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哪两天用去的大米的质量数相差最多？相差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82692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要计算哪两个数的差最大，用最大的数减去最小的数。所以从表格可以看出，星期二和星期三的质量数相差最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057400" y="3832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09-498=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95280" y="378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71640" y="51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星期二和星期三的质量数相差最多，相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250920" y="4158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剩余的大米大约够用几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9640" y="119700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由表格可以得到，食堂每天大约用去大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5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千克。由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）得，食堂剩余量为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829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84360" y="293220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600200" y="2978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9÷500=3.65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971640" y="443232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剩余的大米大约够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50920" y="44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育心理丛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喜欢什么样的老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样当一名好老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世纪对教师的挑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这四本书中，哪三本的总价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左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4000" y="278136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法一：把每三本书的价钱相加，看哪一种价                     钱最接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386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+31+19=1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824360" y="385776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+31+24=1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95280" y="4581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+19+24=9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788000" y="458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1+19+24=7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08000" y="51879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育心理丛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当一名好老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世纪对教师的挑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本书的总价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法二：从四本书中每次减去一本书的价格，看哪一种价格最接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35280" y="16444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+31+19+24=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588000" y="162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本书的总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82560" y="25671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-56=7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292720" y="25621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-31=9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82560" y="37130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-19=1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291280" y="37130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-24=1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497052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育心理丛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当一名好老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世纪对教师的挑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本书的总价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矩形 3" descr=""/>
          <p:cNvPicPr/>
          <p:nvPr/>
        </p:nvPicPr>
        <p:blipFill>
          <a:blip r:embed="rId1"/>
          <a:stretch/>
        </p:blipFill>
        <p:spPr>
          <a:xfrm>
            <a:off x="152280" y="0"/>
            <a:ext cx="2273400" cy="920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143000" y="1219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本书一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3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页，小明昨天看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页，今天又看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页，还剩多少页没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676520" y="3505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3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2133720" y="4572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还剩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页没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一、整数加法法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0960" y="981000"/>
            <a:ext cx="422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60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3975+56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21440" y="1981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、相同数位对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2241360" y="281952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个位加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609480" y="36576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、哪一位上的数相加满几十，要向前一位进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5"/>
          <p:cNvSpPr/>
          <p:nvPr/>
        </p:nvSpPr>
        <p:spPr>
          <a:xfrm>
            <a:off x="4572000" y="9907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二、整数减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042920" y="69228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0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47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165744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、相同数位对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2012760" y="24382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个位减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380880" y="32767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、被减数哪一位上的数不够减，就从前一位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作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，和本位上的数加起来，再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4142880" y="69228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45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50920" y="684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用简便方法计算下面各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52360" y="785880"/>
            <a:ext cx="468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9+485+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.76+18.91+20.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.18-(1.18+2.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19240" y="736560"/>
            <a:ext cx="4105080" cy="230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148360" y="785880"/>
            <a:ext cx="374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67-0.087-4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725-3.87-2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42-198-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716360" y="785880"/>
            <a:ext cx="4105440" cy="23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0" y="3000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6720" y="3697200"/>
            <a:ext cx="403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9+485+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(209+791)+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00+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859280" y="3749760"/>
            <a:ext cx="4321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.76+18.91+20.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25.76+(18.91+20.0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5.76+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4.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252360" y="3697200"/>
            <a:ext cx="4071960" cy="3024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786200" y="3697200"/>
            <a:ext cx="4357800" cy="3024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93840" y="387360"/>
            <a:ext cx="403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.18-(1.18+2.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(7.18-1.18)-2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-2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.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788000" y="404640"/>
            <a:ext cx="388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67-0.087-4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(5.67-4.67)-0.0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-0.0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0.9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95280" y="3573360"/>
            <a:ext cx="3816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725-3.87-2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6.725-(3.87+2.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.725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0.7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788000" y="3573360"/>
            <a:ext cx="403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42-198-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542-200-200+2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2+2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716360" y="333360"/>
            <a:ext cx="4032360" cy="309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4716360" y="3618000"/>
            <a:ext cx="4032360" cy="2979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4000" y="3645000"/>
            <a:ext cx="4032000" cy="2952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24000" y="333360"/>
            <a:ext cx="4032000" cy="309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888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食堂星期一至星期五购进及用去大米的情况如表所示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千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47640" y="2060640"/>
          <a:ext cx="6096240" cy="4040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星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购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剩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ac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50920" y="3175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分别估计一共购进的千克数与用去的千克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1628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619280" y="170028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购进的千克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80+3062=1300+3042=434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619280" y="3141720"/>
            <a:ext cx="705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去的千克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00+509+498+502+5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500+(506+504)+3+(498+5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2513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8360" y="602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一共购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3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用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1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53:19Z</dcterms:created>
  <dc:creator/>
  <dc:description/>
  <dc:language>en-US</dc:language>
  <cp:lastModifiedBy/>
  <dcterms:modified xsi:type="dcterms:W3CDTF">2015-04-08T10:53:23Z</dcterms:modified>
  <cp:revision>1</cp:revision>
  <dc:subject/>
  <dc:title/>
</cp:coreProperties>
</file>