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5727-2FF0-4C69-B908-6FDCA1AC87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4AF5-8D9B-412C-BE81-A4E3BBF9AB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B9B-F7C8-4090-B0C7-915B9C35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F4B-E75C-4D86-B498-BE36E24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3B5-7520-4DDF-90BF-38900A00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E75-68DF-49D1-9A94-F0C4C4B0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0B3-1E97-462B-B289-7B8B26D1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AAB-E99E-4628-9458-96A32FF6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EF2-CCA3-475B-BEE3-9E4F7C04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998-DF1C-4325-A9AE-A10CE911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C13-9D3C-4522-A943-A2B936F9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3E0-9F42-4F86-AF2C-E06E5288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B97-FF06-47B6-B41E-98FDF61A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0B9-4C5F-460C-A592-D95233A8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831F-D591-424B-882F-E3039F3F9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600200" y="274320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加减运算（四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320" y="380880"/>
            <a:ext cx="91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加、减法各部分之间的关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-181080" y="1292400"/>
            <a:ext cx="43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加数＋加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8781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－一个加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另一个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-181080" y="3317760"/>
            <a:ext cx="47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被减数－减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50960" y="391788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被减数－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0960" y="449424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减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被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5051880" y="1293840"/>
            <a:ext cx="21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=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051880" y="1916280"/>
            <a:ext cx="21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=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5036040" y="2500200"/>
            <a:ext cx="21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=7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286160" y="32860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246560" y="38577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=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246560" y="450072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=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410280" y="533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些混合运算也可以用简便方法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84640" y="190512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1-37+79=121+79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812120" y="1905120"/>
            <a:ext cx="20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-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=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-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4640" y="281952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1+37-21=121-21+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812120" y="2819520"/>
            <a:ext cx="20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-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=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-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0" y="3733920"/>
            <a:ext cx="9144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加减混合，可以任意交换第一个数后面的数的运算次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50920" y="684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用简便方法计算下面各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52360" y="785880"/>
            <a:ext cx="468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9+485+7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5.76+18.91+20.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.18-(1.18+2.0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19240" y="736560"/>
            <a:ext cx="4105080" cy="230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48360" y="785880"/>
            <a:ext cx="374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67-0.087-4.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.725-3.87-2.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42-198-1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716360" y="785880"/>
            <a:ext cx="4105440" cy="23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0" y="30002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6720" y="3697200"/>
            <a:ext cx="4032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9+485+7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(209+791)+4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000+4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4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859280" y="3749760"/>
            <a:ext cx="4321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5.76+18.91+20.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25.76+(18.91+20.0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25.76+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64.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252360" y="3697200"/>
            <a:ext cx="4071960" cy="3024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4786200" y="3697200"/>
            <a:ext cx="4357800" cy="3024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93840" y="387360"/>
            <a:ext cx="403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.18-(1.18+2.0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(7.18-1.18)-2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6-2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3.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788000" y="404640"/>
            <a:ext cx="3887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67-0.087-4.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(5.67-4.67)-0.0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-0.0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0.9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95280" y="3573360"/>
            <a:ext cx="3816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.725-3.87-2.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6.725-(3.87+2.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6.725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0.7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788000" y="3573360"/>
            <a:ext cx="403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42-198-1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=542-200-200+2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42+2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716360" y="333360"/>
            <a:ext cx="4032360" cy="3095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16360" y="3618000"/>
            <a:ext cx="4032360" cy="2979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24000" y="3645000"/>
            <a:ext cx="4032000" cy="2952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24000" y="333360"/>
            <a:ext cx="4032000" cy="3095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"/>
          <p:cNvSpPr/>
          <p:nvPr/>
        </p:nvSpPr>
        <p:spPr>
          <a:xfrm>
            <a:off x="685800" y="685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同学们要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灯笼，已做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还要做多少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762120" y="35812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从花上飞走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只蝴蝶，又飞走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只，两次飞走了多少只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2438280" y="19051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9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209680" y="2743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还要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590920" y="4952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286000" y="5867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两次飞走了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3"/>
          <p:cNvSpPr/>
          <p:nvPr/>
        </p:nvSpPr>
        <p:spPr>
          <a:xfrm>
            <a:off x="609480" y="838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飞机场上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架飞机，飞走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架，现在机场上有飞机多少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685800" y="3886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苹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盆红花，又种了同样多的黄花，两种花共多少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133720" y="21337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9 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2209680" y="5105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96 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2286000" y="29718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现在机场上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438280" y="6019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两种花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9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0:54:57Z</dcterms:created>
  <dc:creator/>
  <dc:description/>
  <dc:language>en-US</dc:language>
  <cp:lastModifiedBy/>
  <dcterms:modified xsi:type="dcterms:W3CDTF">2015-04-08T10:55:01Z</dcterms:modified>
  <cp:revision>1</cp:revision>
  <dc:subject/>
  <dc:title/>
</cp:coreProperties>
</file>