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481-0FA4-4565-8CEC-8D78918E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AFE-5317-4348-A428-F1068CEE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64B-3B36-4147-B827-63AD5F96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FDB-314E-4F5B-98B9-A5CF40EC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273-BEA6-4CBF-9E20-9AD6846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10A-FD0F-4748-8892-E42A877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AEF-8331-44D1-B26D-E66C141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B73-0972-4746-8BEB-DE5E25E2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4FD-E70A-462A-AF07-3FA29F01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BF8-C775-42D1-9184-DE30013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F23-D964-4D7B-A620-FD1F797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913-916C-44E0-A1CE-B882BEF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4587-81EE-4F23-80AF-83C1C01B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解决问题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有余数除法解决生活中的实际问题时要注意什么？（具体问题具体分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练一练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整理与复习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4000" y="260280"/>
            <a:ext cx="3384360" cy="7034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起来购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468360" y="549360"/>
            <a:ext cx="288720" cy="288720"/>
          </a:xfrm>
          <a:prstGeom prst="ellipse">
            <a:avLst/>
          </a:prstGeom>
          <a:solidFill>
            <a:srgbClr val="aa21d5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048120" y="762120"/>
            <a:ext cx="5256000" cy="2736720"/>
          </a:xfrm>
          <a:prstGeom prst="cloudCallout">
            <a:avLst>
              <a:gd name="adj1" fmla="val 45921"/>
              <a:gd name="adj2" fmla="val -4671"/>
            </a:avLst>
          </a:prstGeom>
          <a:solidFill>
            <a:srgbClr val="ffff99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都买矿泉水，最多可以（    ）瓶，还剩（     ）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 rot="919800">
            <a:off x="2556000" y="3212640"/>
            <a:ext cx="6192720" cy="38880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708360" y="4581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如果是你有</a:t>
            </a: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元，你会买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751280" y="2143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197320" y="2684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80880" y="1143000"/>
            <a:ext cx="2640240" cy="1068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，一瓶牛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一瓶矿泉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一个小蛋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一个面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教学目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知识和技能：灵活运用有余数除法的知识解决实际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过程和方法：在解决问题的过程中学习表达解决问题的思考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情感、态度和价值观：通过合理解决实际问题，体验成功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tretch/>
        </p:blipFill>
        <p:spPr>
          <a:xfrm>
            <a:off x="750960" y="1638360"/>
            <a:ext cx="7642080" cy="4535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857160" y="43344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租船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3000240" y="1357200"/>
            <a:ext cx="178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704880" cy="75276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4"/>
          <p:cNvGrpSpPr/>
          <p:nvPr/>
        </p:nvGrpSpPr>
        <p:grpSpPr>
          <a:xfrm>
            <a:off x="1547640" y="620640"/>
            <a:ext cx="7562880" cy="1285920"/>
            <a:chOff x="1547640" y="620640"/>
            <a:chExt cx="7562880" cy="1285920"/>
          </a:xfrm>
        </p:grpSpPr>
        <p:sp>
          <p:nvSpPr>
            <p:cNvPr id="57" name="圆角矩形标注 31"/>
            <p:cNvSpPr/>
            <p:nvPr/>
          </p:nvSpPr>
          <p:spPr>
            <a:xfrm>
              <a:off x="1547640" y="1027080"/>
              <a:ext cx="6048360" cy="601560"/>
            </a:xfrm>
            <a:prstGeom prst="wedgeRoundRectCallout">
              <a:avLst>
                <a:gd name="adj1" fmla="val 55800"/>
                <a:gd name="adj2" fmla="val -29782"/>
                <a:gd name="adj3" fmla="val 16667"/>
              </a:avLst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限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人”就是每条船最多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图片 1" descr=""/>
            <p:cNvPicPr/>
            <p:nvPr/>
          </p:nvPicPr>
          <p:blipFill>
            <a:blip r:embed="rId3"/>
            <a:stretch/>
          </p:blipFill>
          <p:spPr>
            <a:xfrm>
              <a:off x="7777080" y="620640"/>
              <a:ext cx="133344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7"/>
          <p:cNvGrpSpPr/>
          <p:nvPr/>
        </p:nvGrpSpPr>
        <p:grpSpPr>
          <a:xfrm>
            <a:off x="-60480" y="5187960"/>
            <a:ext cx="6504120" cy="1362240"/>
            <a:chOff x="-60480" y="5187960"/>
            <a:chExt cx="6504120" cy="1362240"/>
          </a:xfrm>
        </p:grpSpPr>
        <p:pic>
          <p:nvPicPr>
            <p:cNvPr id="60" name="图片 2" descr=""/>
            <p:cNvPicPr/>
            <p:nvPr/>
          </p:nvPicPr>
          <p:blipFill>
            <a:blip r:embed="rId4"/>
            <a:stretch/>
          </p:blipFill>
          <p:spPr>
            <a:xfrm>
              <a:off x="-60480" y="5187960"/>
              <a:ext cx="110484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圆角矩形标注 25"/>
            <p:cNvSpPr/>
            <p:nvPr/>
          </p:nvSpPr>
          <p:spPr>
            <a:xfrm>
              <a:off x="1260360" y="5945400"/>
              <a:ext cx="5183280" cy="600120"/>
            </a:xfrm>
            <a:prstGeom prst="wedgeRoundRectCallout">
              <a:avLst>
                <a:gd name="adj1" fmla="val -56125"/>
                <a:gd name="adj2" fmla="val -50199"/>
                <a:gd name="adj3" fmla="val 16667"/>
              </a:avLst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组合作，解决下面两个问题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9"/>
          <p:cNvSpPr/>
          <p:nvPr/>
        </p:nvSpPr>
        <p:spPr>
          <a:xfrm>
            <a:off x="324000" y="40464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去划船，至少要租几条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24000" y="10605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计划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钱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标注 48"/>
          <p:cNvSpPr/>
          <p:nvPr/>
        </p:nvSpPr>
        <p:spPr>
          <a:xfrm>
            <a:off x="3492360" y="2195640"/>
            <a:ext cx="2808360" cy="674640"/>
          </a:xfrm>
          <a:prstGeom prst="wedgeRoundRectCallout">
            <a:avLst>
              <a:gd name="adj1" fmla="val -18657"/>
              <a:gd name="adj2" fmla="val 85708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船能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标注 49"/>
          <p:cNvSpPr/>
          <p:nvPr/>
        </p:nvSpPr>
        <p:spPr>
          <a:xfrm>
            <a:off x="5891040" y="2973240"/>
            <a:ext cx="2808360" cy="887400"/>
          </a:xfrm>
          <a:prstGeom prst="wedgeRoundRectCallout">
            <a:avLst>
              <a:gd name="adj1" fmla="val -10884"/>
              <a:gd name="adj2" fmla="val 87245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需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图片1_副本"/>
          <p:cNvPicPr/>
          <p:nvPr/>
        </p:nvPicPr>
        <p:blipFill>
          <a:blip r:embed="rId1"/>
          <a:stretch/>
        </p:blipFill>
        <p:spPr>
          <a:xfrm>
            <a:off x="304920" y="2743200"/>
            <a:ext cx="7954920" cy="373392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标注 48"/>
          <p:cNvSpPr/>
          <p:nvPr/>
        </p:nvSpPr>
        <p:spPr>
          <a:xfrm>
            <a:off x="380880" y="2133720"/>
            <a:ext cx="2808360" cy="674640"/>
          </a:xfrm>
          <a:prstGeom prst="wedgeRoundRectCallout">
            <a:avLst>
              <a:gd name="adj1" fmla="val 22347"/>
              <a:gd name="adj2" fmla="val 95574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船能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圆角矩形标注 1"/>
          <p:cNvSpPr/>
          <p:nvPr/>
        </p:nvSpPr>
        <p:spPr>
          <a:xfrm>
            <a:off x="2484360" y="460440"/>
            <a:ext cx="4649760" cy="664920"/>
          </a:xfrm>
          <a:prstGeom prst="wedgeRoundRectCallout">
            <a:avLst>
              <a:gd name="adj1" fmla="val 60050"/>
              <a:gd name="adj2" fmla="val 41481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小组讨论的结果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9"/>
          <p:cNvGrpSpPr/>
          <p:nvPr/>
        </p:nvGrpSpPr>
        <p:grpSpPr>
          <a:xfrm>
            <a:off x="473040" y="1846440"/>
            <a:ext cx="6078600" cy="1523880"/>
            <a:chOff x="473040" y="1846440"/>
            <a:chExt cx="6078600" cy="1523880"/>
          </a:xfrm>
        </p:grpSpPr>
        <p:sp>
          <p:nvSpPr>
            <p:cNvPr id="70" name="圆角矩形标注 4"/>
            <p:cNvSpPr/>
            <p:nvPr/>
          </p:nvSpPr>
          <p:spPr>
            <a:xfrm>
              <a:off x="2342520" y="2297160"/>
              <a:ext cx="4209120" cy="649080"/>
            </a:xfrm>
            <a:prstGeom prst="wedgeRoundRectCallout">
              <a:avLst>
                <a:gd name="adj1" fmla="val -63268"/>
                <a:gd name="adj2" fmla="val -9537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名同学至少要租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条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2" descr=""/>
            <p:cNvPicPr/>
            <p:nvPr/>
          </p:nvPicPr>
          <p:blipFill>
            <a:blip r:embed="rId1"/>
            <a:stretch/>
          </p:blipFill>
          <p:spPr>
            <a:xfrm>
              <a:off x="473040" y="1846440"/>
              <a:ext cx="131688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图片 8" descr=""/>
          <p:cNvPicPr/>
          <p:nvPr/>
        </p:nvPicPr>
        <p:blipFill>
          <a:blip r:embed="rId2"/>
          <a:stretch/>
        </p:blipFill>
        <p:spPr>
          <a:xfrm>
            <a:off x="7526160" y="52560"/>
            <a:ext cx="1295640" cy="1784160"/>
          </a:xfrm>
          <a:prstGeom prst="rect">
            <a:avLst/>
          </a:prstGeom>
          <a:ln w="0">
            <a:noFill/>
          </a:ln>
        </p:spPr>
      </p:pic>
      <p:pic>
        <p:nvPicPr>
          <p:cNvPr id="73" name="组合 11" descr=""/>
          <p:cNvPicPr/>
          <p:nvPr/>
        </p:nvPicPr>
        <p:blipFill>
          <a:blip r:embed="rId3"/>
          <a:stretch/>
        </p:blipFill>
        <p:spPr>
          <a:xfrm>
            <a:off x="1841400" y="1298520"/>
            <a:ext cx="5418360" cy="884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484360" y="3417840"/>
            <a:ext cx="3311640" cy="10688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9=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+45=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0"/>
          <p:cNvGrpSpPr/>
          <p:nvPr/>
        </p:nvGrpSpPr>
        <p:grpSpPr>
          <a:xfrm>
            <a:off x="3056040" y="4076640"/>
            <a:ext cx="5414760" cy="2166840"/>
            <a:chOff x="3056040" y="4076640"/>
            <a:chExt cx="5414760" cy="2166840"/>
          </a:xfrm>
        </p:grpSpPr>
        <p:pic>
          <p:nvPicPr>
            <p:cNvPr id="76" name="图片 3" descr=""/>
            <p:cNvPicPr/>
            <p:nvPr/>
          </p:nvPicPr>
          <p:blipFill>
            <a:blip r:embed="rId4"/>
            <a:stretch/>
          </p:blipFill>
          <p:spPr>
            <a:xfrm>
              <a:off x="7308720" y="4076640"/>
              <a:ext cx="11620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圆角矩形标注 15"/>
            <p:cNvSpPr/>
            <p:nvPr/>
          </p:nvSpPr>
          <p:spPr>
            <a:xfrm>
              <a:off x="3056040" y="5091120"/>
              <a:ext cx="3506760" cy="1152360"/>
            </a:xfrm>
            <a:prstGeom prst="wedgeRoundRectCallout">
              <a:avLst>
                <a:gd name="adj1" fmla="val 68050"/>
                <a:gd name="adj2" fmla="val -51574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条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时需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够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9"/>
          <p:cNvSpPr/>
          <p:nvPr/>
        </p:nvSpPr>
        <p:spPr>
          <a:xfrm>
            <a:off x="260280" y="17431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一起吃饭，需要多少张桌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5799240" y="468324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271680" y="46753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口答：需要（     ）张桌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03360" y="2595600"/>
            <a:ext cx="1469880" cy="169848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标注 13"/>
          <p:cNvSpPr/>
          <p:nvPr/>
        </p:nvSpPr>
        <p:spPr>
          <a:xfrm>
            <a:off x="2166840" y="2610000"/>
            <a:ext cx="2189160" cy="604800"/>
          </a:xfrm>
          <a:prstGeom prst="wedgeRoundRectCallout">
            <a:avLst>
              <a:gd name="adj1" fmla="val -61671"/>
              <a:gd name="adj2" fmla="val 36731"/>
              <a:gd name="adj3" fmla="val 16667"/>
            </a:avLst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桌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4"/>
          <p:cNvGrpSpPr/>
          <p:nvPr/>
        </p:nvGrpSpPr>
        <p:grpSpPr>
          <a:xfrm>
            <a:off x="1619280" y="5522760"/>
            <a:ext cx="8628120" cy="605160"/>
            <a:chOff x="1619280" y="5522760"/>
            <a:chExt cx="8628120" cy="605160"/>
          </a:xfrm>
        </p:grpSpPr>
        <p:sp>
          <p:nvSpPr>
            <p:cNvPr id="84" name="TextBox 9"/>
            <p:cNvSpPr/>
            <p:nvPr/>
          </p:nvSpPr>
          <p:spPr>
            <a:xfrm>
              <a:off x="1619280" y="5522760"/>
              <a:ext cx="274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÷8=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张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7"/>
            <p:cNvSpPr/>
            <p:nvPr/>
          </p:nvSpPr>
          <p:spPr>
            <a:xfrm>
              <a:off x="4365720" y="5546520"/>
              <a:ext cx="58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…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人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7"/>
          <p:cNvSpPr/>
          <p:nvPr/>
        </p:nvSpPr>
        <p:spPr>
          <a:xfrm>
            <a:off x="1116000" y="60818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做一张桌子所以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603360" y="609480"/>
            <a:ext cx="22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图片2_副本"/>
          <p:cNvPicPr/>
          <p:nvPr/>
        </p:nvPicPr>
        <p:blipFill>
          <a:blip r:embed="rId2"/>
          <a:stretch/>
        </p:blipFill>
        <p:spPr>
          <a:xfrm>
            <a:off x="4724280" y="2743200"/>
            <a:ext cx="3651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9"/>
          <p:cNvSpPr/>
          <p:nvPr/>
        </p:nvSpPr>
        <p:spPr>
          <a:xfrm>
            <a:off x="762120" y="380880"/>
            <a:ext cx="76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买整箱饮料平均每瓶比零买便宜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16000" y="3780000"/>
            <a:ext cx="1738440" cy="520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987640" y="465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÷9=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635800" y="3755880"/>
            <a:ext cx="1457280" cy="520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132000" y="52704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−4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84040" y="59691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买整箱饮料平均每瓶比零买便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图片4_副本"/>
          <p:cNvPicPr/>
          <p:nvPr/>
        </p:nvPicPr>
        <p:blipFill>
          <a:blip r:embed="rId1"/>
          <a:stretch/>
        </p:blipFill>
        <p:spPr>
          <a:xfrm>
            <a:off x="1066680" y="1830240"/>
            <a:ext cx="2210040" cy="180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图片5_副本"/>
          <p:cNvPicPr/>
          <p:nvPr/>
        </p:nvPicPr>
        <p:blipFill>
          <a:blip r:embed="rId2"/>
          <a:stretch/>
        </p:blipFill>
        <p:spPr>
          <a:xfrm>
            <a:off x="4572000" y="1905120"/>
            <a:ext cx="3090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94880" y="260280"/>
            <a:ext cx="834876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）航模小组用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个       装               ，最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能装几辆四驱赛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）            载重量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吨，要运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吨货物，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少需几辆                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012000" y="836640"/>
            <a:ext cx="115380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2862360" y="4267080"/>
            <a:ext cx="93636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1835280" y="3213000"/>
            <a:ext cx="1008000" cy="865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187280" y="2133720"/>
            <a:ext cx="65059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25÷4=6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辆）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答：最多能装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辆四驱赛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70040" y="5140440"/>
            <a:ext cx="720396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25÷4=6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辆）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吨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6+1=7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答：至少需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0:59:14Z</dcterms:created>
  <dc:creator/>
  <dc:description/>
  <cp:keywords/>
  <dc:language>en-US</dc:language>
  <cp:lastModifiedBy/>
  <dcterms:modified xsi:type="dcterms:W3CDTF">2015-05-06T11:01:16Z</dcterms:modified>
  <cp:revision>1</cp:revision>
  <dc:subject/>
  <dc:title/>
</cp:coreProperties>
</file>