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2217-E549-46BC-AF7B-D229587B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255B-D9F7-4FDA-AE34-8DC13D91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3FD-1AC6-4789-9964-8C3C06EE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4EC-1A76-441A-9CE5-D9380614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E09-126A-42BD-9B7B-6FA37C98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AB7-C538-4CF1-BC66-095C5E11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9EB9-B4CE-43C6-B1F9-21692916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42BA-2B1F-4EDB-BC9D-CD8F6AEE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66E6-D074-41C7-A489-55AB839C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509B-D349-4D9D-91B9-D696B456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05C9-EB17-4A8C-B775-AE6ADCA0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7E9D-D876-4E1B-8A1A-0A5C4DA8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3B82-6903-4914-A129-30E36C9B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E71-9684-4715-9438-C4AC3970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B71D-E2FD-4CFB-AA49-B62F1CC4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F196-BE10-4994-9044-B094DB4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4C7-D4DD-4382-8CB2-05C775B7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CCFE-05AC-4A10-B558-7897B18F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39EB-570F-44EF-8D78-AD6B9428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41DA-62BC-4D05-84AA-5E2B8A41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8696-A987-434A-B9E2-5C9934BF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1DFC-D441-4482-B4C9-7A5F8ACF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5F4F-8E4A-4036-A0C6-07220891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43BF-8801-4E45-8198-5CAE93BA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25C-E405-4CF4-A2A2-3B742E83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5A77-A4F3-4178-BFA6-B9E7FE0A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C15C-3B71-449F-B87C-AC8FFD6D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CEB6F-E85F-499A-B247-50CFDFDE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35B1-5A37-4CC4-9C65-82DA9FBC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BCB2-5371-4022-981A-93F5F1B2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5BE0-5D83-45F1-A301-A723C6C2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26DA-4E17-4B4A-B608-444B02CC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99E9-8A1E-4401-87E4-B97043FA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D187-4C4A-4023-B927-BF0835E9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26F0-0BC3-4E86-B9B8-6E04AF89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224-55CA-4C63-BDA2-D5F35415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1B46-A2A3-472E-91A4-4ECC95F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0DFB-50D2-4EDD-91F9-D55385B2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A280A-B1E9-4078-AAF0-12C249BF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E261-550B-4826-8CEB-19005005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89622-BBAC-4E25-A52F-03634E1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98E5-F156-4B29-964A-C16293FC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D626-6B6B-483D-8C42-636D27AE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E213-1C97-47B2-A10A-DA50DBA4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99AB7-8E97-47FB-ABEB-408827C6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B27-A1BD-417D-8FC6-AFDBFCC0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E4F-D764-4211-9BD4-7F8BCFE5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4BC-E6F5-4109-862F-E5175C5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E39-C94E-4366-865B-F9F8C9D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728-34E2-4AB5-8B8A-74559430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F05F-B115-4154-9216-D7A8813E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FE48-4B69-4F67-B94D-91CE5F6FF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7319-E522-4E31-AF1A-9C67EEFB7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A1C8-866A-4911-B477-7D6F158F6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1066680" y="2286000"/>
            <a:ext cx="61628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解决问题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图片1"/>
          <p:cNvPicPr/>
          <p:nvPr/>
        </p:nvPicPr>
        <p:blipFill>
          <a:blip r:embed="rId1"/>
          <a:stretch/>
        </p:blipFill>
        <p:spPr>
          <a:xfrm>
            <a:off x="0" y="5084640"/>
            <a:ext cx="1447920" cy="17733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4211640" y="2637000"/>
            <a:ext cx="360036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6228000" cy="3630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3"/>
          <a:stretch/>
        </p:blipFill>
        <p:spPr>
          <a:xfrm>
            <a:off x="7105680" y="549360"/>
            <a:ext cx="2038320" cy="160956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/>
          <p:cNvSpPr/>
          <p:nvPr/>
        </p:nvSpPr>
        <p:spPr>
          <a:xfrm>
            <a:off x="2843280" y="476280"/>
            <a:ext cx="5256000" cy="1876320"/>
          </a:xfrm>
          <a:prstGeom prst="cloudCallout">
            <a:avLst>
              <a:gd name="adj1" fmla="val 45680"/>
              <a:gd name="adj2" fmla="val -7606"/>
            </a:avLst>
          </a:prstGeom>
          <a:solidFill>
            <a:srgbClr val="66ccff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最多可以买几本，还剩多少钱？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元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0" y="2276640"/>
            <a:ext cx="3095640" cy="2523960"/>
          </a:xfrm>
          <a:prstGeom prst="cloudCallout">
            <a:avLst>
              <a:gd name="adj1" fmla="val -24819"/>
              <a:gd name="adj2" fmla="val 150245"/>
            </a:avLst>
          </a:prstGeom>
          <a:solidFill>
            <a:srgbClr val="ffcc99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读书节到了，赶快一起到书店买书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"/>
          <p:cNvSpPr/>
          <p:nvPr/>
        </p:nvSpPr>
        <p:spPr>
          <a:xfrm>
            <a:off x="1828800" y="633888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元最多买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本书，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元最多买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本书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0" y="762120"/>
            <a:ext cx="91076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丛林控险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辆小车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全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。最多可以坐满几辆车？会有剩余的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2948040"/>
            <a:ext cx="9144000" cy="37641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激流涌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船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全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。该租几条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剩余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也要坐一条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应该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"/>
          <p:cNvSpPr/>
          <p:nvPr/>
        </p:nvSpPr>
        <p:spPr>
          <a:xfrm>
            <a:off x="304920" y="20080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44÷6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（辆）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‥‥‥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"/>
          <p:cNvSpPr/>
          <p:nvPr/>
        </p:nvSpPr>
        <p:spPr>
          <a:xfrm>
            <a:off x="642600" y="4114800"/>
            <a:ext cx="39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44÷5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（条）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‥‥‥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"/>
          <p:cNvSpPr/>
          <p:nvPr/>
        </p:nvSpPr>
        <p:spPr>
          <a:xfrm>
            <a:off x="-38160" y="6019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（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图片71"/>
          <p:cNvPicPr/>
          <p:nvPr/>
        </p:nvPicPr>
        <p:blipFill>
          <a:blip r:embed="rId1"/>
          <a:stretch/>
        </p:blipFill>
        <p:spPr>
          <a:xfrm>
            <a:off x="7020000" y="4724280"/>
            <a:ext cx="1834920" cy="1798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6121440" y="907920"/>
            <a:ext cx="277164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楷体_GB2312"/>
              </a:rPr>
              <a:t>看图说故事，并能根椐故事提出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6156360" y="2781360"/>
            <a:ext cx="2987640" cy="1714320"/>
          </a:xfrm>
          <a:prstGeom prst="cloudCallout">
            <a:avLst>
              <a:gd name="adj1" fmla="val 902"/>
              <a:gd name="adj2" fmla="val 108675"/>
            </a:avLst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你能解答出提出的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0" y="5157720"/>
            <a:ext cx="896472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÷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张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只）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6021360"/>
            <a:ext cx="676908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只）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0120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有余数除法解决生活中的实际问题时要注意什么？（具体问题具体分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289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后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教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练一练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教材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整理与复习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b"/>
            </a:gs>
            <a:gs pos="100000">
              <a:srgbClr val="baba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</a:rPr>
              <a:t>教学目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知识和技能：灵活运用有余数除法的知识解决实际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过程和方法：在解决问题的过程中学习表达解决问题的思考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情感、态度和价值观：通过合理解决实际问题，体验成功的喜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3" descr=""/>
          <p:cNvPicPr/>
          <p:nvPr/>
        </p:nvPicPr>
        <p:blipFill>
          <a:blip r:embed="rId1"/>
          <a:stretch/>
        </p:blipFill>
        <p:spPr>
          <a:xfrm>
            <a:off x="750960" y="1638360"/>
            <a:ext cx="7642080" cy="4535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857160" y="43344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租船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3000240" y="1357200"/>
            <a:ext cx="1785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704880" cy="75276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4"/>
          <p:cNvGrpSpPr/>
          <p:nvPr/>
        </p:nvGrpSpPr>
        <p:grpSpPr>
          <a:xfrm>
            <a:off x="1547640" y="620640"/>
            <a:ext cx="7562880" cy="1285920"/>
            <a:chOff x="1547640" y="620640"/>
            <a:chExt cx="7562880" cy="1285920"/>
          </a:xfrm>
        </p:grpSpPr>
        <p:sp>
          <p:nvSpPr>
            <p:cNvPr id="179" name="圆角矩形标注 31"/>
            <p:cNvSpPr/>
            <p:nvPr/>
          </p:nvSpPr>
          <p:spPr>
            <a:xfrm>
              <a:off x="1547640" y="1027080"/>
              <a:ext cx="6048360" cy="601560"/>
            </a:xfrm>
            <a:prstGeom prst="wedgeRoundRectCallout">
              <a:avLst>
                <a:gd name="adj1" fmla="val 55800"/>
                <a:gd name="adj2" fmla="val -29782"/>
                <a:gd name="adj3" fmla="val 16667"/>
              </a:avLst>
            </a:prstGeom>
            <a:solidFill>
              <a:srgbClr val="6b6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限乘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人”就是每条船最多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图片 1" descr=""/>
            <p:cNvPicPr/>
            <p:nvPr/>
          </p:nvPicPr>
          <p:blipFill>
            <a:blip r:embed="rId3"/>
            <a:stretch/>
          </p:blipFill>
          <p:spPr>
            <a:xfrm>
              <a:off x="7777080" y="620640"/>
              <a:ext cx="133344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组合 7"/>
          <p:cNvGrpSpPr/>
          <p:nvPr/>
        </p:nvGrpSpPr>
        <p:grpSpPr>
          <a:xfrm>
            <a:off x="-60480" y="5187960"/>
            <a:ext cx="6504120" cy="1362240"/>
            <a:chOff x="-60480" y="5187960"/>
            <a:chExt cx="6504120" cy="1362240"/>
          </a:xfrm>
        </p:grpSpPr>
        <p:pic>
          <p:nvPicPr>
            <p:cNvPr id="182" name="图片 2" descr=""/>
            <p:cNvPicPr/>
            <p:nvPr/>
          </p:nvPicPr>
          <p:blipFill>
            <a:blip r:embed="rId4"/>
            <a:stretch/>
          </p:blipFill>
          <p:spPr>
            <a:xfrm>
              <a:off x="-60480" y="5187960"/>
              <a:ext cx="110484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圆角矩形标注 25"/>
            <p:cNvSpPr/>
            <p:nvPr/>
          </p:nvSpPr>
          <p:spPr>
            <a:xfrm>
              <a:off x="1260360" y="5945400"/>
              <a:ext cx="5183280" cy="600120"/>
            </a:xfrm>
            <a:prstGeom prst="wedgeRoundRectCallout">
              <a:avLst>
                <a:gd name="adj1" fmla="val -56125"/>
                <a:gd name="adj2" fmla="val -50199"/>
                <a:gd name="adj3" fmla="val 16667"/>
              </a:avLst>
            </a:prstGeom>
            <a:solidFill>
              <a:srgbClr val="6b6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小组合作，解决下面两个问题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9"/>
          <p:cNvSpPr/>
          <p:nvPr/>
        </p:nvSpPr>
        <p:spPr>
          <a:xfrm>
            <a:off x="324000" y="40464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同学去划船，至少要租几条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324000" y="10605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计划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钱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标注 48"/>
          <p:cNvSpPr/>
          <p:nvPr/>
        </p:nvSpPr>
        <p:spPr>
          <a:xfrm>
            <a:off x="3492360" y="2195640"/>
            <a:ext cx="2808360" cy="674640"/>
          </a:xfrm>
          <a:prstGeom prst="wedgeRoundRectCallout">
            <a:avLst>
              <a:gd name="adj1" fmla="val -18657"/>
              <a:gd name="adj2" fmla="val 85708"/>
              <a:gd name="adj3" fmla="val 16667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船能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标注 49"/>
          <p:cNvSpPr/>
          <p:nvPr/>
        </p:nvSpPr>
        <p:spPr>
          <a:xfrm>
            <a:off x="5891040" y="2973240"/>
            <a:ext cx="2808360" cy="887400"/>
          </a:xfrm>
          <a:prstGeom prst="wedgeRoundRectCallout">
            <a:avLst>
              <a:gd name="adj1" fmla="val -10884"/>
              <a:gd name="adj2" fmla="val 87245"/>
              <a:gd name="adj3" fmla="val 16667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需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图片1_副本"/>
          <p:cNvPicPr/>
          <p:nvPr/>
        </p:nvPicPr>
        <p:blipFill>
          <a:blip r:embed="rId1"/>
          <a:stretch/>
        </p:blipFill>
        <p:spPr>
          <a:xfrm>
            <a:off x="304920" y="2743200"/>
            <a:ext cx="7954920" cy="3733920"/>
          </a:xfrm>
          <a:prstGeom prst="rect">
            <a:avLst/>
          </a:prstGeom>
          <a:ln w="0">
            <a:noFill/>
          </a:ln>
        </p:spPr>
      </p:pic>
      <p:sp>
        <p:nvSpPr>
          <p:cNvPr id="189" name="圆角矩形标注 48"/>
          <p:cNvSpPr/>
          <p:nvPr/>
        </p:nvSpPr>
        <p:spPr>
          <a:xfrm>
            <a:off x="380880" y="2133720"/>
            <a:ext cx="2808360" cy="674640"/>
          </a:xfrm>
          <a:prstGeom prst="wedgeRoundRectCallout">
            <a:avLst>
              <a:gd name="adj1" fmla="val 22347"/>
              <a:gd name="adj2" fmla="val 95574"/>
              <a:gd name="adj3" fmla="val 16667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船能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圆角矩形标注 1"/>
          <p:cNvSpPr/>
          <p:nvPr/>
        </p:nvSpPr>
        <p:spPr>
          <a:xfrm>
            <a:off x="2484360" y="460440"/>
            <a:ext cx="4649760" cy="664920"/>
          </a:xfrm>
          <a:prstGeom prst="wedgeRoundRectCallout">
            <a:avLst>
              <a:gd name="adj1" fmla="val 60050"/>
              <a:gd name="adj2" fmla="val 41481"/>
              <a:gd name="adj3" fmla="val 16667"/>
            </a:avLst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小组讨论的结果交流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9"/>
          <p:cNvGrpSpPr/>
          <p:nvPr/>
        </p:nvGrpSpPr>
        <p:grpSpPr>
          <a:xfrm>
            <a:off x="473040" y="1846440"/>
            <a:ext cx="6078600" cy="1523880"/>
            <a:chOff x="473040" y="1846440"/>
            <a:chExt cx="6078600" cy="1523880"/>
          </a:xfrm>
        </p:grpSpPr>
        <p:sp>
          <p:nvSpPr>
            <p:cNvPr id="192" name="圆角矩形标注 4"/>
            <p:cNvSpPr/>
            <p:nvPr/>
          </p:nvSpPr>
          <p:spPr>
            <a:xfrm>
              <a:off x="2342520" y="2297160"/>
              <a:ext cx="4209120" cy="649080"/>
            </a:xfrm>
            <a:prstGeom prst="wedgeRoundRectCallout">
              <a:avLst>
                <a:gd name="adj1" fmla="val -63268"/>
                <a:gd name="adj2" fmla="val -9537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名同学至少要租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条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图片 2" descr=""/>
            <p:cNvPicPr/>
            <p:nvPr/>
          </p:nvPicPr>
          <p:blipFill>
            <a:blip r:embed="rId1"/>
            <a:stretch/>
          </p:blipFill>
          <p:spPr>
            <a:xfrm>
              <a:off x="473040" y="1846440"/>
              <a:ext cx="131688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图片 8" descr=""/>
          <p:cNvPicPr/>
          <p:nvPr/>
        </p:nvPicPr>
        <p:blipFill>
          <a:blip r:embed="rId2"/>
          <a:stretch/>
        </p:blipFill>
        <p:spPr>
          <a:xfrm>
            <a:off x="7526160" y="52560"/>
            <a:ext cx="1295640" cy="1784160"/>
          </a:xfrm>
          <a:prstGeom prst="rect">
            <a:avLst/>
          </a:prstGeom>
          <a:ln w="0">
            <a:noFill/>
          </a:ln>
        </p:spPr>
      </p:pic>
      <p:pic>
        <p:nvPicPr>
          <p:cNvPr id="195" name="组合 11" descr=""/>
          <p:cNvPicPr/>
          <p:nvPr/>
        </p:nvPicPr>
        <p:blipFill>
          <a:blip r:embed="rId3"/>
          <a:stretch/>
        </p:blipFill>
        <p:spPr>
          <a:xfrm>
            <a:off x="1841400" y="1298520"/>
            <a:ext cx="5418360" cy="8841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9"/>
          <p:cNvSpPr/>
          <p:nvPr/>
        </p:nvSpPr>
        <p:spPr>
          <a:xfrm>
            <a:off x="2484360" y="3417840"/>
            <a:ext cx="3311640" cy="106884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9=4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+45=9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0"/>
          <p:cNvGrpSpPr/>
          <p:nvPr/>
        </p:nvGrpSpPr>
        <p:grpSpPr>
          <a:xfrm>
            <a:off x="3056040" y="4076640"/>
            <a:ext cx="5414760" cy="2166840"/>
            <a:chOff x="3056040" y="4076640"/>
            <a:chExt cx="5414760" cy="2166840"/>
          </a:xfrm>
        </p:grpSpPr>
        <p:pic>
          <p:nvPicPr>
            <p:cNvPr id="198" name="图片 3" descr=""/>
            <p:cNvPicPr/>
            <p:nvPr/>
          </p:nvPicPr>
          <p:blipFill>
            <a:blip r:embed="rId4"/>
            <a:stretch/>
          </p:blipFill>
          <p:spPr>
            <a:xfrm>
              <a:off x="7308720" y="4076640"/>
              <a:ext cx="11620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圆角矩形标注 15"/>
            <p:cNvSpPr/>
            <p:nvPr/>
          </p:nvSpPr>
          <p:spPr>
            <a:xfrm>
              <a:off x="3056040" y="5091120"/>
              <a:ext cx="3506760" cy="1152360"/>
            </a:xfrm>
            <a:prstGeom prst="wedgeRoundRectCallout">
              <a:avLst>
                <a:gd name="adj1" fmla="val 68050"/>
                <a:gd name="adj2" fmla="val -51574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条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小时需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，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够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350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年一班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900000" y="1125360"/>
          <a:ext cx="79200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25360"/>
                    <a:ext cx="79200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048120" y="50101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600"/>
                </a:solidFill>
                <a:latin typeface="宋体"/>
              </a:rPr>
              <a:t>可以分几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077840" y="558972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6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c0600"/>
                </a:solidFill>
                <a:latin typeface="宋体"/>
              </a:rPr>
              <a:t>30÷6=5</a:t>
            </a:r>
            <a:r>
              <a:rPr b="1" lang="zh-CN" sz="3200" spc="-1" strike="noStrike">
                <a:solidFill>
                  <a:srgbClr val="0c0600"/>
                </a:solidFill>
                <a:latin typeface="宋体"/>
              </a:rPr>
              <a:t>（组 ）答：可以分</a:t>
            </a:r>
            <a:r>
              <a:rPr b="1" lang="zh-CN" sz="3200" spc="-1" strike="noStrike">
                <a:solidFill>
                  <a:srgbClr val="0c06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c0600"/>
                </a:solidFill>
                <a:latin typeface="宋体"/>
              </a:rPr>
              <a:t>组</a:t>
            </a:r>
            <a:r>
              <a:rPr b="1" lang="zh-CN" sz="3200" spc="-1" strike="noStrike">
                <a:solidFill>
                  <a:srgbClr val="0c06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1054080"/>
            <a:ext cx="7786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124000" y="5445000"/>
            <a:ext cx="64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600"/>
                </a:solidFill>
                <a:latin typeface="宋体"/>
              </a:rPr>
              <a:t>可以分成几组，还多几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359000" y="1123920"/>
            <a:ext cx="35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年三班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612720" y="333360"/>
          <a:ext cx="81374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33360"/>
                    <a:ext cx="8137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6"/>
          <p:cNvSpPr/>
          <p:nvPr/>
        </p:nvSpPr>
        <p:spPr>
          <a:xfrm>
            <a:off x="855720" y="5126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600"/>
                </a:solidFill>
                <a:latin typeface="楷体"/>
                <a:ea typeface="楷体"/>
              </a:rPr>
              <a:t>三年三班有</a:t>
            </a:r>
            <a:r>
              <a:rPr b="1" lang="zh-CN" sz="3200" spc="-1" strike="noStrike">
                <a:solidFill>
                  <a:srgbClr val="0c0600"/>
                </a:solidFill>
                <a:latin typeface="楷体"/>
                <a:ea typeface="楷体"/>
              </a:rPr>
              <a:t>32</a:t>
            </a:r>
            <a:r>
              <a:rPr b="1" lang="zh-CN" sz="3200" spc="-1" strike="noStrike">
                <a:solidFill>
                  <a:srgbClr val="0c0600"/>
                </a:solidFill>
                <a:latin typeface="楷体"/>
                <a:ea typeface="楷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"/>
          <p:cNvSpPr/>
          <p:nvPr/>
        </p:nvSpPr>
        <p:spPr>
          <a:xfrm>
            <a:off x="3733920" y="6072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以分成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组还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个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900000" y="1413000"/>
            <a:ext cx="122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Times New Roman"/>
              </a:rPr>
              <a:t>聪明小博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381480" y="1271520"/>
            <a:ext cx="4824000" cy="550800"/>
            <a:chOff x="3381480" y="1271520"/>
            <a:chExt cx="4824000" cy="550800"/>
          </a:xfrm>
        </p:grpSpPr>
        <p:sp>
          <p:nvSpPr>
            <p:cNvPr id="215" name="Text Box 5"/>
            <p:cNvSpPr/>
            <p:nvPr/>
          </p:nvSpPr>
          <p:spPr>
            <a:xfrm>
              <a:off x="3381480" y="1271520"/>
              <a:ext cx="4824000" cy="550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　　直接写出下题中的商和余数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6"/>
            <p:cNvSpPr/>
            <p:nvPr/>
          </p:nvSpPr>
          <p:spPr>
            <a:xfrm>
              <a:off x="3815280" y="1496880"/>
              <a:ext cx="288720" cy="2156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7"/>
          <p:cNvSpPr/>
          <p:nvPr/>
        </p:nvSpPr>
        <p:spPr>
          <a:xfrm>
            <a:off x="2895480" y="2492280"/>
            <a:ext cx="53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÷8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‥‥‥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895480" y="304308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÷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‥‥‥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895480" y="3619440"/>
            <a:ext cx="53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÷9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‥‥‥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895480" y="4195800"/>
            <a:ext cx="53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÷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‥‥‥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95480" y="477216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÷7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‥‥‥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＿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5796000" y="244476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7564320" y="244476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823000" y="306540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605720" y="303372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5823000" y="362124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5794200" y="419580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794200" y="477216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597800" y="361476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7586640" y="416556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7564320" y="474192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19308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4"/>
          <p:cNvGrpSpPr/>
          <p:nvPr/>
        </p:nvGrpSpPr>
        <p:grpSpPr>
          <a:xfrm>
            <a:off x="2556000" y="3398760"/>
            <a:ext cx="4447440" cy="581400"/>
            <a:chOff x="2556000" y="3398760"/>
            <a:chExt cx="4447440" cy="581400"/>
          </a:xfrm>
        </p:grpSpPr>
        <p:sp>
          <p:nvSpPr>
            <p:cNvPr id="234" name="Text Box 5"/>
            <p:cNvSpPr/>
            <p:nvPr/>
          </p:nvSpPr>
          <p:spPr>
            <a:xfrm>
              <a:off x="2717280" y="3398760"/>
              <a:ext cx="428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可以做多少根短跳绳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"/>
            <p:cNvSpPr/>
            <p:nvPr/>
          </p:nvSpPr>
          <p:spPr>
            <a:xfrm>
              <a:off x="2556000" y="3573360"/>
              <a:ext cx="267480" cy="2160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7"/>
          <p:cNvGrpSpPr/>
          <p:nvPr/>
        </p:nvGrpSpPr>
        <p:grpSpPr>
          <a:xfrm>
            <a:off x="2597040" y="3860640"/>
            <a:ext cx="2349000" cy="581400"/>
            <a:chOff x="2597040" y="3860640"/>
            <a:chExt cx="2349000" cy="581400"/>
          </a:xfrm>
        </p:grpSpPr>
        <p:sp>
          <p:nvSpPr>
            <p:cNvPr id="237" name="Oval 8"/>
            <p:cNvSpPr/>
            <p:nvPr/>
          </p:nvSpPr>
          <p:spPr>
            <a:xfrm>
              <a:off x="2597040" y="4109760"/>
              <a:ext cx="216000" cy="2160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3302280" y="38606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还剩多少米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0"/>
          <p:cNvSpPr/>
          <p:nvPr/>
        </p:nvSpPr>
        <p:spPr>
          <a:xfrm>
            <a:off x="971640" y="4508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剪掉长跳绳后绳子长度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971640" y="5013360"/>
            <a:ext cx="81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剩下的绳子剪短跳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÷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根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‥‥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900000" y="6093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余下的绳子可以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短跳绳，还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547640" y="0"/>
            <a:ext cx="73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根绳子长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做一根长跳绳，剩下的每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做一根短跳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Style 531 美式插画矢量图: 工作人物篇24 - 职业装束向量图24"/>
          <p:cNvPicPr/>
          <p:nvPr/>
        </p:nvPicPr>
        <p:blipFill>
          <a:blip r:embed="rId2"/>
          <a:stretch/>
        </p:blipFill>
        <p:spPr>
          <a:xfrm>
            <a:off x="0" y="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08:13:53Z</dcterms:created>
  <dc:creator/>
  <dc:description/>
  <dc:language>en-US</dc:language>
  <cp:lastModifiedBy/>
  <dcterms:modified xsi:type="dcterms:W3CDTF">2015-05-19T06:57:37Z</dcterms:modified>
  <cp:revision>1</cp:revision>
  <dc:subject/>
  <dc:title/>
</cp:coreProperties>
</file>