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96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99.xml" ContentType="application/vnd.openxmlformats-officedocument.theme+xml"/>
  <Override PartName="/ppt/theme/theme110.xml" ContentType="application/vnd.openxmlformats-officedocument.theme+xml"/>
  <Override PartName="/ppt/theme/theme65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nter2.wav" ContentType="audio/x-wav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</p:sldMasterIdLst>
  <p:sldIdLst>
    <p:sldId id="256" r:id="rId114"/>
    <p:sldId id="257" r:id="rId115"/>
    <p:sldId id="258" r:id="rId116"/>
    <p:sldId id="259" r:id="rId117"/>
    <p:sldId id="260" r:id="rId118"/>
    <p:sldId id="261" r:id="rId119"/>
    <p:sldId id="262" r:id="rId120"/>
    <p:sldId id="263" r:id="rId121"/>
    <p:sldId id="264" r:id="rId122"/>
    <p:sldId id="265" r:id="rId123"/>
    <p:sldId id="266" r:id="rId124"/>
    <p:sldId id="267" r:id="rId125"/>
    <p:sldId id="268" r:id="rId126"/>
    <p:sldId id="269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" Target="slides/slide1.xml"/><Relationship Id="rId115" Type="http://schemas.openxmlformats.org/officeDocument/2006/relationships/slide" Target="slides/slide2.xml"/><Relationship Id="rId116" Type="http://schemas.openxmlformats.org/officeDocument/2006/relationships/slide" Target="slides/slide3.xml"/><Relationship Id="rId117" Type="http://schemas.openxmlformats.org/officeDocument/2006/relationships/slide" Target="slides/slide4.xml"/><Relationship Id="rId118" Type="http://schemas.openxmlformats.org/officeDocument/2006/relationships/slide" Target="slides/slide5.xml"/><Relationship Id="rId119" Type="http://schemas.openxmlformats.org/officeDocument/2006/relationships/slide" Target="slides/slide6.xml"/><Relationship Id="rId120" Type="http://schemas.openxmlformats.org/officeDocument/2006/relationships/slide" Target="slides/slide7.xml"/><Relationship Id="rId121" Type="http://schemas.openxmlformats.org/officeDocument/2006/relationships/slide" Target="slides/slide8.xml"/><Relationship Id="rId122" Type="http://schemas.openxmlformats.org/officeDocument/2006/relationships/slide" Target="slides/slide9.xml"/><Relationship Id="rId123" Type="http://schemas.openxmlformats.org/officeDocument/2006/relationships/slide" Target="slides/slide10.xml"/><Relationship Id="rId124" Type="http://schemas.openxmlformats.org/officeDocument/2006/relationships/slide" Target="slides/slide11.xml"/><Relationship Id="rId125" Type="http://schemas.openxmlformats.org/officeDocument/2006/relationships/slide" Target="slides/slide12.xml"/><Relationship Id="rId126" Type="http://schemas.openxmlformats.org/officeDocument/2006/relationships/slide" Target="slides/slide13.xml"/><Relationship Id="rId127" Type="http://schemas.openxmlformats.org/officeDocument/2006/relationships/slide" Target="slides/slide1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242-776C-482D-BB57-6034AF76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C93-62E6-4A89-878F-E8F1D1F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F8EBF-7C48-46C5-B356-45EF3257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6D0C553-BCFF-4940-877A-AD0E26F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3BCF8CA-20FB-40FC-A973-0308A37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9227C35-4521-4C00-B300-0059BEA1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8A20723-15B8-4FD3-8682-B8E46EA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6ADD15A-778C-45A8-A0F7-ECDC7A79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FB71EE0-26CD-4EA0-8679-4AA143B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686868E-0268-4D6F-9E7E-489FD53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001DCF5-55F4-447F-AF19-04640054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58D9505-945C-4232-AA64-AC50A61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A4B4792-BCCE-43A2-B0AC-8373E0AA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D15F2-B9A6-4BBF-BFA4-05B986B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D7F471D-5597-4169-A303-D0A3BCB6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EE4A15C-6604-4EFD-B5CC-6DB3B45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53F34E8-6ED7-4388-8365-F37D2DB1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928BF5D-ACD1-4B7E-9C5A-8099279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3FFE5EC-DDD9-4AE0-AFA9-A4FBF9B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CB058A6-6210-41C4-8008-F28E792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CD11FF8-6E92-4860-82A8-06F9908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6569888-1B98-423A-9B32-22CB5DE6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47F882E-BA0D-4DB6-A67A-F02665B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3A59177-42D9-47A5-983B-6999E8CF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F13F0-472C-453F-9C9E-95065B8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51A53FF-0F0A-4E1C-B61E-F85B129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5A3E081-5C6E-47C5-9988-2EB2C333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EEAA91B-E71A-4B3E-9AEC-8C94628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E804461-04D9-420D-A372-0619685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8CF7542-6982-41D1-BFFE-91CBD6B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1965ABA-8807-462D-9052-602942A7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57B2B71-0469-48E8-9845-12B8A0F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1D0FBC5-B82D-40DF-8DB8-6A480D3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A0342D6-C77F-45F0-A485-8354CE95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7A963DE-76A8-4BAB-9B18-C8147E5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BD423-EC2D-47C6-9F82-39DDF60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90D4AEF-87A1-4F2D-8218-E4844B1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77B2A94-DFDC-4D75-B46C-24C1AB94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368EE0E-E498-41B7-8B9E-67E7E9D5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A66BBEE-482F-4A08-B6BB-37CA7AA8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EE88459-08AD-48CF-BFD8-E35EE95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1C7DAF8-7FB5-43F7-881A-214CFF1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1BEDC35-A783-4E95-B0F9-820A584D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25FC784-073E-4FF4-9B2B-D9A925D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F2751C7-BCFB-4013-B8EE-1D25771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02932E1-BB97-4384-8617-D97E2B4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6579-B464-4AB2-8C31-CD5BAA1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FF6013C-7CD3-43FA-B956-C8B7461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C3353B8-A01E-4BC6-B28B-3D28369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96FF0F4-9DAF-4A6F-BC85-6E80B20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CF8B03A-CEE9-4596-B386-79CBAD44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9897464-2A71-4A1F-B99B-21A810C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681D264-6A7A-4A66-B7FC-E705BFBD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F2FC233-3AE6-4960-B66B-95A521AE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BF98131-F2F5-4F0B-84F4-9AA97EE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C0390BD-614E-4143-8090-44B4BB9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A522D34-0CC0-4618-97EE-47CA187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7476-88B1-4AD6-9D0A-3843FD2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22F3C58-D347-4DEC-A008-160B3E4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6C41E6A-EBC8-4511-84A7-C1908F1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E1B1922-8820-4192-8894-35CFF26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3D0EC22-D9FE-4739-B122-8F8945B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D05E253-964A-4A18-97C5-7756080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DBB5B76-99FE-49B8-8A96-3F25A7BA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7E3E104-B978-4156-AA35-92AF9EC2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926D8C9-6CFC-448F-9AAC-FFABC30E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4A3A5A1-BDEB-4999-AD5C-ED437D2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D035E42-1BDC-456F-B06B-1BFDE00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6D574-9CB3-4020-9F56-3356B5D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CA2B925-BEAC-4382-8829-7D8F9F93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D244FF8-4C0B-4685-A5C3-9871A57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EC27E8C-D0A5-42C2-9F24-3F9BBAF5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C6E08B9-3672-4BD5-A76A-6BC864A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672098F-BE3C-4C1A-891E-EF51088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81470F1-A049-4B97-B27B-B3F2A29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D60241C-984D-4D92-96DD-334FC10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8AB9ABD-3E39-4BDE-9B29-838AD98C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F2F33541-1E49-44FD-8333-B77BED0C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E7E2CB3-4255-49A5-918A-202EBE51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44218-6F96-4443-9E1C-E71A0910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A0335A80-87C8-49DD-B5FE-8A780F14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0B894D2-1D1D-4311-96D4-2905344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26C28E2-FFC8-46B8-A0C3-E02DC8ED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4C7C9152-497C-43DB-8786-933AC7F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8C8BC07-6DB5-4130-A188-F380E8A2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E92831A5-3976-4BAE-A12B-880EDD0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263A722B-D16A-4306-9D38-6489A9C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97E49AF8-D7FC-4C99-A74A-2AC7E44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CBD5468A-F203-45D9-BB1C-7314559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47AE73B5-92FA-44DE-BADC-A988A98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4CC97-CA1E-41E3-9831-963439F6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53C3C5C0-8A8E-414B-872D-D92B9535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67CC018A-2FA2-4635-BE10-DE723B0E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1E9A5FB-05E0-47F1-8A6A-0C969D8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C4659791-4832-4D7E-95F4-27F103E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A43DC1C2-5AB3-44FB-8300-382B128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A6B3AF5B-7958-45A6-BC4F-41E48908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611E859-7A36-492C-B0FA-4E4179C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74A93E36-4FB7-4F20-A900-E3E3257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7600351D-A2B4-4DC2-9CE7-2621509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98C6939-51C4-4777-9A4A-C47166B4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6803-6FC1-4647-91F1-23A3DB12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A08B008C-A490-4ECB-9700-8BAD2B93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6B5FAD21-AF6B-48CF-8724-AD0C35A8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576A387-75C6-453E-8CFD-908BDA77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9101E9A4-3AB7-41C2-B6A0-41674333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17F61859-28FC-478D-86B4-6950DD6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936E3B25-BC84-4366-AE07-F0ECE4C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BDD512E4-9C73-4174-B6CE-806EAF4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6369410C-4B90-4FBC-A714-3D725878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D6F53718-9D8D-4EB4-B99C-33458B2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C3E15853-DDB3-4C6B-AE25-D3DC971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43E-4DBA-4C35-B075-E66A26AC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16628-E3E2-45DD-AC3E-4E811DB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E0572694-F906-4B15-BDDE-64196EA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AACBE031-6DCA-4B79-88F2-C327822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0DA85B1-6964-4A95-BD05-D5BCFA5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71860646-D9AF-4B9F-B8EC-745EC3D9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68715270-1DF5-4701-9FC6-68878370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D7A7FC9A-D513-43B6-8ED1-39E24C54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855DB080-0EC4-4F96-B18C-BA5B50AA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55E83E86-8618-427A-9584-E4C80FA4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9DCFA613-DE1B-40CF-ABC8-C6C2D06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9C05D4C8-288C-4589-B68F-A3A7F4FA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59E09-835C-4B17-A05A-475A026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A3E20486-F9F0-4935-83E0-58209A29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78209C28-6B5E-4237-BF56-BE61263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5821ACEF-2D47-4D3B-A13C-25B3745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F82CA677-A951-4AF4-9B78-05DAB6F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B91EB5DD-F996-4F36-B471-C8FB8496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637057A4-E566-4CD0-9759-7E90CA1D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14B61AC0-9F32-4769-87DA-AC0C834B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CEF77260-A9D5-4D77-BD6B-27E136FC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2FC2E2D0-9380-40DF-A70C-ABDCC7D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0D076B27-E14D-4A61-AF47-88736C1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096B-DCED-40BA-B045-B28B150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D3B7FF95-12F0-4356-ABB1-B20AC8A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F0C734D6-1B3A-4B65-9E06-929F498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2FBA714B-8B81-4F5D-88C6-8403DC0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5D80B61D-C9D0-45C5-8D5B-6F6F11D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A151F96C-4956-493E-BFC4-B4ECB179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9005259E-A453-40BF-A45C-D71D090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EAEE89EC-912D-47A6-ACB6-CD96AD3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AF6CD5CF-3542-46A6-B71B-0F267F5A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96760F94-D69D-48FF-9AE5-7B294079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13331DA0-4E46-4C27-9A04-0FE5B82F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0BF5C-8DC9-4592-B9B4-A238974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9F7B01BC-8365-4231-9B52-441740F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1CCCF89C-CFA4-4EA1-BB22-9A6B5B2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DCC0A405-9A3D-42B5-AEB3-A48A1E42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0EB2EED4-76F9-42AE-9D35-D5C3295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3FA8DFD8-BF5D-4207-9B08-CABFB02B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6DD34886-CB1C-4B6A-8960-F0E0792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36B63307-6067-417F-8111-0CCEC03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590E7364-557A-473D-A3E0-85B84C3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E6BFD181-B577-4296-B578-818316C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11861466-2453-4ABF-B6C5-363052D0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EC1E-D1E2-4184-A38D-A944101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2E6630C3-D33F-4648-B671-B98A0434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B943C039-5804-4421-BC27-8C4A3CDE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E7C78CB1-6051-4B3F-8C8C-96F113E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EDFC0EF3-9140-4781-9DBB-480D092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4E3CFE0E-58AC-4991-952E-793F5612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AFEDA953-4D30-467A-BBDF-EA98FCD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5CD1766F-3609-4679-9B69-628B667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34DAAC5-90DC-46EB-A247-E9E4DD7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097B7638-D494-4D67-BF1A-39794B8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33EC1A32-5C91-4E6C-9A17-F636D41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934A2-7BD3-41C2-B7D2-46E1526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CFEFE1F0-F6C5-4FFB-B3EC-C2D56E6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DDCCB64-3A95-48F2-8B3B-A2A416BB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F07ACAF9-F766-457A-98A4-D36C6CA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A5FD4B42-E8FD-4BC0-9947-0BED10DF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E30643B4-4FEE-4202-ADBF-3C28BF9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8E372D28-25FD-431E-B695-6AA8C9DC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2B38C729-D235-44A0-BF3F-B282BC3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97F64E1C-DC82-4C7A-B613-9AAEB4F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05E5073B-4607-4FC2-87E1-E08A224C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58025586-5C38-4E07-8AC8-C2EFB83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B3D60-C109-4AB9-A3EB-180BCCBC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A4649F5E-A551-411F-933E-02B107F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10B3E0EF-8B86-4938-9E72-2A4EE7C1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38E2A867-C448-4A65-ADCB-6FC6FB9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9A7BC2BD-1622-491A-82E3-8C3DF69E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4C4A7D3F-11FB-4B2A-86AE-0C56DC67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575159A4-4C99-4A8D-9CE1-696CC337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24EA2838-A685-4753-9E91-3B996F4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12885346-0793-40C5-97C5-F3F583B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A84F3F62-0F33-4396-BBF5-ED52C72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A0C76672-851B-4B24-8C04-77F810DF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8FC56-FC8C-4183-8EF6-890C11B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33A5ED76-5FFB-4D10-9F77-D3CEEC1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7D7EE816-DC6E-410D-ACB4-FF2F192E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6F206F3A-773B-48EF-8948-17EFFF7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92AB7637-D7E2-4CE2-8513-1EF4650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E42333B5-B691-4BA1-A8F0-D0C2765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C0418D6A-F204-4016-B605-D3389078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3781C87D-98EB-44B8-802C-EE076134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E3BFEE90-E895-4D60-BD6B-C380B3F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8439DBAE-D8DA-4BB2-AB7C-666C92E1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283BB51E-3DB1-48A4-A844-681285C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D2BD3-F3D3-460A-8446-6C65254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262AD505-2383-4CCF-9792-E9F858D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A43C37CF-41A4-4BB5-A724-E0053C0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3B3615DD-D3C6-495A-BC35-28309E28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EC39B1E6-EC14-4D4A-BBAA-C98050E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14914384-CA12-4706-8B98-5C69AB1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9A7A9B9C-0D69-4A02-BA1D-255FA43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849C9F5-4D06-439E-83A7-2382C3D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B883BDD7-1EF6-476A-9154-10C80377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151DB17-9C3D-4227-BD05-E431BFF1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D382AD34-84A7-441D-8713-5F4E9F18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86CE5-C0C4-425C-8258-92E67E3A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9F4F4775-FC7B-4838-AB73-83E595B2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C761A76E-146B-4D90-83E0-BFA5FB5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2091E0C0-031D-4F54-82B0-1F997E26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DCCDF17B-A1D4-4BED-92A0-E42AD1D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36229257-F980-4A69-B9F7-7BDABAE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449CC40C-F4A1-4114-85B6-B16FDB2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D30E0378-7B60-4432-8C06-F98093C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5810EE4F-E70B-4D53-B4B5-D41F4DD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4643B779-E88D-4CF3-8044-1FC5130F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9BAA6435-3D3B-4EB8-99BE-BB68ADE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CE9-16F7-43D2-96F4-AEE328FE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08A5E-D28D-4BAB-8B6E-C6DC1D2F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1FE8F808-08B1-445A-BED5-77177DC5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117A817C-4A5C-468F-907F-E8153572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02068459-0D0F-4AA4-8F58-251E7E9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FE287102-2BA1-4BAF-8949-3B7C0CD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69F85E54-DB85-4067-B8A2-5E4BE65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5718002F-2FA2-46B4-A1E8-FDF8C75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6B90EA6A-1FDC-4FD5-9FFB-055EACC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FDB7C788-FF49-49A8-9309-BBD4943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9DBB22F9-C922-4DAA-AC30-D45CC4F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08EE4997-ECAD-4344-AF6A-CBF5E108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7CB21-1F05-44FC-90D1-5B059648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EA35026F-E4B6-4573-A1DD-76E47A21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74D12761-C8E8-46B5-B52B-A63CC58E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9D5BDCD8-159A-4B52-B1AC-921127D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83A6EEB9-8B81-4095-A039-3A6BDEE8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FFA83158-E3E0-4A5B-B188-98BAC242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39BEA5C9-38C8-4939-8DEA-E430193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14C2890-0898-44C7-9B5B-4464CF37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5FF44C50-47A3-4054-BCA4-FE70099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D5D621B1-A7D3-49D7-BB8D-382C2A8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E80CBDF6-B14A-4437-BE26-FA7B50A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FD83-0A95-4CAE-9588-91DD699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55E53A48-C6AF-4907-93D5-E382022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DADCE0FB-DE66-4C45-8037-685C6F3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C7B37DCF-69C3-4ACF-934A-BFEE2638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505909BA-D892-4A0C-AA0F-741EADA1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DE9A3A0F-EDCC-48D5-8C83-33E6A4E3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F4DE13BD-2FFC-4783-A894-08722BAA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FCDB5602-5390-4410-B548-8E04EAE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DA529B3F-4D61-4B68-A157-8FFDA01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E4D087DB-E545-4188-94B8-B6E11EDF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8833C256-C119-4B6F-9C4E-BDC2586A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17ED-77CD-4B09-A49E-35B4D2C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F9C3AA55-0943-4FE5-87C7-6F4EFB9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73FC475B-52EA-4012-9269-0303373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6AD888EF-036F-4C17-8859-75B2455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35872F10-DE31-4EE4-8DC7-1FF4A14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DC21564B-CC8A-4868-9CC2-FC7EC10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04B8C3FA-1D4E-4906-9FE4-2663CD23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8FE3C914-8895-4748-BFB8-BC7303D6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1EA2FEB0-BB9A-4813-8573-BAEC6C05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0021CC20-868B-4DD1-A081-9D658F0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25DB01C3-8EC4-48C1-9090-B8452D0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77512-1D1E-427D-B198-25D6F59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0B462241-D542-4B65-9D4B-B4DA637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A9490BB3-90C7-48F6-910A-FE3F184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8D4FCA41-3276-4016-A6B3-A343E17A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23590D30-5880-4486-B031-CB8728B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50208F6E-197F-42D8-A6BC-C31C989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E38E3B33-FE4A-4BEC-AB13-C0536A2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F354AFA7-4EC4-467F-B3EF-E69B6969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9D3C42AA-3D60-4F94-9E3B-F3BC052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B89F316A-5250-4A54-8020-41137A34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3948402-0AF9-48F4-9D6F-1CE2D75E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50FA-C879-48E5-A4D1-52D4EA2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50BAED6C-A255-4141-8BE6-2E4ED1C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C96F6E5F-0EF6-43A4-BE38-2BA3A01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495F72E-56BA-47A1-8C66-80D67F80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EE9E0351-FEB8-4989-88FB-1F21CA18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E09EF0C8-C13F-4D4A-9972-894860D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63F4EFEA-08F3-4986-81A0-6E4C788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0103B02E-2300-442E-B307-1202034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EB998FD7-C728-430D-999F-87FE50E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0B36602B-0F59-49BC-A0E8-C600897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0272203C-C8E2-42E9-8010-78377C42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3DDFF-36E4-4B04-91C1-67EE2D9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6550D78E-4F70-45F6-AD83-0CACB64D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C738837B-9834-4B60-9E9F-00EDE3AA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046D303C-6437-4A2A-B2D2-1AAAA89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5146775-1CBA-46DD-9302-602E767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D5B888C1-704F-4369-9CA4-8CDB07A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1A6281E1-B52C-485A-8F56-62CCF63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D40846CB-1535-4AB9-95C8-1B2CF633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C3A93A7C-025E-4056-B6D0-88AEDFB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43070786-5283-4A61-9011-5C87B45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23FF2CDF-DEF7-4A54-88AA-A9912C4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D60B3-3E28-4286-BC3D-DD93FE6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FF0CD57-574D-4C41-AA95-EA064FE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9BD33678-A564-4C71-9032-BDE7CC0A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B9B8C347-B8E2-4B16-895A-E3ABF00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500F47B9-3EA2-49A9-B360-40023709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655BAE6E-7C10-4C4D-A093-9415F58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F10C2F6A-369C-4564-A355-C1D71B7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94B75B0D-8F85-4F52-BB0E-538A7CD3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7145F912-2B32-47C8-832F-7AFD6AC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E65AF0BC-53FF-451F-8ACB-92CC68C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EC95D5B1-F66A-493D-AC55-29DF0EE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740BB-C9CE-4305-A396-D96941D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20236B1F-C6B0-41C3-8233-DC6D7B58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C10C0436-20B8-4011-9093-1C1D2A7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37A16983-FB31-4FC9-BAE6-CF85D52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4A579161-982E-41DB-A8CA-6F06E227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9"/>
          </p:nvPr>
        </p:nvSpPr>
        <p:spPr/>
        <p:txBody>
          <a:bodyPr/>
          <a:p>
            <a:fld id="{D5094C1A-3A53-480C-9C25-269769A8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DD0B4EBA-8D54-4127-B14A-89CB35B8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53E3C2A7-0DAF-4FFB-9E9C-6F67CDC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5D8D1570-A3E5-4208-8C46-A10DC4AA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F73D9A23-FF5D-40F9-846B-644DEE5F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6F15E468-DAE0-468B-B31E-EEFF0776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5FEA-2CA9-4028-970C-734EC89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0719346D-5278-4969-9EF0-EFD3F2F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75AAE4CD-E44D-43D4-B467-6121C27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4056A4B4-9BD3-4740-824B-B886BB7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D76970A3-C714-4D3B-BDC7-E2F7C16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9CFC4B06-536F-40AE-904D-DD0DE3B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0AD64C87-9371-4CB7-B175-C92C2004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2"/>
          </p:nvPr>
        </p:nvSpPr>
        <p:spPr/>
        <p:txBody>
          <a:bodyPr/>
          <a:p>
            <a:fld id="{C8D41938-54F4-4391-B35E-9E71CAA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9C315868-2C45-4AC8-9094-08C34B66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7282F830-8309-4A7A-B792-425D4EF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01773A49-EFD2-4B7F-B941-80DFE96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E768-4349-42FF-89B3-F25808C5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C4395-A167-483F-A274-75D9356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7A697E42-7408-452E-B31F-BD4A6D07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83653582-19FA-4918-9F8E-6532F14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636E2444-88B2-4CEC-BA50-5DA833F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D9946C81-A306-4EEA-8D7D-9F8A0552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9701C282-CD61-4A4E-8B2A-3417AEF4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5A6DFEAA-D900-4EFE-B072-B3B696B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AA7EB292-6C11-4418-9993-3178A7C5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D20D6D0D-5411-4AEF-99B2-3D20053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5"/>
          </p:nvPr>
        </p:nvSpPr>
        <p:spPr/>
        <p:txBody>
          <a:bodyPr/>
          <a:p>
            <a:fld id="{EF9B4AB8-8000-4868-A24E-11F1C2F9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769C0B45-6292-4F33-BD68-4632C9EB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B493-B1E5-4B72-9F43-CE55B5EF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157BD4C0-CBBA-41A6-A48F-249FA3C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1C83963A-60BA-4E43-9917-96E37B2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B4F745D1-5126-47CB-9688-62CBC34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5EC3D738-9C59-4257-A821-F9D3F9D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69E763D3-4CC0-40EA-B262-3741511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C65E677E-64D3-416C-8635-DEFF325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E42D9230-155A-4E34-9B18-7E69922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4B62CC7F-8B58-46A4-A0BC-AD9EE8C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4152D4F9-BD60-4B5C-BBF3-44A6BD1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0B6783BE-7776-403B-84AF-991BC74B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51248-FE74-4611-A476-29A8E978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8"/>
          </p:nvPr>
        </p:nvSpPr>
        <p:spPr/>
        <p:txBody>
          <a:bodyPr/>
          <a:p>
            <a:fld id="{8FF20DE2-A18C-49DA-9B27-1ABF25DC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B998117D-836A-4909-ADCB-BD7EF21F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61F3D3B8-10A4-4C8A-BFF2-92DDF5F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FC71357E-0955-4D68-A000-2F34FD39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D71A65E9-53FB-4429-8799-CF951467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B6EEDE70-9457-4BB7-A552-4DACC66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96DACE7E-F88E-44F8-8F25-06E1BA89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B0905859-44DC-47BD-909B-F9A5C93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395F3458-5644-40F6-A99D-E9854B4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82AF8E2A-FCB9-4E69-9610-1D12C74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8B689-8019-4241-8104-F3AC64D9FBD4}" type="slidenum">
              <a:t>&lt;#&gt;</a:t>
            </a:fld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5057BF07-E3E1-4180-958E-54D528F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AD5CFD33-54EA-42BA-B938-AA1879E2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1"/>
          </p:nvPr>
        </p:nvSpPr>
        <p:spPr/>
        <p:txBody>
          <a:bodyPr/>
          <a:p>
            <a:fld id="{17DDBBBD-C982-40EE-927C-BC1EAEF3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748C5A0B-3B7D-487B-8C17-A2D9E70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490E4B74-580D-4870-9F50-D7D5564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33EC7500-8E45-4900-BA75-A993697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28D8A55B-02E4-42DD-9FDA-7C5642E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1BEF9F7A-66EF-4BDE-9CFB-E8321187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D1088444-77C8-4E90-97F3-4DADE40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D2560741-6FFF-49AE-8AB6-CC6AA71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40E6E-F99E-4C70-B784-B4516962814E}" type="slidenum">
              <a:t>&lt;#&gt;</a:t>
            </a:fld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16D6D660-0013-4E4F-B99B-7B1A438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EFA179CB-CB53-443D-9D40-486CB2A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7B29099D-3F39-4718-90EF-4FDA0FE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EB37A706-3BEC-4E50-9A7D-B5D9CB7B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4"/>
          </p:nvPr>
        </p:nvSpPr>
        <p:spPr/>
        <p:txBody>
          <a:bodyPr/>
          <a:p>
            <a:fld id="{F858DE0B-7E8E-43B5-A82C-D8BD3493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1F206-E340-462D-9D6B-4F06077EE5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F29F0-82E6-4436-A48E-32235EC8BA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FDF3C-D03F-46A0-A07A-5DEAEB7F737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2608B-1271-4144-8106-87C1F6F4A61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8D6BF-736C-457C-A71C-A5B7C32C71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924F-651F-4A5A-B701-619C8C6E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9023A-3A91-41C8-8FA8-C4F7D84016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A47C1-63C4-47CD-B4C3-C6ECA1E457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5E508-F81A-4503-8374-8CBC4290F2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691AF-1AE6-42B6-8976-CC866F0AE8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F74B5-FAB3-4B90-8281-320D5E031C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822412-685E-4397-83A6-E041BC2E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0102CE-3E2A-474E-97F7-D796DA5F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E2E81E-ED90-4C9F-9BE9-421EB2EA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1D539C-A2A4-4A02-9D18-37470124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919E50-B98E-42CA-A191-22C8685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F6B-CD47-408E-AD6D-C02D5F6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0CA1FB-235F-4F1C-BE3A-4F542A3E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A4F381-33C7-4971-AA02-36A1C9D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641087-3744-4B3A-9790-F548E3B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E48A47-707D-4D3A-B1D1-4996EBD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7EF1F0-F4B2-4890-A600-857C825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436104-4C37-4935-8661-F3BEB514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661647-DD2B-4DA7-A585-ACBC9F17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8863FE-5A5B-4970-B578-1299BE6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1DE151-61C8-4D7E-AD6E-23EC5FD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A27678-CC84-4BAD-A56A-FD74351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7F27-1C11-479A-A8B9-634B9BA7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94AC8A-96AB-4D7C-9ADF-715B65C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8F142B-EDB0-4531-A855-757F18D4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B9870D-C7D3-402C-8814-7CCC7B50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AA301A-BF50-4878-9D32-D23854B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F4DD5B-4D13-4A2C-81A4-67CA55F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A8D2D8-8707-4F68-A3D4-A86E134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651382-6929-4AFB-8915-AD819A35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ABEF41-7E71-4D72-85AE-3409E7EC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98D71C-3042-4587-8D4C-8E8E81E8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9A8554-83E1-4A55-9C2A-34F5B8C3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12FC-BD17-4511-9A85-70B2F6B9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89720C-7D8D-4C9E-BA1E-2B89749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4D0181-59D5-4D5F-9B5A-D2EBE0F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011290-BDA4-4842-9F7A-28026243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7EDF2F-9BF5-4230-9851-625E925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B5A5F7-6F8E-4945-9F43-AFFE54CF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DC6303-CD7F-46CF-82EC-EC13D68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842F6E-4F4F-4FF6-8281-AB33CB9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4875F1-2FE4-4035-ADFC-2A8E66A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C85850-D7F9-4D5F-8E5C-7CC1E76A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99EF68-5156-4982-BDED-26DD2D5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9C8-4013-4B8C-9448-44A1C30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8C8337-84E9-4552-8FA6-B6EF3E0B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F7ADB2-5281-4FD1-BD4F-C394C333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096E3B-A107-4E05-BC41-89BF5AB2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441E75-B0BB-4DBD-BF7C-FB9677B9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D3803E-4818-4D8D-B081-212F5D10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50CDF6-96FC-4169-B347-2EA0A15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308410-C9DE-42B4-BE2D-FA5B602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9C4D95-CC65-4E00-A2BC-61D4BBE7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9FAE08-DA0C-42B3-8DBB-EB1A849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2BF49D-53EF-4551-8B49-E3B4D7A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1A7-D1A6-4447-AB18-46FBF798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F534EB-A946-465E-AF63-4AB2FC7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ACE8B0-8526-4B2E-8030-4BDE0BD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17F2CB-A40A-4CDE-B107-B794AB31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6566CD-150F-46B0-BFFA-748BA98B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D97606-A37A-44CA-93BF-2E8F0C79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F33E8B-D884-4A33-9C4C-A2EED1A5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341628-BF6B-4329-A87A-79325ED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C12C13-3E4C-489B-ADA7-1201D6E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C26DBA-8B95-41CB-B2E1-5C58FA9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3E7DBF-678A-4BB3-AF82-1ACE39E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182-A819-4975-A71B-38816C9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63D-7925-4975-ABC8-37B847F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66A224-BEAF-4F17-A54A-7FFC6C4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D6390A-273D-462B-9237-921CBFE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41B9C4-76B0-4A69-8CFF-4699175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0A2967-0050-4C60-92A0-84D7089F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81DF8F-F292-4890-9E43-1EBFADBE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987D8C-BC84-42FC-A63A-16AA98EA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F3728C-65CD-4846-A024-E026420F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76C043-4A11-4438-BB38-494F483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54DD7B-A928-46A2-8565-E3E95F0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7B3EAF-0851-4086-A83F-DC6B587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F25-D447-48B0-9745-3824D30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581BE7-2411-4F2F-95EE-A10FE17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310C55-E71E-4378-8D62-6F16EF4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22997B-9A4E-4657-A975-346658D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A51690-BA1F-4654-8E86-4CF4BE8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72650A-7410-487E-B12D-2C708FD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D49483-AD7C-451F-9C2C-2B62488D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8A0BC2-716E-429E-9B18-6AD21D93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30C71A-1DA5-4766-83AB-83975750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B51BB3-821C-4514-A20E-4C71FC6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DCFCCD-C7E2-4C2E-9492-061A7C3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0D9-1E91-4C2B-B897-94AEE5A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9C7BE1-0C59-4BB0-937F-01B293A6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61BD28-4831-448B-AF64-DC1E9A8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D53BCC-3D65-4D4E-B20C-3BEE391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30BE94-6D3E-4D3E-B87B-A99F276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CFC5A0-E56B-4436-AB47-2D47FADA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0AF044-4882-4E46-8D4D-95D40B9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791754-0B90-49B9-9ECF-5BF8E41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F4C777-6860-41B1-9A6B-A9C7D04B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DFC796-E876-4147-8FDE-C9A954B8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0E3C68-BB92-4B9F-B650-F68B50E5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A904-BA2F-45A7-8BCE-7B3D13D9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F8911E-B9C7-478E-B410-25A433F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023F05-8337-451B-90A6-839C72D3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B22264-CA91-4353-99CF-1D5531E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D68518-28A0-4B47-A802-9A33A66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2EC645-D550-4BB1-A138-BC86321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45408C-97F6-4A4B-A6E0-70FB1FF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E263B8-942C-45F0-8E95-38476CC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1E6879-48CE-40D2-9F50-9896D94D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26695A-FE9D-4039-BC79-5FB450C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5C7C8E-70B6-4E17-B28F-A312D9EF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003F-0029-4E68-8D6B-77ED3AC8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BF049E-36E7-4ECE-85AB-D51AB64F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0FC92E-3F3E-4E2C-9F0D-A3FF0D99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DCDE3C-5A31-47C8-BF36-E14E08F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E20FAB-1E03-42CC-8098-7219894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356E4E-7347-4D94-A1DF-A7DD91CC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E375DE-D220-481A-8958-4065700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6E9339-FEE3-4656-8080-5CED8007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E79C2F-5203-4FA5-924B-0D0C945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AE28DA-567D-4B9A-A11E-9019612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2849CE-3829-4F13-911D-8BCA72B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E45B-FCDD-4307-BEA3-BBDF700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0C4BFD-F970-4151-80B8-8975A36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DE3E67-FD0F-470D-B8A8-DFA087F9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A8ADA9E-E4A7-4A5D-8646-9E4A4916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5AD859-A3F5-4F9A-BF4D-65C0E6A8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E0D297-4688-4251-8331-A538C68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8A857E-634F-4CB5-920A-049D35D1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688801-8355-40F6-B10B-8BDF31C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D63B85-29DF-4FF5-AD45-5B2C245F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B69C0A-BEB1-4DF9-8A39-BDB0BB40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68994B6-BB5A-4712-9F9F-2BA1B80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72A6-2F9F-4095-BF91-AD7C4701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61C2A6-C856-4B01-A7A3-77220FD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3A8DA1-BDC9-4D38-AE29-16286CA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739C91A-ED8E-493B-84AE-351DE8F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4811D5-B97E-49FA-BB99-1B42B670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4C975D-89B5-46EE-B55C-17A227E3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2A65E7F-DC2F-443F-B42D-C64B22B7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CEB6F4-E177-401E-8184-CCA33C1C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A4E43F-9D47-480A-8459-EC5EE84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52FFCA9-4344-46A8-A877-C2E01182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F13606-8F06-40BC-8C79-5FE60E4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0835-3982-4B1F-8062-4622666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D371A2-6A31-4598-9594-4D7B8C2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321DB5F-DADC-4065-A3DB-318DA6F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97EF0F-4848-4394-94E4-E3E0BFE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C9CE9B-4B17-4D41-86C4-7B0A1CF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C3261E-66A2-4DBB-B37D-2F225D9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549837C-BE28-4E89-A9D2-9B8DD4A5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D32E05-3852-42F1-8389-A4871000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20F81D8-8A32-49FE-B2B5-DD28512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20F7C62-B50D-442D-9FB2-D0D12B6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CEC178-CEFE-43E8-8799-0599856C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D184-D0F1-4DE4-AB82-3863719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663841-922E-45F3-BC5C-7AE91BE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8C4EB3-AD81-45A3-B402-E83E6C14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4A34DA-5886-4A94-8C86-92C5F61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AD8A7D-DEBD-4D5B-B165-DCC1E11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3601F1-9734-4012-B173-8A3A5805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99F588-9ECE-492C-98FB-DA54F93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2F4349C-055D-469C-AFD6-8E48B2F1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C6E4FF-2724-407A-B806-2B43213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592324-EFED-44A4-922D-394C3A38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35EC3F4-8D3B-4161-9E8A-E434AA9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3058-4A87-47B3-A7D9-DD700A6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E4B45C-0D1B-4782-8DFC-C72970EF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12CD32-95F0-401E-B9F4-194E0E0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A2C33B-AACB-4E89-87D1-2F28859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73E6ED-48F7-4CA6-ADF8-73FBC7F0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9BEC2B-D3BD-455F-A98F-63D5FF1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E171A7-D64E-4835-A841-AB4C72D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2692A8-61E0-4162-A01B-01085D5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69B2BBC-596C-41D7-B710-8281894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ABA0B9A-3CBD-4E64-81A8-8E76BEEC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5CA0CB-85EB-4A46-9920-66F5CA9E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28E-E93D-45AE-BEAE-AA46CAC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A6CB-FC46-4691-AEEF-1ECF7FE9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3339266-A3E4-42E8-B16E-1F8E236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7CAF64-7B51-4999-B53D-24D51F9A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9E594F-D0B5-4A5E-A2B2-32801D1A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6BE2809-4DAD-4473-A9A5-1A58332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D88E8DF-B8E0-41B5-8FD6-8653853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45C10D0-EAB3-4C55-B304-7272D9D0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46BC4D4-5811-4A2C-98A8-C35EE0D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CC6472-0C5D-4AA3-88C8-C5088B4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BD0D05-5B94-47FE-B36C-AC5324F3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B2942C-E956-45A4-8AA3-70B5ACA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B8FA-A24B-4BE9-96A6-BC02F4A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3470F2-4600-4212-97B9-6B2FC01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7760E2-72E6-42E8-8D76-499169E9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32C78D-F7EC-4DE6-B7C3-E62F39E8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460B6F7-517C-40CC-8E1A-90808565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2CA105-3BE7-4F30-9EC3-C1AF3FD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FA56F59-B50A-412B-8466-FAC44272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DE15CF9-DC26-4C06-B2D7-B03DEE4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F4344AB-6074-4D92-8815-5D39E63B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5C26BF7-4C8F-43B9-8381-D808089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FF1DACE-8946-45E8-97E8-DE9FA6E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D4D7-0A6A-4E04-BC05-D38281F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0B62E17-D78B-40EC-AA74-F7B794C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B988654-E818-44E5-AEF2-971777D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8C6BF25-BAE2-4D51-B5DA-8B0793F6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0B7085-4CF3-42A7-BEDC-46A472D3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6EE9ED-3725-4F3D-9961-3C92B3C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61AF0C2-D2CE-4AA1-96BC-4D6368D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3720F0-1F42-472D-8FA0-0A452A12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B51D91-BAB4-4358-8617-511A96F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D26A69F-02B9-4E6C-AF23-2E27316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0F026E-0202-42D1-83DE-4632A109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E184-7420-4127-8798-3A7B53C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0BF07D-3E5B-471B-86B2-191A2788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0B558E3-7A28-4501-B313-F49AB64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13F353-13A2-4CF1-B144-952F7CA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C75D02-4A0F-4441-9F1B-E4B561F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1847E0-8681-4837-AE55-8F95BA94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F6C37D-1D1E-41E4-A88C-15D269B4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04327B1-40EB-4D6F-8680-88A3448E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EEFB69D-269A-4C82-9FD2-D13FE18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4CE5ED-C04F-4C8C-A8D9-82BCD31C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720C60A-957B-4EE4-BD5C-09D81FCF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4558-02DC-42B7-A8BB-EB312DF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C2A921F-462B-41E6-819E-7A46CB4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B18C37C-F060-4BEB-A090-B00DC9E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B1C8A51-0EE9-4F5E-80B5-6AE0EC6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D4C9E77-EBD5-4073-8180-BDB1A47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A44CD03-C7B5-48EB-BE27-A333981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84A69B9-300B-49DF-882E-8B0C8468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9E5C9AB-FB5A-47EA-A44E-DDCEED7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0C9A115-0DE1-4CE3-B29B-3A54837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08E0137-F15A-4935-BE4A-7854DF91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68DDAE-C4E5-44BC-8DC2-7FDEFBB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80F1-2224-4FF1-90CB-A361F21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3A9B3B-AEDD-4681-8471-19808AF1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2BC12EB-1FFF-43BA-92AC-DFAA3985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B86D047-505A-436E-A9F4-99B93FD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384A44-8DC5-4292-BEDC-6838E0E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32FB87-50E6-462E-AA99-5C9BC85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9147FD6-0AA9-4864-AF85-BC99939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EF3B305-4D43-4764-8737-395F089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C1D8FE-F6ED-4F2E-9027-90592ED6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F8D31FD-7104-4F52-A681-01D4FBC8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E93AC26-4558-4904-84B8-97748359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B0DF-AE84-4E6F-98F5-0F76F740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B56096-57DF-40E5-B619-CB1D3861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89AA96-D4C2-4A48-8B78-D6869DC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DCB1088-9A12-4B69-B034-27D584FA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BC05116-94F5-4DD3-85C8-13B648E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A6935A0-5957-4478-B8E1-3DE614A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6D11C19-9FDD-4B57-AAB1-55AC0AE2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ED7341F-62CB-4288-915C-8C5A641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C1263EC-4CD6-4AE8-8BC6-A5B542C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6999711-936D-4FD8-922B-76E064B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7A1B221-C23D-4A01-86F1-EDB95F1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861B-2C50-4F2A-B584-92B3A952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8601ACD-64F9-40FB-8F04-9A21615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56B5C44-2D57-4806-BF9D-EDD21EC6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CED632F-B042-446F-BBFD-742CE6C3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600CA12-3794-4AE9-8BA0-2576D767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D61B77-4AB2-4B52-912E-7CE66B5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57A491-DC5E-453B-ACB3-D212AE0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02FB8B1-E4E7-4186-8EE5-BB36ABD7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B43B657-0E54-4F08-8687-B67B894A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E6C6C8-2308-43F5-8018-B94F9B3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B567D09-5C2F-45E8-A158-B9FBA40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C9C2-B9AB-4F8A-B90F-8D99766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B5A7F0-DFFC-41F4-AD2C-FF06118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C90695-87B5-4AD4-8225-AB7AEB7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1810171-8023-4C80-AC8A-3984C81B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B7F6F70-4964-44EC-8F80-E5AC1365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67082FD-CC7F-48D4-95E4-7CB84417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9705681-E986-4B5C-B376-50B1E60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AA6627A-279E-4221-AC6E-D3E90BF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C7B3D92-F0FD-4ED2-9406-87B5AB3C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0119B7F-24DA-4502-9F5F-C38C9A8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78796A-1052-42DC-995A-E8FD028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EBEC-839A-4620-B1F0-DD36668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264F94D-9E0F-470F-9408-EA9AF37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BAEF1BB-727E-44D4-9D86-DAC3681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94A8A16-015B-44A0-A287-549EF10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0582AFD-B3E4-4299-8D50-A6160C6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92D7C68-EEFB-4D13-8EAF-8755EA14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5561679-D3BE-48C0-91FB-BE6E6FCD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7A1166D-A558-43D8-9F9F-1EA4E718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21BE8A-8018-41D2-A90A-F5198A87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318CBCF-6399-4241-8FFB-9478E41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EB49BC-C76C-4440-A0C6-31C4754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A73-D1CF-4EC5-A0FB-94B3F45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AA06-62C9-4873-9061-1573072F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1525EB3-389D-4D46-84E4-D538D7F1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FC4AD7-A2C8-4565-A584-414716B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10CCCBE-448D-45AA-9169-A9ED6EE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58321A-BB03-4D59-837E-3177E90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922A4DF-39A6-4EBE-8C87-7114F13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07CC88C-AEBA-44CA-B3A7-8474937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F8099F-623C-40E8-8114-62CA514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711DF0A-182A-408A-8904-D433C69A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9B0F82B-CCB0-4195-9E88-CD634D9B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E974AD1-0DC4-4E4A-8976-3ECC06FF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0931-C96E-49CB-90F5-AEFA8DE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4950F6F-D3DF-4417-812D-BF9FC4C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93502DD-772F-467E-A685-0AF13AA1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F36AC89-C1C6-4730-9FB2-26732FD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B5231CD-242D-483D-A6F7-8FA8B843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4E7E0D-0DEE-4D4C-A9FB-EF7D4FE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AF9923B-DC96-4FAC-8D2F-46F5A3D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521203F-B5D3-432E-AECA-C8DE64C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1D95C0B-35B4-4978-9732-A2E8C60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E8A6CF5-41D5-40DC-A64F-B499A09F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2C03AB7-B7D8-4432-A37C-09AD3EB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F60F-0A47-4322-A808-201E43E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72FAA44-5FE4-4356-8BD9-168D5093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CD3D99-6DC1-4553-9A1E-C00413D1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581E5BF-DE26-4B48-902B-99805951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6B095B1-7697-4AEF-86BC-84534307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51542B-3C5A-4E10-8272-0EC05F7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2610D7-B47D-4DFF-80E2-928018CB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C265710-B667-4762-9490-230BB6D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BDF7576-D681-41BF-B860-44F166C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2B99EB-E05A-40B0-8BCA-BA0300B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C0F1DB-D023-4BAB-A99C-23370020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F89C-84C5-4FD4-9A53-29A5743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40EA6A3-0E74-4E5B-9BF6-6DAB36AA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93E15DD-10E3-4F88-ABF7-F1EA035E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1530182-A6F7-402B-AC3C-3AFE6064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E349219-EABD-4639-8F48-15830BEF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82E6162-000E-47AB-A643-583A271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73C2A14-1B3E-4C66-BAEE-54942E8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A8A44F7-0CE6-4E95-B77A-8D47E97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8B0BEE4-6C6C-435D-ABE6-60D41DC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D752D22-B89E-4255-AE2B-B23BBB3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529FAA4-3EB7-4B6B-9CDF-F7DF528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1AE0-11EA-40E8-B8AF-C7648C50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20063E5-C968-4942-9556-00EB28C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66BF7B-EA8F-45E5-99D3-AE58C2B7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9194733-CFDD-43E1-A5D5-247735B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06AD1BA-B887-42BB-BA40-744F0260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3AF7BC3-E7DE-46FA-A80B-87007892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A33C0AF-5EE2-4F9F-BEDD-5B357B42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E9C2D64-F6AD-450B-98F2-F0F9B33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DF56348-9329-4784-BB4A-503515B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F14B260-5811-4185-87B5-70BFF5B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BD79FBC-6BFE-4986-8A6C-F980B77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A8E2-77E7-444D-80DE-B1FF687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25D05D7-F969-4E16-8346-C6776D8E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551B57D-72D0-44EC-BE54-109B8B5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37C909B-AA7D-4671-AD62-9F223D9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DC1F61-EBBE-4453-B87B-F82FC2B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0C0BCEB-4381-42A0-86CE-619F1B6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0F05B2E-210A-41E1-AC58-A2B3A594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A5D1333-83A5-4509-8DBD-3BA5E11F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0B969A0-BC8A-482D-8E39-ADC991D5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292A23-2593-4C66-A252-80CBC56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9EAC971-1735-49DA-B3E1-786F8D3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301F-EBCB-4F4A-9444-66DB627C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2A40599-CA59-488C-8125-2C6B663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E2D74C6-15B1-445F-B204-8D23E4D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52039F5-74CF-490E-9623-3401D36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5EFFBE3-271A-453C-A5A3-78A89CB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181EDAE-B4DF-4EEA-BF47-4226A13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909C198-C667-4EF3-BFC1-CF129D7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56B4805-3A1F-4E0B-9BAD-BC307CC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0AF7FB0-331E-484F-957E-60A7ADA0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C9A9640-F485-4449-9D13-B6CF1A52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A7D2677-01C0-44EA-ACDE-5BEC502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D289-7A33-46FC-A598-0C2BC5DE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0C2E604-2082-4C88-ACFA-AC6B5E3B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BF81785-E13A-49C6-9699-4D23C17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4E825CD-8503-41D1-9311-8EE89BF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C1FF301-3F22-4453-9841-8340188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DD67931-7062-4FD7-ABF3-CA2E2B5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62EE4B9-8778-48C1-9B54-6C41AC0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646D6DC-9477-499E-AA11-2D3356D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C55D989-CB90-4BD4-96A5-BFBAEF3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FA145B5-2258-4D6F-BA63-F5D852E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A8E7727-4C51-4EE7-9A81-978E465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D8AC-74B1-4D64-9B95-A8888996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36B3B2B-C6AF-4EBD-A1B4-B78726EE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6C9E88B-411E-4C4C-BE6B-CB0034F6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D1CD162-B87E-48D1-9C8B-44B2C3C0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C97A592-F51A-4243-AB1B-FDA6A98E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C5D0A91-E3C7-4B66-B4E4-4D36A54F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D753BF0-3C5C-443B-BE6C-8940E3B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4CC4946-78CD-4DAF-A9A8-303F4820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32828C3-0CC7-4AE1-93FC-BA4C5398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53DA535-DA5D-48E8-8C66-8FCBEF5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CF08E87-BBA2-4244-B56D-E3607657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2CEE-7568-47AE-8C5F-33177D1D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B4A155B-3AD0-4FAF-A72C-014F846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3600249-1CF5-44E0-BC29-666CB0B5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ABCF5C-C83D-4CD1-A0A9-2FACFF94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523D98A-8E75-46C7-9E51-761F686E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7DC45B1-7F53-4F68-913B-E4D5558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768196-DBBF-4A19-9FC4-8C75F9C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62084EB-D83E-4E62-8FCB-F3E2F79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3C95A5A-9F09-45A0-8A4E-4AA19C08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D35278B-1C11-4D59-AE99-BDC19540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9A8BD70-190D-43A1-9260-A02FDB4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0D0-E1FF-485F-A9D5-3594E4A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5BC7C-293B-4816-88A7-A03A782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F8976DD-B235-451B-8E64-8B9D29D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68E0219-B31B-4439-B5BA-B03205E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2AFC023-D1B9-476B-A19A-9DFA64AB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EE621A1-5112-4658-9819-FD0AD8BB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AC25797-6340-4464-9162-943687F1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33E7B38-571F-4F6F-8943-54D71B09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3B55B20-2245-4F89-9817-44C18CF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CD44EC4-71BB-4DF2-8BE0-3A8EEE9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148EC64-7920-4FC8-99E7-9AB01406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EAA382D-E6BD-48DA-A77E-8569691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3E78-6222-4867-9682-2970632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F48E981-2DA6-41D9-AE9B-C983C79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243E19B-E210-47E4-AA79-0DE3436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123AFF-44E4-46E6-8E5B-287FE41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95BEB29-4EAC-4A10-B34D-52998DE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8FADA1C-1FA9-4480-A3EE-82CBE31E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EC25731-BC78-4D17-9C22-1C7AC2E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DF28E87-11C6-4324-A209-E4391D22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C87BF67-87C0-43C8-AD01-0594765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477EF10-840B-4B92-B3E3-7881DD10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E9FF19-AA4E-4CCD-86DC-2E144C2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E6BD-6663-4982-9F88-9745E3DA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5E4C924-C02A-4D78-8982-86F87CD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49C10D6-1009-4F50-BB21-41F7359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F0C20C-A86F-40FE-B358-28DEF7F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9069375-BCE6-49F6-89FE-23AAAEF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A82A1AC-BB0B-4CEA-BA3A-3A57748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BF08BE1-A0A5-4C00-B514-FA1337A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6169CE2-676E-4722-8FA6-10074FE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7C51FC6-94EA-4E61-B210-BFAE70D8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F9A4469-6DF4-422D-B37D-1D6DE86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FB9122A-D0F6-499F-BA8E-0108C69B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91CC-E83F-4DD8-9973-4627836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4D862EC-4CEA-4C1F-A4D0-E702BE6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0AE7B02-5C92-46BD-A379-0A96925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5A59AE0-B818-43C6-9076-AD7DEC6D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D475750-15DB-4DC4-8D9B-FA0C551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0634AB6-41BF-424D-AC33-CD70D7A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D09DDD9-B484-4931-8BC7-64D4433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E11126A-135F-48C7-B320-07F1A2F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DDE68A8-9CD0-4E2F-9E99-91154A9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2E38210-4D38-49A9-9917-E7A9408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C1BE1D2-E629-402D-A3EE-AD0A582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B798-708B-4842-BC4C-911F47C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60DE790-DA89-46B6-B1CD-AA60F6CC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4A45697-D5F5-4749-B773-5EB0C435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347FA74-5B11-467B-9353-8EA75FE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FB1F084-6421-42FC-873D-3E99D39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E99C3EA-86CC-495C-95E2-E6718CE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FBEF579-753F-4E04-A6B8-E2E8F8A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BAC7DCA-515F-4C1D-BF46-829BEA9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098AF9D-6CDD-45F5-A365-3C0F382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B1E7373-6263-4C53-A434-9E140472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791B538-5F20-441B-A599-B69BFE5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9022-E0D5-4077-80CB-AC1DFA9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315CEF9-736E-4C46-899C-F5FDF4D8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BEAD749-6F23-4200-891B-2D27A00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7AD0CA0-A76E-4CC0-83B4-BA366FCC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ADB6641-D66D-4D86-BE03-374F04C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7E2E91B-BF20-4AA0-989F-AB6C7A7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9C53E2D-F3BD-48E0-B11E-1196AA6D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CBE16FB-45DA-4D1A-87E4-4E1CF42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4F2F417-C1C8-4A1C-BD27-02A07B0E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4A4E9D4-8194-4D81-9186-10E457C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304F9F4-F4CC-4C28-BC80-CD12770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B59E-61CF-461C-A70F-A0C09CA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D701BA1-BBEF-45FC-BFC0-76DC511A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B7CFA00-2F37-425A-8BE8-21B5746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C1DD2EA-B238-42BC-BEB6-28B1A4F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1A1B266-34A3-49C0-9F3C-68E22A36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0F44458-0661-4628-894B-5A642C81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7BD9903-EBA8-454A-8DAD-244B1DA5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34839DD-C31F-467F-ACDC-9CE56D4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AD68D52-2E90-4956-983C-B6F4F5E8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A5930B9-2723-4025-869D-32589EC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9CEC4ED-B099-49B8-B2D4-FA2E3129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70C9-3930-4FE7-950A-7273224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70B32FA-0184-490B-B040-0D870B3B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FBD7EA5-6D94-42BB-AB07-88FB028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6D59D4A-364B-45CB-B1AC-40197A7E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2694F4C-C32F-4BE2-9940-7AD50F1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F268C63-9ED5-42C5-AEC2-44BC1230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3EDDBA2-4CF8-46AF-AB27-44E8EAD7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E0002BA-D51A-4D96-B34B-BAD8E35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4495FC2-9460-4E7D-8152-FD9016E4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7F295F2-2CB7-4B13-8D57-2FE61A5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D2AECB4-394C-4644-A5AC-A3C6A03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0F70-41BF-442E-A936-073A851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998EDF9-3D56-4B3F-9509-8AEC0B03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33622FE-0FDD-4653-824C-09DEE11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11D5CE8-CA58-4652-AE0A-00DF132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81A8C0-CE14-42CA-8755-C53D35B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BCA8F65-0D51-4680-BDDD-5550AE50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81794AC-B2C5-41A9-8DE2-3892DB8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6B8F648-2C78-4C3A-AFE7-9B6E3B7D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2035EE1-5630-4D51-A932-36BDE799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981A26C-74DC-4B3B-A305-6738498D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FDBC84B-316D-4B7E-AD30-50E6062E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80A4-936C-4B8A-AC23-91AFC7F9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CA0597B-423A-445D-A8C6-F2D936A7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D0CB024-4088-42C8-8B60-7FF50AE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594864-E5B7-4E85-9400-FCA8068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5C2DD7B-BCE7-4731-A442-C98CD86A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D85D5D6-6C1D-4119-9E11-C43EF9C9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2389F20-4522-421D-817F-37B06DD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68A04EB-1392-4467-9C8B-F8364DC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3BFF6FF-510E-4649-913C-B04C8AB1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7302181-798D-4D1D-9AB4-4B46D3CC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1F2F217-D4E0-473E-ADBE-F9470635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8B9-0211-4B23-A5D9-7E74869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C7ED4-4BAF-4D69-902B-BDFF7140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EE2600D-5410-4356-969F-011E1AB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563B455-DD5C-4464-99B3-F3D0E6D0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077487F-68CD-45C4-A019-BA65B6B5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766A367-195E-40E9-B396-A923D07D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CC9F019-1436-4D78-914C-089F410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02518A0-EFE8-435E-8D62-BC0A412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656056A-7760-4E86-A405-762CA40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8DED6B6-3390-4774-8CC5-19C07BF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F12644-2D1B-4E09-9E05-A0B24F4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64B98FB-DE9E-4799-80A2-F601BFE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098F-0A9A-49D4-B8AD-5F8A9750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C0AD5F1-6E74-462B-B8ED-68200E7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452A501-0A8F-4169-AD80-EE4A92BA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71D62F6-3486-43F9-AB0B-3F405EE5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E5FD434-740C-45D3-B6D4-6335CAB7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09DF7B6-B4A4-43A1-9984-8E4880A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F88D5F3-9F31-48A1-B114-DC9BDB6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A1833C-D0EA-4231-89CC-BFA34E16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6DD2A4-2C92-4F4B-B7A4-78584208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002DE58-D8FB-44E0-8E58-99EDE94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BF90489-5569-433D-9532-EE7CC44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2A9F-2234-4EDB-BE0D-DAA2DDC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208CE62-C795-4C69-8997-932345D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24B3A00-2364-4872-8291-35E4F28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A634E5F-47E3-4AA4-BCFF-128A660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531E003-34EE-4F30-8D37-A801E815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7549D2D-80E7-438B-BA2E-78EACEE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CB2CF8B-5AD1-4683-87ED-88EFBC26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28EE436-BFD9-4A77-A135-1F1C68F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66DC1C5-C1F8-4193-931A-29C4CE8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598AA5C-AAEC-4837-954D-510C30A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9AFBE3B-FB92-4084-A2D7-85211A3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A6B3-92F8-4919-A65C-132B7FA8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E024940-B76D-47A8-8BC2-75C1604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ACACE48-62B7-4DC4-BF72-F5AD52D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C56A447-E816-49C1-97A4-03390EA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7354026-1EB9-47C9-B470-F3C1C4D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2E72A1A-EF1E-4827-8E89-C26359A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A0E105-93DA-44AD-AE8C-FC4B159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0B08A18-EA37-4E57-8705-D4851423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8FFCD20-FBD3-4DBB-A060-2376B286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C629E7C-535E-44B9-BA3B-6603C6AA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041CAD6-3CE6-43CC-994F-2EC2DC7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0856-F780-41F7-A6BA-49E4C43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59B9683-6084-4686-B1A2-00985592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34B4315-B1EA-4D6F-ADA0-6F91E2F7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352A72C-B1CB-4424-97E9-5A91162D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24CB342-6BE7-45FF-BC2C-14E4EBC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DCAD623-0900-42A7-9549-2C44EBF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9B75CB9-136D-411D-8212-AE8366E2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AD3D593-5E52-434D-9EF5-343B21C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6033C46-BF3A-4A9F-87EF-9044519D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17A5225-87BC-4868-99F2-081867BC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61F1456-E072-442F-9598-B824529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38CA-6103-4FF8-993E-F72D8B0B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FE057D6-AA47-4580-A506-D6D5FD41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5BB4D27-36E1-4492-92BA-AA842276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FA5B1B9-0B5C-4498-92F5-B7F0A0F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D89E2CE-1F84-4365-A91A-6FDA60B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1C0DCE-47DD-427A-B605-BC5B2F1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A29D717-C204-421F-9996-1C44D78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6AC49F0-CA2F-4998-B4CC-FD40179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E9CD1A3-D73F-4CD8-AACA-5298D26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598F839-8225-4164-8B3F-F82CEBDD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D4D2D94-D066-46B5-9532-19C55E08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C3F5-F8D1-4823-806C-E53D08B3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B83524A-8A5B-411B-A78C-C44658A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C6931F9-54FC-47B5-A5E3-6490A990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A9396B0-F4CB-4CAB-9D66-7BFCDE9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3E28DFB-4033-495F-822A-615F6C4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20AF7EA-6D26-4F71-9B04-B043696D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BC969DE-106B-451E-8CFB-DF90C55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1C69BB6-9971-4F9A-AF44-CF2AF6F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D1281BD-DE62-4DE3-9D16-AC9321F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F1CEEEA-AC98-4037-B912-977BA3E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EDB7DEF-D399-486D-AF39-128B4EE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BB18A-7BE5-42C7-ADF1-AE0D838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0699FB5-84EE-47D9-9B9A-64D1E91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CD1A272-D077-4A62-A6C1-40E70863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8F2B4B7-A1A8-47C0-A2C9-45426E7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D5B1F62-0BA4-48F4-B675-35752CA5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C91844B-C28F-4C83-9610-09B2F4F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C5B8F64-6E65-410E-9D7D-08A85348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DFF1E40-0A10-4401-A7E4-FF622A7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B186285-D44F-4B87-B8F4-7C10E73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D6CD405-F424-4511-9232-DAC6A868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8B0BA4C-235F-49B5-98E0-4A8BBA6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B5AB-A09A-45BA-95A7-713DACA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2446A7A-10BC-4003-BD11-AFB6D179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60ADD92-B19B-4EC9-A430-B86B0D2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9276A09-D768-4F58-A84A-9799775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E9F5558-4D08-4B0B-A83B-325D790D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E8A3E25-D949-4BC8-9DFA-0BEC4B69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D554965-BF8A-498B-8DFC-9F58505E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7A8F0CC-8AA0-4B09-A140-73A90C8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62DC194-D222-459E-8DC5-B1CE066B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8CD371B-BCED-40C5-8B7C-EEB80C5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38A23C3-6113-4DC8-86F1-3BEDF3A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69F9-E17B-4F41-A094-96EFA71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5743DF6-721E-4759-9839-92E3C7EB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820304E-7F1F-4340-BFF2-A28E109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20486D2-918D-49FA-849F-9069D99B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25277E5-CDE3-4CCE-BC1C-16B5BDC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33173C5-575C-48F7-B49B-F623BE8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9D4767E-C25B-4EAA-A83B-CAEBAEFB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8BE9D44-CB1A-47E7-8709-F5BDAD58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DC8EA67-3880-4C08-A53C-BC27DFB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F50D09D-BDDF-4129-8C08-95732FC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1A3853C-4C9C-408A-905C-8A5AFD7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B5B-CC34-4093-8F78-741DF66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B2219-E24A-4A04-8F84-927866E6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53B8D8B-0987-4694-AF4A-B550F2C8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98BF7FD-768E-4DCB-BCDD-D9CC201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EBAE937-62EF-4718-87BF-7B404DF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4A75BC7-B5F1-4592-B4CC-AA88DA4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B6C016A-9354-4A66-9A13-EAF9451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221AD0D-8331-4DFE-94E3-52220F1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817C32E-9C06-4B42-89AC-106B6E9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ACB76BA-B2EF-479E-B62C-3C2B1A50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50DCE60-5C45-4591-8139-8065A3E8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E3956B9-EE95-4366-BFF9-75462B59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C8240-D653-4D6C-AB01-486E003D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C0F671-223F-4940-A32B-EADA2198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D43F455-6EF0-451E-ADB3-78B5F258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2C130A0-AC42-4D63-AB8A-F3DB4D8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A1445EA-B71F-4689-9E2E-D1AD800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EEFDC48-DA53-4C30-BFF4-95806E20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6EAF1CF-B935-447C-BB66-3B1FCCE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F66CCDE-74A5-4DCB-A73B-5A49401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160A104-178F-4C3F-9A95-2C98BDB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1D40C45-D356-4C70-A6C5-BE67535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B21A122-7FD7-467F-9CA3-5450C849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0DB3-88C6-4165-A1D3-00822E8A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EBA66E2-8408-4656-BD47-82A07D9B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B89F328-B25F-467A-AE85-9B70A20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722F3A0-E765-4E2D-9037-EEE68792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ED68207-5795-4048-9C0F-BF20921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F6553DD-273E-4131-A64F-E5E5351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B84EF38-497B-4FD7-BE86-F5E26E8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33560F7-9160-498F-BE9E-61B979F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23B6460-BC38-48A1-A0C3-F107E8F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8EB036D-8CA5-4C50-AC2F-B84E9EC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352ADC9-E2B9-494C-BD42-DA00A87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BCA0-FC31-4F54-94E8-3873DB3D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F6A418B-BA54-413A-996B-0FDFD3A3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53E6686-0AE7-4076-9DED-CB05E31F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865FA0B-1F32-4EB2-BF4E-203A9EC4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AFC9025-A209-401A-AD37-0AACA05E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38064A1-2BF8-4588-B16A-DE475149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444F125-EBA1-4346-9C9A-3D31463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10536C9-02B5-4917-8385-57FBEA3F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A73DAD6-4843-449C-BAEE-2CFA050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ABDE486-813C-432A-B185-D7678160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2589135-B8E6-4F5C-AC51-E9963AC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C126-346F-4F99-9EF9-E943512A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8F80BF4-7279-4506-B566-D228ADE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D69687A-435F-4A79-9A94-D73E572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D5178C-FEE1-4488-9341-9A2C4F5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BD3852E-F70B-456D-B503-ACF8F7F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E2B83FA-5B72-47A5-AAF4-F214BCA0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F1F151C-E743-4B67-9B09-09107C06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FFA4DE-6D98-43C6-B07E-A4EF4FB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4FDF734-FF96-400E-972A-1B5B1D4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FF50F66-7ABD-487C-8D1C-53DF949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65611F4-E631-4C4A-9DC8-48D71AA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55AEA-FC5B-4850-BBD4-478E4DB6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F017C6F-4B27-438C-8D04-9D42531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9006230-A1A4-4240-9AD1-926BA11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E09B3C6-A66C-4FDB-A145-009AEF5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B016CED-7340-4FDE-B390-0C51D13C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206614A-1F4D-402F-8540-0A8A5F6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0A1E706-BD21-40C0-BA4E-723DBCD5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AF3E834-F9C9-49EF-B3B9-5F34A76E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87A42E3-1C47-48CA-8576-6B3F8276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EB85F0D-309A-4593-A2A9-812C3BD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B937B1B-FBF1-43FE-9F64-3EED6853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86EE-EFD7-4FA3-8E01-958C780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60BEDC0-88BE-4411-B07E-A121DAA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C9726B4-0328-46B7-9AEB-D4F702DB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EBEEA73-CB4B-4C99-9BB0-F00AF49F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A94BF42-6634-4A47-9CC8-0EE675B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35B1AAD-A179-4F07-BC8E-A6EC1DA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9D08F64-9BAC-4CD7-B3D3-2558529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D9321DB-FD45-4CDC-BA5A-040C106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701DCF3-47EF-4A74-A8C4-F6058B22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0C947D5-C347-47DC-933C-5AB7D168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43C1B44-7378-45CC-99D5-216F0848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6B68-ADB2-494E-9C89-60B8092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02818F0-A2E7-4C06-A992-0AB233F2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3CA0DB9-6158-4DCC-8C84-D3187E6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F61E0C9-512D-4504-A363-A169EC0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19B53BA-B988-44C9-AFF0-12A787F0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97138BB-72B2-4BA4-A9A7-DDFDB55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82F169C-9B82-45F2-8CDC-74CA53A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75B1728-7856-459F-A4CF-65D606E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7BAAB0F-4947-4817-9C34-5759AA1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994BE3D-3B02-4CB1-8E9F-41EEA72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252BF9D-4FD4-45A5-9763-91D5E0D0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A3F2-A0E0-4CA2-AA62-3531929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5E03DD6-2243-4DB9-BE85-6715AA2F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64EBE8E-C549-4005-90DE-46517F2F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4168702-415F-439E-AB20-C82F0038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FAD3558-E746-48DF-ACE5-A886D75C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5C8CB74-F4DB-44FA-9D92-639E954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679CDCC-0DEB-47D9-A1B2-46BB97A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A352D64-842E-4B57-976F-8B63CC6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45ED2DD-742B-42D7-908B-CD189F5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9397A8E-6ECF-4DC8-999B-CCDB70E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9A51ED9-800F-4E55-81A6-687E1C7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7C84-64BF-4A57-811E-D4FAEF6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4B15D8E-6013-47D3-A174-F036830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FC1571A-A21A-4BA2-BBDB-9E86DEAA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C4516DB-19E3-41B1-8C19-C29DF19A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EC033BA-76E8-40B1-89CF-076AF7E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CA45FB6-5FD7-47E3-873C-BD03A0AD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2FA6528-312C-44C9-B3A7-A00294D4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8ED8460-57B3-4CF9-B546-08753A5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ECEFF6A-BFB4-4742-BE61-50716B2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02E7A2B-94D1-44BD-989B-BA85136A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1739B19-C8B4-4325-A6AD-E993D57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306-1A1D-4923-A3F7-89BD497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5402-4CB2-47A6-AD79-EB8E52F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E74B007-D55B-4858-B6C4-C323054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4316532-A175-45A2-80ED-A5D65EF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03059E8-DEE8-4936-818B-E20563B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0106DE1-2EFF-4E31-82B6-97578ED2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B18389E-AFF5-4519-A6C2-7298A1B0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2E01438-DB4A-4E2E-916E-D8888C1A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48A576B-128E-4F99-AC6B-BF99DC0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F86096D-4926-417B-BAEE-3B100A6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340C9E1-B6B1-4BB6-9930-3B080AB1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738EE2E-8099-4B13-BE30-362F266B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7FB2-7771-40C8-BC9F-FD82EFC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11482DD-D98F-456A-9124-27197A7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0A9A62A-5D34-44B6-95E5-613D9D7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9A661ED-022A-42D3-9160-F9B3FDF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F3ED10F-C1F5-43D6-9DD1-A02BCDE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B3B0088-0A95-459E-988A-0BA12694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4596133-26DD-4860-B411-B81DBBC7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059B6BD-A600-4E1F-9763-FA279915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AA49640-8922-4BCB-A161-6C626AD2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ADC2096-0968-4BC9-90C8-F4AB3FA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D675DCB-1F95-47D4-8719-EB0C43F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8325-779F-4A62-B535-DF1865AE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5F780A6-2E3A-4DB5-81C8-BBC4228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7A05571-FF99-4EC3-B02D-F295ADD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FA37729-D635-46C1-894A-A602C41F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55838AE-E96D-41CA-A490-6EA9282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AD71CF0-A46A-4BC7-BA0C-7F848FC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D7E7735-479D-4B58-A7D9-BFBCF70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325A90B-EE33-4913-BB71-4BFA418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833CC42-9302-4F45-BA49-2F3E779E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D6380D6-3C57-4E39-B6D0-435440B5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82FCB38-D93D-4D9E-9A5A-BF1ECFE5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0BF8-AE7F-415D-81B4-9EB608B7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C6DC83B-1B41-4028-9661-2F1C1D1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556350F-F1E8-4BBE-9D4E-6D8ADF2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8649CCB-7EAC-4202-8D77-5EF6F1D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07B5A83-6302-49A2-A049-17E65CDB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788DDC6-E65A-474A-A340-1FC69092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6F8BCDF-060D-4F1B-9C5F-0AD1D7E5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A0F6098-D836-419A-A0B1-2CA6D21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3C6AF06-1A32-417D-917E-017F049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7A8820F-06DF-4566-846F-E1506645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35ABCD2-FDD1-41B1-BEC8-F9C4D83C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CBAB9-C579-4C11-8BB0-BDAF8C6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2A42B40-5513-49F2-8528-E77B8276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D483B1A-8A6B-4F39-878E-21C0223E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483D32D-946E-4350-855B-0D6FB41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1F1D3A2-276B-4B90-93BE-CBD462D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09FEEFA-58AA-462A-B188-BD1B31C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69A8EEA-29D7-414F-BECD-DE30CE03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F3CE7E1-9075-4B16-A9D0-1766DC67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2CAAAC4-945E-49A0-8B32-E76EAFD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0D5BE1E-6D74-49D0-A20C-CD4EB21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218517F-E676-4183-8DF6-21ACBFF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BC64-1E5A-4D06-B155-1129950A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D20D0F1-9C49-4E6F-A299-8E512D1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451494F-6971-4E14-8E8D-972A275E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604632E-654E-443E-B5C3-706C1198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1CC0B20-B287-4FC8-89DE-4C775C79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3F60684-2A6F-435B-9990-D6486BE8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A8ADA83-49A9-4F2C-8F2B-CC8DE40E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C1524DE-3956-4D4C-8892-9A2781AA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09B40FC-FB7F-4AA5-B05B-E726C2E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B33A402-C459-4FA1-8431-0B25EFF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FA8E146-0236-407F-9527-E9E651C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3543-853E-43B6-A0EA-790EEA58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0668DC7-913B-4F15-98B3-4899B9D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AF8EE0D-0C07-41AE-932B-C1C22A7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35B2A73-2130-47AD-B534-F4304C01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B1D7958-09CE-4025-AE73-5E1A78B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678D7FF-DCDB-47CE-B941-7ACD7763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EA34BE6-FF3D-4806-80EA-92EE784C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7D46399-87A8-4DB8-A8CA-B8060E8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CE22D04-84CB-4ECA-B3F0-B28BFF1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5717E07-4097-4EC5-9763-275EE2B2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7816C6C-88B3-41A3-9607-6C47696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E9A9B-C4BC-4638-B472-3DE9223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21A7A7B-1396-41CB-B5B8-BA4FDF8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AA2A058-7E2A-48AE-ADA6-7BF49A0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C3725E0-A1AC-4090-884F-4BB23C69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1CDD940-3B57-4D02-9A36-ABEE2D2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F611B10-C291-4F45-9149-D3D4B2A7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6113008-7CF9-4871-8ED0-462AB02E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545B213-5C0F-4D02-8238-B11E6311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1D70473-BC39-42D7-86AE-2E7129A8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E798B70-EF01-49EA-AD5E-E92EAB4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C82EF5F-9F93-464B-B688-33EF5C45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F0DF-7E2A-47AA-919D-97836F4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6C276F1-0661-4073-B4E6-B53AB74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C3C2490-41EF-440C-A333-EE89C0D5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5E67385-1D26-417C-B800-0BFE68F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BA72332-178F-4453-9BEF-F21440A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52E02F9-A806-4009-BA8F-EF1C664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CE31042-4AFA-4A4A-A5EA-D2C3D90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9BAEECD-A93C-480A-8E90-A820384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B27F4E6-CD3C-44A5-9147-3050568C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76E72FA-10CC-40A0-A721-A84A519E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E497D6B-B9E1-4EDE-91D4-21DD1EF9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2EB8-C018-4B1B-8489-D42E0F0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AE1A664-5F05-48B0-B379-69A5DED3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5080545-F7A2-43CC-950D-E565E91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523C82C-5D3B-4436-91C6-9131603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5B90AC2-6E2F-49B2-A04A-84751F6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FCFD7B3-4E86-4E48-8395-C9A2F694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BE2040B-9170-4D89-AA47-CFDB9A95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146CCBC-850D-41C0-8D38-CF5B1E4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D28F761-7118-49FF-B1B0-7BEC3EA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F6DB4E2-89DF-4E2A-A245-12832FB7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912C5F6-F79E-4E6D-BBBD-53C702F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448-8F9E-4FEC-A0BB-9E5EC09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3AAFD-1E87-4318-AD51-27DF108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19E7E79-8AED-4A50-97FC-DE3019A2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79062CE-CBCA-47FB-88CA-DFCD2C08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E961CAA-3C91-47F9-A4BA-C7878201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A79BABA-6523-4E68-AE3A-50DB6A6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DA007A0-D683-490B-90C4-3E13CC8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CB7EC72-86A0-4D17-A105-1FC9E015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ED360C1-AA44-4FA3-91D7-3FF0285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6DFEDDA-08D2-4141-9820-EF8DD7B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42477DB-7121-4AAB-B1CA-214021F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F92D63E-DF03-421E-9CC4-F75256C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81FC-F130-4806-9FDF-CB3B374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E2394F1-9E52-4475-915E-DB732B0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566E6BA-F07D-407B-A4FF-530098B6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AE9CB70-2DA8-45A6-B6B1-6323EB86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EB28315-394D-4906-8241-171EC6FD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FFDC23A-19BD-4922-9984-580EEE57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108EB11-C272-4E82-8F3B-FB14B5D9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9C8B4F6-6217-40B5-BDAB-82CE8D2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03E303F-54CD-428A-8D03-5179E17C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CAE8F29-1274-466C-BA5F-C3B39EC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7C07EA0-E7C0-4BEC-A0FF-2EC17EE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569CE-5316-4326-89E2-0EE2853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13F0816-3791-4A2A-A9C5-8A252ED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98F268A-AE53-4946-8381-D81B410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D5B3F2D-B505-4C71-B140-2F775DD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BA4A28E-6F2A-4865-90C5-6050DFD3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A02773F-0000-4A0C-B213-C5BCD194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FD0B2D1-8F27-4AA9-9BDB-9EF7899A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540A40E-4598-4F9A-B9DB-2A49697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DA5BB8F-2716-488A-8425-DD516452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4A664DF-1023-43E5-88EC-81F79D93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69AFC07-9CF2-4B6C-92F7-D72A98A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A79F6-C4DF-4F10-BC3A-DDE918D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4EAB5F5-C73B-4B22-A569-F397E08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EDFCB85-BA94-4307-8570-ACEE90E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FD2BA39-AF6B-4AB6-86BE-D338527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B88BC5E-2D35-4CCF-8907-D22F126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FA59F5B-2A2E-4997-90DA-26CF4CD4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871D4E8-E146-4C6D-B36E-E7F21F9C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EDECCAD-A719-45B0-BA92-D1A12609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B13FEA8-4500-40A9-BCE1-E3B5AE30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130AB12-2A22-4A2D-BC12-E9D252A4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5E2E3DA-18DD-49D9-AFE9-D687E324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2A83-A16A-4618-A436-C080CE9C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E8301C1-678F-48CB-B11A-B0EE007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0368DA1-7CF5-4894-893C-CDBAA27F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18D144F-F03E-4872-8D11-9BFB97CD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3C89ACC-9583-455B-893C-EDBDB86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A532FE3-C2B1-4BA3-9AFB-12DCE7E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866D7FA-2384-4390-97FE-2D5DA15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3060325-21FD-4AC9-B035-BBF524FF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7E6B76A-DD2B-4A6B-9FF2-E20760C5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8455378-3B4E-4EDC-80C4-D6D7F1FD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29CDB86-62B9-43FF-8926-C97E199E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7E0C5-CC66-431C-B2F3-A990C022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BDA096B-282D-4634-9EC2-862AF416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E680E6B-A81E-49C4-9F59-D782CB2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1483B6F-46AF-41E2-8832-0765F86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4788BF8-33EC-4A41-AEA5-21B32A6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69C2488-63B1-4522-BC2B-00A35B8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648C6DD-68D7-4F2D-AF15-89ABC4D4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F6CF6CD-3F24-48E9-9D70-4F8FDC7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13FDB90-471D-47B8-853A-A8DC863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60CA9F7-7141-462A-8011-0B21CDC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0EB5243-9274-4A6F-869B-843DFCF1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DBDB-3C1A-4988-99B1-9083C4B4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6FD4DEF-8BA9-464F-9C49-1894D988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84181D6-163A-408A-A772-323B7237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850A0DD-704C-4BB7-9CE3-0E0328E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CB24423-AE93-4874-9A4C-2EE453B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6301244-CAB1-44DB-ADBB-0236D9FE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0FB9A1E-FF47-491F-86EA-7F9A4208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3CEFEBD-CE97-4AC9-BAD4-8688FD30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7FDFC51-8C7C-4BB8-BAAE-EEF4CF0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9C372A2-EE19-4D6A-815B-A3D8735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9604172-3D73-4D9B-AA0A-2BA2DC2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16938-F16C-490C-B498-D489504E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555384A-9F2A-4646-82A6-68EC5830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B4D2188-CD4D-4CB0-9916-F2D0A421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A549C13-FA2A-4F00-82F5-0A40D305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DFAEA94-DBF4-4279-B0EF-4D285338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BCBEC6E-F943-4713-A3BC-CA6CACA0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F8E75AA-83C0-402B-BA5A-581742FD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BE8C825-6105-4E84-B1DF-0F41B422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7751093-37DE-4108-9A1F-5B45BBEB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A61E7CC-A5BD-4BFA-9EF4-975F9AFE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58120E1-AB60-4003-AECC-E1D7F0C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032A-80CB-4DA7-B5A7-7E1734E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114B3D8-4DA4-4D6C-A63A-23E5D51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7E4729D-1765-4791-BB39-6E8620C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F86D35B-AFF5-4A5C-95C4-96D322F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A8F7B10-EDC2-4658-AEB1-C002C494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A27874E-90A4-4A0A-ACB3-347496A4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2CEAF5F-0EAA-4F0B-B940-C1CFD65B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FCBAB97-2159-46F8-9142-52DDA39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6930123-7760-40D1-9C5C-DC4A43D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B0AE8F2-EE9D-4889-B24A-12287A2F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603D8B9-4FF9-4811-ABE6-A7872188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D9329-B45D-469D-AF98-D9AAEB2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E2AE474-2991-4110-9646-0704D95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EE71A00-0910-4E8A-9DAF-68374A0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6B718D3-13F3-4EA6-A510-32D4E94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7FB58E2-4030-4B2F-B228-463F147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D698647-C9E3-40B9-A9A5-6B2735C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BE7B50B-31F9-4D01-B49C-8B245649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6FCDE9B-613C-4E72-BC77-A1467ADF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B6473C6-CB16-4EA5-B988-D4811979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32C516D-2BAC-4F07-A81D-716931A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11C7B8A-8E16-4BC3-82D0-05AC6AF1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E3E-DA3F-46EF-B654-9C0E7A74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9246-3805-46FA-BB83-BE3028728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 type="dt" idx="2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 type="ftr" idx="2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5"/>
          <p:cNvSpPr>
            <a:spLocks noGrp="1"/>
          </p:cNvSpPr>
          <p:nvPr>
            <p:ph type="sldNum" idx="2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CE5-4987-4FA1-AC2B-7F9F4641D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 type="dt" idx="2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 type="ftr" idx="3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5"/>
          <p:cNvSpPr>
            <a:spLocks noGrp="1"/>
          </p:cNvSpPr>
          <p:nvPr>
            <p:ph type="sldNum" idx="3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FB0-AE2B-4576-8A28-97D257115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 type="dt" idx="3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 type="ftr" idx="3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5"/>
          <p:cNvSpPr>
            <a:spLocks noGrp="1"/>
          </p:cNvSpPr>
          <p:nvPr>
            <p:ph type="sldNum" idx="3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DAD-9270-4495-8928-0A2AAF6BC3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 type="dt" idx="3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 type="ftr" idx="3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5"/>
          <p:cNvSpPr>
            <a:spLocks noGrp="1"/>
          </p:cNvSpPr>
          <p:nvPr>
            <p:ph type="sldNum" idx="3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F9B-8D13-4761-916D-53B0C9D69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 type="dt" idx="3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 type="ftr" idx="3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 type="sldNum" idx="3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C1CE-3D0A-42C0-A783-1002822FC8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 type="dt" idx="3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PlaceHolder 4"/>
          <p:cNvSpPr>
            <a:spLocks noGrp="1"/>
          </p:cNvSpPr>
          <p:nvPr>
            <p:ph type="ftr" idx="3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5"/>
          <p:cNvSpPr>
            <a:spLocks noGrp="1"/>
          </p:cNvSpPr>
          <p:nvPr>
            <p:ph type="sldNum" idx="3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748-0E37-4950-86A1-49E2F032A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 type="dt" idx="3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 type="ftr" idx="3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5"/>
          <p:cNvSpPr>
            <a:spLocks noGrp="1"/>
          </p:cNvSpPr>
          <p:nvPr>
            <p:ph type="sldNum" idx="3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64E-30FE-4CB9-84A7-615B2A7C8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 type="dt" idx="3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 type="ftr" idx="3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 type="sldNum" idx="3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3B2-21E2-4E3D-9937-57269B9B92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 type="dt" idx="3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PlaceHolder 4"/>
          <p:cNvSpPr>
            <a:spLocks noGrp="1"/>
          </p:cNvSpPr>
          <p:nvPr>
            <p:ph type="ftr" idx="3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5"/>
          <p:cNvSpPr>
            <a:spLocks noGrp="1"/>
          </p:cNvSpPr>
          <p:nvPr>
            <p:ph type="sldNum" idx="3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DF40-A817-48AF-B94B-63FCA99EEC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PlaceHolder 3"/>
          <p:cNvSpPr>
            <a:spLocks noGrp="1"/>
          </p:cNvSpPr>
          <p:nvPr>
            <p:ph type="dt" idx="3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PlaceHolder 4"/>
          <p:cNvSpPr>
            <a:spLocks noGrp="1"/>
          </p:cNvSpPr>
          <p:nvPr>
            <p:ph type="ftr" idx="3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5"/>
          <p:cNvSpPr>
            <a:spLocks noGrp="1"/>
          </p:cNvSpPr>
          <p:nvPr>
            <p:ph type="sldNum" idx="3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C4E-12A3-45CC-8FDD-CC22AC7753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A74E-6C27-46A4-8A65-B512C4ABD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 type="dt" idx="3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 type="ftr" idx="3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5"/>
          <p:cNvSpPr>
            <a:spLocks noGrp="1"/>
          </p:cNvSpPr>
          <p:nvPr>
            <p:ph type="sldNum" idx="3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4F6-FDF5-4D98-888D-2ABFBA4A1A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PlaceHolder 3"/>
          <p:cNvSpPr>
            <a:spLocks noGrp="1"/>
          </p:cNvSpPr>
          <p:nvPr>
            <p:ph type="dt" idx="3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PlaceHolder 4"/>
          <p:cNvSpPr>
            <a:spLocks noGrp="1"/>
          </p:cNvSpPr>
          <p:nvPr>
            <p:ph type="ftr" idx="3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5"/>
          <p:cNvSpPr>
            <a:spLocks noGrp="1"/>
          </p:cNvSpPr>
          <p:nvPr>
            <p:ph type="sldNum" idx="3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8A01-6552-4D8E-BD70-7335C7695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dt" idx="3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 type="ftr" idx="3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5"/>
          <p:cNvSpPr>
            <a:spLocks noGrp="1"/>
          </p:cNvSpPr>
          <p:nvPr>
            <p:ph type="sldNum" idx="3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750-FB12-42C6-AC8A-373706FE4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4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820036-0BDF-4787-B11F-0649C94B8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046-1FD6-4D53-A19D-39189C987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7D5-5F36-4587-A096-95AB4F5EC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225-F8C0-469E-9968-2B94BD66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ECF-74F7-44E5-989B-528C332EF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204-0DC4-4616-9335-324E245EF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0FE-D4C4-444E-AAA6-AD5B10E08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44A-6E08-4146-9CDD-3D24F1213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F5EE-0227-4600-AFB4-FACE00EB2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51F-9573-4127-8375-10A944CD8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9CF-FB68-4F78-A7AA-D5299369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FDA-F0F0-4158-BA97-8525E520D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131-144A-41A9-B3B6-6C5066046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5A94-2040-49CD-9209-852EA7E3C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138E-6000-420B-87D9-487D852B7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638-EB53-49AB-B9D4-770EFD03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342D-37FD-4456-9FF2-6917CDB4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8AD-6BC2-4819-B244-7D771525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1E0A-9B89-485C-8940-2AE0AA50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DB1B-8CC1-479A-9198-47A0FE5F1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DACF-4BC9-45BB-A8B4-3466AD292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5DE-594F-44E7-B39B-7CC1B15CD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D94-43F5-45A5-BED7-0D39F904F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F445-B195-460A-A3FB-71D09456F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CE9-0019-48C7-87EB-39BE66377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E47-72CE-4E99-BA78-1C040AD62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55C-18B5-49CC-838B-A947706AB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9A6-708C-4983-9004-C6FF7D446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704-4281-4C0C-AA9D-530C2251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174-8659-45F6-B737-29B600179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D41D-C22B-41E4-818E-7AE1E2F84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0C8-4EBC-42CB-BF47-8D40C349E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492-3789-416A-8FD5-8D357533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FD0D-84A3-4DEC-A37D-C517B833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99B1-33CC-43AB-ADE1-BBF40D089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7110-BB5E-4365-930B-801663BF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079B-161C-4E03-B97A-635370E32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CFF-42F9-49C8-9C4D-D24755E38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12CD-AC23-48C5-A05B-D16DF5177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E60-CB46-4798-B6CC-FCBB4C070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C37-20E2-430F-A72E-1ABB71F3D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98DB-93BC-472A-A77D-714AFB5F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3EB2-0DF3-40E1-8ABD-3B1104EA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4B9-855B-4C0D-B5C2-32BB99B0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28E-B713-4B77-BFA9-F019AAF62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E50-782D-430A-ACAC-D4808ADD9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1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1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1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408E-E1E1-4ADA-BE2D-C8A7A884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sldNum" idx="1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6AC-B4EB-4B40-975E-A41E1AAF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732-8775-4AC0-99A0-989B31B4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 type="dt" idx="1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 type="ftr" idx="1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 type="sldNum" idx="1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AF2-C534-4BDA-9579-5E6C3C3F25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 type="dt" idx="1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 type="ftr" idx="1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 type="sldNum" idx="1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6CBD-CB97-412B-B89B-10CA94CB6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ADC8-3E14-4441-935F-C60EB14E6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384-0AAE-4BA9-977A-E23D56C2A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4CB-8110-4584-9E1B-C0114B26C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 type="dt" idx="1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 type="ftr" idx="1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 type="sldNum" idx="1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5D5-4478-4C72-930E-20837A6A22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72F-E843-4C70-AD9F-B790451AD9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404-BA21-41B3-ACEE-6BB50BBB3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F5C3-ABA7-48AC-89ED-8E9A50C22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D57-9505-4DDF-AAC1-DFE7686DD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EEBD-4F5F-43B7-8461-1B1A938DF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C0B-6656-44B8-87D5-E1942FCB1F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AE0-B27E-4CEC-956F-D262F14A19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4A73-63A8-4276-BFAD-DED593B0A1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081-B9F0-4AD2-AB7B-3F2FB1296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17B-E340-4320-BC97-A3C2C30D7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A64F-5E12-422F-87D6-443DE70C0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C6AA-C182-4F0D-B4AD-5A5995B0CA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418-5DFA-4AF8-93E1-42A63243B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C1D-05CF-4E5C-A333-A78FF9B4BA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93C0-3140-4137-AE75-D3618E21C0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229-90AE-4211-A709-1A91825DAD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F5E-7A1C-495C-87DC-650A7A913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8AD-A9E7-40DC-A596-4D5378B46E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63B4-BBC2-4135-ADF0-EC58B17E42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F95-4A34-4AEC-A40E-25EF94CC4A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800-8067-4C5B-B431-6EA1BD001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76FB-8806-46FB-A204-985C7D33CC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AF0-63C3-4C8F-96BA-6EEA56199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DFD-7D55-4788-AC46-8A71E8350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C86-DDD1-429C-B090-24800810B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0E5E-B369-42D0-9A15-E602971F7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3E4-5C64-4FDF-A6DF-AE807FF35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FE6B-038E-4255-94F4-2B3243DA7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9CFB-0BC0-42DA-9D7A-EF96E6A0C0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349-3D16-4E0C-A1E9-1140929BCD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EEE4-CAF9-46ED-97E6-D0E99F3DC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 type="dt" idx="2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 type="ftr" idx="2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 type="sldNum" idx="2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4CB7-A211-45C2-81FB-ACD41BE4B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 type="dt" idx="2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 type="ftr" idx="2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5"/>
          <p:cNvSpPr>
            <a:spLocks noGrp="1"/>
          </p:cNvSpPr>
          <p:nvPr>
            <p:ph type="sldNum" idx="2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C85E-D9C2-46E8-8A40-4C0D08D5EE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 type="dt" idx="2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 type="ftr" idx="2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5"/>
          <p:cNvSpPr>
            <a:spLocks noGrp="1"/>
          </p:cNvSpPr>
          <p:nvPr>
            <p:ph type="sldNum" idx="2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E517-2A5C-48DF-BAC3-6936031985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 type="dt" idx="2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 type="ftr" idx="2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5"/>
          <p:cNvSpPr>
            <a:spLocks noGrp="1"/>
          </p:cNvSpPr>
          <p:nvPr>
            <p:ph type="sldNum" idx="2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0423-2B40-41A1-97CD-6C4881DD8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 type="dt" idx="2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 type="ftr" idx="2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5"/>
          <p:cNvSpPr>
            <a:spLocks noGrp="1"/>
          </p:cNvSpPr>
          <p:nvPr>
            <p:ph type="sldNum" idx="2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73E1-76BC-40AC-B520-5CBFF27BD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 type="dt" idx="2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 type="ftr" idx="2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5"/>
          <p:cNvSpPr>
            <a:spLocks noGrp="1"/>
          </p:cNvSpPr>
          <p:nvPr>
            <p:ph type="sldNum" idx="2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4AE-31BE-477A-ADB2-E4E811D43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 type="dt" idx="2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 type="ftr" idx="2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5"/>
          <p:cNvSpPr>
            <a:spLocks noGrp="1"/>
          </p:cNvSpPr>
          <p:nvPr>
            <p:ph type="sldNum" idx="2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3E73-FF13-45A3-9827-129787BBE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 type="dt" idx="2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4"/>
          <p:cNvSpPr>
            <a:spLocks noGrp="1"/>
          </p:cNvSpPr>
          <p:nvPr>
            <p:ph type="ftr" idx="2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5"/>
          <p:cNvSpPr>
            <a:spLocks noGrp="1"/>
          </p:cNvSpPr>
          <p:nvPr>
            <p:ph type="sldNum" idx="2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505-A113-4738-9B7C-E9E9D5A826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 type="dt" idx="2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 type="ftr" idx="2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5"/>
          <p:cNvSpPr>
            <a:spLocks noGrp="1"/>
          </p:cNvSpPr>
          <p:nvPr>
            <p:ph type="sldNum" idx="2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0F8-7B5E-471D-BC41-B01E3EE5F8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 type="dt" idx="2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 type="ftr" idx="2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 type="sldNum" idx="2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D25-CF12-4CC2-AA46-C91DA4A56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11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audio" Target="../media/enter2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7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audio" Target="../media/enter2.wav"/><Relationship Id="rId5" Type="http://schemas.openxmlformats.org/officeDocument/2006/relationships/slideLayout" Target="../slideLayouts/slideLayout9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enter2.wav"/><Relationship Id="rId3" Type="http://schemas.openxmlformats.org/officeDocument/2006/relationships/slideLayout" Target="../slideLayouts/slideLayout10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立体图形（十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Text Box 4"/>
          <p:cNvSpPr/>
          <p:nvPr/>
        </p:nvSpPr>
        <p:spPr>
          <a:xfrm>
            <a:off x="179280" y="189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管外径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，管壁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，自来水流过水管的速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秒。水管每秒的水流量是多少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Text Box 5"/>
          <p:cNvSpPr/>
          <p:nvPr/>
        </p:nvSpPr>
        <p:spPr>
          <a:xfrm>
            <a:off x="539640" y="1989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管每秒的水流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就是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每秒水流过的水管的容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Text Box 6"/>
          <p:cNvSpPr/>
          <p:nvPr/>
        </p:nvSpPr>
        <p:spPr>
          <a:xfrm>
            <a:off x="395280" y="29289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Text Box 7"/>
          <p:cNvSpPr/>
          <p:nvPr/>
        </p:nvSpPr>
        <p:spPr>
          <a:xfrm>
            <a:off x="928800" y="342900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管的内半径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-1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2=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Text Box 8"/>
          <p:cNvSpPr/>
          <p:nvPr/>
        </p:nvSpPr>
        <p:spPr>
          <a:xfrm>
            <a:off x="928800" y="41353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管容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4×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8=157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立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Text Box 9"/>
          <p:cNvSpPr/>
          <p:nvPr/>
        </p:nvSpPr>
        <p:spPr>
          <a:xfrm>
            <a:off x="2771640" y="48578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7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5.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Text Box 10"/>
          <p:cNvSpPr/>
          <p:nvPr/>
        </p:nvSpPr>
        <p:spPr>
          <a:xfrm>
            <a:off x="1690560" y="5715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水管每秒的水流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.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9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Text Box 4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把一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，底面直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的圆柱形钢管截大小相同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表面积增加了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AutoShape 11"/>
          <p:cNvSpPr/>
          <p:nvPr/>
        </p:nvSpPr>
        <p:spPr>
          <a:xfrm>
            <a:off x="2484360" y="1773360"/>
            <a:ext cx="719280" cy="10792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2" name="Group 23"/>
          <p:cNvGrpSpPr/>
          <p:nvPr/>
        </p:nvGrpSpPr>
        <p:grpSpPr>
          <a:xfrm>
            <a:off x="4643280" y="1413000"/>
            <a:ext cx="1657080" cy="1944720"/>
            <a:chOff x="4643280" y="1413000"/>
            <a:chExt cx="1657080" cy="1944720"/>
          </a:xfrm>
        </p:grpSpPr>
        <p:sp>
          <p:nvSpPr>
            <p:cNvPr id="4823" name="AutoShape 12"/>
            <p:cNvSpPr/>
            <p:nvPr/>
          </p:nvSpPr>
          <p:spPr>
            <a:xfrm>
              <a:off x="5005080" y="1413000"/>
              <a:ext cx="719280" cy="36036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AutoShape 13"/>
            <p:cNvSpPr/>
            <p:nvPr/>
          </p:nvSpPr>
          <p:spPr>
            <a:xfrm>
              <a:off x="5005080" y="2132280"/>
              <a:ext cx="719280" cy="36036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AutoShape 14"/>
            <p:cNvSpPr/>
            <p:nvPr/>
          </p:nvSpPr>
          <p:spPr>
            <a:xfrm>
              <a:off x="5003640" y="2997360"/>
              <a:ext cx="718920" cy="36036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Text Box 15"/>
            <p:cNvSpPr/>
            <p:nvPr/>
          </p:nvSpPr>
          <p:spPr>
            <a:xfrm>
              <a:off x="4643280" y="17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Text Box 16"/>
            <p:cNvSpPr/>
            <p:nvPr/>
          </p:nvSpPr>
          <p:spPr>
            <a:xfrm>
              <a:off x="5651280" y="2565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Text Box 17"/>
            <p:cNvSpPr/>
            <p:nvPr/>
          </p:nvSpPr>
          <p:spPr>
            <a:xfrm>
              <a:off x="4858920" y="2421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Text Box 18"/>
            <p:cNvSpPr/>
            <p:nvPr/>
          </p:nvSpPr>
          <p:spPr>
            <a:xfrm>
              <a:off x="5795640" y="17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19"/>
            <p:cNvSpPr/>
            <p:nvPr/>
          </p:nvSpPr>
          <p:spPr>
            <a:xfrm flipH="1">
              <a:off x="4932000" y="1773360"/>
              <a:ext cx="28728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20"/>
            <p:cNvSpPr/>
            <p:nvPr/>
          </p:nvSpPr>
          <p:spPr>
            <a:xfrm flipV="1">
              <a:off x="5435280" y="1989000"/>
              <a:ext cx="43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21"/>
            <p:cNvSpPr/>
            <p:nvPr/>
          </p:nvSpPr>
          <p:spPr>
            <a:xfrm flipH="1">
              <a:off x="5148000" y="2492640"/>
              <a:ext cx="28728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22"/>
            <p:cNvSpPr/>
            <p:nvPr/>
          </p:nvSpPr>
          <p:spPr>
            <a:xfrm flipV="1">
              <a:off x="5364000" y="2852640"/>
              <a:ext cx="36036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4" name="Text Box 24"/>
          <p:cNvSpPr/>
          <p:nvPr/>
        </p:nvSpPr>
        <p:spPr>
          <a:xfrm>
            <a:off x="468360" y="3284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Text Box 25"/>
          <p:cNvSpPr/>
          <p:nvPr/>
        </p:nvSpPr>
        <p:spPr>
          <a:xfrm>
            <a:off x="1332000" y="335772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，截过之后，增加的表面积就是多出来的四个底面积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Text Box 26"/>
          <p:cNvSpPr/>
          <p:nvPr/>
        </p:nvSpPr>
        <p:spPr>
          <a:xfrm>
            <a:off x="1116000" y="4581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4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÷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4=12.5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Text Box 27"/>
          <p:cNvSpPr/>
          <p:nvPr/>
        </p:nvSpPr>
        <p:spPr>
          <a:xfrm>
            <a:off x="1547640" y="5300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表面积增加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4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500"/>
                                        <p:tgtEl>
                                          <p:spTgt spid="4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Rectangle 2"/>
          <p:cNvSpPr/>
          <p:nvPr/>
        </p:nvSpPr>
        <p:spPr>
          <a:xfrm>
            <a:off x="324000" y="14331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一个圆柱形木材，沿着一条底面直径纵向剖开，量得一个纵剖面面积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方分米，那么，圆柱的侧面积是多少平方分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9" name="Group 3"/>
          <p:cNvGrpSpPr/>
          <p:nvPr/>
        </p:nvGrpSpPr>
        <p:grpSpPr>
          <a:xfrm>
            <a:off x="5219640" y="3645000"/>
            <a:ext cx="1799640" cy="2837880"/>
            <a:chOff x="5219640" y="3645000"/>
            <a:chExt cx="1799640" cy="2837880"/>
          </a:xfrm>
        </p:grpSpPr>
        <p:sp>
          <p:nvSpPr>
            <p:cNvPr id="4840" name="AutoShape 4"/>
            <p:cNvSpPr/>
            <p:nvPr/>
          </p:nvSpPr>
          <p:spPr>
            <a:xfrm>
              <a:off x="5219640" y="3645000"/>
              <a:ext cx="1779480" cy="283788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未知"/>
            <p:cNvSpPr/>
            <p:nvPr/>
          </p:nvSpPr>
          <p:spPr>
            <a:xfrm>
              <a:off x="5323320" y="5879520"/>
              <a:ext cx="1695960" cy="2656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732" h="108">
                  <a:moveTo>
                    <a:pt x="0" y="108"/>
                  </a:moveTo>
                  <a:cubicBezTo>
                    <a:pt x="4" y="96"/>
                    <a:pt x="4" y="82"/>
                    <a:pt x="12" y="72"/>
                  </a:cubicBezTo>
                  <a:cubicBezTo>
                    <a:pt x="55" y="18"/>
                    <a:pt x="176" y="9"/>
                    <a:pt x="240" y="0"/>
                  </a:cubicBezTo>
                  <a:cubicBezTo>
                    <a:pt x="298" y="3"/>
                    <a:pt x="455" y="3"/>
                    <a:pt x="540" y="24"/>
                  </a:cubicBezTo>
                  <a:cubicBezTo>
                    <a:pt x="568" y="31"/>
                    <a:pt x="655" y="52"/>
                    <a:pt x="684" y="72"/>
                  </a:cubicBezTo>
                  <a:cubicBezTo>
                    <a:pt x="723" y="98"/>
                    <a:pt x="706" y="96"/>
                    <a:pt x="73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2" name="Group 6"/>
          <p:cNvGrpSpPr/>
          <p:nvPr/>
        </p:nvGrpSpPr>
        <p:grpSpPr>
          <a:xfrm>
            <a:off x="5651640" y="3645000"/>
            <a:ext cx="865080" cy="2808360"/>
            <a:chOff x="5651640" y="3645000"/>
            <a:chExt cx="865080" cy="2808360"/>
          </a:xfrm>
        </p:grpSpPr>
        <p:sp>
          <p:nvSpPr>
            <p:cNvPr id="4843" name="Line 7"/>
            <p:cNvSpPr/>
            <p:nvPr/>
          </p:nvSpPr>
          <p:spPr>
            <a:xfrm flipV="1">
              <a:off x="5651640" y="3645000"/>
              <a:ext cx="865080" cy="649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8"/>
            <p:cNvSpPr/>
            <p:nvPr/>
          </p:nvSpPr>
          <p:spPr>
            <a:xfrm>
              <a:off x="5724720" y="4221360"/>
              <a:ext cx="0" cy="2232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9"/>
            <p:cNvSpPr/>
            <p:nvPr/>
          </p:nvSpPr>
          <p:spPr>
            <a:xfrm>
              <a:off x="6516720" y="3645000"/>
              <a:ext cx="0" cy="23050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Line 10"/>
            <p:cNvSpPr/>
            <p:nvPr/>
          </p:nvSpPr>
          <p:spPr>
            <a:xfrm flipH="1">
              <a:off x="5724720" y="5950080"/>
              <a:ext cx="792000" cy="503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7" name="Line 11"/>
          <p:cNvSpPr/>
          <p:nvPr/>
        </p:nvSpPr>
        <p:spPr>
          <a:xfrm flipH="1">
            <a:off x="5724000" y="3860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12"/>
          <p:cNvSpPr/>
          <p:nvPr/>
        </p:nvSpPr>
        <p:spPr>
          <a:xfrm flipH="1">
            <a:off x="5724000" y="4076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13"/>
          <p:cNvSpPr/>
          <p:nvPr/>
        </p:nvSpPr>
        <p:spPr>
          <a:xfrm flipH="1">
            <a:off x="5724000" y="4292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14"/>
          <p:cNvSpPr/>
          <p:nvPr/>
        </p:nvSpPr>
        <p:spPr>
          <a:xfrm flipH="1">
            <a:off x="5724000" y="4508640"/>
            <a:ext cx="792360" cy="5760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15"/>
          <p:cNvSpPr/>
          <p:nvPr/>
        </p:nvSpPr>
        <p:spPr>
          <a:xfrm flipH="1">
            <a:off x="5724000" y="472428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Line 16"/>
          <p:cNvSpPr/>
          <p:nvPr/>
        </p:nvSpPr>
        <p:spPr>
          <a:xfrm flipH="1">
            <a:off x="5724000" y="4869000"/>
            <a:ext cx="792360" cy="5760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Line 17"/>
          <p:cNvSpPr/>
          <p:nvPr/>
        </p:nvSpPr>
        <p:spPr>
          <a:xfrm flipH="1">
            <a:off x="5724000" y="5084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Line 18"/>
          <p:cNvSpPr/>
          <p:nvPr/>
        </p:nvSpPr>
        <p:spPr>
          <a:xfrm flipH="1">
            <a:off x="5724000" y="5300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Line 19"/>
          <p:cNvSpPr/>
          <p:nvPr/>
        </p:nvSpPr>
        <p:spPr>
          <a:xfrm flipH="1">
            <a:off x="5724000" y="551664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Line 20"/>
          <p:cNvSpPr/>
          <p:nvPr/>
        </p:nvSpPr>
        <p:spPr>
          <a:xfrm flipH="1">
            <a:off x="5724000" y="5734080"/>
            <a:ext cx="792360" cy="576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Text Box 21"/>
          <p:cNvSpPr/>
          <p:nvPr/>
        </p:nvSpPr>
        <p:spPr>
          <a:xfrm>
            <a:off x="533520" y="29718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3.1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6=18.8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TextBox 24"/>
          <p:cNvSpPr/>
          <p:nvPr/>
        </p:nvSpPr>
        <p:spPr>
          <a:xfrm>
            <a:off x="609480" y="41911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：圆柱的侧面积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8.8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平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2" name="Group 2"/>
          <p:cNvGrpSpPr/>
          <p:nvPr/>
        </p:nvGrpSpPr>
        <p:grpSpPr>
          <a:xfrm>
            <a:off x="3995640" y="549360"/>
            <a:ext cx="1621440" cy="2806920"/>
            <a:chOff x="3995640" y="549360"/>
            <a:chExt cx="1621440" cy="2806920"/>
          </a:xfrm>
        </p:grpSpPr>
        <p:grpSp>
          <p:nvGrpSpPr>
            <p:cNvPr id="4593" name="Group 3"/>
            <p:cNvGrpSpPr/>
            <p:nvPr/>
          </p:nvGrpSpPr>
          <p:grpSpPr>
            <a:xfrm>
              <a:off x="3995640" y="549360"/>
              <a:ext cx="1621440" cy="2806920"/>
              <a:chOff x="3995640" y="549360"/>
              <a:chExt cx="1621440" cy="2806920"/>
            </a:xfrm>
          </p:grpSpPr>
          <p:grpSp>
            <p:nvGrpSpPr>
              <p:cNvPr id="4594" name="Group 4"/>
              <p:cNvGrpSpPr/>
              <p:nvPr/>
            </p:nvGrpSpPr>
            <p:grpSpPr>
              <a:xfrm>
                <a:off x="3995640" y="549360"/>
                <a:ext cx="1621440" cy="2806920"/>
                <a:chOff x="3995640" y="549360"/>
                <a:chExt cx="1621440" cy="2806920"/>
              </a:xfrm>
            </p:grpSpPr>
            <p:sp>
              <p:nvSpPr>
                <p:cNvPr id="4595" name="AutoShape 5"/>
                <p:cNvSpPr/>
                <p:nvPr/>
              </p:nvSpPr>
              <p:spPr>
                <a:xfrm>
                  <a:off x="3995640" y="968760"/>
                  <a:ext cx="1621440" cy="23875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10152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Oval 6"/>
                <p:cNvSpPr/>
                <p:nvPr/>
              </p:nvSpPr>
              <p:spPr>
                <a:xfrm>
                  <a:off x="4029480" y="2759400"/>
                  <a:ext cx="1559880" cy="5410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7" name="Line 7"/>
                <p:cNvSpPr/>
                <p:nvPr/>
              </p:nvSpPr>
              <p:spPr>
                <a:xfrm>
                  <a:off x="4797000" y="3008160"/>
                  <a:ext cx="792360" cy="0"/>
                </a:xfrm>
                <a:prstGeom prst="line">
                  <a:avLst/>
                </a:prstGeom>
                <a:ln w="284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8" name="Text Box 8"/>
                <p:cNvSpPr/>
                <p:nvPr/>
              </p:nvSpPr>
              <p:spPr>
                <a:xfrm>
                  <a:off x="4204440" y="549360"/>
                  <a:ext cx="183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9" name="Text Box 9"/>
                <p:cNvSpPr/>
                <p:nvPr/>
              </p:nvSpPr>
              <p:spPr>
                <a:xfrm>
                  <a:off x="4735080" y="156312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3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0" name="Text Box 10"/>
                <p:cNvSpPr/>
                <p:nvPr/>
              </p:nvSpPr>
              <p:spPr>
                <a:xfrm>
                  <a:off x="4217040" y="2274480"/>
                  <a:ext cx="183600" cy="64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1" name="Line 11"/>
              <p:cNvSpPr/>
              <p:nvPr/>
            </p:nvSpPr>
            <p:spPr>
              <a:xfrm>
                <a:off x="4806360" y="1305000"/>
                <a:ext cx="0" cy="1753200"/>
              </a:xfrm>
              <a:prstGeom prst="line">
                <a:avLst/>
              </a:prstGeom>
              <a:ln w="2844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602" name="Object 6"/>
              <p:cNvGraphicFramePr/>
              <p:nvPr/>
            </p:nvGraphicFramePr>
            <p:xfrm>
              <a:off x="4747680" y="2927520"/>
              <a:ext cx="147600" cy="168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03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47680" y="2927520"/>
                        <a:ext cx="147600" cy="16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04" name="Object 7"/>
              <p:cNvGraphicFramePr/>
              <p:nvPr/>
            </p:nvGraphicFramePr>
            <p:xfrm>
              <a:off x="4745160" y="1211400"/>
              <a:ext cx="147600" cy="167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05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45160" y="1211400"/>
                        <a:ext cx="147600" cy="16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606" name="Text Box 14"/>
            <p:cNvSpPr/>
            <p:nvPr/>
          </p:nvSpPr>
          <p:spPr>
            <a:xfrm>
              <a:off x="4818960" y="2135160"/>
              <a:ext cx="183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7" name="Group 15"/>
          <p:cNvGrpSpPr/>
          <p:nvPr/>
        </p:nvGrpSpPr>
        <p:grpSpPr>
          <a:xfrm>
            <a:off x="5219640" y="4076640"/>
            <a:ext cx="1800000" cy="1937880"/>
            <a:chOff x="5219640" y="4076640"/>
            <a:chExt cx="1800000" cy="1937880"/>
          </a:xfrm>
        </p:grpSpPr>
        <p:sp>
          <p:nvSpPr>
            <p:cNvPr id="4608" name="Oval 16"/>
            <p:cNvSpPr/>
            <p:nvPr/>
          </p:nvSpPr>
          <p:spPr>
            <a:xfrm>
              <a:off x="5219640" y="4076640"/>
              <a:ext cx="1800000" cy="19378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Oval 17"/>
            <p:cNvSpPr/>
            <p:nvPr/>
          </p:nvSpPr>
          <p:spPr>
            <a:xfrm>
              <a:off x="5247720" y="4775040"/>
              <a:ext cx="1745640" cy="46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10" name="Object 5"/>
            <p:cNvGraphicFramePr/>
            <p:nvPr/>
          </p:nvGraphicFramePr>
          <p:xfrm>
            <a:off x="6086880" y="4951800"/>
            <a:ext cx="111960" cy="13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11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6880" y="4951800"/>
                      <a:ext cx="111960" cy="13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12" name="Group 19"/>
          <p:cNvGrpSpPr/>
          <p:nvPr/>
        </p:nvGrpSpPr>
        <p:grpSpPr>
          <a:xfrm>
            <a:off x="468360" y="1125360"/>
            <a:ext cx="2669760" cy="1638000"/>
            <a:chOff x="468360" y="1125360"/>
            <a:chExt cx="2669760" cy="1638000"/>
          </a:xfrm>
        </p:grpSpPr>
        <p:graphicFrame>
          <p:nvGraphicFramePr>
            <p:cNvPr id="4613" name="Object 4"/>
            <p:cNvGraphicFramePr/>
            <p:nvPr/>
          </p:nvGraphicFramePr>
          <p:xfrm>
            <a:off x="468360" y="1125360"/>
            <a:ext cx="2669760" cy="163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4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8360" y="1125360"/>
                      <a:ext cx="2669760" cy="163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15" name="Group 21"/>
            <p:cNvGrpSpPr/>
            <p:nvPr/>
          </p:nvGrpSpPr>
          <p:grpSpPr>
            <a:xfrm>
              <a:off x="609480" y="1237320"/>
              <a:ext cx="2401200" cy="1389960"/>
              <a:chOff x="609480" y="1237320"/>
              <a:chExt cx="2401200" cy="1389960"/>
            </a:xfrm>
          </p:grpSpPr>
          <p:sp>
            <p:nvSpPr>
              <p:cNvPr id="4616" name="Line 22"/>
              <p:cNvSpPr/>
              <p:nvPr/>
            </p:nvSpPr>
            <p:spPr>
              <a:xfrm flipV="1">
                <a:off x="1025280" y="2242440"/>
                <a:ext cx="1985400" cy="396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Line 23"/>
              <p:cNvSpPr/>
              <p:nvPr/>
            </p:nvSpPr>
            <p:spPr>
              <a:xfrm flipH="1">
                <a:off x="1033560" y="1237320"/>
                <a:ext cx="2520" cy="100548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Line 24"/>
              <p:cNvSpPr/>
              <p:nvPr/>
            </p:nvSpPr>
            <p:spPr>
              <a:xfrm flipH="1">
                <a:off x="609480" y="2244960"/>
                <a:ext cx="495000" cy="38232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9" name="Group 25"/>
          <p:cNvGrpSpPr/>
          <p:nvPr/>
        </p:nvGrpSpPr>
        <p:grpSpPr>
          <a:xfrm>
            <a:off x="6659640" y="1268280"/>
            <a:ext cx="2015640" cy="1800000"/>
            <a:chOff x="6659640" y="1268280"/>
            <a:chExt cx="2015640" cy="1800000"/>
          </a:xfrm>
        </p:grpSpPr>
        <p:graphicFrame>
          <p:nvGraphicFramePr>
            <p:cNvPr id="4620" name="Object 3"/>
            <p:cNvGraphicFramePr/>
            <p:nvPr/>
          </p:nvGraphicFramePr>
          <p:xfrm>
            <a:off x="6659640" y="1268280"/>
            <a:ext cx="2015640" cy="180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21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59640" y="1268280"/>
                      <a:ext cx="2015640" cy="18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22" name="Group 27"/>
            <p:cNvGrpSpPr/>
            <p:nvPr/>
          </p:nvGrpSpPr>
          <p:grpSpPr>
            <a:xfrm>
              <a:off x="6757920" y="1374840"/>
              <a:ext cx="1787400" cy="1652040"/>
              <a:chOff x="6757920" y="1374840"/>
              <a:chExt cx="1787400" cy="1652040"/>
            </a:xfrm>
          </p:grpSpPr>
          <p:sp>
            <p:nvSpPr>
              <p:cNvPr id="4623" name="Line 28"/>
              <p:cNvSpPr/>
              <p:nvPr/>
            </p:nvSpPr>
            <p:spPr>
              <a:xfrm>
                <a:off x="7272000" y="1374840"/>
                <a:ext cx="0" cy="120456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Line 29"/>
              <p:cNvSpPr/>
              <p:nvPr/>
            </p:nvSpPr>
            <p:spPr>
              <a:xfrm>
                <a:off x="7241040" y="2579400"/>
                <a:ext cx="1304280" cy="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Line 30"/>
              <p:cNvSpPr/>
              <p:nvPr/>
            </p:nvSpPr>
            <p:spPr>
              <a:xfrm flipH="1">
                <a:off x="6757920" y="2634480"/>
                <a:ext cx="423360" cy="39240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6" name="Group 31"/>
          <p:cNvGrpSpPr/>
          <p:nvPr/>
        </p:nvGrpSpPr>
        <p:grpSpPr>
          <a:xfrm>
            <a:off x="1332000" y="4076640"/>
            <a:ext cx="1799640" cy="2085840"/>
            <a:chOff x="1332000" y="4076640"/>
            <a:chExt cx="1799640" cy="2085840"/>
          </a:xfrm>
        </p:grpSpPr>
        <p:grpSp>
          <p:nvGrpSpPr>
            <p:cNvPr id="4627" name="Group 32"/>
            <p:cNvGrpSpPr/>
            <p:nvPr/>
          </p:nvGrpSpPr>
          <p:grpSpPr>
            <a:xfrm>
              <a:off x="1332000" y="4076640"/>
              <a:ext cx="1764000" cy="2085840"/>
              <a:chOff x="1332000" y="4076640"/>
              <a:chExt cx="1764000" cy="2085840"/>
            </a:xfrm>
          </p:grpSpPr>
          <p:grpSp>
            <p:nvGrpSpPr>
              <p:cNvPr id="4628" name="Group 33"/>
              <p:cNvGrpSpPr/>
              <p:nvPr/>
            </p:nvGrpSpPr>
            <p:grpSpPr>
              <a:xfrm>
                <a:off x="1332000" y="4076640"/>
                <a:ext cx="1764000" cy="2085840"/>
                <a:chOff x="1332000" y="4076640"/>
                <a:chExt cx="1764000" cy="2085840"/>
              </a:xfrm>
            </p:grpSpPr>
            <p:grpSp>
              <p:nvGrpSpPr>
                <p:cNvPr id="4629" name="Group 34"/>
                <p:cNvGrpSpPr/>
                <p:nvPr/>
              </p:nvGrpSpPr>
              <p:grpSpPr>
                <a:xfrm>
                  <a:off x="1332000" y="4076640"/>
                  <a:ext cx="1764000" cy="2085840"/>
                  <a:chOff x="1332000" y="4076640"/>
                  <a:chExt cx="1764000" cy="2085840"/>
                </a:xfrm>
              </p:grpSpPr>
              <p:sp>
                <p:nvSpPr>
                  <p:cNvPr id="4630" name="Oval 35"/>
                  <p:cNvSpPr/>
                  <p:nvPr/>
                </p:nvSpPr>
                <p:spPr>
                  <a:xfrm>
                    <a:off x="1337040" y="5419440"/>
                    <a:ext cx="1756080" cy="74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1" name="AutoShape 36"/>
                  <p:cNvSpPr/>
                  <p:nvPr/>
                </p:nvSpPr>
                <p:spPr>
                  <a:xfrm>
                    <a:off x="1332000" y="4076640"/>
                    <a:ext cx="1764000" cy="1671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5724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32" name="Oval 37"/>
                <p:cNvSpPr/>
                <p:nvPr/>
              </p:nvSpPr>
              <p:spPr>
                <a:xfrm>
                  <a:off x="1332000" y="5409000"/>
                  <a:ext cx="1756440" cy="7434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3" name="Line 38"/>
              <p:cNvSpPr/>
              <p:nvPr/>
            </p:nvSpPr>
            <p:spPr>
              <a:xfrm>
                <a:off x="2206080" y="4104720"/>
                <a:ext cx="0" cy="1686960"/>
              </a:xfrm>
              <a:prstGeom prst="line">
                <a:avLst/>
              </a:prstGeom>
              <a:ln w="5724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Text Box 39"/>
              <p:cNvSpPr/>
              <p:nvPr/>
            </p:nvSpPr>
            <p:spPr>
              <a:xfrm>
                <a:off x="1755720" y="5309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Text Box 40"/>
              <p:cNvSpPr/>
              <p:nvPr/>
            </p:nvSpPr>
            <p:spPr>
              <a:xfrm>
                <a:off x="2177640" y="45788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Text Box 41"/>
              <p:cNvSpPr/>
              <p:nvPr/>
            </p:nvSpPr>
            <p:spPr>
              <a:xfrm>
                <a:off x="2316960" y="5128560"/>
                <a:ext cx="358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37" name="Object 2"/>
            <p:cNvGraphicFramePr/>
            <p:nvPr/>
          </p:nvGraphicFramePr>
          <p:xfrm>
            <a:off x="2175480" y="5744160"/>
            <a:ext cx="125640" cy="117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38" name="Object 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75480" y="5744160"/>
                      <a:ext cx="125640" cy="11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9" name="Line 43"/>
            <p:cNvSpPr/>
            <p:nvPr/>
          </p:nvSpPr>
          <p:spPr>
            <a:xfrm>
              <a:off x="2267280" y="5792040"/>
              <a:ext cx="864360" cy="0"/>
            </a:xfrm>
            <a:prstGeom prst="line">
              <a:avLst/>
            </a:prstGeom>
            <a:ln w="5724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0" name="Text Box 44"/>
          <p:cNvSpPr/>
          <p:nvPr/>
        </p:nvSpPr>
        <p:spPr>
          <a:xfrm>
            <a:off x="1479600" y="2343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Text Box 45"/>
          <p:cNvSpPr/>
          <p:nvPr/>
        </p:nvSpPr>
        <p:spPr>
          <a:xfrm>
            <a:off x="2700360" y="220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Text Box 46"/>
          <p:cNvSpPr/>
          <p:nvPr/>
        </p:nvSpPr>
        <p:spPr>
          <a:xfrm>
            <a:off x="2198520" y="1700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Text Box 47"/>
          <p:cNvSpPr/>
          <p:nvPr/>
        </p:nvSpPr>
        <p:spPr>
          <a:xfrm>
            <a:off x="723816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Text Box 48"/>
          <p:cNvSpPr/>
          <p:nvPr/>
        </p:nvSpPr>
        <p:spPr>
          <a:xfrm>
            <a:off x="774288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Text Box 49"/>
          <p:cNvSpPr/>
          <p:nvPr/>
        </p:nvSpPr>
        <p:spPr>
          <a:xfrm>
            <a:off x="824616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Text Box 50"/>
          <p:cNvSpPr/>
          <p:nvPr/>
        </p:nvSpPr>
        <p:spPr>
          <a:xfrm>
            <a:off x="5653080" y="458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Text Box 51"/>
          <p:cNvSpPr/>
          <p:nvPr/>
        </p:nvSpPr>
        <p:spPr>
          <a:xfrm>
            <a:off x="6302880" y="450864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Line 52"/>
          <p:cNvSpPr/>
          <p:nvPr/>
        </p:nvSpPr>
        <p:spPr>
          <a:xfrm>
            <a:off x="6156360" y="5013360"/>
            <a:ext cx="852480" cy="3240"/>
          </a:xfrm>
          <a:prstGeom prst="line">
            <a:avLst/>
          </a:prstGeom>
          <a:ln w="572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Text Box 53"/>
          <p:cNvSpPr/>
          <p:nvPr/>
        </p:nvSpPr>
        <p:spPr>
          <a:xfrm>
            <a:off x="6699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Text Box 54"/>
          <p:cNvSpPr/>
          <p:nvPr/>
        </p:nvSpPr>
        <p:spPr>
          <a:xfrm>
            <a:off x="593640" y="27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Text Box 55"/>
          <p:cNvSpPr/>
          <p:nvPr/>
        </p:nvSpPr>
        <p:spPr>
          <a:xfrm>
            <a:off x="826920" y="33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长方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Text Box 56"/>
          <p:cNvSpPr/>
          <p:nvPr/>
        </p:nvSpPr>
        <p:spPr>
          <a:xfrm>
            <a:off x="6732720" y="189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Text Box 57"/>
          <p:cNvSpPr/>
          <p:nvPr/>
        </p:nvSpPr>
        <p:spPr>
          <a:xfrm>
            <a:off x="3995640" y="189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圆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Text Box 58"/>
          <p:cNvSpPr/>
          <p:nvPr/>
        </p:nvSpPr>
        <p:spPr>
          <a:xfrm>
            <a:off x="133200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圆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Text Box 59"/>
          <p:cNvSpPr/>
          <p:nvPr/>
        </p:nvSpPr>
        <p:spPr>
          <a:xfrm>
            <a:off x="5292720" y="342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Text Box 62"/>
          <p:cNvSpPr/>
          <p:nvPr/>
        </p:nvSpPr>
        <p:spPr>
          <a:xfrm>
            <a:off x="2392200" y="40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Text Box 63"/>
          <p:cNvSpPr/>
          <p:nvPr/>
        </p:nvSpPr>
        <p:spPr>
          <a:xfrm>
            <a:off x="4357800" y="907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Text Box 64"/>
          <p:cNvSpPr/>
          <p:nvPr/>
        </p:nvSpPr>
        <p:spPr>
          <a:xfrm>
            <a:off x="4357800" y="2492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Text Box 65"/>
          <p:cNvSpPr/>
          <p:nvPr/>
        </p:nvSpPr>
        <p:spPr>
          <a:xfrm>
            <a:off x="4935240" y="2205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Line 66"/>
          <p:cNvSpPr/>
          <p:nvPr/>
        </p:nvSpPr>
        <p:spPr>
          <a:xfrm>
            <a:off x="611280" y="256536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Line 67"/>
          <p:cNvSpPr/>
          <p:nvPr/>
        </p:nvSpPr>
        <p:spPr>
          <a:xfrm>
            <a:off x="2556000" y="1628640"/>
            <a:ext cx="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Line 68"/>
          <p:cNvSpPr/>
          <p:nvPr/>
        </p:nvSpPr>
        <p:spPr>
          <a:xfrm flipH="1">
            <a:off x="2555640" y="2276640"/>
            <a:ext cx="431640" cy="28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未知"/>
          <p:cNvSpPr/>
          <p:nvPr/>
        </p:nvSpPr>
        <p:spPr>
          <a:xfrm>
            <a:off x="468360" y="-98280"/>
            <a:ext cx="7848720" cy="626400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6264000"/>
              <a:gd name="textAreaBottom" fmla="*/ 6264360 h 6264000"/>
            </a:gdLst>
            <a:ahLst/>
            <a:rect l="textAreaLeft" t="textAreaTop" r="textAreaRight" b="textAreaBottom"/>
            <a:pathLst>
              <a:path w="4944" h="4037">
                <a:moveTo>
                  <a:pt x="0" y="3765"/>
                </a:moveTo>
                <a:cubicBezTo>
                  <a:pt x="211" y="3167"/>
                  <a:pt x="423" y="2570"/>
                  <a:pt x="726" y="2313"/>
                </a:cubicBezTo>
                <a:cubicBezTo>
                  <a:pt x="1029" y="2056"/>
                  <a:pt x="1603" y="2555"/>
                  <a:pt x="1815" y="2222"/>
                </a:cubicBezTo>
                <a:cubicBezTo>
                  <a:pt x="2027" y="1889"/>
                  <a:pt x="1716" y="634"/>
                  <a:pt x="1996" y="317"/>
                </a:cubicBezTo>
                <a:cubicBezTo>
                  <a:pt x="2276" y="0"/>
                  <a:pt x="3236" y="22"/>
                  <a:pt x="3493" y="317"/>
                </a:cubicBezTo>
                <a:cubicBezTo>
                  <a:pt x="3750" y="612"/>
                  <a:pt x="3379" y="1693"/>
                  <a:pt x="3538" y="2086"/>
                </a:cubicBezTo>
                <a:cubicBezTo>
                  <a:pt x="3697" y="2479"/>
                  <a:pt x="4211" y="2351"/>
                  <a:pt x="4445" y="2676"/>
                </a:cubicBezTo>
                <a:cubicBezTo>
                  <a:pt x="4679" y="3001"/>
                  <a:pt x="4861" y="3810"/>
                  <a:pt x="4944" y="4037"/>
                </a:cubicBezTo>
              </a:path>
            </a:pathLst>
          </a:custGeom>
          <a:noFill/>
          <a:ln w="92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Line 70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3" name="enter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4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4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4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4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4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4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4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AutoShape 2"/>
          <p:cNvSpPr/>
          <p:nvPr/>
        </p:nvSpPr>
        <p:spPr>
          <a:xfrm>
            <a:off x="1116000" y="3357720"/>
            <a:ext cx="1143000" cy="1143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AutoShape 3"/>
          <p:cNvSpPr/>
          <p:nvPr/>
        </p:nvSpPr>
        <p:spPr>
          <a:xfrm>
            <a:off x="5724360" y="836640"/>
            <a:ext cx="792360" cy="1219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AutoShape 4"/>
          <p:cNvSpPr/>
          <p:nvPr/>
        </p:nvSpPr>
        <p:spPr>
          <a:xfrm>
            <a:off x="971640" y="981000"/>
            <a:ext cx="1728720" cy="93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8" name="Group 5"/>
          <p:cNvGrpSpPr/>
          <p:nvPr/>
        </p:nvGrpSpPr>
        <p:grpSpPr>
          <a:xfrm>
            <a:off x="5580000" y="2421000"/>
            <a:ext cx="1152360" cy="1512360"/>
            <a:chOff x="5580000" y="2421000"/>
            <a:chExt cx="1152360" cy="1512360"/>
          </a:xfrm>
        </p:grpSpPr>
        <p:sp>
          <p:nvSpPr>
            <p:cNvPr id="4669" name="Oval 6"/>
            <p:cNvSpPr/>
            <p:nvPr/>
          </p:nvSpPr>
          <p:spPr>
            <a:xfrm>
              <a:off x="5580000" y="3365640"/>
              <a:ext cx="1150920" cy="56772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未知"/>
            <p:cNvSpPr/>
            <p:nvPr/>
          </p:nvSpPr>
          <p:spPr>
            <a:xfrm>
              <a:off x="5580000" y="2421000"/>
              <a:ext cx="1152360" cy="149688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1" name="Group 8"/>
          <p:cNvGrpSpPr/>
          <p:nvPr/>
        </p:nvGrpSpPr>
        <p:grpSpPr>
          <a:xfrm>
            <a:off x="5579640" y="4221000"/>
            <a:ext cx="1224720" cy="1513080"/>
            <a:chOff x="5579640" y="4221000"/>
            <a:chExt cx="1224720" cy="1513080"/>
          </a:xfrm>
        </p:grpSpPr>
        <p:sp>
          <p:nvSpPr>
            <p:cNvPr id="4672" name="Oval 9"/>
            <p:cNvSpPr/>
            <p:nvPr/>
          </p:nvSpPr>
          <p:spPr>
            <a:xfrm>
              <a:off x="5581080" y="4221000"/>
              <a:ext cx="1222560" cy="15130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3" name="Group 10"/>
            <p:cNvGrpSpPr/>
            <p:nvPr/>
          </p:nvGrpSpPr>
          <p:grpSpPr>
            <a:xfrm>
              <a:off x="5579640" y="4815000"/>
              <a:ext cx="1224720" cy="313920"/>
              <a:chOff x="5579640" y="4815000"/>
              <a:chExt cx="1224720" cy="313920"/>
            </a:xfrm>
          </p:grpSpPr>
          <p:grpSp>
            <p:nvGrpSpPr>
              <p:cNvPr id="4674" name="Group 11"/>
              <p:cNvGrpSpPr/>
              <p:nvPr/>
            </p:nvGrpSpPr>
            <p:grpSpPr>
              <a:xfrm>
                <a:off x="5582880" y="4815000"/>
                <a:ext cx="1221480" cy="166680"/>
                <a:chOff x="5582880" y="4815000"/>
                <a:chExt cx="1221480" cy="166680"/>
              </a:xfrm>
            </p:grpSpPr>
            <p:sp>
              <p:nvSpPr>
                <p:cNvPr id="4675" name="Arc 12"/>
                <p:cNvSpPr/>
                <p:nvPr/>
              </p:nvSpPr>
              <p:spPr>
                <a:xfrm flipH="1" rot="10800">
                  <a:off x="5582520" y="4815720"/>
                  <a:ext cx="626400" cy="163440"/>
                </a:xfrm>
                <a:custGeom>
                  <a:avLst/>
                  <a:gdLst>
                    <a:gd name="textAreaLeft" fmla="*/ 360 w 626400"/>
                    <a:gd name="textAreaRight" fmla="*/ 627120 w 62640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cap="rnd" w="38160">
                  <a:solidFill>
                    <a:srgbClr val="ff0066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6" name="Arc 13"/>
                <p:cNvSpPr/>
                <p:nvPr/>
              </p:nvSpPr>
              <p:spPr>
                <a:xfrm rot="10800">
                  <a:off x="6177600" y="4817160"/>
                  <a:ext cx="626400" cy="163440"/>
                </a:xfrm>
                <a:custGeom>
                  <a:avLst/>
                  <a:gdLst>
                    <a:gd name="textAreaLeft" fmla="*/ 0 w 626400"/>
                    <a:gd name="textAreaRight" fmla="*/ 626760 w 62640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cap="rnd" w="38160">
                  <a:solidFill>
                    <a:srgbClr val="ff0066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7" name="Group 14"/>
              <p:cNvGrpSpPr/>
              <p:nvPr/>
            </p:nvGrpSpPr>
            <p:grpSpPr>
              <a:xfrm>
                <a:off x="5579640" y="4961520"/>
                <a:ext cx="1221480" cy="167400"/>
                <a:chOff x="5579640" y="4961520"/>
                <a:chExt cx="1221480" cy="167400"/>
              </a:xfrm>
            </p:grpSpPr>
            <p:sp>
              <p:nvSpPr>
                <p:cNvPr id="4678" name="Arc 15"/>
                <p:cNvSpPr/>
                <p:nvPr/>
              </p:nvSpPr>
              <p:spPr>
                <a:xfrm flipH="1" flipV="1" rot="10800">
                  <a:off x="5579280" y="4961880"/>
                  <a:ext cx="626400" cy="163440"/>
                </a:xfrm>
                <a:custGeom>
                  <a:avLst/>
                  <a:gdLst>
                    <a:gd name="textAreaLeft" fmla="*/ 360 w 626400"/>
                    <a:gd name="textAreaRight" fmla="*/ 627120 w 626400"/>
                    <a:gd name="textAreaTop" fmla="*/ 360 h 163440"/>
                    <a:gd name="textAreaBottom" fmla="*/ 164160 h 1634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81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9" name="Arc 16"/>
                <p:cNvSpPr/>
                <p:nvPr/>
              </p:nvSpPr>
              <p:spPr>
                <a:xfrm flipV="1" rot="10800">
                  <a:off x="6174360" y="4964040"/>
                  <a:ext cx="626400" cy="163440"/>
                </a:xfrm>
                <a:custGeom>
                  <a:avLst/>
                  <a:gdLst>
                    <a:gd name="textAreaLeft" fmla="*/ 0 w 626400"/>
                    <a:gd name="textAreaRight" fmla="*/ 626760 w 626400"/>
                    <a:gd name="textAreaTop" fmla="*/ 360 h 163440"/>
                    <a:gd name="textAreaBottom" fmla="*/ 164160 h 1634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81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80" name="AutoShape 17"/>
          <p:cNvSpPr/>
          <p:nvPr/>
        </p:nvSpPr>
        <p:spPr>
          <a:xfrm rot="10800000">
            <a:off x="3131640" y="1196640"/>
            <a:ext cx="381240" cy="3322440"/>
          </a:xfrm>
          <a:custGeom>
            <a:avLst/>
            <a:gdLst>
              <a:gd name="textAreaLeft" fmla="*/ 243720 w 381240"/>
              <a:gd name="textAreaRight" fmla="*/ 381600 w 381240"/>
              <a:gd name="textAreaTop" fmla="*/ 86400 h 3322440"/>
              <a:gd name="textAreaBottom" fmla="*/ 3236040 h 33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AutoShape 18"/>
          <p:cNvSpPr/>
          <p:nvPr/>
        </p:nvSpPr>
        <p:spPr>
          <a:xfrm rot="10800000">
            <a:off x="7020000" y="1341360"/>
            <a:ext cx="380880" cy="3322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6400 h 3322800"/>
              <a:gd name="textAreaBottom" fmla="*/ 323640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Text Box 19"/>
          <p:cNvSpPr/>
          <p:nvPr/>
        </p:nvSpPr>
        <p:spPr>
          <a:xfrm>
            <a:off x="1042920" y="2492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Text Box 20"/>
          <p:cNvSpPr/>
          <p:nvPr/>
        </p:nvSpPr>
        <p:spPr>
          <a:xfrm>
            <a:off x="3628440" y="1916280"/>
            <a:ext cx="6069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都是平面围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Text Box 21"/>
          <p:cNvSpPr/>
          <p:nvPr/>
        </p:nvSpPr>
        <p:spPr>
          <a:xfrm>
            <a:off x="971640" y="501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Text Box 22"/>
          <p:cNvSpPr/>
          <p:nvPr/>
        </p:nvSpPr>
        <p:spPr>
          <a:xfrm>
            <a:off x="7596360" y="2492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Text Box 23"/>
          <p:cNvSpPr/>
          <p:nvPr/>
        </p:nvSpPr>
        <p:spPr>
          <a:xfrm>
            <a:off x="543564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圆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Text Box 24"/>
          <p:cNvSpPr/>
          <p:nvPr/>
        </p:nvSpPr>
        <p:spPr>
          <a:xfrm>
            <a:off x="543564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圆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Text Box 25"/>
          <p:cNvSpPr/>
          <p:nvPr/>
        </p:nvSpPr>
        <p:spPr>
          <a:xfrm>
            <a:off x="5724360" y="558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AutoShape 2">
            <a:hlinkClick r:id="rId1" action="ppaction://hlinksldjump"/>
          </p:cNvPr>
          <p:cNvSpPr/>
          <p:nvPr/>
        </p:nvSpPr>
        <p:spPr>
          <a:xfrm>
            <a:off x="1403280" y="836640"/>
            <a:ext cx="1152720" cy="1871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0" name="Group 3"/>
          <p:cNvGrpSpPr/>
          <p:nvPr/>
        </p:nvGrpSpPr>
        <p:grpSpPr>
          <a:xfrm>
            <a:off x="3924360" y="907920"/>
            <a:ext cx="1828800" cy="1828800"/>
            <a:chOff x="3924360" y="907920"/>
            <a:chExt cx="1828800" cy="1828800"/>
          </a:xfrm>
        </p:grpSpPr>
        <p:sp>
          <p:nvSpPr>
            <p:cNvPr id="4691" name="AutoShape 4">
              <a:hlinkClick r:id="rId2" action="ppaction://hlinksldjump"/>
            </p:cNvPr>
            <p:cNvSpPr/>
            <p:nvPr/>
          </p:nvSpPr>
          <p:spPr>
            <a:xfrm>
              <a:off x="3924360" y="907920"/>
              <a:ext cx="1828800" cy="18288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2" name="Group 5"/>
            <p:cNvGrpSpPr/>
            <p:nvPr/>
          </p:nvGrpSpPr>
          <p:grpSpPr>
            <a:xfrm>
              <a:off x="3924360" y="907920"/>
              <a:ext cx="1828800" cy="1828800"/>
              <a:chOff x="3924360" y="907920"/>
              <a:chExt cx="1828800" cy="1828800"/>
            </a:xfrm>
          </p:grpSpPr>
          <p:sp>
            <p:nvSpPr>
              <p:cNvPr id="4693" name="Line 6"/>
              <p:cNvSpPr/>
              <p:nvPr/>
            </p:nvSpPr>
            <p:spPr>
              <a:xfrm>
                <a:off x="4457880" y="907920"/>
                <a:ext cx="0" cy="137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Line 7"/>
              <p:cNvSpPr/>
              <p:nvPr/>
            </p:nvSpPr>
            <p:spPr>
              <a:xfrm flipH="1">
                <a:off x="4457880" y="2279520"/>
                <a:ext cx="1295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Line 8"/>
              <p:cNvSpPr/>
              <p:nvPr/>
            </p:nvSpPr>
            <p:spPr>
              <a:xfrm flipV="1">
                <a:off x="3924360" y="2279520"/>
                <a:ext cx="53352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6" name="Group 9"/>
          <p:cNvGrpSpPr/>
          <p:nvPr/>
        </p:nvGrpSpPr>
        <p:grpSpPr>
          <a:xfrm>
            <a:off x="6659640" y="404640"/>
            <a:ext cx="1341360" cy="2414880"/>
            <a:chOff x="6659640" y="404640"/>
            <a:chExt cx="1341360" cy="2414880"/>
          </a:xfrm>
        </p:grpSpPr>
        <p:grpSp>
          <p:nvGrpSpPr>
            <p:cNvPr id="4697" name="Group 10"/>
            <p:cNvGrpSpPr/>
            <p:nvPr/>
          </p:nvGrpSpPr>
          <p:grpSpPr>
            <a:xfrm>
              <a:off x="6659640" y="404640"/>
              <a:ext cx="1341360" cy="2414880"/>
              <a:chOff x="6659640" y="404640"/>
              <a:chExt cx="1341360" cy="2414880"/>
            </a:xfrm>
          </p:grpSpPr>
          <p:sp>
            <p:nvSpPr>
              <p:cNvPr id="4698" name="Oval 11"/>
              <p:cNvSpPr/>
              <p:nvPr/>
            </p:nvSpPr>
            <p:spPr>
              <a:xfrm>
                <a:off x="6659640" y="2108880"/>
                <a:ext cx="1341360" cy="710280"/>
              </a:xfrm>
              <a:prstGeom prst="ellipse">
                <a:avLst/>
              </a:prstGeom>
              <a:solidFill>
                <a:srgbClr val="00ff00"/>
              </a:solidFill>
              <a:ln w="3168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AutoShape 12">
                <a:hlinkClick r:id="rId3" action="ppaction://hlinksldjump"/>
              </p:cNvPr>
              <p:cNvSpPr/>
              <p:nvPr/>
            </p:nvSpPr>
            <p:spPr>
              <a:xfrm>
                <a:off x="6659640" y="404640"/>
                <a:ext cx="1341360" cy="2414880"/>
              </a:xfrm>
              <a:prstGeom prst="can">
                <a:avLst>
                  <a:gd name="adj" fmla="val 25000"/>
                </a:avLst>
              </a:prstGeom>
              <a:solidFill>
                <a:srgbClr val="00ff00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0" name="Line 13"/>
            <p:cNvSpPr/>
            <p:nvPr/>
          </p:nvSpPr>
          <p:spPr>
            <a:xfrm>
              <a:off x="7330320" y="2464200"/>
              <a:ext cx="670320" cy="0"/>
            </a:xfrm>
            <a:prstGeom prst="line">
              <a:avLst/>
            </a:prstGeom>
            <a:ln w="316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1" name="Group 14"/>
          <p:cNvGrpSpPr/>
          <p:nvPr/>
        </p:nvGrpSpPr>
        <p:grpSpPr>
          <a:xfrm>
            <a:off x="1600200" y="1143000"/>
            <a:ext cx="6934320" cy="2135880"/>
            <a:chOff x="1600200" y="1143000"/>
            <a:chExt cx="6934320" cy="2135880"/>
          </a:xfrm>
        </p:grpSpPr>
        <p:sp>
          <p:nvSpPr>
            <p:cNvPr id="4702" name="Text Box 15"/>
            <p:cNvSpPr/>
            <p:nvPr/>
          </p:nvSpPr>
          <p:spPr>
            <a:xfrm>
              <a:off x="1600200" y="25146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Text Box 16"/>
            <p:cNvSpPr/>
            <p:nvPr/>
          </p:nvSpPr>
          <p:spPr>
            <a:xfrm>
              <a:off x="2340000" y="22050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Text Box 17"/>
            <p:cNvSpPr/>
            <p:nvPr/>
          </p:nvSpPr>
          <p:spPr>
            <a:xfrm>
              <a:off x="1979640" y="14842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Text Box 18"/>
            <p:cNvSpPr/>
            <p:nvPr/>
          </p:nvSpPr>
          <p:spPr>
            <a:xfrm>
              <a:off x="4572000" y="24382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Text Box 19"/>
            <p:cNvSpPr/>
            <p:nvPr/>
          </p:nvSpPr>
          <p:spPr>
            <a:xfrm>
              <a:off x="5486400" y="20574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Text Box 20"/>
            <p:cNvSpPr/>
            <p:nvPr/>
          </p:nvSpPr>
          <p:spPr>
            <a:xfrm>
              <a:off x="5334120" y="13716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Text Box 21"/>
            <p:cNvSpPr/>
            <p:nvPr/>
          </p:nvSpPr>
          <p:spPr>
            <a:xfrm>
              <a:off x="8001000" y="11430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Text Box 22"/>
            <p:cNvSpPr/>
            <p:nvPr/>
          </p:nvSpPr>
          <p:spPr>
            <a:xfrm>
              <a:off x="7391520" y="18288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0" name="Group 23"/>
          <p:cNvGrpSpPr/>
          <p:nvPr/>
        </p:nvGrpSpPr>
        <p:grpSpPr>
          <a:xfrm>
            <a:off x="457200" y="3352680"/>
            <a:ext cx="7315200" cy="2744280"/>
            <a:chOff x="457200" y="3352680"/>
            <a:chExt cx="7315200" cy="2744280"/>
          </a:xfrm>
        </p:grpSpPr>
        <p:sp>
          <p:nvSpPr>
            <p:cNvPr id="4711" name="Text Box 24"/>
            <p:cNvSpPr/>
            <p:nvPr/>
          </p:nvSpPr>
          <p:spPr>
            <a:xfrm>
              <a:off x="457200" y="3352680"/>
              <a:ext cx="365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长方体表面积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=</a:t>
              </a:r>
              <a:r>
                <a:rPr b="1" lang="zh-CN" sz="3600" spc="-1" strike="noStrike" u="sng">
                  <a:solidFill>
                    <a:srgbClr val="3333cc"/>
                  </a:solidFill>
                  <a:uFillTx/>
                  <a:latin typeface="Times New Roman"/>
                  <a:ea typeface="华文中宋"/>
                </a:rPr>
                <a:t>                    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Text Box 25"/>
            <p:cNvSpPr/>
            <p:nvPr/>
          </p:nvSpPr>
          <p:spPr>
            <a:xfrm>
              <a:off x="457200" y="408276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正方体表面积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Text Box 26"/>
            <p:cNvSpPr/>
            <p:nvPr/>
          </p:nvSpPr>
          <p:spPr>
            <a:xfrm>
              <a:off x="457200" y="47685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圆柱侧面积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Text Box 27"/>
            <p:cNvSpPr/>
            <p:nvPr/>
          </p:nvSpPr>
          <p:spPr>
            <a:xfrm>
              <a:off x="457200" y="54543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圆柱表面积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华文中宋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Line 28"/>
            <p:cNvSpPr/>
            <p:nvPr/>
          </p:nvSpPr>
          <p:spPr>
            <a:xfrm>
              <a:off x="3733920" y="3962160"/>
              <a:ext cx="4038480" cy="0"/>
            </a:xfrm>
            <a:prstGeom prst="line">
              <a:avLst/>
            </a:prstGeom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Line 29"/>
            <p:cNvSpPr/>
            <p:nvPr/>
          </p:nvSpPr>
          <p:spPr>
            <a:xfrm>
              <a:off x="3733920" y="4724280"/>
              <a:ext cx="4038480" cy="0"/>
            </a:xfrm>
            <a:prstGeom prst="line">
              <a:avLst/>
            </a:prstGeom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Line 30"/>
            <p:cNvSpPr/>
            <p:nvPr/>
          </p:nvSpPr>
          <p:spPr>
            <a:xfrm>
              <a:off x="3733920" y="5410080"/>
              <a:ext cx="4038480" cy="0"/>
            </a:xfrm>
            <a:prstGeom prst="line">
              <a:avLst/>
            </a:prstGeom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Line 31"/>
            <p:cNvSpPr/>
            <p:nvPr/>
          </p:nvSpPr>
          <p:spPr>
            <a:xfrm>
              <a:off x="3733920" y="6095880"/>
              <a:ext cx="4038480" cy="0"/>
            </a:xfrm>
            <a:prstGeom prst="line">
              <a:avLst/>
            </a:prstGeom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9" name="Text Box 32"/>
          <p:cNvSpPr/>
          <p:nvPr/>
        </p:nvSpPr>
        <p:spPr>
          <a:xfrm>
            <a:off x="3809880" y="31240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a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Text Box 33"/>
          <p:cNvSpPr/>
          <p:nvPr/>
        </p:nvSpPr>
        <p:spPr>
          <a:xfrm>
            <a:off x="3886200" y="38862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Text Box 34"/>
          <p:cNvSpPr/>
          <p:nvPr/>
        </p:nvSpPr>
        <p:spPr>
          <a:xfrm>
            <a:off x="3809880" y="4572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Times New Roman"/>
              </a:rPr>
              <a:t>2л</a:t>
            </a:r>
            <a:r>
              <a:rPr b="1" i="1" lang="zh-CN" sz="5400" spc="-1" strike="noStrike">
                <a:solidFill>
                  <a:srgbClr val="cc9900"/>
                </a:solidFill>
                <a:latin typeface="Times New Roman"/>
              </a:rPr>
              <a:t>r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Text Box 35"/>
          <p:cNvSpPr/>
          <p:nvPr/>
        </p:nvSpPr>
        <p:spPr>
          <a:xfrm>
            <a:off x="3886200" y="52578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Times New Roman"/>
              </a:rPr>
              <a:t>2л</a:t>
            </a:r>
            <a:r>
              <a:rPr b="1" i="1" lang="zh-CN" sz="5400" spc="-1" strike="noStrike">
                <a:solidFill>
                  <a:srgbClr val="cc9900"/>
                </a:solidFill>
                <a:latin typeface="Times New Roman"/>
              </a:rPr>
              <a:t>r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 2л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Text Box 36"/>
          <p:cNvSpPr/>
          <p:nvPr/>
        </p:nvSpPr>
        <p:spPr>
          <a:xfrm>
            <a:off x="4572000" y="3916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Text Box 37"/>
          <p:cNvSpPr/>
          <p:nvPr/>
        </p:nvSpPr>
        <p:spPr>
          <a:xfrm>
            <a:off x="70102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Line 38"/>
          <p:cNvSpPr/>
          <p:nvPr/>
        </p:nvSpPr>
        <p:spPr>
          <a:xfrm>
            <a:off x="1692360" y="836640"/>
            <a:ext cx="0" cy="15843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Line 39"/>
          <p:cNvSpPr/>
          <p:nvPr/>
        </p:nvSpPr>
        <p:spPr>
          <a:xfrm>
            <a:off x="1692360" y="2421000"/>
            <a:ext cx="86364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Line 40"/>
          <p:cNvSpPr/>
          <p:nvPr/>
        </p:nvSpPr>
        <p:spPr>
          <a:xfrm flipH="1">
            <a:off x="1402920" y="2421000"/>
            <a:ext cx="289080" cy="287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enter2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4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Oval 2"/>
          <p:cNvSpPr/>
          <p:nvPr/>
        </p:nvSpPr>
        <p:spPr>
          <a:xfrm>
            <a:off x="7238880" y="1676520"/>
            <a:ext cx="129564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Oval 3"/>
          <p:cNvSpPr/>
          <p:nvPr/>
        </p:nvSpPr>
        <p:spPr>
          <a:xfrm>
            <a:off x="5638680" y="1600200"/>
            <a:ext cx="1295640" cy="6094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AutoShape 4"/>
          <p:cNvSpPr/>
          <p:nvPr/>
        </p:nvSpPr>
        <p:spPr>
          <a:xfrm>
            <a:off x="3200400" y="1676520"/>
            <a:ext cx="1828800" cy="380880"/>
          </a:xfrm>
          <a:prstGeom prst="parallelogram">
            <a:avLst>
              <a:gd name="adj" fmla="val 103788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1" name="Group 5"/>
          <p:cNvGrpSpPr/>
          <p:nvPr/>
        </p:nvGrpSpPr>
        <p:grpSpPr>
          <a:xfrm>
            <a:off x="457200" y="685800"/>
            <a:ext cx="2286000" cy="1295280"/>
            <a:chOff x="457200" y="685800"/>
            <a:chExt cx="2286000" cy="1295280"/>
          </a:xfrm>
        </p:grpSpPr>
        <p:sp>
          <p:nvSpPr>
            <p:cNvPr id="4732" name="AutoShape 6"/>
            <p:cNvSpPr/>
            <p:nvPr/>
          </p:nvSpPr>
          <p:spPr>
            <a:xfrm>
              <a:off x="457200" y="1447920"/>
              <a:ext cx="2286000" cy="533160"/>
            </a:xfrm>
            <a:prstGeom prst="parallelogram">
              <a:avLst>
                <a:gd name="adj" fmla="val 102010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AutoShape 7"/>
            <p:cNvSpPr/>
            <p:nvPr/>
          </p:nvSpPr>
          <p:spPr>
            <a:xfrm>
              <a:off x="457200" y="685800"/>
              <a:ext cx="2286000" cy="1295280"/>
            </a:xfrm>
            <a:prstGeom prst="cube">
              <a:avLst>
                <a:gd name="adj" fmla="val 4221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4" name="Group 8"/>
            <p:cNvGrpSpPr/>
            <p:nvPr/>
          </p:nvGrpSpPr>
          <p:grpSpPr>
            <a:xfrm>
              <a:off x="457200" y="685800"/>
              <a:ext cx="2285640" cy="1294920"/>
              <a:chOff x="457200" y="685800"/>
              <a:chExt cx="2285640" cy="1294920"/>
            </a:xfrm>
          </p:grpSpPr>
          <p:sp>
            <p:nvSpPr>
              <p:cNvPr id="4735" name="Line 9"/>
              <p:cNvSpPr/>
              <p:nvPr/>
            </p:nvSpPr>
            <p:spPr>
              <a:xfrm>
                <a:off x="1066680" y="685800"/>
                <a:ext cx="0" cy="762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Line 10"/>
              <p:cNvSpPr/>
              <p:nvPr/>
            </p:nvSpPr>
            <p:spPr>
              <a:xfrm flipH="1">
                <a:off x="1066320" y="1447920"/>
                <a:ext cx="16765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Line 11"/>
              <p:cNvSpPr/>
              <p:nvPr/>
            </p:nvSpPr>
            <p:spPr>
              <a:xfrm flipV="1">
                <a:off x="457200" y="1447560"/>
                <a:ext cx="60948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8" name="AutoShape 12"/>
          <p:cNvSpPr/>
          <p:nvPr/>
        </p:nvSpPr>
        <p:spPr>
          <a:xfrm>
            <a:off x="3200400" y="533520"/>
            <a:ext cx="1752480" cy="1523880"/>
          </a:xfrm>
          <a:prstGeom prst="cube">
            <a:avLst>
              <a:gd name="adj" fmla="val 25000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9" name="Group 13"/>
          <p:cNvGrpSpPr/>
          <p:nvPr/>
        </p:nvGrpSpPr>
        <p:grpSpPr>
          <a:xfrm>
            <a:off x="3200400" y="533520"/>
            <a:ext cx="1752480" cy="1523880"/>
            <a:chOff x="3200400" y="533520"/>
            <a:chExt cx="1752480" cy="1523880"/>
          </a:xfrm>
        </p:grpSpPr>
        <p:sp>
          <p:nvSpPr>
            <p:cNvPr id="4740" name="Line 14"/>
            <p:cNvSpPr/>
            <p:nvPr/>
          </p:nvSpPr>
          <p:spPr>
            <a:xfrm>
              <a:off x="3657600" y="53352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Line 15"/>
            <p:cNvSpPr/>
            <p:nvPr/>
          </p:nvSpPr>
          <p:spPr>
            <a:xfrm flipH="1">
              <a:off x="3657600" y="167652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Line 16"/>
            <p:cNvSpPr/>
            <p:nvPr/>
          </p:nvSpPr>
          <p:spPr>
            <a:xfrm flipV="1">
              <a:off x="3200400" y="1676520"/>
              <a:ext cx="457200" cy="3808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3" name="AutoShape 17"/>
          <p:cNvSpPr/>
          <p:nvPr/>
        </p:nvSpPr>
        <p:spPr>
          <a:xfrm>
            <a:off x="5638680" y="304920"/>
            <a:ext cx="1295640" cy="18288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未知"/>
          <p:cNvSpPr/>
          <p:nvPr/>
        </p:nvSpPr>
        <p:spPr>
          <a:xfrm>
            <a:off x="5638680" y="1600200"/>
            <a:ext cx="1295640" cy="380880"/>
          </a:xfrm>
          <a:custGeom>
            <a:avLst/>
            <a:gdLst>
              <a:gd name="textAreaLeft" fmla="*/ 0 w 1295640"/>
              <a:gd name="textAreaRight" fmla="*/ 1295640 w 1295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799" h="222">
                <a:moveTo>
                  <a:pt x="0" y="196"/>
                </a:moveTo>
                <a:cubicBezTo>
                  <a:pt x="56" y="142"/>
                  <a:pt x="79" y="91"/>
                  <a:pt x="158" y="65"/>
                </a:cubicBezTo>
                <a:cubicBezTo>
                  <a:pt x="221" y="23"/>
                  <a:pt x="281" y="12"/>
                  <a:pt x="354" y="0"/>
                </a:cubicBezTo>
                <a:cubicBezTo>
                  <a:pt x="429" y="11"/>
                  <a:pt x="492" y="28"/>
                  <a:pt x="563" y="52"/>
                </a:cubicBezTo>
                <a:cubicBezTo>
                  <a:pt x="612" y="68"/>
                  <a:pt x="653" y="69"/>
                  <a:pt x="694" y="104"/>
                </a:cubicBezTo>
                <a:cubicBezTo>
                  <a:pt x="737" y="141"/>
                  <a:pt x="760" y="183"/>
                  <a:pt x="799" y="222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5" name="Group 19"/>
          <p:cNvGrpSpPr/>
          <p:nvPr/>
        </p:nvGrpSpPr>
        <p:grpSpPr>
          <a:xfrm>
            <a:off x="0" y="2438280"/>
            <a:ext cx="8686800" cy="839520"/>
            <a:chOff x="0" y="2438280"/>
            <a:chExt cx="8686800" cy="839520"/>
          </a:xfrm>
        </p:grpSpPr>
        <p:sp>
          <p:nvSpPr>
            <p:cNvPr id="4746" name="Text Box 20"/>
            <p:cNvSpPr/>
            <p:nvPr/>
          </p:nvSpPr>
          <p:spPr>
            <a:xfrm>
              <a:off x="0" y="24526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V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Text Box 21"/>
            <p:cNvSpPr/>
            <p:nvPr/>
          </p:nvSpPr>
          <p:spPr>
            <a:xfrm>
              <a:off x="2133720" y="2438280"/>
              <a:ext cx="1218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V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Text Box 22"/>
            <p:cNvSpPr/>
            <p:nvPr/>
          </p:nvSpPr>
          <p:spPr>
            <a:xfrm>
              <a:off x="4495680" y="24382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V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Text Box 23"/>
            <p:cNvSpPr/>
            <p:nvPr/>
          </p:nvSpPr>
          <p:spPr>
            <a:xfrm>
              <a:off x="6553080" y="24382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V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Line 24"/>
            <p:cNvSpPr/>
            <p:nvPr/>
          </p:nvSpPr>
          <p:spPr>
            <a:xfrm>
              <a:off x="838080" y="3200400"/>
              <a:ext cx="12193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Line 25"/>
            <p:cNvSpPr/>
            <p:nvPr/>
          </p:nvSpPr>
          <p:spPr>
            <a:xfrm>
              <a:off x="3276720" y="3200400"/>
              <a:ext cx="121896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Line 26"/>
            <p:cNvSpPr/>
            <p:nvPr/>
          </p:nvSpPr>
          <p:spPr>
            <a:xfrm>
              <a:off x="5486400" y="3200400"/>
              <a:ext cx="12193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Line 27"/>
            <p:cNvSpPr/>
            <p:nvPr/>
          </p:nvSpPr>
          <p:spPr>
            <a:xfrm>
              <a:off x="7467480" y="3200400"/>
              <a:ext cx="12193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4" name="Text Box 28"/>
          <p:cNvSpPr/>
          <p:nvPr/>
        </p:nvSpPr>
        <p:spPr>
          <a:xfrm>
            <a:off x="838080" y="23623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ab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29"/>
          <p:cNvSpPr/>
          <p:nvPr/>
        </p:nvSpPr>
        <p:spPr>
          <a:xfrm>
            <a:off x="3200400" y="2178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30"/>
          <p:cNvSpPr/>
          <p:nvPr/>
        </p:nvSpPr>
        <p:spPr>
          <a:xfrm>
            <a:off x="3657600" y="22543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31"/>
          <p:cNvSpPr/>
          <p:nvPr/>
        </p:nvSpPr>
        <p:spPr>
          <a:xfrm>
            <a:off x="5508720" y="234936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8" name="Group 32"/>
          <p:cNvGrpSpPr/>
          <p:nvPr/>
        </p:nvGrpSpPr>
        <p:grpSpPr>
          <a:xfrm>
            <a:off x="7467480" y="2209680"/>
            <a:ext cx="609480" cy="1068120"/>
            <a:chOff x="7467480" y="2209680"/>
            <a:chExt cx="609480" cy="1068120"/>
          </a:xfrm>
        </p:grpSpPr>
        <p:sp>
          <p:nvSpPr>
            <p:cNvPr id="4759" name="Text Box 33"/>
            <p:cNvSpPr/>
            <p:nvPr/>
          </p:nvSpPr>
          <p:spPr>
            <a:xfrm>
              <a:off x="7554600" y="220968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34"/>
            <p:cNvSpPr/>
            <p:nvPr/>
          </p:nvSpPr>
          <p:spPr>
            <a:xfrm>
              <a:off x="746748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Text Box 35"/>
            <p:cNvSpPr/>
            <p:nvPr/>
          </p:nvSpPr>
          <p:spPr>
            <a:xfrm>
              <a:off x="7554600" y="2635200"/>
              <a:ext cx="3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2" name="Text Box 36"/>
          <p:cNvSpPr/>
          <p:nvPr/>
        </p:nvSpPr>
        <p:spPr>
          <a:xfrm>
            <a:off x="79246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AutoShape 37"/>
          <p:cNvSpPr/>
          <p:nvPr/>
        </p:nvSpPr>
        <p:spPr>
          <a:xfrm rot="5323800">
            <a:off x="3429000" y="838080"/>
            <a:ext cx="457200" cy="5486400"/>
          </a:xfrm>
          <a:custGeom>
            <a:avLst/>
            <a:gdLst>
              <a:gd name="textAreaLeft" fmla="*/ 0 w 457200"/>
              <a:gd name="textAreaRight" fmla="*/ 16488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38"/>
          <p:cNvSpPr/>
          <p:nvPr/>
        </p:nvSpPr>
        <p:spPr>
          <a:xfrm>
            <a:off x="2743200" y="35812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V =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5" name="Picture 39" descr="0224"/>
          <p:cNvPicPr/>
          <p:nvPr/>
        </p:nvPicPr>
        <p:blipFill>
          <a:blip r:embed="rId1"/>
          <a:stretch/>
        </p:blipFill>
        <p:spPr>
          <a:xfrm>
            <a:off x="1066680" y="5400720"/>
            <a:ext cx="335304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66" name="Group 40"/>
          <p:cNvGrpSpPr/>
          <p:nvPr/>
        </p:nvGrpSpPr>
        <p:grpSpPr>
          <a:xfrm>
            <a:off x="2057400" y="4419720"/>
            <a:ext cx="6095880" cy="1176120"/>
            <a:chOff x="2057400" y="4419720"/>
            <a:chExt cx="6095880" cy="1176120"/>
          </a:xfrm>
        </p:grpSpPr>
        <p:sp>
          <p:nvSpPr>
            <p:cNvPr id="4767" name="AutoShape 41"/>
            <p:cNvSpPr/>
            <p:nvPr/>
          </p:nvSpPr>
          <p:spPr>
            <a:xfrm>
              <a:off x="2057400" y="4419720"/>
              <a:ext cx="6095880" cy="1176120"/>
            </a:xfrm>
            <a:prstGeom prst="cloudCallout">
              <a:avLst>
                <a:gd name="adj1" fmla="val -42500"/>
                <a:gd name="adj2" fmla="val 59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42"/>
            <p:cNvSpPr/>
            <p:nvPr/>
          </p:nvSpPr>
          <p:spPr>
            <a:xfrm>
              <a:off x="2819520" y="4493880"/>
              <a:ext cx="510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正方体、长方体和圆柱有什么相似的地方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Group 43"/>
          <p:cNvGrpSpPr/>
          <p:nvPr/>
        </p:nvGrpSpPr>
        <p:grpSpPr>
          <a:xfrm>
            <a:off x="7238520" y="457200"/>
            <a:ext cx="1295640" cy="1676520"/>
            <a:chOff x="7238520" y="457200"/>
            <a:chExt cx="1295640" cy="1676520"/>
          </a:xfrm>
        </p:grpSpPr>
        <p:sp>
          <p:nvSpPr>
            <p:cNvPr id="4770" name="Oval 44"/>
            <p:cNvSpPr/>
            <p:nvPr/>
          </p:nvSpPr>
          <p:spPr>
            <a:xfrm>
              <a:off x="7238880" y="1600200"/>
              <a:ext cx="1295280" cy="533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1" name="Group 45"/>
            <p:cNvGrpSpPr/>
            <p:nvPr/>
          </p:nvGrpSpPr>
          <p:grpSpPr>
            <a:xfrm>
              <a:off x="7238520" y="457200"/>
              <a:ext cx="1295640" cy="1447920"/>
              <a:chOff x="7238520" y="457200"/>
              <a:chExt cx="1295640" cy="1447920"/>
            </a:xfrm>
          </p:grpSpPr>
          <p:grpSp>
            <p:nvGrpSpPr>
              <p:cNvPr id="4772" name="Group 46"/>
              <p:cNvGrpSpPr/>
              <p:nvPr/>
            </p:nvGrpSpPr>
            <p:grpSpPr>
              <a:xfrm>
                <a:off x="7238520" y="457200"/>
                <a:ext cx="1295640" cy="1447920"/>
                <a:chOff x="7238520" y="457200"/>
                <a:chExt cx="1295640" cy="1447920"/>
              </a:xfrm>
            </p:grpSpPr>
            <p:sp>
              <p:nvSpPr>
                <p:cNvPr id="4773" name="Line 47"/>
                <p:cNvSpPr/>
                <p:nvPr/>
              </p:nvSpPr>
              <p:spPr>
                <a:xfrm flipH="1">
                  <a:off x="7238520" y="457200"/>
                  <a:ext cx="685800" cy="1447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4" name="Line 48"/>
                <p:cNvSpPr/>
                <p:nvPr/>
              </p:nvSpPr>
              <p:spPr>
                <a:xfrm>
                  <a:off x="7924680" y="457200"/>
                  <a:ext cx="609480" cy="1447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5" name="Line 49"/>
              <p:cNvSpPr/>
              <p:nvPr/>
            </p:nvSpPr>
            <p:spPr>
              <a:xfrm>
                <a:off x="7924680" y="457200"/>
                <a:ext cx="0" cy="1447920"/>
              </a:xfrm>
              <a:prstGeom prst="line">
                <a:avLst/>
              </a:prstGeom>
              <a:ln w="22320">
                <a:solidFill>
                  <a:srgbClr val="ff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6" name="Group 50"/>
          <p:cNvGrpSpPr/>
          <p:nvPr/>
        </p:nvGrpSpPr>
        <p:grpSpPr>
          <a:xfrm>
            <a:off x="1219320" y="852480"/>
            <a:ext cx="7086600" cy="1725120"/>
            <a:chOff x="1219320" y="852480"/>
            <a:chExt cx="7086600" cy="1725120"/>
          </a:xfrm>
        </p:grpSpPr>
        <p:sp>
          <p:nvSpPr>
            <p:cNvPr id="4777" name="Text Box 51"/>
            <p:cNvSpPr/>
            <p:nvPr/>
          </p:nvSpPr>
          <p:spPr>
            <a:xfrm>
              <a:off x="1752840" y="12193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Text Box 52"/>
            <p:cNvSpPr/>
            <p:nvPr/>
          </p:nvSpPr>
          <p:spPr>
            <a:xfrm>
              <a:off x="1219320" y="16765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Text Box 53"/>
            <p:cNvSpPr/>
            <p:nvPr/>
          </p:nvSpPr>
          <p:spPr>
            <a:xfrm>
              <a:off x="2438640" y="1371600"/>
              <a:ext cx="99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Text Box 54"/>
            <p:cNvSpPr/>
            <p:nvPr/>
          </p:nvSpPr>
          <p:spPr>
            <a:xfrm>
              <a:off x="4496040" y="8524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Text Box 55"/>
            <p:cNvSpPr/>
            <p:nvPr/>
          </p:nvSpPr>
          <p:spPr>
            <a:xfrm>
              <a:off x="4724640" y="14479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Text Box 56"/>
            <p:cNvSpPr/>
            <p:nvPr/>
          </p:nvSpPr>
          <p:spPr>
            <a:xfrm>
              <a:off x="3733920" y="17524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Text Box 57"/>
            <p:cNvSpPr/>
            <p:nvPr/>
          </p:nvSpPr>
          <p:spPr>
            <a:xfrm>
              <a:off x="6096240" y="144792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Text Box 58"/>
            <p:cNvSpPr/>
            <p:nvPr/>
          </p:nvSpPr>
          <p:spPr>
            <a:xfrm>
              <a:off x="6934320" y="914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Text Box 59"/>
            <p:cNvSpPr/>
            <p:nvPr/>
          </p:nvSpPr>
          <p:spPr>
            <a:xfrm>
              <a:off x="7543800" y="13716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Text Box 60"/>
            <p:cNvSpPr/>
            <p:nvPr/>
          </p:nvSpPr>
          <p:spPr>
            <a:xfrm>
              <a:off x="7848720" y="9748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2" name="enter2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4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4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Text Box 4"/>
          <p:cNvSpPr/>
          <p:nvPr/>
        </p:nvSpPr>
        <p:spPr>
          <a:xfrm>
            <a:off x="0" y="11592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造一个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、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、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游泳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要挖出多少立方米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沿着游泳池走一圈，至少有走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如果在游泳池的四壁和底面贴上边长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的正方形瓷砖，那么需要多少块这样的瓷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Text Box 5"/>
          <p:cNvSpPr/>
          <p:nvPr/>
        </p:nvSpPr>
        <p:spPr>
          <a:xfrm>
            <a:off x="108000" y="4365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Text Box 6"/>
          <p:cNvSpPr/>
          <p:nvPr/>
        </p:nvSpPr>
        <p:spPr>
          <a:xfrm>
            <a:off x="1763640" y="4494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求挖出多少土也就是求这个游泳池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Text Box 7"/>
          <p:cNvSpPr/>
          <p:nvPr/>
        </p:nvSpPr>
        <p:spPr>
          <a:xfrm>
            <a:off x="2195640" y="5229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×25×3=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立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Text Box 8"/>
          <p:cNvSpPr/>
          <p:nvPr/>
        </p:nvSpPr>
        <p:spPr>
          <a:xfrm>
            <a:off x="2050920" y="6021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要挖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米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Text Box 4"/>
          <p:cNvSpPr/>
          <p:nvPr/>
        </p:nvSpPr>
        <p:spPr>
          <a:xfrm>
            <a:off x="34920" y="1126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Text Box 5"/>
          <p:cNvSpPr/>
          <p:nvPr/>
        </p:nvSpPr>
        <p:spPr>
          <a:xfrm>
            <a:off x="971640" y="6890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沿游泳池走一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是求游泳池底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Text Box 6"/>
          <p:cNvSpPr/>
          <p:nvPr/>
        </p:nvSpPr>
        <p:spPr>
          <a:xfrm>
            <a:off x="2052720" y="14079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+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2=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Text Box 7"/>
          <p:cNvSpPr/>
          <p:nvPr/>
        </p:nvSpPr>
        <p:spPr>
          <a:xfrm>
            <a:off x="2268360" y="21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至少要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Text Box 8"/>
          <p:cNvSpPr/>
          <p:nvPr/>
        </p:nvSpPr>
        <p:spPr>
          <a:xfrm>
            <a:off x="108000" y="2708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Text Box 9"/>
          <p:cNvSpPr/>
          <p:nvPr/>
        </p:nvSpPr>
        <p:spPr>
          <a:xfrm>
            <a:off x="611280" y="2708280"/>
            <a:ext cx="82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池的四壁和底面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×3×2+25×3×2+40×25=13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Text Box 10"/>
          <p:cNvSpPr/>
          <p:nvPr/>
        </p:nvSpPr>
        <p:spPr>
          <a:xfrm>
            <a:off x="826920" y="4005360"/>
            <a:ext cx="813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块瓷砖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×2=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分米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.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Text Box 11"/>
          <p:cNvSpPr/>
          <p:nvPr/>
        </p:nvSpPr>
        <p:spPr>
          <a:xfrm>
            <a:off x="2197080" y="53737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90÷0.04=347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Text Box 12"/>
          <p:cNvSpPr/>
          <p:nvPr/>
        </p:nvSpPr>
        <p:spPr>
          <a:xfrm>
            <a:off x="1619280" y="6021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7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块这样的瓷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500"/>
                                        <p:tgtEl>
                                          <p:spTgt spid="4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4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500"/>
                                        <p:tgtEl>
                                          <p:spTgt spid="4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Text Box 4"/>
          <p:cNvSpPr/>
          <p:nvPr/>
        </p:nvSpPr>
        <p:spPr>
          <a:xfrm>
            <a:off x="250920" y="115920"/>
            <a:ext cx="871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立方体的棱长之和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它的表面积是（     ）平方厘米，体积是（     ）立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底面是正方形的长方体，底面周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高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它的表面积是（        ）平方厘米，体积是（        ）立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圆柱的底面直径和高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它的侧面积是（        ）平方厘米，表面积是（        ）平方厘米，体积是（        ）立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把一段圆柱形木头削成一个最大的圆锥，削去部分的体积是圆柱体积的（      ），是圆锥体积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Text Box 5"/>
          <p:cNvSpPr/>
          <p:nvPr/>
        </p:nvSpPr>
        <p:spPr>
          <a:xfrm>
            <a:off x="682560" y="1268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Text Box 6"/>
          <p:cNvSpPr/>
          <p:nvPr/>
        </p:nvSpPr>
        <p:spPr>
          <a:xfrm>
            <a:off x="4716360" y="1268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Text Box 7"/>
          <p:cNvSpPr/>
          <p:nvPr/>
        </p:nvSpPr>
        <p:spPr>
          <a:xfrm>
            <a:off x="4994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Text Box 8"/>
          <p:cNvSpPr/>
          <p:nvPr/>
        </p:nvSpPr>
        <p:spPr>
          <a:xfrm>
            <a:off x="1071720" y="29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Text Box 9"/>
          <p:cNvSpPr/>
          <p:nvPr/>
        </p:nvSpPr>
        <p:spPr>
          <a:xfrm>
            <a:off x="1405080" y="405288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Text Box 10"/>
          <p:cNvSpPr/>
          <p:nvPr/>
        </p:nvSpPr>
        <p:spPr>
          <a:xfrm>
            <a:off x="6012000" y="406224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Text Box 11"/>
          <p:cNvSpPr/>
          <p:nvPr/>
        </p:nvSpPr>
        <p:spPr>
          <a:xfrm>
            <a:off x="1785960" y="4508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Text Box 12"/>
          <p:cNvSpPr/>
          <p:nvPr/>
        </p:nvSpPr>
        <p:spPr>
          <a:xfrm>
            <a:off x="611280" y="6149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1" name="Object 13"/>
              <p:cNvSpPr txBox="1"/>
              <p:nvPr/>
            </p:nvSpPr>
            <p:spPr>
              <a:xfrm>
                <a:off x="4403880" y="5514840"/>
                <a:ext cx="312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23:49Z</dcterms:created>
  <dc:creator/>
  <dc:description/>
  <dc:language>en-US</dc:language>
  <cp:lastModifiedBy/>
  <dcterms:modified xsi:type="dcterms:W3CDTF">2015-04-08T12:23:57Z</dcterms:modified>
  <cp:revision>1</cp:revision>
  <dc:subject/>
  <dc:title/>
</cp:coreProperties>
</file>