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png" ContentType="image/png"/>
  <Override PartName="/ppt/media/image15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730-F19B-40DF-B359-22AEF565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ED9-5D05-4D25-9D27-8873B53C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69F-A2A1-401B-B11A-984BF1F7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4C3-AE1F-4667-8FD3-1D618150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6B5-16B1-47FB-9449-244169EC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EA7-92BE-4EC3-B993-3C317D4B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F28-0219-4A46-A37F-B89DE0C3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B50-5B43-41AA-8D2C-BDD2C7F2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43D-C43D-4876-85E7-8ECB29BF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662-4236-485A-8764-3F85E43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C95-ABE0-40F9-AD0D-3BA95B2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991-C5B4-4DCA-BB4B-90A03F2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0B2E-F4D7-4A37-B08B-7D9BD18D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21.jpg"/>
          <p:cNvPicPr/>
          <p:nvPr/>
        </p:nvPicPr>
        <p:blipFill>
          <a:blip r:embed="rId1"/>
          <a:stretch/>
        </p:blipFill>
        <p:spPr>
          <a:xfrm>
            <a:off x="0" y="0"/>
            <a:ext cx="5929200" cy="43988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27.jpg"/>
          <p:cNvPicPr/>
          <p:nvPr/>
        </p:nvPicPr>
        <p:blipFill>
          <a:blip r:embed="rId2"/>
          <a:stretch/>
        </p:blipFill>
        <p:spPr>
          <a:xfrm>
            <a:off x="3071880" y="2214720"/>
            <a:ext cx="5786280" cy="4286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29b1OOOPIC90.jpg"/>
          <p:cNvPicPr/>
          <p:nvPr/>
        </p:nvPicPr>
        <p:blipFill>
          <a:blip r:embed="rId3"/>
          <a:stretch/>
        </p:blipFill>
        <p:spPr>
          <a:xfrm>
            <a:off x="5857920" y="0"/>
            <a:ext cx="3071880" cy="23018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235113-1403260GI489.jpg"/>
          <p:cNvPicPr/>
          <p:nvPr/>
        </p:nvPicPr>
        <p:blipFill>
          <a:blip r:embed="rId4"/>
          <a:stretch/>
        </p:blipFill>
        <p:spPr>
          <a:xfrm>
            <a:off x="0" y="4143240"/>
            <a:ext cx="39290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357120" y="7128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从景区入口到山顶可以走石阶路，也可以乘缆车。据统计，景区某日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游客乘坐缆车，比走路得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人。这天景区的游客共有多少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1571760" y="3286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28920" y="328608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设这天景区的游客共有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286000" y="400068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-60%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286160" y="464328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214960" y="52894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428840" y="592920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这天景区的游客共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14200" y="13320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缆车从上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:3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至下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: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分钟一趟。每天有多少趟缆车离开景区入口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642960" y="3568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28760" y="1928880"/>
            <a:ext cx="50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从上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:3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到下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:0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之间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个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钟，上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:3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是第一趟缆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571760" y="356868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+1=1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85840" y="44974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每天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趟缆车离开景区入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6" descr="59.jpg"/>
          <p:cNvPicPr/>
          <p:nvPr/>
        </p:nvPicPr>
        <p:blipFill>
          <a:blip r:embed="rId1"/>
          <a:stretch/>
        </p:blipFill>
        <p:spPr>
          <a:xfrm>
            <a:off x="5572080" y="1357200"/>
            <a:ext cx="31431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428760" y="21420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下面两幅图，哪一幅表示坐缆车上山？哪一幅表示走路上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643040" y="23335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10"/>
          <p:cNvSpPr/>
          <p:nvPr/>
        </p:nvSpPr>
        <p:spPr>
          <a:xfrm>
            <a:off x="3125880" y="3143160"/>
            <a:ext cx="2232000" cy="2060640"/>
          </a:xfrm>
          <a:custGeom>
            <a:avLst/>
            <a:gdLst/>
            <a:ahLst/>
            <a:rect l="l" t="t" r="r" b="b"/>
            <a:pathLst>
              <a:path w="2354580" h="2288540">
                <a:moveTo>
                  <a:pt x="0" y="2288540"/>
                </a:moveTo>
                <a:cubicBezTo>
                  <a:pt x="340360" y="1809750"/>
                  <a:pt x="680720" y="1330960"/>
                  <a:pt x="944880" y="1176020"/>
                </a:cubicBezTo>
                <a:cubicBezTo>
                  <a:pt x="1209040" y="1021080"/>
                  <a:pt x="1358900" y="1536700"/>
                  <a:pt x="1584960" y="1358900"/>
                </a:cubicBezTo>
                <a:cubicBezTo>
                  <a:pt x="1811020" y="1181100"/>
                  <a:pt x="2301240" y="109220"/>
                  <a:pt x="2301240" y="109220"/>
                </a:cubicBezTo>
                <a:lnTo>
                  <a:pt x="2301240" y="109220"/>
                </a:lnTo>
                <a:cubicBezTo>
                  <a:pt x="2308860" y="93980"/>
                  <a:pt x="2339340" y="35560"/>
                  <a:pt x="2346960" y="17780"/>
                </a:cubicBezTo>
                <a:cubicBezTo>
                  <a:pt x="2354580" y="0"/>
                  <a:pt x="2350770" y="1270"/>
                  <a:pt x="2346960" y="254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2"/>
          <p:cNvSpPr/>
          <p:nvPr/>
        </p:nvSpPr>
        <p:spPr>
          <a:xfrm flipH="1" flipV="1">
            <a:off x="3143160" y="3142800"/>
            <a:ext cx="221472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 flipH="1">
            <a:off x="5357880" y="3143160"/>
            <a:ext cx="1440" cy="2143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2214720" y="290520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36"/>
          <p:cNvGrpSpPr/>
          <p:nvPr/>
        </p:nvGrpSpPr>
        <p:grpSpPr>
          <a:xfrm>
            <a:off x="3142080" y="2617200"/>
            <a:ext cx="4145040" cy="2647080"/>
            <a:chOff x="3142080" y="2617200"/>
            <a:chExt cx="4145040" cy="2647080"/>
          </a:xfrm>
        </p:grpSpPr>
        <p:cxnSp>
          <p:nvCxnSpPr>
            <p:cNvPr id="139" name="直接箭头连接符 3"/>
            <p:cNvCxnSpPr/>
            <p:nvPr/>
          </p:nvCxnSpPr>
          <p:spPr>
            <a:xfrm flipV="1">
              <a:off x="3142080" y="2617200"/>
              <a:ext cx="1080" cy="264420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40" name="直接箭头连接符 7"/>
            <p:cNvCxnSpPr/>
            <p:nvPr/>
          </p:nvCxnSpPr>
          <p:spPr>
            <a:xfrm>
              <a:off x="3143160" y="5261400"/>
              <a:ext cx="41443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41" name="直接连接符 22"/>
            <p:cNvSpPr/>
            <p:nvPr/>
          </p:nvSpPr>
          <p:spPr>
            <a:xfrm flipV="1">
              <a:off x="5357880" y="512172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23"/>
            <p:cNvSpPr/>
            <p:nvPr/>
          </p:nvSpPr>
          <p:spPr>
            <a:xfrm flipV="1">
              <a:off x="4929120" y="511992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25"/>
            <p:cNvSpPr/>
            <p:nvPr/>
          </p:nvSpPr>
          <p:spPr>
            <a:xfrm flipV="1">
              <a:off x="4500360" y="511992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26"/>
            <p:cNvSpPr/>
            <p:nvPr/>
          </p:nvSpPr>
          <p:spPr>
            <a:xfrm flipV="1">
              <a:off x="4071960" y="511992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27"/>
            <p:cNvSpPr/>
            <p:nvPr/>
          </p:nvSpPr>
          <p:spPr>
            <a:xfrm flipV="1">
              <a:off x="3571560" y="511992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28"/>
          <p:cNvSpPr/>
          <p:nvPr/>
        </p:nvSpPr>
        <p:spPr>
          <a:xfrm>
            <a:off x="2857680" y="53118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9"/>
          <p:cNvSpPr/>
          <p:nvPr/>
        </p:nvSpPr>
        <p:spPr>
          <a:xfrm>
            <a:off x="3286080" y="53118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0"/>
          <p:cNvSpPr/>
          <p:nvPr/>
        </p:nvSpPr>
        <p:spPr>
          <a:xfrm>
            <a:off x="3786120" y="53118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1"/>
          <p:cNvSpPr/>
          <p:nvPr/>
        </p:nvSpPr>
        <p:spPr>
          <a:xfrm>
            <a:off x="4214880" y="53118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2"/>
          <p:cNvSpPr/>
          <p:nvPr/>
        </p:nvSpPr>
        <p:spPr>
          <a:xfrm>
            <a:off x="4643280" y="53118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3"/>
          <p:cNvSpPr/>
          <p:nvPr/>
        </p:nvSpPr>
        <p:spPr>
          <a:xfrm>
            <a:off x="5072040" y="53118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4"/>
          <p:cNvSpPr/>
          <p:nvPr/>
        </p:nvSpPr>
        <p:spPr>
          <a:xfrm>
            <a:off x="5786280" y="54054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"/>
          <p:cNvGrpSpPr/>
          <p:nvPr/>
        </p:nvGrpSpPr>
        <p:grpSpPr>
          <a:xfrm>
            <a:off x="3070800" y="498240"/>
            <a:ext cx="4143960" cy="2645280"/>
            <a:chOff x="3070800" y="498240"/>
            <a:chExt cx="4143960" cy="2645280"/>
          </a:xfrm>
        </p:grpSpPr>
        <p:cxnSp>
          <p:nvCxnSpPr>
            <p:cNvPr id="154" name="直接箭头连接符 2"/>
            <p:cNvCxnSpPr/>
            <p:nvPr/>
          </p:nvCxnSpPr>
          <p:spPr>
            <a:xfrm flipV="1">
              <a:off x="3070800" y="498240"/>
              <a:ext cx="1080" cy="264384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55" name="直接箭头连接符 3"/>
            <p:cNvCxnSpPr/>
            <p:nvPr/>
          </p:nvCxnSpPr>
          <p:spPr>
            <a:xfrm>
              <a:off x="3071520" y="3141720"/>
              <a:ext cx="41436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56" name="直接连接符 5"/>
            <p:cNvSpPr/>
            <p:nvPr/>
          </p:nvSpPr>
          <p:spPr>
            <a:xfrm flipV="1">
              <a:off x="4857840" y="3000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6"/>
            <p:cNvSpPr/>
            <p:nvPr/>
          </p:nvSpPr>
          <p:spPr>
            <a:xfrm flipV="1">
              <a:off x="4429080" y="3000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7"/>
            <p:cNvSpPr/>
            <p:nvPr/>
          </p:nvSpPr>
          <p:spPr>
            <a:xfrm flipV="1">
              <a:off x="4000320" y="3000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8"/>
            <p:cNvSpPr/>
            <p:nvPr/>
          </p:nvSpPr>
          <p:spPr>
            <a:xfrm flipV="1">
              <a:off x="3500280" y="3000600"/>
              <a:ext cx="1440" cy="142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9"/>
          <p:cNvSpPr/>
          <p:nvPr/>
        </p:nvSpPr>
        <p:spPr>
          <a:xfrm>
            <a:off x="1500120" y="214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1"/>
          <p:cNvSpPr/>
          <p:nvPr/>
        </p:nvSpPr>
        <p:spPr>
          <a:xfrm>
            <a:off x="3071880" y="1071720"/>
            <a:ext cx="9288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3"/>
          <p:cNvSpPr/>
          <p:nvPr/>
        </p:nvSpPr>
        <p:spPr>
          <a:xfrm flipH="1">
            <a:off x="3998520" y="1071720"/>
            <a:ext cx="1800" cy="207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2286000" y="7858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5"/>
          <p:cNvSpPr/>
          <p:nvPr/>
        </p:nvSpPr>
        <p:spPr>
          <a:xfrm>
            <a:off x="2786040" y="3097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3214800" y="3097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3714840" y="3097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4143240" y="3097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9"/>
          <p:cNvSpPr/>
          <p:nvPr/>
        </p:nvSpPr>
        <p:spPr>
          <a:xfrm>
            <a:off x="4572000" y="3097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5715000" y="319104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22"/>
          <p:cNvSpPr/>
          <p:nvPr/>
        </p:nvSpPr>
        <p:spPr>
          <a:xfrm flipV="1">
            <a:off x="3106080" y="1071720"/>
            <a:ext cx="893880" cy="2025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3"/>
          <p:cNvSpPr/>
          <p:nvPr/>
        </p:nvSpPr>
        <p:spPr>
          <a:xfrm>
            <a:off x="642960" y="3857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缆车的速度是一定的，所以图像应该是一条直线。走路的速度不一定，所以图像时一条曲线。所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一幅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走路上山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二幅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坐缆车上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428760" y="285840"/>
            <a:ext cx="82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缆车平均每分钟升高多少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571760" y="114300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速度一定时，高度和时间成正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000160" y="185724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解：设每分钟升高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2" descr=""/>
          <p:cNvPicPr/>
          <p:nvPr/>
        </p:nvPicPr>
        <p:blipFill>
          <a:blip r:embed="rId1"/>
          <a:stretch/>
        </p:blipFill>
        <p:spPr>
          <a:xfrm>
            <a:off x="4071960" y="2786040"/>
            <a:ext cx="1454040" cy="106380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3" descr=""/>
          <p:cNvPicPr/>
          <p:nvPr/>
        </p:nvPicPr>
        <p:blipFill>
          <a:blip r:embed="rId2"/>
          <a:stretch/>
        </p:blipFill>
        <p:spPr>
          <a:xfrm>
            <a:off x="4143240" y="4071960"/>
            <a:ext cx="1508400" cy="4474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1857240" y="47862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每分钟升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428760" y="160200"/>
            <a:ext cx="7643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篇文章原稿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，每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，每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字。这篇文章一共有多少个字？如果改排成每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字，每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，这篇文章要排多少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500120" y="248436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×24 ×2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4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个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428760" y="407196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答：这篇文章一共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4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字；这篇文章要排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1500120" y="317340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400÷28÷30=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页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612720" y="1182600"/>
            <a:ext cx="79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南宁到贵港的实际距离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千米，画在比例尺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:1000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图纸上，应画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68360" y="43545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图上距离：实际距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比例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319480" y="3492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</a:rPr>
              <a:t>千米</a:t>
            </a:r>
            <a:r>
              <a:rPr b="1" lang="en-US" sz="3200" spc="-1" strike="noStrike">
                <a:solidFill>
                  <a:srgbClr val="99cc00"/>
                </a:solidFill>
                <a:latin typeface="宋体"/>
              </a:rPr>
              <a:t>=</a:t>
            </a: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18000000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28800" y="5429160"/>
            <a:ext cx="78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也就是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图上距离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实际距离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比例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6"/>
          <p:cNvGrpSpPr/>
          <p:nvPr/>
        </p:nvGrpSpPr>
        <p:grpSpPr>
          <a:xfrm>
            <a:off x="1512720" y="2843280"/>
            <a:ext cx="7559640" cy="1157400"/>
            <a:chOff x="1512720" y="2843280"/>
            <a:chExt cx="7559640" cy="1157400"/>
          </a:xfrm>
        </p:grpSpPr>
        <p:sp>
          <p:nvSpPr>
            <p:cNvPr id="187" name="Text Box 4"/>
            <p:cNvSpPr/>
            <p:nvPr/>
          </p:nvSpPr>
          <p:spPr>
            <a:xfrm>
              <a:off x="1512720" y="3127320"/>
              <a:ext cx="75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8000000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×        =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（厘米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1"/>
            <a:stretch/>
          </p:blipFill>
          <p:spPr>
            <a:xfrm>
              <a:off x="3875040" y="2843280"/>
              <a:ext cx="1736640" cy="11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 Box 7"/>
          <p:cNvSpPr/>
          <p:nvPr/>
        </p:nvSpPr>
        <p:spPr>
          <a:xfrm>
            <a:off x="2476440" y="4716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应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642960" y="1996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矩形 1" descr=""/>
          <p:cNvPicPr/>
          <p:nvPr/>
        </p:nvPicPr>
        <p:blipFill>
          <a:blip r:embed="rId1"/>
          <a:stretch/>
        </p:blipFill>
        <p:spPr>
          <a:xfrm>
            <a:off x="3071880" y="2714760"/>
            <a:ext cx="28908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6"/>
          <p:cNvGrpSpPr/>
          <p:nvPr/>
        </p:nvGrpSpPr>
        <p:grpSpPr>
          <a:xfrm>
            <a:off x="1000080" y="2428920"/>
            <a:ext cx="6143760" cy="928800"/>
            <a:chOff x="1000080" y="2428920"/>
            <a:chExt cx="6143760" cy="928800"/>
          </a:xfrm>
        </p:grpSpPr>
        <p:sp>
          <p:nvSpPr>
            <p:cNvPr id="46" name="椭圆 4"/>
            <p:cNvSpPr/>
            <p:nvPr/>
          </p:nvSpPr>
          <p:spPr>
            <a:xfrm>
              <a:off x="1000080" y="2428920"/>
              <a:ext cx="928440" cy="9288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5"/>
            <p:cNvSpPr/>
            <p:nvPr/>
          </p:nvSpPr>
          <p:spPr>
            <a:xfrm>
              <a:off x="2000160" y="2500200"/>
              <a:ext cx="514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旅游中的数学问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4"/>
          <p:cNvSpPr/>
          <p:nvPr/>
        </p:nvSpPr>
        <p:spPr>
          <a:xfrm>
            <a:off x="1000080" y="41432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美丽的风景令人心生向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3"/>
          <p:cNvGrpSpPr/>
          <p:nvPr/>
        </p:nvGrpSpPr>
        <p:grpSpPr>
          <a:xfrm>
            <a:off x="0" y="65160"/>
            <a:ext cx="5572080" cy="1197720"/>
            <a:chOff x="0" y="65160"/>
            <a:chExt cx="5572080" cy="1197720"/>
          </a:xfrm>
        </p:grpSpPr>
        <p:pic>
          <p:nvPicPr>
            <p:cNvPr id="50" name="图片 1" descr="54 1.png"/>
            <p:cNvPicPr/>
            <p:nvPr/>
          </p:nvPicPr>
          <p:blipFill>
            <a:blip r:embed="rId1"/>
            <a:srcRect l="0" t="0" r="6070" b="0"/>
            <a:stretch/>
          </p:blipFill>
          <p:spPr>
            <a:xfrm>
              <a:off x="0" y="65160"/>
              <a:ext cx="1071360" cy="11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4"/>
            <p:cNvSpPr/>
            <p:nvPr/>
          </p:nvSpPr>
          <p:spPr>
            <a:xfrm>
              <a:off x="1000080" y="35064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强强和爸爸、妈妈一家三口自驾车从南苑去北高峰游玩。右图是行车路线图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图片 6" descr="58.png"/>
          <p:cNvPicPr/>
          <p:nvPr/>
        </p:nvPicPr>
        <p:blipFill>
          <a:blip r:embed="rId2"/>
          <a:stretch/>
        </p:blipFill>
        <p:spPr>
          <a:xfrm>
            <a:off x="5715000" y="214200"/>
            <a:ext cx="3106800" cy="2428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000080" y="157176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的问题与行程有关，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相关信息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1"/>
          <p:cNvGrpSpPr/>
          <p:nvPr/>
        </p:nvGrpSpPr>
        <p:grpSpPr>
          <a:xfrm>
            <a:off x="785880" y="2500200"/>
            <a:ext cx="8358120" cy="522720"/>
            <a:chOff x="785880" y="2500200"/>
            <a:chExt cx="8358120" cy="522720"/>
          </a:xfrm>
        </p:grpSpPr>
        <p:sp>
          <p:nvSpPr>
            <p:cNvPr id="55" name="Text Box 4"/>
            <p:cNvSpPr/>
            <p:nvPr/>
          </p:nvSpPr>
          <p:spPr>
            <a:xfrm>
              <a:off x="785880" y="250020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4"/>
            <p:cNvSpPr/>
            <p:nvPr/>
          </p:nvSpPr>
          <p:spPr>
            <a:xfrm>
              <a:off x="1707840" y="2502360"/>
              <a:ext cx="743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从南苑到北高峰，某幅图上的距离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厘米，实际距离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米。计算这幅图的比例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2"/>
          <p:cNvSpPr/>
          <p:nvPr/>
        </p:nvSpPr>
        <p:spPr>
          <a:xfrm>
            <a:off x="1143000" y="335772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千米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0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214280" y="38336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0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:3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4"/>
          <p:cNvGrpSpPr/>
          <p:nvPr/>
        </p:nvGrpSpPr>
        <p:grpSpPr>
          <a:xfrm>
            <a:off x="785880" y="4330800"/>
            <a:ext cx="8358120" cy="949320"/>
            <a:chOff x="785880" y="4330800"/>
            <a:chExt cx="8358120" cy="949320"/>
          </a:xfrm>
        </p:grpSpPr>
        <p:sp>
          <p:nvSpPr>
            <p:cNvPr id="60" name="Text Box 4"/>
            <p:cNvSpPr/>
            <p:nvPr/>
          </p:nvSpPr>
          <p:spPr>
            <a:xfrm>
              <a:off x="785880" y="433080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"/>
            <p:cNvSpPr/>
            <p:nvPr/>
          </p:nvSpPr>
          <p:spPr>
            <a:xfrm>
              <a:off x="1707840" y="4332960"/>
              <a:ext cx="743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果行车的平均速度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上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: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出发，中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: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前能到达北高峰景区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4"/>
          <p:cNvGrpSpPr/>
          <p:nvPr/>
        </p:nvGrpSpPr>
        <p:grpSpPr>
          <a:xfrm>
            <a:off x="1785960" y="5072040"/>
            <a:ext cx="4357800" cy="1020600"/>
            <a:chOff x="1785960" y="5072040"/>
            <a:chExt cx="4357800" cy="1020600"/>
          </a:xfrm>
        </p:grpSpPr>
        <p:sp>
          <p:nvSpPr>
            <p:cNvPr id="63" name="TextBox 14"/>
            <p:cNvSpPr/>
            <p:nvPr/>
          </p:nvSpPr>
          <p:spPr>
            <a:xfrm>
              <a:off x="1785960" y="535752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40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21"/>
            <p:cNvGrpSpPr/>
            <p:nvPr/>
          </p:nvGrpSpPr>
          <p:grpSpPr>
            <a:xfrm>
              <a:off x="3571920" y="5072040"/>
              <a:ext cx="1785960" cy="1020600"/>
              <a:chOff x="3571920" y="5072040"/>
              <a:chExt cx="1785960" cy="1020600"/>
            </a:xfrm>
          </p:grpSpPr>
          <p:grpSp>
            <p:nvGrpSpPr>
              <p:cNvPr id="65" name="组合 14"/>
              <p:cNvGrpSpPr/>
              <p:nvPr/>
            </p:nvGrpSpPr>
            <p:grpSpPr>
              <a:xfrm>
                <a:off x="3571920" y="5072040"/>
                <a:ext cx="1500480" cy="1020600"/>
                <a:chOff x="3571920" y="5072040"/>
                <a:chExt cx="1500480" cy="1020600"/>
              </a:xfrm>
            </p:grpSpPr>
            <p:sp>
              <p:nvSpPr>
                <p:cNvPr id="66" name="TextBox 20"/>
                <p:cNvSpPr/>
                <p:nvPr/>
              </p:nvSpPr>
              <p:spPr>
                <a:xfrm>
                  <a:off x="3571920" y="5072040"/>
                  <a:ext cx="150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TextBox 21"/>
                <p:cNvSpPr/>
                <p:nvPr/>
              </p:nvSpPr>
              <p:spPr>
                <a:xfrm>
                  <a:off x="3571920" y="5572080"/>
                  <a:ext cx="150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22"/>
                <p:cNvSpPr/>
                <p:nvPr/>
              </p:nvSpPr>
              <p:spPr>
                <a:xfrm>
                  <a:off x="3643200" y="5572080"/>
                  <a:ext cx="285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TextBox 19"/>
              <p:cNvSpPr/>
              <p:nvPr/>
            </p:nvSpPr>
            <p:spPr>
              <a:xfrm>
                <a:off x="3857400" y="5286240"/>
                <a:ext cx="150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（小时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25"/>
          <p:cNvSpPr/>
          <p:nvPr/>
        </p:nvSpPr>
        <p:spPr>
          <a:xfrm>
            <a:off x="1714680" y="5857920"/>
            <a:ext cx="42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中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: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能到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11"/>
          <p:cNvGrpSpPr/>
          <p:nvPr/>
        </p:nvGrpSpPr>
        <p:grpSpPr>
          <a:xfrm>
            <a:off x="-71280" y="142920"/>
            <a:ext cx="6286320" cy="1375920"/>
            <a:chOff x="-71280" y="142920"/>
            <a:chExt cx="6286320" cy="1375920"/>
          </a:xfrm>
        </p:grpSpPr>
        <p:sp>
          <p:nvSpPr>
            <p:cNvPr id="72" name="Text Box 4"/>
            <p:cNvSpPr/>
            <p:nvPr/>
          </p:nvSpPr>
          <p:spPr>
            <a:xfrm>
              <a:off x="-71280" y="14292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850680" y="145080"/>
              <a:ext cx="5364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按平均耗油量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升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米计算，汽车油箱的容量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升，出发时油表显示如右图，中途不加油能开到北高峰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图片 4" descr="58.jpg"/>
          <p:cNvPicPr/>
          <p:nvPr/>
        </p:nvPicPr>
        <p:blipFill>
          <a:blip r:embed="rId1"/>
          <a:stretch/>
        </p:blipFill>
        <p:spPr>
          <a:xfrm>
            <a:off x="6357960" y="285840"/>
            <a:ext cx="2500200" cy="142884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5"/>
          <p:cNvGrpSpPr/>
          <p:nvPr/>
        </p:nvGrpSpPr>
        <p:grpSpPr>
          <a:xfrm>
            <a:off x="857160" y="1928880"/>
            <a:ext cx="5357880" cy="544320"/>
            <a:chOff x="857160" y="1928880"/>
            <a:chExt cx="5357880" cy="544320"/>
          </a:xfrm>
        </p:grpSpPr>
        <p:sp>
          <p:nvSpPr>
            <p:cNvPr id="76" name="TextBox 6"/>
            <p:cNvSpPr/>
            <p:nvPr/>
          </p:nvSpPr>
          <p:spPr>
            <a:xfrm>
              <a:off x="857160" y="195264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4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9"/>
            <p:cNvSpPr/>
            <p:nvPr/>
          </p:nvSpPr>
          <p:spPr>
            <a:xfrm>
              <a:off x="3286080" y="192888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1.6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（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13"/>
          <p:cNvSpPr/>
          <p:nvPr/>
        </p:nvSpPr>
        <p:spPr>
          <a:xfrm>
            <a:off x="857160" y="24289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中途不加油不能开到北高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1"/>
          <p:cNvGrpSpPr/>
          <p:nvPr/>
        </p:nvGrpSpPr>
        <p:grpSpPr>
          <a:xfrm>
            <a:off x="-71280" y="2714760"/>
            <a:ext cx="9215280" cy="3143160"/>
            <a:chOff x="-71280" y="2714760"/>
            <a:chExt cx="9215280" cy="3143160"/>
          </a:xfrm>
        </p:grpSpPr>
        <p:grpSp>
          <p:nvGrpSpPr>
            <p:cNvPr id="80" name="组合 11"/>
            <p:cNvGrpSpPr/>
            <p:nvPr/>
          </p:nvGrpSpPr>
          <p:grpSpPr>
            <a:xfrm>
              <a:off x="-71280" y="3357720"/>
              <a:ext cx="9215280" cy="949320"/>
              <a:chOff x="-71280" y="3357720"/>
              <a:chExt cx="9215280" cy="949320"/>
            </a:xfrm>
          </p:grpSpPr>
          <p:sp>
            <p:nvSpPr>
              <p:cNvPr id="81" name="Text Box 4"/>
              <p:cNvSpPr/>
              <p:nvPr/>
            </p:nvSpPr>
            <p:spPr>
              <a:xfrm>
                <a:off x="-71280" y="3357720"/>
                <a:ext cx="117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4"/>
              <p:cNvSpPr/>
              <p:nvPr/>
            </p:nvSpPr>
            <p:spPr>
              <a:xfrm>
                <a:off x="850680" y="3359880"/>
                <a:ext cx="8293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出发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5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小时后车子在服务区停下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强强看到路牌如右图。他们已行多少千米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组合 19"/>
            <p:cNvGrpSpPr/>
            <p:nvPr/>
          </p:nvGrpSpPr>
          <p:grpSpPr>
            <a:xfrm>
              <a:off x="6429600" y="2714760"/>
              <a:ext cx="2214360" cy="3143160"/>
              <a:chOff x="6429600" y="2714760"/>
              <a:chExt cx="2214360" cy="3143160"/>
            </a:xfrm>
          </p:grpSpPr>
          <p:sp>
            <p:nvSpPr>
              <p:cNvPr id="84" name="矩形 18"/>
              <p:cNvSpPr/>
              <p:nvPr/>
            </p:nvSpPr>
            <p:spPr>
              <a:xfrm>
                <a:off x="8501400" y="3714840"/>
                <a:ext cx="142560" cy="2143080"/>
              </a:xfrm>
              <a:prstGeom prst="rect">
                <a:avLst/>
              </a:prstGeom>
              <a:solidFill>
                <a:srgbClr val="f2f2f2"/>
              </a:soli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17"/>
              <p:cNvSpPr/>
              <p:nvPr/>
            </p:nvSpPr>
            <p:spPr>
              <a:xfrm>
                <a:off x="6429600" y="2714760"/>
                <a:ext cx="2214360" cy="10713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距北高峰景区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120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千米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TextBox 22"/>
          <p:cNvSpPr/>
          <p:nvPr/>
        </p:nvSpPr>
        <p:spPr>
          <a:xfrm>
            <a:off x="1000080" y="457200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答：他们已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11"/>
          <p:cNvGrpSpPr/>
          <p:nvPr/>
        </p:nvGrpSpPr>
        <p:grpSpPr>
          <a:xfrm>
            <a:off x="-71280" y="142920"/>
            <a:ext cx="8858160" cy="949320"/>
            <a:chOff x="-71280" y="142920"/>
            <a:chExt cx="8858160" cy="949320"/>
          </a:xfrm>
        </p:grpSpPr>
        <p:sp>
          <p:nvSpPr>
            <p:cNvPr id="88" name="Text Box 4"/>
            <p:cNvSpPr/>
            <p:nvPr/>
          </p:nvSpPr>
          <p:spPr>
            <a:xfrm>
              <a:off x="-71280" y="14292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850680" y="145080"/>
              <a:ext cx="793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强强他们的汽车在服务区停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钟，如果要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: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前到达风景区，后面一段路程的平均速度至少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5"/>
          <p:cNvSpPr/>
          <p:nvPr/>
        </p:nvSpPr>
        <p:spPr>
          <a:xfrm>
            <a:off x="1000080" y="14288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千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857160" y="18572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后面一段路程的平均速度至少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1"/>
          <p:cNvGrpSpPr/>
          <p:nvPr/>
        </p:nvGrpSpPr>
        <p:grpSpPr>
          <a:xfrm>
            <a:off x="-71280" y="2470320"/>
            <a:ext cx="8858160" cy="949320"/>
            <a:chOff x="-71280" y="2470320"/>
            <a:chExt cx="8858160" cy="949320"/>
          </a:xfrm>
        </p:grpSpPr>
        <p:sp>
          <p:nvSpPr>
            <p:cNvPr id="93" name="Text Box 4"/>
            <p:cNvSpPr/>
            <p:nvPr/>
          </p:nvSpPr>
          <p:spPr>
            <a:xfrm>
              <a:off x="-71280" y="247032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"/>
            <p:cNvSpPr/>
            <p:nvPr/>
          </p:nvSpPr>
          <p:spPr>
            <a:xfrm>
              <a:off x="850680" y="2472480"/>
              <a:ext cx="793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汽车从南苑出发时，显示的数据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148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米，到达风景区时，显示的数据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173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千米。实际行驶路程与地图标示的路程相差百分之几？你认为可能的原因是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1"/>
          <p:cNvSpPr/>
          <p:nvPr/>
        </p:nvSpPr>
        <p:spPr>
          <a:xfrm>
            <a:off x="785880" y="41432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173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148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0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％ ≈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857160" y="48340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地图是直线距离，实际车不一定能直线行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4643280" y="1571760"/>
            <a:ext cx="4214880" cy="2071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285840" y="1357200"/>
            <a:ext cx="428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强强一家入住北高峰宾馆，房价如右图。强强一家订双人间和单人间各一间，住两天。如果按上面的标价打八五折，可优惠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4786200" y="164304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宾馆房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双人标间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3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单 人 间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00040" y="374760"/>
            <a:ext cx="85010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的问题与强强一家在北高峰的旅游有关，请根据相关信息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42960" y="285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785960" y="71136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按原价住，所付房价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ject 4" descr=""/>
          <p:cNvPicPr/>
          <p:nvPr/>
        </p:nvPicPr>
        <p:blipFill>
          <a:blip r:embed="rId1"/>
          <a:stretch/>
        </p:blipFill>
        <p:spPr>
          <a:xfrm>
            <a:off x="2857680" y="1571760"/>
            <a:ext cx="4084560" cy="507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714680" y="25002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折后所付房价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5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5388120" cy="507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2428920" y="43578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36-710.6=125.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428920" y="55720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可优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.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14292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景区门票价格为：成人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元，儿童票半价。如果买家庭套票（两个成人、一个小孩）可节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家庭套票定价多少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28760" y="35002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57120" y="450072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×2+10×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20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00120" y="557208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家庭套餐定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1143000" y="285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庭套餐定价与原价成正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28760" y="12142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286000" y="121428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家庭套餐定价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ject 2" descr=""/>
          <p:cNvPicPr/>
          <p:nvPr/>
        </p:nvPicPr>
        <p:blipFill>
          <a:blip r:embed="rId1"/>
          <a:stretch/>
        </p:blipFill>
        <p:spPr>
          <a:xfrm>
            <a:off x="2270160" y="2143080"/>
            <a:ext cx="4162320" cy="10620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3" descr=""/>
          <p:cNvPicPr/>
          <p:nvPr/>
        </p:nvPicPr>
        <p:blipFill>
          <a:blip r:embed="rId2"/>
          <a:stretch/>
        </p:blipFill>
        <p:spPr>
          <a:xfrm>
            <a:off x="4272120" y="3786120"/>
            <a:ext cx="2371680" cy="44604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4" descr=""/>
          <p:cNvPicPr/>
          <p:nvPr/>
        </p:nvPicPr>
        <p:blipFill>
          <a:blip r:embed="rId3"/>
          <a:stretch/>
        </p:blipFill>
        <p:spPr>
          <a:xfrm>
            <a:off x="4230720" y="4768920"/>
            <a:ext cx="1198440" cy="44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1643040" y="55720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家庭套餐定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4:32:52Z</dcterms:created>
  <dc:creator/>
  <dc:description/>
  <dc:language>en-US</dc:language>
  <cp:lastModifiedBy>林森</cp:lastModifiedBy>
  <dcterms:modified xsi:type="dcterms:W3CDTF">2017-12-24T12:05:5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